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8EF3-DA8F-4B79-B19B-B79206E741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6657-C9B0-4B8A-951B-743CA46BE7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029A-21AB-4E96-A767-F1D8A42472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4AF4-F1B2-4F5F-A4AD-8516478736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45C7-89BB-4D81-830B-4B116E278C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7A3E-471A-4055-B886-91BA89AB3A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086B-94D3-4492-A9BF-2D94CE06C0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FDAC-8DBC-4A52-AB34-6CD6BDFA8F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6F32-16E7-4B53-A2B8-A0030340B4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9856-B204-4FDB-9A9B-974C221398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8231-3481-45A6-942B-A826827D7A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64FC-86F2-4E65-9BF5-4380A98F0A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E990-5A6A-400D-BD1F-CDB9DE5F6E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3ABD-E4E5-4D47-A3EA-B54E2ADBF5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9FC5-CA83-4BDC-AE09-6F2701F6E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335F-65EB-4BD4-97A8-8436147D4F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5497-EC6A-4275-B1FE-67223206EE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D820-DADC-4525-8F5A-1AD46D6CF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E2E9-1D05-4389-B4A5-0D4D9E5862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8CD6-29C4-4F4B-96C2-319FDD8B30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2ECD-1D23-430B-905C-D55F8F68F0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ECCC-13A7-4FEA-BC77-0B726E094D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EEAA-85AB-4959-84E5-B8D48DA463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04BE-BE88-42F8-BB10-82ABC2F3B0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43BF-85AD-4464-9224-D472114981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EB13-5AF8-421C-83F7-B9DA93371D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A6ED-EDB2-4F40-AA2B-32F5D30D5E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766E-2AF5-4901-9B11-558E4FB69C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58DB-32E6-46B3-8073-17EB588A2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704F-E4CC-47DB-A62F-40E7231FC3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CBD9-9F26-427F-B456-69AF0A0AC5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4577-FDE7-43DA-83D0-0C5702E47F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F01E-6E2C-4371-A17D-6AD91AA975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DA4F-10C3-4623-8158-34751C0883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B986-C23B-4C54-9C7F-EE59E0AC02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AED4-29E3-47B9-942E-4F6F457D65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F866-ABA0-4DC4-B093-33BA91909B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2022-2BEB-4707-ABF3-ADE0C3AD5F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C1A4-5007-4880-B4B5-B66D3ACD5C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2290-2BBE-4D75-B094-18688DD31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E044-27F5-4176-A5A1-CA8E53727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8FDA4EAF-2A42-4BAC-991C-1C1615323A97}"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6:43Z</dcterms:modified>
  <cp:revision>537</cp:revision>
  <dc:subject/>
  <dc:title>PowerPoint Presentation</dc:title>
</cp:coreProperties>
</file>