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8C1C-1889-46EF-BF14-70C83BB7B1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013F-60C7-47D6-B05C-9F3A072EBC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F990-8493-4EDF-9EFA-8CABC796B5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4451-805E-41F0-892B-17E8102391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C320-4D5E-45A9-804B-938B5E4EA5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A1796-A8E3-4435-813E-25AF1FC328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A994-9EAF-4E92-9AF7-923A15B977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1D02-8D85-43CB-9B3A-612AB31AC6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314B-EDFD-4A52-B75B-93D4003115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9510-34E2-4302-9B69-3883F9D793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05EC-4DAA-4822-B94A-4DB05CB4BA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3B73-B41C-4EF0-B6AA-983377423E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002F-2BDD-404D-ADBC-04B5894763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4632-C503-4ECE-8E37-57A2DEE418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F6C4-E04C-42F7-885B-93CF27F41E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04BC-378C-4D92-91FB-F67986B0F0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9AB0-41AA-43D0-B39B-0E8C2DD251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0DBD-73EA-42E7-864E-6FAC0C37C7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3C7F-ED18-40B4-8988-BD7803410D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D4B5-37DE-4E6C-A532-CE663E7B64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4F99-DE42-4E57-B966-E303C341F3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2959-7CA3-4904-9CB7-FDA8A70E15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E719-8266-44B7-A16A-E3B53A4522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7115-ABF1-4A1E-94EF-D2DBC58A9F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DD94-459B-4DC8-8F04-DED12BFC80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FFA3-4D6C-4509-BF62-3ADA1FA993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374EC-93C8-40D0-9748-1AB9AB0BE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59EB-EB0A-493F-8D23-F98AAFCC96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3C51-C85F-40AC-AB3C-59C159909F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3C75-2A42-41A6-9427-0F76BD64D3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C7E8-FEEC-49D7-A926-BE91230582B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9F37E-2EA9-4D6F-9A96-4E38E58E4C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D3690-3D64-4976-B7FA-360F5516C9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22DB-3619-4A2D-ACAF-23A0791037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6FA3-5F38-4618-BF5F-ECE76E2F73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7F5D-FF9F-46EB-B58E-403C733E05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1B7A-E641-47A1-ADD8-5B1460194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7205-BC6E-4D15-A3B1-607F1B41BCC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F14B-4D91-4563-A299-8109BCFDEB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EC40-6E48-441B-B080-CC6B7D730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AB6F-17F4-4E57-8300-AD5B258EF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2128EA8F-128F-4C5E-9D91-E82A6C35244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1"/>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6:43Z</dcterms:modified>
  <cp:revision>537</cp:revision>
  <dc:subject/>
  <dc:title>PowerPoint Presentation</dc:title>
</cp:coreProperties>
</file>