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84ACFD-FE90-4C18-9032-611C61C9BC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66E216-EC18-430D-B799-7E033AC02D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E0F9D7-DBE2-40E2-A735-1EB12B8B3B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94E6B1-1E04-49B1-BC56-A6FC43EFD9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E552A1-5ED0-4CE5-9E1F-790F7FB141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ADBC16-BB37-44C7-B1EB-08E321A570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418C9D-AA61-4617-B2F0-6C6715C361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9FA914-EC84-4686-85A6-E0A5298B61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3638F7-586A-4C3E-95A4-A1F6C72A3E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DBC51B-BF31-4DA5-8559-0B6321FFC4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0A3377-CAA2-4E71-A289-F5F4222024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FADE73-FB4D-4F7B-83CF-93B57EA3FF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AC65E2-2F16-4253-9840-282A67E122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57BBCC-680F-4A71-BBAF-9DEE5AFDB2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1354CA-2BEB-4762-953C-9C798B6525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862D59-471F-4186-9E7E-B8AD4CF4D8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1EE7D6-0A59-4FEC-AA53-08ECFAD563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A15711-FF26-47F3-8B1A-6A9ECBC6FF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359398-3CAB-42B7-8BE2-AA7F9605C0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71F729-1559-4751-9B85-BD0043C5D5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41C082-843D-49C2-91D8-DAE6BAABE0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B12012-F59E-4CF6-92A6-778DE787DD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72B005-9747-4067-9DB8-89F44EEFE4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3A4D2A-F87A-40EB-B47A-DC74E3BD58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A18DA3-D194-4D68-9379-A4ADBFCA62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8059A2-4994-45B6-8781-4E93F7BD20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39EBF0-C0BB-4D7A-9198-1508BAD99F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8B66C4-5080-44EB-B460-89857DF007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69DCFE-6BF8-415E-983D-22EA146678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EF348C-98D6-402C-AB3C-65A6F95BC4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E52452-92AF-443B-AD22-D9EA1A03FC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B6291C-04B4-4217-AB2F-4C9FDF917D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F0CBCE-A11A-4AAF-9F1A-CA0A7E3740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29C04C-6AB8-4248-AA17-A16B199499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BCA1E1-4B59-43B8-8C05-5008621C11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7EB621-43FE-46D9-9541-A104A44E2D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ECA9BF-5948-45E6-9EE0-1407436AD8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8AB3A2-E332-41AD-8272-6EDF2D06B0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DEB3E5-5799-45BF-A1DA-AA53760EF3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C45156-DB25-4040-BA22-C6B8879D0E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6EF087-D568-49BD-B0B6-D6612728D0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5AEECF-D5D2-44A3-BD44-C43D948753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48D10C-6B37-4B88-B834-673E8A0DDF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DF977E-1BC3-4F44-9E3F-A0C106D780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6CF782-7B44-4A0D-B373-61E93132F0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525236-9B55-4D97-85B1-3D85AD1A82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763AF275-BC95-4382-AC43-10DA59EDEF9A}"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1"/>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1"/>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1"/>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1"/>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1"/>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1"/>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1"/>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1"/>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1"/>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7:58Z</dcterms:modified>
  <cp:revision>772</cp:revision>
  <dc:subject/>
  <dc:title>PowerPoint Presentation</dc:title>
</cp:coreProperties>
</file>