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2.gif" ContentType="image/gif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24.jpeg" ContentType="image/jpeg"/>
  <Override PartName="/ppt/media/image14.jpeg" ContentType="image/jpeg"/>
  <Override PartName="/ppt/media/image12.jpeg" ContentType="image/jpeg"/>
  <Override PartName="/ppt/media/image6.png" ContentType="image/png"/>
  <Override PartName="/ppt/media/image3.gif" ContentType="image/gif"/>
  <Override PartName="/ppt/media/image22.jpeg" ContentType="image/jpeg"/>
  <Override PartName="/ppt/media/image1.jpeg" ContentType="image/jpeg"/>
  <Override PartName="/ppt/media/image35.jpeg" ContentType="image/jpeg"/>
  <Override PartName="/ppt/media/image7.png" ContentType="image/png"/>
  <Override PartName="/ppt/media/image34.jpeg" ContentType="image/jpeg"/>
  <Override PartName="/ppt/media/image33.jpeg" ContentType="image/jpeg"/>
  <Override PartName="/ppt/media/image43.jpeg" ContentType="image/jpeg"/>
  <Override PartName="/ppt/media/image45.png" ContentType="image/png"/>
  <Override PartName="/ppt/media/image44.jpeg" ContentType="image/jpeg"/>
  <Override PartName="/ppt/media/image38.jpeg" ContentType="image/jpeg"/>
  <Override PartName="/ppt/media/image46.jpeg" ContentType="image/jpeg"/>
  <Override PartName="/ppt/media/image47.jpeg" ContentType="image/jpeg"/>
  <Override PartName="/ppt/media/image41.png" ContentType="image/png"/>
  <Override PartName="/ppt/media/image36.gif" ContentType="image/gif"/>
  <Override PartName="/ppt/media/image48.jpeg" ContentType="image/jpeg"/>
  <Override PartName="/ppt/media/image49.jpeg" ContentType="image/jpeg"/>
  <Override PartName="/ppt/media/image37.jpeg" ContentType="image/jpeg"/>
  <Override PartName="/ppt/media/image50.gif" ContentType="image/gif"/>
  <Override PartName="/ppt/media/image32.jpeg" ContentType="image/jpeg"/>
  <Override PartName="/ppt/media/image5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0.jpeg" ContentType="image/jpeg"/>
  <Override PartName="/ppt/media/image11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4A0E-AB02-42FE-B84A-B7A944728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58FD-9C41-4663-808D-CE6F5908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B950-E556-4B2F-A425-2273C8CE4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5B0D-A298-42DD-8A32-4DB1DBBF6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C027-1956-4404-93D8-75443490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2826-2435-406E-9D01-03226C91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B59A-A175-48FB-85FA-379C78B4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A8D5-E621-4110-A74F-798FA516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5BBD-F236-4892-817B-35708988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3C8B-DFD8-400F-9481-707F5854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39A3-6533-438B-AA96-AA6A0A44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25A5-E645-475B-BEA0-BC428AED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4BD2-6A58-4AF0-BDA1-2A1301C2403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3228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851280" y="981000"/>
            <a:ext cx="5292720" cy="4579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1547640" y="765000"/>
            <a:ext cx="564696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الحاسب في الطيران المدني**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042920" y="2119320"/>
            <a:ext cx="7058160" cy="37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ستعمل الحاسب في نظام حجز 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بيع تذاكر الطيران للمسافرين 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تسجيل المعلومات الخاصة بالرحلات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جوية وكذلك العمليات الجوية كالاقلاع والهبوط..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187280" y="836640"/>
            <a:ext cx="662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بحاث الفضاء والمركبات الفضائية**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39640" y="2133720"/>
            <a:ext cx="8472600" cy="38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تم التحكم في عمل المركبات الفضائية بواسطة الحاسب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سواء عند اطلاقها او اثناء رحلتها في الفضاء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و عند هبوطها  كما يستعمل الحاسب لدراسة الارض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ثروتها الطبيعية من الفضاء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نفسه من خلال الاقمار الصناي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1547640" y="189000"/>
            <a:ext cx="6191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المجالات الهندسية والعلمية**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133720"/>
            <a:ext cx="6624720" cy="41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ستعمل الحاسب في الوقت الحالي في عمل التصميمات 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لهندسات مثل تصميم المباني والجسور والمنشئات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كذلك في تصميم الطائرات والصواريخ والمركبات الفضائية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غيرها...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619280" y="476280"/>
            <a:ext cx="57592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مجال الصناعه والتحكم بالاجهزة**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99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349360"/>
            <a:ext cx="6526080" cy="450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نتشر استخدام الحاسب الالي وخاصة في التحكم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بالعمليات الصناعية في المصانع ومعامل صهر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معادن والصناعات النفطية والثقيلة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كما يستخدم الحاسب</a:t>
            </a: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للتحكم في اجهزة الربوت في مصانع والسيارات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لطائرا وال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 rot="5400000">
            <a:off x="-828720" y="3213000"/>
            <a:ext cx="42480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222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مجالات  طب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411280" y="1268280"/>
            <a:ext cx="439272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ستعمل الحاسب في اجراءالتحاليل اللازمه وتحليل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نتائج الفحوصات مثل تخطيط عمل القلب والدماغ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يستعمل ايضا في مراقبة المرضى مباشرة وعمل تشخي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للكثير من الاعضاءالمعقده في الانسان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في اجهزة التحكم الطب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763640" y="404640"/>
            <a:ext cx="5257800" cy="14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0066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المجالات التعليمية**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ff0066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258920" y="1916280"/>
            <a:ext cx="705816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ستعمل على نطاق واسع في الجامعات والمعاهد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علمية في التعليم وفي البحث والتعليم عن بعد وانتشر استعمالة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حاليا في المدارس وذلك كوسيلة تعليمية تساعد في تعلم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طلاب  مختلف المواضيع العلمية 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516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356000" y="1484280"/>
            <a:ext cx="49690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931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Poor Richard"/>
              </a:rPr>
              <a:t>الحاسب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Poor Richard"/>
              <a:ea typeface="Poor Richard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Poor Richard"/>
              </a:rPr>
              <a:t>الالي**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Poor Richard"/>
              <a:ea typeface="Poor Richard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68360" y="549360"/>
            <a:ext cx="568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المجالات العسكري**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920" y="1773360"/>
            <a:ext cx="8648640" cy="447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ستعمل الحاسب بشكل واسع في المجالات العسكرية وخاصة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اسلحة الاستراتيجية كالصواريخ العابر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للقارات وكذلك في اجهزو الانذارالبكر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في التحكم بالطائرات الحربية التي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تطير دون طيار 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 rot="19909200">
            <a:off x="6156360" y="549000"/>
            <a:ext cx="2427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الحاسب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19983600">
            <a:off x="6516720" y="1773360"/>
            <a:ext cx="242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والاستخدا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 rot="20003400">
            <a:off x="6372360" y="3068640"/>
            <a:ext cx="250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الشخصي**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50920" y="981000"/>
            <a:ext cx="594036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تستعمل الحاسبات الشخصية في البيت لاغراض شخصي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كحساب ميزانية الاسرة والمصروفات والواردات وغيرها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من البيانات كما يستعمل لاجراء الابحاث والتعلم والتسلي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بوساطة الانترنت والالعاب وكذلك الرسم الى اخر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900000" y="765000"/>
            <a:ext cx="172908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اعمال المكتبية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00000" y="1197000"/>
            <a:ext cx="7488360" cy="405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شيع استخدام الحاسب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للعديد من اعمال المكتب الحديث نحو طباعه الرسائل واخراجها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تنظيم المواعيد واجراء الاتصالات بالمكتب وحفظ البيانات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لمعلومات للمكتب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3132000" y="3429000"/>
            <a:ext cx="26654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eaeaea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مهن الحاسب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eaeaea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omb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3348000" y="2565360"/>
            <a:ext cx="501012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وظائف للمتخصصين في الحاسب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716360" y="1125360"/>
            <a:ext cx="1657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اولا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3924360" y="765000"/>
            <a:ext cx="475128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نتيجة لانتشارتقنية الحاسب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لمعلومات في المجتمع ظهرت الحاجة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ى عدد من المتخصصين في مجالات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حاسب المختلفة ولعل من اهم هذه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وظائف التخصصية مايلي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1835280" y="549360"/>
            <a:ext cx="3752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برمجة تطبيقات حاسب**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63640" y="1484280"/>
            <a:ext cx="649944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0333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هو الذي يقوم باعمال تطوير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برمجيات الحاسب وتطبيقاته</a:t>
            </a: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مختلفه , ونحو برمجيات 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معالجة النصوص والرسم 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غيرها والتي سبق معرفتها...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48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900000" y="1700280"/>
            <a:ext cx="748980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حاسب والمجتمع**</a:t>
            </a:r>
            <a:endParaRPr b="0" i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2411280" y="1413000"/>
            <a:ext cx="259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مبرمج نظم**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508720" y="3357720"/>
            <a:ext cx="3635280" cy="185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754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تولى مهام تطوير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نشاء نظم تشغيل الحاسب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صيانتها وتحديثها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1979640" y="620640"/>
            <a:ext cx="532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محلل ومصمم نظم**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71640" y="1916280"/>
            <a:ext cx="698508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يقوم بدراسة احتياجات ومتطلبات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مستخدمين من المعلومات وجمع البيانات التي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تتطلبها قاعده البيانات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و المعلومات وتصميم القاعده بما  يناسب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يحقق متطلبات المستفيدين منها.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ll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5651640" y="1916280"/>
            <a:ext cx="22636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اخصائي قاعدة بيانات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39640" y="1125360"/>
            <a:ext cx="2997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مهندس شبكات حاسب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64000" y="3068640"/>
            <a:ext cx="31053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يكون مسؤولا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عن تطوير قواعد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بيانات وصيانتها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تحديثها وتطويرها.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26920" y="2205000"/>
            <a:ext cx="26276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يتولى مسؤولي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تركيب وصيانة وتطوير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شبكات الحاسب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صيانتها وتشغيلها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2492280"/>
            <a:ext cx="4716360" cy="4365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611280" y="836640"/>
            <a:ext cx="35272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مشغل الحاسب**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211640" y="404640"/>
            <a:ext cx="4614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تشمل مسؤوليات مشغل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جهزة الحاسب الالي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998880" y="1989000"/>
            <a:ext cx="514512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- </a:t>
            </a: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تهيئة اجهزة الحاسب للعمل</a:t>
            </a: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- </a:t>
            </a: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تركيب اسطوانات واشرطة حفظ البيانات</a:t>
            </a: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- </a:t>
            </a: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تحميل نظام التشغيل</a:t>
            </a: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- </a:t>
            </a: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تجهيز الطابعات</a:t>
            </a: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- </a:t>
            </a: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مراقبة عمل الاجهزة لضمان سيرها دون خلل</a:t>
            </a: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3708360" y="333360"/>
            <a:ext cx="49849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مدخل بيانات**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50920" y="2276640"/>
            <a:ext cx="7632720" cy="37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مسؤوليته هي ادخال المعلومات الى الملفات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قواعج البيانات عن طريق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طباعتها المفاتيح وباستخدام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سائل الادخال المختلفه.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250920" y="404640"/>
            <a:ext cx="4537080" cy="14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في حاسب \ شبكات**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2133720"/>
            <a:ext cx="5111640" cy="40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تولى مهام مساعده المهندسين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لاختصائيين في صيانة</a:t>
            </a: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جهزة  الحاسب \ الشبكات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تركيبها</a:t>
            </a: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.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5508720" y="4005360"/>
            <a:ext cx="28796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مهندس حاسب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26920" y="1557360"/>
            <a:ext cx="66265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9032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مسؤوليته هي تركيب التجهيزات المادية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للحاسب , والاشراف على تشغيلها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صيانتها ,زكذلك تطوير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تصميم وبناء مختلف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اجهزة الحاسوبيه 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2124000" y="333360"/>
            <a:ext cx="43196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178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معلم(مدرب)حاسب..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835280" y="1989000"/>
            <a:ext cx="5622840" cy="38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قوم معلم الحاسب بنشر الوعي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علمي وثقافة الحاسب في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مجتمع كما يقوم بمهمة التعليم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تدريب المنشء على هذه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تقنية المعاصرة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956720" y="0"/>
            <a:ext cx="118728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95280" y="5805360"/>
            <a:ext cx="8388360" cy="1052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0" y="333360"/>
            <a:ext cx="1368360" cy="6524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2340000" y="1125360"/>
            <a:ext cx="4797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aeaea"/>
                </a:solidFill>
                <a:latin typeface="Times New Roman"/>
              </a:rPr>
              <a:t>مسؤولية امن معلومات*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aeaea"/>
              </a:solidFill>
              <a:latin typeface="Times New Roman"/>
              <a:ea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476360" y="2708280"/>
            <a:ext cx="655164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هو ذلك الشخص الذي يتولى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متابعة سير المعلومات داخل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طاع والمحافظة على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سريتها .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4716360" y="1268280"/>
            <a:ext cx="1212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ثانيا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"/>
          <p:cNvSpPr txBox="1"/>
          <p:nvPr/>
        </p:nvSpPr>
        <p:spPr>
          <a:xfrm rot="21055800">
            <a:off x="3708000" y="3212640"/>
            <a:ext cx="438300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وظائف لغير المتخصصين**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843280" y="3141720"/>
            <a:ext cx="3771720" cy="186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مجالات استخدام 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الحاسب**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 rot="16200000">
            <a:off x="6284160" y="1356120"/>
            <a:ext cx="3956040" cy="17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لمصمم بالحاسب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8360" y="1341360"/>
            <a:ext cx="5975280" cy="421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يقوم باعمال التصميمات الهندسية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مختلفة والمعمارية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باستخدام الحاسب</a:t>
            </a: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ll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 rot="20160600">
            <a:off x="1763640" y="2133720"/>
            <a:ext cx="2743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اشر الالكتروني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59280" y="2492280"/>
            <a:ext cx="4105080" cy="252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يقوم باعداد الوثائ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لصحف  والمؤلفات التي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تحوي نصوصا ورسوما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باستخدام الحاسب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ll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2843280" y="2133720"/>
            <a:ext cx="3000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فني رسم بالحاسب**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050920" y="2924280"/>
            <a:ext cx="5112000" cy="24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يتولى اخراج الرسوم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معمارية والهندسي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لفيديويه باستخدام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حاسب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2268360" y="189000"/>
            <a:ext cx="656784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مشغل اجهزة معتمدة على الحاسب**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340000" y="1773360"/>
            <a:ext cx="4968720" cy="418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يقوم بمسؤولي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تشغيل الاجهزة التي تعتمد على الحاسب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في تشغيلها والتحكم بها نحو الاجهزة الطبي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مختلفة واجهزة الاتصالات واجهزة التحكم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بالمصانع وغيرها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3564000" y="333360"/>
            <a:ext cx="52196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308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اداري مستخدم للحاسب**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76720" y="1989000"/>
            <a:ext cx="565128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99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نحو الموظفين الذين يعملون على وظائف معالجة النصوص ,</a:t>
            </a:r>
            <a:endParaRPr b="0" lang="en-US" sz="1800" spc="1" strike="noStrike">
              <a:ln w="9360">
                <a:solidFill>
                  <a:srgbClr val="990099"/>
                </a:solidFill>
                <a:miter/>
              </a:ln>
              <a:solidFill>
                <a:srgbClr val="99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99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و اعمال المحاسبة, ومتابعة المخزون ,وموظف المصارف,</a:t>
            </a:r>
            <a:endParaRPr b="0" lang="en-US" sz="1800" spc="1" strike="noStrike">
              <a:ln w="9360">
                <a:solidFill>
                  <a:srgbClr val="990099"/>
                </a:solidFill>
                <a:miter/>
              </a:ln>
              <a:solidFill>
                <a:srgbClr val="99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99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خطوط الطيران, وغيرها من اعمال</a:t>
            </a:r>
            <a:endParaRPr b="0" lang="en-US" sz="1800" spc="1" strike="noStrike">
              <a:ln w="9360">
                <a:solidFill>
                  <a:srgbClr val="990099"/>
                </a:solidFill>
                <a:miter/>
              </a:ln>
              <a:solidFill>
                <a:srgbClr val="99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99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99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دارية تعتمد عى الحاسب في انجازها</a:t>
            </a:r>
            <a:r>
              <a:rPr b="0" lang="en-US" sz="18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99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</a:t>
            </a:r>
            <a:endParaRPr b="0" lang="en-US" sz="1800" spc="1" strike="noStrike">
              <a:ln w="9360">
                <a:solidFill>
                  <a:srgbClr val="990099"/>
                </a:solidFill>
                <a:miter/>
              </a:ln>
              <a:solidFill>
                <a:srgbClr val="99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sh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5" name=""/>
          <p:cNvSpPr txBox="1"/>
          <p:nvPr/>
        </p:nvSpPr>
        <p:spPr>
          <a:xfrm>
            <a:off x="1258920" y="1773360"/>
            <a:ext cx="655308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ن لمن الضروري اكتساب الخبره في تطبيقات الحاسب لكافة الافراد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عاملين في كافة القطاعات حيث ان العديد من الوظائف تتطلب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معرفة بالحاسب ومن المتوقع ان تكون من متظلبات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جميع الوظائف بالمجتمع لمعاصر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.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56000" cy="6524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 rot="20523000">
            <a:off x="3635280" y="1773000"/>
            <a:ext cx="51879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سبحانك اللهم وبحمدك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اشهد ان لااله الا الله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استغفرك واتوب اليك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539640" y="189000"/>
            <a:ext cx="542628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- </a:t>
            </a: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مجالات تجاريه اقتصادية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**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5280" y="2060640"/>
            <a:ext cx="5724360" cy="45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يستخدم الحاسب لتطبيقات 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عديدة في في المجال 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اقتصادي والتجاري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خاصة لحساب</a:t>
            </a: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ميزانيات والارباح 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لمدفوعات والمقبوضات 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لرواتب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لعهد ...وغيرها..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042920" y="1052640"/>
            <a:ext cx="547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99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المؤسسات الماليه والمصارف**</a:t>
            </a:r>
            <a:endParaRPr b="0" lang="en-US" sz="1800" spc="1" strike="noStrike">
              <a:ln w="12600">
                <a:solidFill>
                  <a:srgbClr val="009999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00000" y="2349360"/>
            <a:ext cx="6480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ستعمل الحاسب على نطاق واسع في </a:t>
            </a:r>
            <a:endParaRPr b="0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55640" y="3141720"/>
            <a:ext cx="6977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تصريف العمليات البنكية مثل الايداع والسحب والتحقق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71640" y="3933720"/>
            <a:ext cx="6912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من رقم الحساب وحساب الارباح والخسائر واصدار الشيكات ونقل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71640" y="4797360"/>
            <a:ext cx="698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مبالغ الكترونيا بين المصارف ومؤسسات النقد والافراد وغيرها...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5516640"/>
            <a:ext cx="3168720" cy="1152360"/>
          </a:xfrm>
          <a:prstGeom prst="downArrowCallout">
            <a:avLst>
              <a:gd name="adj1" fmla="val 83417"/>
              <a:gd name="adj2" fmla="val 63435"/>
              <a:gd name="adj3" fmla="val 14704"/>
              <a:gd name="adj4" fmla="val 67769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419640" y="5516640"/>
            <a:ext cx="122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مثال</a:t>
            </a:r>
            <a:endParaRPr b="0" lang="en-US" sz="1800" spc="1" strike="noStrike">
              <a:ln w="12600">
                <a:solidFill>
                  <a:srgbClr val="333399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1547640" y="692280"/>
            <a:ext cx="5616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المجالات العلميه والابحاث**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00000" y="1916280"/>
            <a:ext cx="7610760" cy="31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ستعمل الحاسب في معظم المحالات العلمية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كالفيزياء والكيمياء والرياضيات والفلك 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لعلوم الهندسيه وما يتعلق بهذه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مجالات من ابحاث حيث يستخدم التليل والبيانات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لنتائجوفرزها ومقارنتها واجراء العمليات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203640" y="5300640"/>
            <a:ext cx="5229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حسابية والرياضية بهذه المجالات ..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21:10:21Z</dcterms:created>
  <dc:creator>rawad</dc:creator>
  <dc:description/>
  <dc:language>en-US</dc:language>
  <cp:lastModifiedBy>user</cp:lastModifiedBy>
  <dcterms:modified xsi:type="dcterms:W3CDTF">2012-01-17T19:37:15Z</dcterms:modified>
  <cp:revision>12</cp:revision>
  <dc:subject/>
  <dc:title>الشريحة 1</dc:title>
</cp:coreProperties>
</file>