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4.jpeg" ContentType="image/jpeg"/>
  <Override PartName="/ppt/media/image14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33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36.gif" ContentType="image/gif"/>
  <Override PartName="/ppt/media/image48.jpeg" ContentType="image/jpeg"/>
  <Override PartName="/ppt/media/image49.jpeg" ContentType="image/jpeg"/>
  <Override PartName="/ppt/media/image37.jpeg" ContentType="image/jpeg"/>
  <Override PartName="/ppt/media/image50.gif" ContentType="image/gif"/>
  <Override PartName="/ppt/media/image32.jpeg" ContentType="image/jpeg"/>
  <Override PartName="/ppt/media/image5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B6E-D9B0-493A-979E-2AE38D12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32A-6FD9-45EA-A2EF-6CB20001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DBB-4B6C-4ABA-8E84-0BBE1C88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EC7-7BFD-4A8D-8A67-1CE14D87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35B-E4D5-4660-BDD4-19219A0D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0D8-74B9-4FE5-B260-10B64C07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63B-D13F-4E81-8D71-AD2C6EE8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98A-FC09-4FF9-A475-870B13C9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BEDC-1DD5-493D-BF81-B19AD46D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E6F-1D58-4A25-8A7A-F3CC4A5F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ECA-92BB-4F3A-9372-1030BF73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676-48B7-4204-939F-1460A0C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E07F-265D-4604-B0F9-A5743E5146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3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51280" y="981000"/>
            <a:ext cx="5292720" cy="4579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547640" y="765000"/>
            <a:ext cx="56469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حاسب في الطيران المدني**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42920" y="2119320"/>
            <a:ext cx="7058160" cy="37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نظام حجز 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بيع تذاكر الطيران للمسافرين 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سجيل المعلومات الخاصة بالرحلات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جوية وكذلك العمليات الجوية كالاقلاع والهبوط..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187280" y="83664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بحاث الفضاء والمركبات الفضائية**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2133720"/>
            <a:ext cx="8472600" cy="38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تم التحكم في عمل المركبات الفضائية بواسطة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سواء عند اطلاقها او اثناء رحلتها في الفضاء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و عند هبوطها  كما يستعمل الحاسب لدراسة الارض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ثروتها الطبيعية من الفضاء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فسه من خلال الاقمار الصنا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547640" y="189000"/>
            <a:ext cx="619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المجالات الهندسية والعلمية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133720"/>
            <a:ext cx="662472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الوقت الحالي في عمل التصميمات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هندسات مثل تصميم المباني والجسور والمنشئات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كذلك في تصميم الطائرات والصواريخ والمركبات الفضائية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غيرها...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19280" y="476280"/>
            <a:ext cx="5759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مجال الصناعه والتحكم بالاجهزة**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349360"/>
            <a:ext cx="6526080" cy="45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نتشر استخدام الحاسب الالي وخاصة في التحكم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لعمليات الصناعية في المصانع ومعامل صهر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عادن والصناعات النفطية والثقيلة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كما يستخدم الحاسب</a:t>
            </a: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تحكم في اجهزة الربوت في مصانع والسيارات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طائرا وال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5400000">
            <a:off x="-828720" y="3213000"/>
            <a:ext cx="4248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2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مجالات  طب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11280" y="1268280"/>
            <a:ext cx="4392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اجراءالتحاليل اللازمه وتحليل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تائج الفحوصات مثل تخطيط عمل القلب والدماغ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ستعمل ايضا في مراقبة المرضى مباشرة وعمل تشخي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كثير من الاعضاءالمعقده في الانسا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في اجهزة التحكم الط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63640" y="404640"/>
            <a:ext cx="5257800" cy="14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مجالات التعليمية**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00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58920" y="1916280"/>
            <a:ext cx="705816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على نطاق واسع في الجامعات والمعاهد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علمية في التعليم وفي البحث والتعليم عن بعد وانتشر استعمال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حاليا في المدارس وذلك كوسيلة تعليمية تساعد في تعل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طلاب  مختلف المواضيع العلمية 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56000" y="1484280"/>
            <a:ext cx="49690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Poor Richard"/>
              </a:rPr>
              <a:t>الحاسب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Poor Richard"/>
              <a:ea typeface="Poor Richar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Poor Richard"/>
              </a:rPr>
              <a:t>الالي**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Poor Richard"/>
              <a:ea typeface="Poor Richard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68360" y="549360"/>
            <a:ext cx="56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مجالات العسكري**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773360"/>
            <a:ext cx="8648640" cy="44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بشكل واسع في المجالات العسكرية وخاص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سلحة الاستراتيجية كالصواريخ العابر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قارات وكذلك في اجهزو الانذارالبك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في التحكم بالطائرات الحربية التي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طير دون طيار 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 rot="19909200">
            <a:off x="6156360" y="549000"/>
            <a:ext cx="2427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حاس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19983600">
            <a:off x="6516720" y="1773360"/>
            <a:ext cx="242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والاستخد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 rot="20003400">
            <a:off x="6372360" y="3068640"/>
            <a:ext cx="250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شخصي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981000"/>
            <a:ext cx="5940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ستعمل الحاسبات الشخصية في البيت لاغراض شخص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كحساب ميزانية الاسرة والمصروفات والواردات وغيرها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ن البيانات كما يستعمل لاجراء الابحاث والتعلم والتسل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وساطة الانترنت والالعاب وكذلك الرسم الى اخر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900000" y="765000"/>
            <a:ext cx="17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عمال المكتبية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0000" y="1197000"/>
            <a:ext cx="7488360" cy="405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شيع استخدام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عديد من اعمال المكتب الحديث نحو طباعه الرسائل واخراجه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نظيم المواعيد واجراء الاتصالات بالمكتب وحفظ البيانا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معلومات للمكتب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132000" y="3429000"/>
            <a:ext cx="2665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eaeaea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هن الحاس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eaeaea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348000" y="2565360"/>
            <a:ext cx="50101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وظائف للمتخصصين في الحاسب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716360" y="1125360"/>
            <a:ext cx="1657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ولا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924360" y="765000"/>
            <a:ext cx="47512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تيجة لانتشارتقنية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معلومات في المجتمع ظهرت الحاجة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ى عدد من المتخصصين في مجالا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حاسب المختلفة ولعل من اهم هذه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وظائف التخصصية مايل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835280" y="549360"/>
            <a:ext cx="375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برمجة تطبيقات حاسب**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63640" y="1484280"/>
            <a:ext cx="6499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033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هو الذي يقوم باعمال تطوير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رمجيات الحاسب وتطبيقاته</a:t>
            </a: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ختلفه , ونحو برمجيات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عالجة النصوص والرسم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غيرها والتي سبق معرفتها..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00000" y="1700280"/>
            <a:ext cx="74898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حاسب والمجتمع**</a:t>
            </a:r>
            <a:endParaRPr b="0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411280" y="1413000"/>
            <a:ext cx="259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مبرمج نظم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08720" y="3357720"/>
            <a:ext cx="3635280" cy="18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754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تولى مهام تطوير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نشاء نظم تشغيل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صيانتها وتحديثها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979640" y="620640"/>
            <a:ext cx="53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محلل ومصمم نظم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1640" y="191628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دراسة احتياجات ومتطلبات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ستخدمين من المعلومات وجمع البيانات الت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تطلبها قاعده البيانات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و المعلومات وتصميم القاعده بما  يناسب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حقق متطلبات المستفيدين منها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651640" y="1916280"/>
            <a:ext cx="2263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خصائي قاعدة بيان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1125360"/>
            <a:ext cx="2997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مهندس شبكات حاس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64000" y="3068640"/>
            <a:ext cx="3105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كون مسؤولا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عن تطوير قواعد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بيانات وصيانته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حديثها وتطويرها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26920" y="2205000"/>
            <a:ext cx="2627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تولى مسؤول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ركيب وصيانة وتطوي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شبكات الحاسب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صيانتها وتشغيلها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716360" cy="4365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11280" y="836640"/>
            <a:ext cx="3527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مشغل الحاسب**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11640" y="404640"/>
            <a:ext cx="4614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شمل مسؤوليات مشغل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جهزة الحاسب الالي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98880" y="1989000"/>
            <a:ext cx="51451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هيئة اجهزة الحاسب للعمل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ركيب اسطوانات واشرطة حفظ البيانات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حميل نظام التشغيل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جهيز الطابعات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راقبة عمل الاجهزة لضمان سيرها دون خلل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708360" y="333360"/>
            <a:ext cx="4984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دخل بيانات*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920" y="2276640"/>
            <a:ext cx="7632720" cy="37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سؤوليته هي ادخال المعلومات الى الملفا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قواعج البيانات عن طريق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طباعتها المفاتيح وباستخدام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سائل الادخال المختلفه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50920" y="404640"/>
            <a:ext cx="453708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في حاسب \ شبكات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133720"/>
            <a:ext cx="5111640" cy="40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تولى مهام مساعده المهندسين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اختصائيين في صيانة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جهزة  الحاسب \ الشبكات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ركيبها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508720" y="4005360"/>
            <a:ext cx="287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هندس حاسب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1557360"/>
            <a:ext cx="6626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مسؤوليته هي تركيب التجهيزات المادي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حاسب , والاشراف على تشغيلها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صيانتها ,زكذلك تطوي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صميم وبناء مختلف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جهزة الحاسوبيه 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124000" y="333360"/>
            <a:ext cx="4319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78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معلم(مدرب)حاسب.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835280" y="1989000"/>
            <a:ext cx="5622840" cy="38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قوم معلم الحاسب بنشر الوع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علمي وثقافة الحاسب في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جتمع كما يقوم بمهمة التعلي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دريب المنشء على هذه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تقنية المعاصرة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956720" y="0"/>
            <a:ext cx="118728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95280" y="5805360"/>
            <a:ext cx="8388360" cy="1052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368360" cy="652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340000" y="1125360"/>
            <a:ext cx="4797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eaea"/>
                </a:solidFill>
                <a:latin typeface="Times New Roman"/>
              </a:rPr>
              <a:t>مسؤولية امن معلومات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aeaea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76360" y="2708280"/>
            <a:ext cx="65516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هو ذلك الشخص الذي يتولى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تابعة سير المعلومات داخل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طاع والمحافظة على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سريتها 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716360" y="1268280"/>
            <a:ext cx="1212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ثانيا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 rot="21055800">
            <a:off x="3708000" y="3212640"/>
            <a:ext cx="4383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وظائف لغير المتخصصين**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843280" y="3141720"/>
            <a:ext cx="377172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جالات استخدام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حاسب**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 rot="16200000">
            <a:off x="6284160" y="1356120"/>
            <a:ext cx="3956040" cy="17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مصمم بالحاسب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341360"/>
            <a:ext cx="5975280" cy="42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اعمال التصميمات الهندسية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ختلفة والمعمارية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ستخدام الحاسب</a:t>
            </a: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 rot="20160600">
            <a:off x="1763640" y="21337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اشر الالكتروني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59280" y="2492280"/>
            <a:ext cx="4105080" cy="252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اعداد الوثائ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صحف  والمؤلفات الت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حوي نصوصا ورسوم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ستخدام الحاسب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843280" y="2133720"/>
            <a:ext cx="3000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فني رسم بالحاسب**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050920" y="2924280"/>
            <a:ext cx="5112000" cy="24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تولى اخراج الرسو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عمارية والهندس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فيديويه باستخدا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حاسب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68360" y="189000"/>
            <a:ext cx="6567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مشغل اجهزة معتمدة على الحاسب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340000" y="1773360"/>
            <a:ext cx="4968720" cy="41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مسؤول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شغيل الاجهزة التي تعتمد على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في تشغيلها والتحكم بها نحو الاجهزة الطب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ختلفة واجهزة الاتصالات واجهزة التحك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لمصانع وغيره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64000" y="333360"/>
            <a:ext cx="5219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0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داري مستخدم للحاسب**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76720" y="1989000"/>
            <a:ext cx="56512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حو الموظفين الذين يعملون على وظائف معالجة النصوص ,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و اعمال المحاسبة, ومتابعة المخزون ,وموظف المصارف,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خطوط الطيران, وغيرها من اعمال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دارية تعتمد عى الحاسب في انجازها</a:t>
            </a: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5" name=""/>
          <p:cNvSpPr txBox="1"/>
          <p:nvPr/>
        </p:nvSpPr>
        <p:spPr>
          <a:xfrm>
            <a:off x="1258920" y="1773360"/>
            <a:ext cx="6553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ن لمن الضروري اكتساب الخبره في تطبيقات الحاسب لكافة الافراد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عاملين في كافة القطاعات حيث ان العديد من الوظائف تتطلب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عرفة بالحاسب ومن المتوقع ان تكون من متظلبات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جميع الوظائف بالمجتمع لمعاصر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652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20523000">
            <a:off x="3635280" y="1773000"/>
            <a:ext cx="51879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سبحانك اللهم وبحمدك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اشهد ان لااله الا الله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استغفرك واتوب اليك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9640" y="189000"/>
            <a:ext cx="54262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- </a:t>
            </a: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جالات تجاريه اقتصادية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2060640"/>
            <a:ext cx="572436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ستخدم الحاسب لتطبيقات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عديدة في في المجال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قتصادي والتجاري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خاصة لحساب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يزانيات والارباح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مدفوعات والمقبوضات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رواتب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عهد ...وغيرها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105264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مؤسسات الماليه والمصارف**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2349360"/>
            <a:ext cx="6480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على نطاق واسع في 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5640" y="3141720"/>
            <a:ext cx="6977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صريف العمليات البنكية مثل الايداع والسحب والتحقق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71640" y="3933720"/>
            <a:ext cx="6912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ن رقم الحساب وحساب الارباح والخسائر واصدار الشيكات ونقل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71640" y="4797360"/>
            <a:ext cx="698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بالغ الكترونيا بين المصارف ومؤسسات النقد والافراد وغيرها..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5516640"/>
            <a:ext cx="3168720" cy="1152360"/>
          </a:xfrm>
          <a:prstGeom prst="downArrowCallout">
            <a:avLst>
              <a:gd name="adj1" fmla="val 83417"/>
              <a:gd name="adj2" fmla="val 63435"/>
              <a:gd name="adj3" fmla="val 14704"/>
              <a:gd name="adj4" fmla="val 67769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419640" y="5516640"/>
            <a:ext cx="122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ثال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547640" y="692280"/>
            <a:ext cx="56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المجالات العلميه والابحاث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916280"/>
            <a:ext cx="76107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معظم المحالات العلمية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كالفيزياء والكيمياء والرياضيات والفلك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علوم الهندسيه وما يتعلق بهذه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جالات من ابحاث حيث يستخدم التليل والبيانات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نتائجوفرزها ومقارنتها واجراء العمليات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03640" y="5300640"/>
            <a:ext cx="5229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حسابية والرياضية بهذه المجالات .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21:10:21Z</dcterms:created>
  <dc:creator>rawad</dc:creator>
  <dc:description/>
  <dc:language>en-US</dc:language>
  <cp:lastModifiedBy>user</cp:lastModifiedBy>
  <dcterms:modified xsi:type="dcterms:W3CDTF">2012-01-17T19:37:15Z</dcterms:modified>
  <cp:revision>12</cp:revision>
  <dc:subject/>
  <dc:title>الشريحة 1</dc:title>
</cp:coreProperties>
</file>