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8151B6-E66C-4DA4-8DE8-1FD8B9ACC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BD0C7F-80E7-4EDF-BE3F-D60877A9E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C8FBC5-EBB6-496D-9573-83C77BA08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312537-5C6B-403B-9000-E45DC636D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6DD1F2-29BC-428B-ADE2-A23065F08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614FFC-E252-4385-9727-146289459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901463-A672-43AD-8536-FCD62FBE7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86EBCD-EEBF-4A9D-82C3-DE55A75C9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E3A185-A933-4FCF-AC67-2C5C8683E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92D647-8D95-4B1A-ABCA-B5CF34CF6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AA7CF7-A7FF-43CC-8838-B2F3DBCA0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D4DD40-3F0D-4723-8849-BDFFD8FF2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ABACBA-2179-448C-A162-D19F9F750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DED3DD-9B6C-4B9D-9333-A12A633F0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D088D0-0426-427B-B1FC-6539774D5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9E63EF-9BBF-4A29-A16D-0B5238F8F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8FFB12-D410-42F4-B0C4-A69385A98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D93E17-81EC-4421-A97E-D04F901E6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4E49DD-64D5-4565-9C22-264E5F587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F4BF2C-ED4C-43B0-B675-858C723A0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526385-8445-4497-8515-8A29B688A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B5C26C-177A-4DF5-B9D2-4AC4E1F48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484028-82F6-41D8-93D0-1D10BD0CD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225-E909-4D63-8859-EBFC64EE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B8C-3D09-4029-A42F-48BB89EB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E0A-E11B-44BD-BC12-CE16BB51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FD2-F1F5-4593-B260-22592BF8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772B-304B-49FC-8B47-A153C5A1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3EBE-C52B-47E8-A725-2E2E6836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5076-110C-4F96-88BD-56F3496A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61AC-DFEB-416C-B30E-72A91799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0D1A-944D-40C3-BA04-00603185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2655-2013-4C13-8810-B9D14218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3975-1374-4D41-8E39-2F924CBA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50E-9C27-4E26-813C-AE6D64A3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EB8C-9783-4D46-9086-986A38AE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FC33-B3D8-4CCE-8C71-E9DFC445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EE07-71CD-4850-80A2-0F3C449A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E97F-0D48-4A05-8CA4-75F84681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0F34-6753-45F2-9170-753F9946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173AF-BD51-4F23-95A6-1BF1B720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06837-D01E-4592-AF19-C03B8081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239C6-4211-4380-8868-6CACF372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7E24A-9016-4DEC-9BD6-B4F7BC3E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739C7-981E-4C43-BECA-3ECD9889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FEB-0EB6-4CD0-8123-7E23C6CF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1E157-1282-48C3-BA58-146C784F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185EA-E734-4C4F-8463-2194A0EF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E8E2A-B503-43D1-BB83-669518AC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5C34D-DB49-4679-9BF9-8C323050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731EC-CF97-499B-A0D4-77656B35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C247D-A608-4448-B896-09117923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BD7F9-1B7B-4BF7-9024-34977C2C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293FA-9B15-47BA-9AA1-9E60D422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CF092-15B5-4DE7-8BA3-44D5C30C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546D7-7E7C-4F18-8149-7C81AE28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6E5-FDC5-4199-9B7B-7D047D9B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D5B66-70A2-44F0-BF70-562DF640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20081-A743-4A26-ABF1-F1C249BA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17639-4D89-4E17-8EF0-74C09A08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BECC3-B0AA-40F5-9069-E146D4B6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6AE22-1DAF-4B1F-916F-AF6901E2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16098-B39E-4B5C-BF28-8A67F573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7A81F-953E-4472-9713-7198C7BB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96BD3-B425-44AA-82EC-031F2E67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0C2FD-0333-4E56-9034-641DD32C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CEA88-638C-4B60-A3E6-D47039DD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69E-48F1-4A66-9B45-16FCA31E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C818A-7A69-4E91-BDD1-D00589A8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86891-88B0-48D2-BB2A-D7652824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3B035-55CE-4A07-83EC-D85A2426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5C275-A72C-40B6-A8FD-5035D168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D0886-D63F-4437-BBDA-85FF8843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95800-CA2D-4A05-A768-311EA7E7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EDE9E-EC3C-4105-8E85-338ED49D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8BD54-A70A-4917-A580-6A1E87C0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24976-F22C-44BC-A06D-B995E955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4C0E9-A8C7-47CC-8DD4-ECE58A1E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D9A-897D-4074-98CD-818B7B0E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B0636-0969-46FE-805C-85836FE7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D2229-C00A-4607-A1BC-010DE574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ADAC8-76E7-4D17-AC41-C79EA20B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68568-6B14-44E0-9CA4-9FA45DB3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6C3BF-EC42-440E-B300-0F94CD86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24F4D-A44C-4C43-9A03-575812E3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C2E9D-1A2A-4262-B6D8-389A8EA6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728C7-E003-4A84-B8DF-DE94F073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9D909-61FE-4055-B94B-E41744D4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84C3A-AA63-4C1C-B29D-A17AC313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06A-CB44-417C-8A5E-2E7807A7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01AF8-89AE-4FB3-991F-4D014A41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FC782-1BCA-483F-8006-9E2031DC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87316-8FAA-44E7-B4B3-E46A3684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B9645-63AC-4849-9C02-EC2DB5CD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1EFE7-76F5-4562-AD23-98F8CC5A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CE110-6F52-4ABD-A865-0B5601F4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030CF-F43C-4D08-9045-2F84EC14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CCEC5-7898-4BB4-9EB2-E1C7A53D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03BF7-9909-451B-BF8D-482918EB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3E4E6-0AA9-4C24-A568-D69845AF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EE8-C950-4DA0-B012-F87B761E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0AEA7-9FCD-467B-A51C-25E188E1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D1876-F60E-4813-80CE-55DAD0E5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748B4-28F3-42D9-84AB-C77ADF80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62A25-D23A-4B17-98B1-96B1D6EA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8301E-483F-4CCC-A109-D5E9DA2F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405-B10D-40ED-85BE-2532D7B5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BA20-5254-49FB-8B6E-858EF8690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F3FD-997A-4EFC-BA15-3BCBDDC76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E179-A1FA-441D-9768-1A98D93D6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6E7B-3A04-437C-9A2A-AD09AAF30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99D0-CF1D-4BBC-A7BD-63F1AEF3B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0FAF-BDC7-4B21-8993-3C8849CD75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BA63-D4CC-4B02-83E7-751F6A9BA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3C2F-663B-41BF-89B6-0959BBA4C40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FEE1-76EE-45D5-A118-E7C127FAA8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48E4-0305-42C1-9AB7-A921386CB1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F903-EDAF-4C8F-8D6E-4FA3D2722D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B288-0A79-4B0E-988F-B048F4F347A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9D7E-7950-4BCB-9E01-B360C188A69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E989-CDC4-413A-A285-5D593C9FF7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80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2557-45E8-4813-999C-7853A724301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603B-CE33-4FFE-83EF-145FBE45EF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F902-99EE-41EF-9B3B-9D39FFB39B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907A-A91C-4615-885A-D3BFD70CE4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2103-7830-42BD-B573-110B829176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9E67-6D87-4A61-B79D-BB8DA08FB0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AAA1-CEA1-4CCD-9CFE-57594B6673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E4E0-6B0B-4E1C-9877-2606E3CDD9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695D-993A-4A4A-8107-E80DC2BCAA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6006-9D84-44D0-82CE-D398E055A5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 fontScale="89000"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DBFA-FFD8-4970-A55B-0C9A246D8C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4960"/>
            <a:chOff x="1054080" y="1981080"/>
            <a:chExt cx="6794640" cy="350496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37960" y="3271320"/>
              <a:ext cx="6677640" cy="7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37960" y="3965040"/>
              <a:ext cx="667764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37960" y="4646520"/>
              <a:ext cx="667764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8080" y="2620080"/>
              <a:ext cx="6707520" cy="6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3400" y="275724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61000" y="4033080"/>
              <a:ext cx="4701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8400" y="4652280"/>
              <a:ext cx="49003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8400" y="3360960"/>
              <a:ext cx="4748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67640" cy="67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15FB-7675-40CB-B85C-8186F46DFB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Tanvir Khan</cp:lastModifiedBy>
  <cp:lastPrinted>2011-09-02T18:20:27Z</cp:lastPrinted>
  <dcterms:modified xsi:type="dcterms:W3CDTF">2016-08-23T08:57:25Z</dcterms:modified>
  <cp:revision>493</cp:revision>
  <dc:subject>An Overview of Marketing</dc:subject>
  <dc:title>Chapter 1</dc:title>
</cp:coreProperties>
</file>