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3CE0DD-7603-4008-BC5F-798E39179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396D51-18E6-4315-81B4-775F31BBE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1AF706-6C1C-4038-8403-0B91F4524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18C645-9364-44A8-8F10-82D24CE2E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8A3825-1FDF-4B91-9C12-3225928F7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B00F9B-31FC-42DC-93C9-E1DF58043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B0A4D5-409F-410E-86F0-ED1336D2E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B2ED9E-5AC1-4867-8B01-2FC9A7A7B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59BED8-0184-43D0-A2A6-031D8CEC7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72241E-AE19-4607-BBDC-D41A20D37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5A5ABA-A2BF-45E7-A218-132C841D8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E648EB-62A4-4228-B18F-E84D46CB5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0083AD-4F0B-4B82-BCB0-272C0ACCA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5B9EA0-589C-4077-A6E0-CDE0CA748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A1626E-6E25-41EB-8678-D8855DA80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62C893-9D1A-4F03-9BE4-74740AF56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2BEFC4-C2AB-419D-9EAB-6BB052F2C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F93ACB-1A6B-4A4D-AD76-8175DB649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50BC6C-991A-40D0-98E5-1C08E0470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95F054-AC07-462D-B198-5718666BC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6F1166-9B36-4210-9BAE-A5A33075C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1F70C1-9984-41B2-B649-AFC77FF6D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E5DFFC-DB23-4211-A93A-D497F76B3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D99-CEE5-440B-A775-C6A62782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F9C-08D0-4763-A63A-0544643C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C53-89E0-4358-80E9-C87EB59F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B1C-C095-4EE1-B32A-1F22E56D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C45E-5BB4-4BE6-BB8C-B32FB737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3D95-60A0-4015-939E-5ACA343C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73E0-C580-4C71-A60D-FBD149A7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4EA1-5974-4A3C-BD71-2D7C36D0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EFD2-3831-4198-A70F-ED5E1B78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9911-E0CD-4F4B-BF5D-4A7F351F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551F-7EA6-4532-A1D4-554FC394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C6C-A368-44A1-9B14-06AE180D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8048-22B8-400B-B8C2-27EA61B4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136C-0B6E-4D5B-94C9-CA6DE463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02C2-7B37-4C13-9EA6-B7497B7B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DD6E-244B-454C-A42B-E80C0448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5C65-6892-431A-B1D8-A9643700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8129A-B6EF-41E9-932B-50F523EF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25FC9-F99B-4634-96BE-00375DE0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41BA6-1544-4C2F-A30B-AF0A4F74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D8B15-BF87-4260-AFE2-6B72AE70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79998-859C-4448-94BA-FD5BBB19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66D-734D-45BC-A32A-A88BA76D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261C4-7F7F-4F40-ABB8-C59251B1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54A83-53BA-4D7C-9574-1E9DEBF7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2AE6C-7E6E-41C4-88A5-4DA649D3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4DCCF-70E4-47BB-8069-B40AE720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69A16-013A-4634-9F3D-F69E859A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88DA3-402B-455F-B52C-44ECC621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2F129-867A-43E8-90F3-ABFFAD12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0AE4E-A78A-4481-B85A-C7C53322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38F2F-A464-4EBE-94CA-8A24D052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489C7-DF83-4FA6-B5C6-618EAE66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FE4-9685-4D99-BC80-86DB959A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18EFB-32B9-4025-A1D6-3C8B30E8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B641F-418F-40E4-978A-8C6E6AF0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CE07E-40C9-48F0-BF32-902EFB40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272B5-42CD-4952-91D5-31016D3E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E58D7-47C0-47B9-B0CE-9F7AF5AA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D3235-E0F2-4840-A007-F4483725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2E183-5DC9-4CFA-8BD0-FF9034B2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A7CE8-03DA-403F-AFB3-7070A65E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97BAA-B8CA-4E39-B790-A71C2C21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BEDD7-B159-4306-A0B5-0C1CAE69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C6B-82D0-4322-A5A4-8714980B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84837-DA22-4A3A-99FA-0747A623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1C8C5-A8EE-42D1-B7B6-73A8628A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3D6C7-182A-4D75-B7E6-ADB62C1C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4B6E5-8219-4CFD-B6EA-2F77D50B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EF83A-02CE-455A-8E2F-18198588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67538-9650-4B08-89D7-E5577EC2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E8711-7DCE-4A79-A490-A8F8E566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1E1F5-A403-4BBD-8D2F-BF67775E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09044-9F15-4728-9452-5509422E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E3998-A007-4D32-9809-EDFF4301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9B7-994F-4580-AF1E-0BE06B3F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F3579-EDF6-4967-A091-C33CBABE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CAFE1-AADB-4AB4-BB1D-FD78AB8C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18D3D-ACA6-4DD2-B2BF-68A4F942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24BE6-F7D1-46B3-A0EC-ABFE1905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DF57F-92C8-47C0-8A44-4B0C0690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90C59-AF47-460B-A46E-65530C06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EA699-34CC-40C1-BBD0-04A40100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F1C83-78DA-442D-B1CF-5B788F9A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6288A-41C1-4696-891A-D9B8F0A8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E18A2-592A-44A1-8260-2D55BF91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8E2-A251-4CFC-9EC0-4392C559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0CBA6-570A-46E8-8723-2CA86B19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CD831-0A1A-4E4D-87A1-C06FF9F3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BBF08-7A59-4230-8A9C-34FC9FCD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98F63-C7CB-4AA3-AB0D-22F140D8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B1A76-5CEA-4BFD-BF44-1BB5FF4B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A8D22-3D77-4F6F-ADA0-8E25EFE4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8B9E7-11D7-48FF-877A-5B2DAF88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2275B-9D7A-481C-BE1B-B4DE8907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4BECF-9C0F-4C64-936D-321D5B8E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7BFD5-CEA3-48DB-B4C0-CF72F76B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1D6-F83D-4253-93D9-A5910786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E2034-5E2B-4EBF-AFC8-672710CB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7AD79-4AEC-4113-8F5D-A2755662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7C5EF-9C16-411B-8548-387FCC86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F19DD-B5A4-452F-B12E-1D7D7711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EC57B-8BC4-4508-AB46-5A54C911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5CD2-9D1B-4E65-B4FF-94E18EEC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B21A-397B-4740-AFFA-E4B740373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7928-B978-4928-9CC3-B8BA05615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B469-24FE-4D69-9926-3354FE462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B356-764A-4268-AE87-C43C98B65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E38F-FB04-4519-89F0-B154036F1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0694-9017-4DA1-A89E-768B5EC8C2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AE35-B109-49C7-8181-7E3300545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B0EC-C150-43BB-9524-8FFAEA900FD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44A0-4D73-4B9A-95D9-D21C234C94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96D4-08DC-4385-A770-C4481D0B76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6AF6-62B2-4A6D-A19F-99C00BB810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A96D-5F5E-4554-8A28-1691F59C80A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58B1-E100-420E-A745-DFDEE19B90A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6DCF-DC9B-43FF-BE6E-1C28EF76AF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80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F3A9-FC7D-406D-977A-6618FAEEF3F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B9E0-512E-43CF-B2F8-4A79720880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CB1E-3CC8-4C4D-89A9-CC767F0406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F549-786D-49DE-BCBD-2C1D8ED5DE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0BC1-6396-4979-A50C-4EF6057AF9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BC10-71C2-4498-83EB-D8BA72E91B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0D9B-90A6-4981-B928-F98A8F0DFD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A5D6-088C-400F-A100-321F4B9B5E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496F-9CEE-4F0A-8270-0E32ACAF7D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6746-B84A-4B7F-B929-ED769FD971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 fontScale="89000"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6792-446C-4EFF-809E-CC0791BC52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7960" y="3271320"/>
              <a:ext cx="667764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7960" y="3965040"/>
              <a:ext cx="667764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7960" y="4646520"/>
              <a:ext cx="667764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8080" y="2620080"/>
              <a:ext cx="670752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340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61000" y="4033080"/>
              <a:ext cx="4701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8400" y="4652280"/>
              <a:ext cx="49003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8400" y="3360960"/>
              <a:ext cx="4748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97EB-899D-4C90-9AC8-3C4201420E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Tanvir Khan</cp:lastModifiedBy>
  <cp:lastPrinted>2011-09-02T18:20:27Z</cp:lastPrinted>
  <dcterms:modified xsi:type="dcterms:W3CDTF">2016-08-23T08:57:25Z</dcterms:modified>
  <cp:revision>493</cp:revision>
  <dc:subject>An Overview of Marketing</dc:subject>
  <dc:title>Chapter 1</dc:title>
</cp:coreProperties>
</file>