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E0FBBA-F910-4387-B149-C9F011370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A5EF18-3C72-4BDF-AA12-C51344F9B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2E047D-54CD-4765-9E8D-9691B3951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05D0B4-02F2-4682-A84E-BE1609AB7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your competitive arena and competitors’ strengths and weaknesses is a critical component of a market ori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66E030-C7A1-4563-B209-4D25A3B42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41ED91-5D32-42CA-84C7-4BB52BDA7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F518D8-5A13-47B8-9525-A39A29B6A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93940B-16CA-4771-A119-BCF3CF20B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C634AB-FE03-4251-8FEE-CA8BA797B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focus on their own needs; market-oriented firms focus on customers’ needs and prefer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companies consider themselves to be deliverers of goods and services, whereas market-oriented companies view themselves as satisfiers of custo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direct their products to everyone; market-oriented firms aim at specific segments of th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primary goal of both types of firms is profit, sales-oriented businesses pursue maximum sales volume through intensive promotion, whereas market-oriented businesses pursue customer satisfaction through coordinated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s with sales or market orientations. Discuss the effectiveness of each organization’s strate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44BF1D-DBDB-4E9D-BE88-FD192B2D0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also includes customization and fast deliv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ays that successful companies deliver superior customer val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edes Ben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4DF9E9-1B4A-4045-855B-50227EA9F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6820A8-E57C-43B1-9738-D01DB8C59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309C63-FCC2-4F2B-8D83-CCDF9CBD1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416711-059B-48D3-A542-8D76768B5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mpanies that have made significant efforts at building long-term relationship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eas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Air L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she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o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til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137CFA-3269-4750-8AE9-55D140795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5C34AC-0363-4147-BE54-D3FE8A122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D5F699-F9F1-421D-9210-CB9B0C1AB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C810F6-63AE-4FEE-828B-71EF55279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C57E55-C0C7-4175-805C-FA935C95A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class to give examples of companies that value employees and discuss how motivated employees create customer and stockholder satisf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436AC6-A585-4A93-B7B3-D9CDCAC68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39F1A8-A8DB-48AE-BC6C-59A157348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89C649-68FC-4CD1-81F2-181EBABDD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competing philosophies influence an organization’s marketing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examples of companies/organizations whose marketing management philosophies match each ori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:  Henry Ford’s Model T availability in any color as long as it was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.com businesses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z Carlton Hotels,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Shop, Turtle Wax,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D9A2D8-3EB7-4C68-90BB-90ECDD7A5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4D1-6C6F-42A3-854B-00EC6777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DD5-3A52-4876-B2AF-1EC2AB59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B82-03AC-47F1-BA52-4B54BCD7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84C-4D89-45BC-A881-907066CF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2311-DA8C-4F48-BD2B-2A5CCCE9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C8F9-3CEE-4955-8DD3-38BA66B7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7A66-2DDB-47CA-9D9F-61096EFC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1181-59E5-4405-A061-EDEEE102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318C-29FC-404C-9B80-D602F8C6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16DF-5821-4292-ABC7-0296859D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704B-54DC-4588-994C-781AC0D3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A7D8-806F-4F5E-AD02-D403BEE6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CFD0-311F-4908-BEA6-22A5397B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E1BD-F6F7-4B73-B9CD-4C7C21AD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AF3B-5F52-4144-8D4F-E0679750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971D-3543-4390-9454-352692F1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181A-201A-4B43-9167-5E1C7607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6816F-1939-4450-9DA2-5EE049DD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8587C-1EF6-430B-B2B7-64F36F92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F36E4-9BC3-4A68-ACF3-7AA2FEF6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DCA36-9CE0-4DC7-9C4F-129335D4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200BB-CED4-41A9-BA95-051632AD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37E-C3F2-4CD5-ABD3-436C5910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8FDC7-7A49-4B79-8B13-DCC59417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8ECFE-3F1A-49C0-A85F-5F974AD5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08BE-EF27-4D4B-95BB-3FDAE3A3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4B3AF-DE56-4C97-B02B-EE603050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B3E4D-603F-472B-82E3-BD5E6ACA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B0ADA-2D27-4A33-B956-45C302EC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E57C8-8479-4E74-BBFE-A656D671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DBE99-B191-4B1B-AA5B-D71CA2E7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B46E7-E4D6-4DA8-BB55-FE2C0975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04887-4908-4F1E-BE0D-4ECBB878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2A2-A7DA-4345-A083-831935FB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18810-F9DB-4E48-B996-8B8BCFB5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BE850-E9BA-4034-856E-5E3FBD6F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E920D-0030-4FA5-85BF-7413CDBA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34021-4A6D-4225-B7A5-FBAA544D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F00A1-53CE-4AF9-A683-79010294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BF84F-2180-4501-A319-3C945A04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DFED3-64B9-48D2-8E48-339B9C44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37715-3ED1-4D3F-B2D7-BFB53481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4BF58-0A78-4BFA-B932-A33FF5AA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7A315-40D0-4AC3-BDD9-0EB5D93F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B64-5664-41FC-878B-35B49C5D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02432-6282-487D-AFFB-46CB1C27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8B5C9-2279-414F-A8FD-AE74EA51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A6FC7-7625-4B56-A0CC-B62387FB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31D02-C06A-4DD2-BCB6-066C52C1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B5D38-711F-4D02-BEDD-F5A9D264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5513D-7893-4F64-9E91-D38B3E26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397B5-1238-48B7-BBF7-E6835E5B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20B42-678D-4013-8A5B-9C813E94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25421-9E14-4606-BB5A-B8ED036B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3A1DD-282F-4ABB-888F-A99D1560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528-44E3-4E92-97BE-B91CEFFF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E29D1-038E-4935-BF47-B6124938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02DC3-53A2-4D92-BAF5-D20A4325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E85C1-8E96-4F74-98B1-40EFB22F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D10FA-E1A0-4A65-AB60-B7C9A644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B82ED-AE96-4329-A51E-6E44183B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65652-7908-4546-8549-0B24F1C5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6C730-223C-4A7F-BC79-52E42AC2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05243-82FB-4E74-8FEF-CC121C03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8D520-A190-4474-8E9D-5C9CCCF2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3BC44-9AC6-482B-A727-FA67C8D6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795B-E07F-4345-92EB-3356BBC5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3E7CF-7265-4E4C-9EFA-EBF29EC2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03523-CAB7-4A2C-A22A-90756138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290D5-D599-4B64-A61F-30B0C701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30A56-8F89-46F4-9460-3B5E7AB1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BEA49-4C89-4F4D-813F-B645BB02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45C48-8063-43DA-891A-2698CAAD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4FC97-AFEC-4B0D-A527-20E8396E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56B89-CFD2-40C9-BDBB-910499A9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2CD7E-B20D-4596-A0B6-80F07C6C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A3B4B-492A-42BE-96F2-0BDF64D6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419-2618-40F3-86E5-E1367880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2C46D-4A2B-4A9F-BA84-9387CCAD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0C274-4176-4110-A818-6FF153A1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6525F-7279-4C1F-837C-CE30015A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AFF30-9702-4A9E-B812-275E1CE0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6E436-F17B-4202-9147-F8865E80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1AE-2C7D-4F6D-90D7-0827B358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5238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1AE4-9664-4FCA-8AFF-D8DF85B34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057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33520" y="63590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6B38-45CF-4914-9C3E-17AD97CD2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5640" y="6248520"/>
            <a:ext cx="426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D0C0-9AC0-435C-AC56-F647F80CE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67616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2514600" y="6552720"/>
            <a:ext cx="4038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E74B-7B97-4E08-BCED-62AA3B593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3475080"/>
            <a:ext cx="3962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951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1519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2EC4-2A52-43EF-B15E-BEA078EE0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74284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FA9E-7330-4B3A-8F04-2FCEB05D024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218c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6290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63A8-784D-4C7D-989A-43EAFC907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1522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8920-818D-4BC9-BC71-D93600796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51134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KTG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mb, Hair, and McDaniel</a:t>
            </a:r>
            <a:r>
              <a:rPr b="1" lang="en-US" sz="2800" spc="-1" strike="noStrike">
                <a:solidFill>
                  <a:srgbClr val="000000"/>
                </a:solidFill>
                <a:latin typeface="Informal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312d"/>
                </a:solidFill>
                <a:latin typeface="Calibri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 Overview of Mark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CDF3-4ED6-4360-B837-16BC092BC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6534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ales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ing Things &amp; Collect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1295280" y="30481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regards market needs and consumer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ite the quality of sales force, often cannot convince people to buy what is neither wanted nor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0D19-DB04-478D-A867-9C1358692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14360" y="609120"/>
            <a:ext cx="6610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arket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on customer wants and needs to distinguish products from competitors’ offering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ng all the organization’s activities to satisfy these w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the organization’s long-term goals by satisfying customer wants and needs legally and responsi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282680" y="1504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218c"/>
                </a:solidFill>
                <a:latin typeface="Calibri"/>
              </a:rPr>
              <a:t>Marketing</a:t>
            </a:r>
            <a:r>
              <a:rPr b="1" lang="en-US" sz="3200" spc="-1" strike="noStrike">
                <a:solidFill>
                  <a:srgbClr val="a0218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a0218c"/>
                </a:solidFill>
                <a:latin typeface="Calibri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al Marketing Ori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B322-6B09-48C7-9232-47800DB48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523880"/>
            <a:ext cx="64008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rganization exists not only to satisfy customer wants but also to preserve or enhance individuals’ and society’s long-term best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1828800" y="4038480"/>
            <a:ext cx="5334120" cy="2057400"/>
          </a:xfrm>
          <a:prstGeom prst="rect">
            <a:avLst/>
          </a:prstGeom>
          <a:solidFill>
            <a:srgbClr val="99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ss tox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dur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ts with reusable or recyc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295280" y="21337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availability of comparative research enables customers to shop smarter, putting the customer in the driver s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C1E5-CAA9-4A73-B754-4BAFFE32A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 That Help Determ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ing Philosophy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0" name="Footer Placeholder 1"/>
          <p:cNvSpPr/>
          <p:nvPr/>
        </p:nvSpPr>
        <p:spPr>
          <a:xfrm>
            <a:off x="230832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6"/>
          <p:cNvGrpSpPr/>
          <p:nvPr/>
        </p:nvGrpSpPr>
        <p:grpSpPr>
          <a:xfrm>
            <a:off x="930240" y="1752480"/>
            <a:ext cx="7070400" cy="4129920"/>
            <a:chOff x="930240" y="1752480"/>
            <a:chExt cx="7070400" cy="4129920"/>
          </a:xfrm>
        </p:grpSpPr>
        <p:sp>
          <p:nvSpPr>
            <p:cNvPr id="382" name="Rectangle 35"/>
            <p:cNvSpPr/>
            <p:nvPr/>
          </p:nvSpPr>
          <p:spPr>
            <a:xfrm>
              <a:off x="930240" y="229032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6"/>
            <p:cNvSpPr/>
            <p:nvPr/>
          </p:nvSpPr>
          <p:spPr>
            <a:xfrm>
              <a:off x="930240" y="3250800"/>
              <a:ext cx="1856880" cy="66924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930240" y="4211280"/>
              <a:ext cx="1856880" cy="66600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930240" y="517068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ci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58"/>
            <p:cNvGrpSpPr/>
            <p:nvPr/>
          </p:nvGrpSpPr>
          <p:grpSpPr>
            <a:xfrm>
              <a:off x="3342960" y="2290320"/>
              <a:ext cx="4657680" cy="3592080"/>
              <a:chOff x="3342960" y="2290320"/>
              <a:chExt cx="4657680" cy="3592080"/>
            </a:xfrm>
          </p:grpSpPr>
          <p:sp>
            <p:nvSpPr>
              <p:cNvPr id="387" name="Rectangle 39"/>
              <p:cNvSpPr/>
              <p:nvPr/>
            </p:nvSpPr>
            <p:spPr>
              <a:xfrm>
                <a:off x="3342960" y="2290320"/>
                <a:ext cx="4657680" cy="65988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can we make or do best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0"/>
              <p:cNvSpPr/>
              <p:nvPr/>
            </p:nvSpPr>
            <p:spPr>
              <a:xfrm>
                <a:off x="3342960" y="326592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ow can we sell more aggressivel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41"/>
              <p:cNvSpPr/>
              <p:nvPr/>
            </p:nvSpPr>
            <p:spPr>
              <a:xfrm>
                <a:off x="3342960" y="4245480"/>
                <a:ext cx="4657680" cy="65952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do customer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ant and need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42"/>
              <p:cNvSpPr/>
              <p:nvPr/>
            </p:nvSpPr>
            <p:spPr>
              <a:xfrm>
                <a:off x="3342960" y="522288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hat do customers want/need, and how can we benefit societ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1" name="AutoShape 43"/>
            <p:cNvCxnSpPr>
              <a:stCxn id="382" idx="3"/>
              <a:endCxn id="387" idx="1"/>
            </p:cNvCxnSpPr>
            <p:nvPr/>
          </p:nvCxnSpPr>
          <p:spPr>
            <a:xfrm flipV="1">
              <a:off x="2786760" y="2621160"/>
              <a:ext cx="556200" cy="3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2" name="AutoShape 44"/>
            <p:cNvCxnSpPr>
              <a:stCxn id="383" idx="3"/>
              <a:endCxn id="388" idx="1"/>
            </p:cNvCxnSpPr>
            <p:nvPr/>
          </p:nvCxnSpPr>
          <p:spPr>
            <a:xfrm>
              <a:off x="2786760" y="3584880"/>
              <a:ext cx="556200" cy="140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3" name="AutoShape 45"/>
            <p:cNvCxnSpPr>
              <a:stCxn id="384" idx="3"/>
              <a:endCxn id="389" idx="1"/>
            </p:cNvCxnSpPr>
            <p:nvPr/>
          </p:nvCxnSpPr>
          <p:spPr>
            <a:xfrm>
              <a:off x="2786760" y="4545720"/>
              <a:ext cx="556200" cy="30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4" name="AutoShape 46"/>
            <p:cNvCxnSpPr>
              <a:stCxn id="385" idx="3"/>
              <a:endCxn id="390" idx="1"/>
            </p:cNvCxnSpPr>
            <p:nvPr/>
          </p:nvCxnSpPr>
          <p:spPr>
            <a:xfrm>
              <a:off x="2786760" y="5504400"/>
              <a:ext cx="556200" cy="5004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395" name="Rectangle 47"/>
            <p:cNvSpPr/>
            <p:nvPr/>
          </p:nvSpPr>
          <p:spPr>
            <a:xfrm>
              <a:off x="1080360" y="175248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8"/>
            <p:cNvSpPr/>
            <p:nvPr/>
          </p:nvSpPr>
          <p:spPr>
            <a:xfrm>
              <a:off x="5289480" y="1752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c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AutoShape 55"/>
            <p:cNvCxnSpPr/>
            <p:nvPr/>
          </p:nvCxnSpPr>
          <p:spPr>
            <a:xfrm>
              <a:off x="2797920" y="265572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8" name="AutoShape 60"/>
            <p:cNvCxnSpPr/>
            <p:nvPr/>
          </p:nvCxnSpPr>
          <p:spPr>
            <a:xfrm>
              <a:off x="2797920" y="364896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9" name="AutoShape 61"/>
            <p:cNvCxnSpPr/>
            <p:nvPr/>
          </p:nvCxnSpPr>
          <p:spPr>
            <a:xfrm>
              <a:off x="2797920" y="45590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AutoShape 62"/>
            <p:cNvCxnSpPr/>
            <p:nvPr/>
          </p:nvCxnSpPr>
          <p:spPr>
            <a:xfrm>
              <a:off x="2797920" y="55508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1" name="Slide Number Placeholder 1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F44A-2C6F-417B-BB1B-E91CEB474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ces betw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and Market Ori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1828800" y="1752480"/>
            <a:ext cx="54864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 the dif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an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ounded Rectangle 5"/>
          <p:cNvSpPr/>
          <p:nvPr/>
        </p:nvSpPr>
        <p:spPr>
          <a:xfrm>
            <a:off x="1981080" y="380988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ounded Rectangle 4"/>
          <p:cNvSpPr/>
          <p:nvPr/>
        </p:nvSpPr>
        <p:spPr>
          <a:xfrm>
            <a:off x="1981080" y="167652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96B4-701C-4372-8CE4-792EA0BB5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the Sale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Orien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828800" y="18288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les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firm m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rket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market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es vs. Market Orientations</a:t>
            </a:r>
            <a:br>
              <a:rPr sz="4800"/>
            </a:br>
            <a:endParaRPr b="1" lang="en-US" sz="48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14" name="Footer Placeholder 1"/>
          <p:cNvSpPr/>
          <p:nvPr/>
        </p:nvSpPr>
        <p:spPr>
          <a:xfrm>
            <a:off x="2666880" y="61722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299880" y="1905120"/>
            <a:ext cx="8234280" cy="3877920"/>
            <a:chOff x="299880" y="1905120"/>
            <a:chExt cx="8234280" cy="3877920"/>
          </a:xfrm>
        </p:grpSpPr>
        <p:sp>
          <p:nvSpPr>
            <p:cNvPr id="416" name="Rectangle 5"/>
            <p:cNvSpPr/>
            <p:nvPr/>
          </p:nvSpPr>
          <p:spPr>
            <a:xfrm>
              <a:off x="299880" y="1905120"/>
              <a:ext cx="8165880" cy="966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99880" y="2972520"/>
              <a:ext cx="8165880" cy="13798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99880" y="4453920"/>
              <a:ext cx="8165880" cy="132912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331200" y="3104280"/>
              <a:ext cx="137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ales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331200" y="4541400"/>
              <a:ext cx="1336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arket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605600" y="2092680"/>
              <a:ext cx="1770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3378960" y="2092680"/>
              <a:ext cx="12470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irm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636080" y="2057760"/>
              <a:ext cx="1021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Wh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5852520" y="1922760"/>
              <a:ext cx="1094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rim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rofi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o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7158960" y="2092680"/>
              <a:ext cx="1375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ools to Achi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3378960" y="3148560"/>
              <a:ext cx="12006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l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4588560" y="3148560"/>
              <a:ext cx="125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very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5884920" y="3148560"/>
              <a:ext cx="1206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ximum sales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7158960" y="3148560"/>
              <a:ext cx="1232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imarily p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1751040" y="314856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721160" y="4558680"/>
              <a:ext cx="10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1"/>
            <p:cNvSpPr/>
            <p:nvPr/>
          </p:nvSpPr>
          <p:spPr>
            <a:xfrm>
              <a:off x="7158960" y="4558680"/>
              <a:ext cx="13665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ordin-ated use of marketing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5884920" y="4538160"/>
              <a:ext cx="12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stomer satisfac-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"/>
            <p:cNvSpPr/>
            <p:nvPr/>
          </p:nvSpPr>
          <p:spPr>
            <a:xfrm>
              <a:off x="4626000" y="4560120"/>
              <a:ext cx="11019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fic groups of peo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3378960" y="4560120"/>
              <a:ext cx="11768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tisfying wants and 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2"/>
          <p:cNvSpPr/>
          <p:nvPr/>
        </p:nvSpPr>
        <p:spPr>
          <a:xfrm>
            <a:off x="662940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7DD1-25D4-4932-AC70-3A99966B7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41AD-9B54-4F93-B733-4DE7C760B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751"/>
              </a:spcBef>
              <a:spcAft>
                <a:spcPts val="1624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products that per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n t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oid unrealistic pri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 the buyer f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organization-wide commitment in service and after-sales su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-creation with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er Valu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F38B-DF59-46B4-8E6E-D7ABEACB6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05120" y="2133360"/>
            <a:ext cx="5470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s’ evaluation of a good or service in terms of whether that good or service has met their needs and expec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1447920" y="658800"/>
            <a:ext cx="6546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er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2514600" y="6553080"/>
            <a:ext cx="40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ACF8-7528-4907-B7D8-24B573DE1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90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four marketing management 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differences between sales and market 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</a:rPr>
              <a:t>1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several reasons for studying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L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EARNING</a:t>
            </a: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 O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4A62-54E0-416C-BB5E-B5F2E44D0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676160" y="1494000"/>
            <a:ext cx="6095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that focuses on keeping and improving relationships with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strategie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Training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1301760" y="38088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8C34-195A-40DC-980E-16B9539F4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r>
              <a:rPr b="0" lang="en-US" sz="4800" spc="-1" strike="noStrike">
                <a:solidFill>
                  <a:srgbClr val="a0218c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447920" y="137160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employee represents the firm in the eye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loyee train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s are given more authority to solve customer problems on th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zing cooperation over competition while helping a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219320" y="10666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2286000" y="198108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 several reasons for studying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Footer Placeholder 1"/>
          <p:cNvSpPr/>
          <p:nvPr/>
        </p:nvSpPr>
        <p:spPr>
          <a:xfrm>
            <a:off x="2286000" y="611172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A761-645C-4A63-A905-2739A5010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4"/>
          <p:cNvGrpSpPr/>
          <p:nvPr/>
        </p:nvGrpSpPr>
        <p:grpSpPr>
          <a:xfrm>
            <a:off x="2057400" y="1828800"/>
            <a:ext cx="5562720" cy="3962160"/>
            <a:chOff x="2057400" y="1828800"/>
            <a:chExt cx="5562720" cy="3962160"/>
          </a:xfrm>
        </p:grpSpPr>
        <p:sp>
          <p:nvSpPr>
            <p:cNvPr id="463" name="Oval 22"/>
            <p:cNvSpPr/>
            <p:nvPr/>
          </p:nvSpPr>
          <p:spPr>
            <a:xfrm>
              <a:off x="2743200" y="182880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5"/>
            <p:cNvSpPr/>
            <p:nvPr/>
          </p:nvSpPr>
          <p:spPr>
            <a:xfrm>
              <a:off x="3581640" y="3124080"/>
              <a:ext cx="236196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6"/>
            <p:cNvSpPr/>
            <p:nvPr/>
          </p:nvSpPr>
          <p:spPr>
            <a:xfrm>
              <a:off x="2057400" y="312408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7"/>
            <p:cNvSpPr/>
            <p:nvPr/>
          </p:nvSpPr>
          <p:spPr>
            <a:xfrm>
              <a:off x="3324240" y="223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ortant to Soci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2286000" y="40669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ortant to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5486400" y="441936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1"/>
            <p:cNvSpPr/>
            <p:nvPr/>
          </p:nvSpPr>
          <p:spPr>
            <a:xfrm rot="16200000">
              <a:off x="5486400" y="441900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4343400" y="40669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od Career Opport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5562720" y="49910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rketing affects you every da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619360" y="2743200"/>
            <a:ext cx="380988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1ED9-CD63-4E3F-A120-575E88995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663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rketing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ctivity, set of institutions, and processes for creating, communicating, delivering, and exchanging offerings that have value for customers, clients, partners, and society at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Marketing Association Definition of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9F37-052A-4DAA-9A9B-38C417F1C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20840" y="876240"/>
            <a:ext cx="4648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828800" y="1718280"/>
            <a:ext cx="5943600" cy="28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ails processes that focus on delivering value and benefits to customers, not just selling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8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Exchange</a:t>
            </a:r>
            <a:endParaRPr b="0" lang="en-US" sz="7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BA4B-E992-4B0E-8E52-DD9344D00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7"/>
          <p:cNvGrpSpPr/>
          <p:nvPr/>
        </p:nvGrpSpPr>
        <p:grpSpPr>
          <a:xfrm>
            <a:off x="650880" y="1905120"/>
            <a:ext cx="7426080" cy="3885840"/>
            <a:chOff x="650880" y="1905120"/>
            <a:chExt cx="7426080" cy="3885840"/>
          </a:xfrm>
        </p:grpSpPr>
        <p:sp>
          <p:nvSpPr>
            <p:cNvPr id="325" name="Rectangle 6"/>
            <p:cNvSpPr/>
            <p:nvPr/>
          </p:nvSpPr>
          <p:spPr>
            <a:xfrm>
              <a:off x="3753720" y="190512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t Least Two Parti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3753720" y="272844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Something of Val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3753720" y="3551760"/>
              <a:ext cx="4323240" cy="59508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Communication and Delive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3753720" y="437508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Freedom to Accept or Rejec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3753720" y="519840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Desire to Deal with Other Par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11"/>
            <p:cNvCxnSpPr/>
            <p:nvPr/>
          </p:nvCxnSpPr>
          <p:spPr>
            <a:xfrm flipV="1">
              <a:off x="2917080" y="2185560"/>
              <a:ext cx="837360" cy="1678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1" name="AutoShape 12"/>
            <p:cNvCxnSpPr/>
            <p:nvPr/>
          </p:nvCxnSpPr>
          <p:spPr>
            <a:xfrm>
              <a:off x="2917080" y="3864600"/>
              <a:ext cx="837360" cy="1615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2" name="AutoShape 13"/>
            <p:cNvCxnSpPr/>
            <p:nvPr/>
          </p:nvCxnSpPr>
          <p:spPr>
            <a:xfrm flipV="1">
              <a:off x="2917080" y="3009240"/>
              <a:ext cx="837360" cy="855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3" name="AutoShape 14"/>
            <p:cNvCxnSpPr/>
            <p:nvPr/>
          </p:nvCxnSpPr>
          <p:spPr>
            <a:xfrm>
              <a:off x="2917080" y="3864240"/>
              <a:ext cx="837360" cy="792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sp>
          <p:nvSpPr>
            <p:cNvPr id="334" name="Line 15"/>
            <p:cNvSpPr/>
            <p:nvPr/>
          </p:nvSpPr>
          <p:spPr>
            <a:xfrm flipH="1">
              <a:off x="3335400" y="3865680"/>
              <a:ext cx="41832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650880" y="3121920"/>
              <a:ext cx="2266200" cy="1452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ditions for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ing Manage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iloso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1219320" y="990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266920" y="190512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 four marke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CCFA-870C-4948-A52D-ED7687EB4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"/>
          <p:cNvGrpSpPr/>
          <p:nvPr/>
        </p:nvGrpSpPr>
        <p:grpSpPr>
          <a:xfrm>
            <a:off x="1054080" y="1981080"/>
            <a:ext cx="6794640" cy="3504960"/>
            <a:chOff x="1054080" y="1981080"/>
            <a:chExt cx="6794640" cy="3504960"/>
          </a:xfrm>
        </p:grpSpPr>
        <p:pic>
          <p:nvPicPr>
            <p:cNvPr id="345" name="Group 29" descr=""/>
            <p:cNvPicPr/>
            <p:nvPr/>
          </p:nvPicPr>
          <p:blipFill>
            <a:blip r:embed="rId2"/>
            <a:stretch/>
          </p:blipFill>
          <p:spPr>
            <a:xfrm>
              <a:off x="1132200" y="3271320"/>
              <a:ext cx="6683400" cy="7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Group 32" descr=""/>
            <p:cNvPicPr/>
            <p:nvPr/>
          </p:nvPicPr>
          <p:blipFill>
            <a:blip r:embed="rId3"/>
            <a:stretch/>
          </p:blipFill>
          <p:spPr>
            <a:xfrm>
              <a:off x="1132200" y="3965040"/>
              <a:ext cx="668340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roup 44" descr=""/>
            <p:cNvPicPr/>
            <p:nvPr/>
          </p:nvPicPr>
          <p:blipFill>
            <a:blip r:embed="rId4"/>
            <a:stretch/>
          </p:blipFill>
          <p:spPr>
            <a:xfrm>
              <a:off x="1132200" y="4646520"/>
              <a:ext cx="6683400" cy="77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oup 28" descr=""/>
            <p:cNvPicPr/>
            <p:nvPr/>
          </p:nvPicPr>
          <p:blipFill>
            <a:blip r:embed="rId5"/>
            <a:stretch/>
          </p:blipFill>
          <p:spPr>
            <a:xfrm>
              <a:off x="1101960" y="2620080"/>
              <a:ext cx="6713640" cy="6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16"/>
            <p:cNvSpPr/>
            <p:nvPr/>
          </p:nvSpPr>
          <p:spPr>
            <a:xfrm>
              <a:off x="2990880" y="275724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</a:rPr>
                <a:t>internal capabilities of the fi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2956680" y="4033080"/>
              <a:ext cx="47055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atisfying customer needs and wants while meeting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2944080" y="4652280"/>
              <a:ext cx="490464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atisfying customer need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wants while enhancing individual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societal well-b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944080" y="3360960"/>
              <a:ext cx="4752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</a:rPr>
                <a:t>aggressive sales techniques and belief that high sales result in high pro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Group 48" descr=""/>
            <p:cNvPicPr/>
            <p:nvPr/>
          </p:nvPicPr>
          <p:blipFill>
            <a:blip r:embed="rId6"/>
            <a:stretch/>
          </p:blipFill>
          <p:spPr>
            <a:xfrm>
              <a:off x="1054080" y="1981080"/>
              <a:ext cx="6767640" cy="67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58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ur Marketing 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E1FB-91F8-416B-8D57-E056112E1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629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ction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644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ield of Drea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build it, they will com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consider if what is produced meets marke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20:03Z</dcterms:created>
  <dc:creator>Deb Baker</dc:creator>
  <dc:description/>
  <dc:language>en-US</dc:language>
  <cp:lastModifiedBy>USER</cp:lastModifiedBy>
  <cp:lastPrinted>2011-09-02T18:20:27Z</cp:lastPrinted>
  <dcterms:modified xsi:type="dcterms:W3CDTF">2016-09-24T10:07:50Z</dcterms:modified>
  <cp:revision>493</cp:revision>
  <dc:subject>An Overview of Marketing</dc:subject>
  <dc:title>Chapter 1</dc:title>
</cp:coreProperties>
</file>