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6F0C14-B759-4499-AE86-B304F80F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E58D3F-D877-4589-BB64-3C743785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7F72C3-E9D3-48DE-AF3F-F8B9BEE8A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4A93C4-DF64-4FE5-952E-585951061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E25CE0-CFBE-4205-B307-B2357C4E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94AD33-09E1-4F38-9846-B8652B0F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2E6486-4E2E-4C8E-AD75-8AE4B9A0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91CA08-8F12-42FF-92DD-42DD001D0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F7FBE6-A9CE-40EE-B98D-C270A4255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450F7B-2B7D-4E08-8D70-FF1608F99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450C15-F50E-4EFD-BD5D-36A2FF2CC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67659A-50DE-4D70-BA41-BCBCE48B5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958B3D-9194-43C3-8DED-407A9202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E65390-377B-4662-A2EB-4A935E8C1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3F5CD2-3DA0-4616-83ED-CB95DE929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C37695-4E8C-4067-A505-9D445423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7BAC29-DCB8-44E7-BE32-5BB5E16E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F48A13-5DCE-4723-85E8-67B7B508F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06C82E-61CA-4DD3-9E50-B987F77B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FA6778-4CB3-4B09-82F5-E8542AC3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803C47-C213-43FF-B46A-A814A9B8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6E2702-81DE-4694-BCB0-60E8F780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4E9DC8-DA7D-444F-8837-77972501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389-7508-4B20-AB0D-3132FC03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1C3-7836-474E-A427-8B9D6A5B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AD8-34AB-4C52-B31F-D18A7117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EC2-D6B4-462A-AC48-BC344F9D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29F3-7CBD-417A-B09A-9A6B671E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9557-EF67-49C2-BCAB-CB8ADB89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2B4D-F755-4510-B88C-027A0DA6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BB30-D07B-4F9B-BB50-0EE8CAC7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660D-B290-40F7-B08C-8B1B1946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D575-B855-4320-B0C9-8966E047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5CC0-89E7-44E8-8655-B41E5A55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A0B-F461-4374-9677-E09A6FDA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B256-83EF-4958-93F8-B9F5A7E1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ED41-FE64-49CF-BD5B-95BF9F6E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0372-1D9F-4CF0-BB0C-AC2C2C83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C762-A3E7-4AD2-8E92-9D7FBE3B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E997-158C-4588-B01F-DD586F03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C449-1669-445F-A872-F1B73B7F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C857-7E51-4176-B8A2-EEDB848C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5BE6-8D28-4A7D-933F-31326602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D960-A895-4BB7-8DB2-72F92FA2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34ED-A1EF-44C5-9977-788DC903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22E-4922-4F4C-8495-189CF207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5B8A-64C3-4D3B-92AC-5D4A851D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4E90-48A7-469A-9EC2-798E1F8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1AE5-936D-42B6-82AA-23EE6CDC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5EF2-8CFD-4141-A7D5-8E01C410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9146-09C9-433B-ABA4-3F0A62DC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5D84-9A4D-4755-B41D-55621D83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68E9-5ED0-47B1-BED1-DB9B264A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DBA7-8FFE-40A7-8543-DD172A37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DE40-3BFB-47C9-B128-E9778A09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139B-6889-40E4-86F2-5456A8FA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E85-4CA9-48DA-AE76-BE4C9670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87186-D2FE-400A-AF4F-7E5DB2A8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9DC33-87A3-45A5-A74B-16DEFE9F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9565-638F-41BC-A3FA-7EEB9100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DDA9-3061-45B1-895F-A1F875C8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A245-7456-459A-855F-3053EE61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4B29E-7133-4C9F-81FF-55A377F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B07CD-0532-4AC3-9152-3AE31110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9CB9-C230-488D-95C4-A6BAC37D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1A69-41B6-402C-BF19-19AC70AF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43E27-8751-4EF9-B056-66E6B5D2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008-A6DF-4A4A-A7A5-1AAB7021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A4056-9B50-4085-9473-88E65659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6CEED-3E69-400E-9F84-2AECDAC5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40DCD-B02C-48E6-B809-9B659727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856F-8652-4DC7-B3AC-E66724B2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E6D5B-95B2-4316-B450-FDCEAF9D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40CBA-C9F7-480D-9C19-1B436DA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C918-C9C2-4194-A825-B28C092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3262-C964-4EE6-8B04-274ADA4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8AC6F-FA29-4787-9899-8F92636B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EFD0C-DEA7-49C2-94B7-733011E0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476-26F6-463C-8E26-CA2C22E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C439-B801-4E07-BBE5-668218EA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54AB4-C589-4D26-AFD6-D0404457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2DCA7-C28A-43A1-B124-F9444F7B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F3884-1BD3-4AB3-A058-F169B5A4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7963F-F69B-47A8-8E7A-6EC1EFED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CA554-4C81-4043-A5D5-2324CB82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5A5F-6ACD-4DA7-B108-0B6BACD3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6AA51-00A2-4EE5-913E-FB5BCB5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FEB1C-120D-4D3D-BEB3-A75A189B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940DB-D210-4E33-B84D-5D39B3C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172-DBA5-4032-85D2-950BFE4D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1F7D5-58BF-4C2C-9F8C-F01C4019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924B9-E68C-4223-B549-40CC30B5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21AB4-EE93-4343-BB09-0BE4D706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2DCA5-289E-4DFB-8B91-77450713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71FD2-223D-4A96-A65F-9C5AF693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9BEA3-8F3B-4B14-8863-9BA54AF5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80A3A-66FD-4E19-B7D5-94DB08D3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2827C-5C23-41D6-BA72-EC52248E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BA087-2D1A-4D7C-962B-00881DCE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63E40-6E5C-41D2-8F0F-8E74E66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0F8-176A-4489-A7E6-D3C369DC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CB16E-A3CF-4BB0-B3D7-2AF2680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996B5-1918-4ADE-9E9E-E6A88217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0B225-07B7-4C5E-ABD9-80198C07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CB487-0D4E-4232-9B6A-F0972BBF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E8DE8-573E-4521-B7A8-64A392EE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9D9-6C25-4BDB-A770-9FF9376F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E3BD-65B3-458D-8F91-EF1F2BDFD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81E7-61B4-4207-A916-CA3CE9E78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1218-148A-470F-9274-3E3957FC6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A171-8300-476F-9E0B-F90FD4D7E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4D6E-EDE2-433C-8362-B891982D1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7BB5-0C9C-497D-AB20-BDA3D60C15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D22D-230A-43D1-9BF5-A748B6E5F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6A4C-52FD-4A9A-BEF9-D920D3D73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7C2B-4D6C-470B-81FA-E1D4E155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B140-7303-4DC0-B4D5-4079F9B5D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64C9-8CBF-48FC-94D6-B880CCBDC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5C22-292A-480E-B2D7-2E817030C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5797-DA36-4591-83A4-89A4EE80E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A025-76D8-4DCA-99C0-CF58A92D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9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C60F-D3A4-4DB5-98E8-65D0CAF8A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A2C4-4128-4713-B956-214ED112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BB9-1577-4077-A044-8C25D9999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3AA8-73EF-49E0-8F09-49B34C1C0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CD60-1BA8-4136-86C4-2A9C3FB93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E0C0-7D3E-456E-A782-3A57E959F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5241-26B1-4CC9-BCB9-90CBCC49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4A3B-02E7-4DE8-971C-B8B0F8B45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FA9B-8156-4500-8462-32A9BE608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4DEA-0033-4CEB-A538-DF2796646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B7E6-25AB-4F1E-BB5E-F196CF2F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2200" y="3271320"/>
              <a:ext cx="668340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2200" y="3965040"/>
              <a:ext cx="668340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2200" y="4646520"/>
              <a:ext cx="668340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1960" y="2620080"/>
              <a:ext cx="671364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088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56680" y="4033080"/>
              <a:ext cx="4705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4080" y="4652280"/>
              <a:ext cx="49046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4080" y="3360960"/>
              <a:ext cx="47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CF31-9A42-45B2-90FC-D3BCE674C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USER</cp:lastModifiedBy>
  <cp:lastPrinted>2011-09-02T18:20:27Z</cp:lastPrinted>
  <dcterms:modified xsi:type="dcterms:W3CDTF">2016-09-24T10:07:50Z</dcterms:modified>
  <cp:revision>493</cp:revision>
  <dc:subject>An Overview of Marketing</dc:subject>
  <dc:title>Chapter 1</dc:title>
</cp:coreProperties>
</file>