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F578E5-003B-4B2A-B8AB-71B16DE6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58F09F-D607-42FF-8B79-AE237A99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849A4-2CB7-4851-8C0B-69C3170E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E74D73-6D93-4022-B228-4272E729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74D951-22CA-4479-BCFC-BB807CB0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DAB4D0-632E-41E4-AC35-3AA8D15A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0740B6-4E52-457B-B925-CB43A7019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86B807-F0F8-4A1D-8455-7C515B7EB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56C2E9-9ECE-4286-A3F8-215ECCBA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3850BD-35F8-4ED3-B44D-01A00574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B140B5-051D-490F-9DA9-F337E7D2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8A0ED2-473D-4E5B-89FD-569236EA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33E5C4-6886-44B2-9DA9-E03BC19A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AEFFA-1822-40DB-BFFD-9CFC6705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8D2B0F-788F-4C97-9C0F-407BDE2E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45F1E7-493A-4454-B070-79E28816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3F6072-AF1E-4B50-A8CB-59806E50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CBE6F1-C61F-42F9-8C09-CB3638A7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2C3E93-87E4-47AA-923B-70C39D88B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5524A1-F711-44FC-807F-5751ADE9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48140-DDDF-458A-9992-736236C4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2D9ED9-3CF2-4DC8-826F-31CD4323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90DB61-3B4A-4D83-A47D-1B5BFBD95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364-6BE3-443E-897F-27E1DDF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058-EEB7-4733-A7E6-C0FB4F3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A38-05FE-4E7A-A915-E269B606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4B0-B807-49AF-8A43-5D673DBE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4FA6-DE7A-471A-AD93-519477C4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4EC-E361-4DD7-89CC-B37BE67F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8F2E-CB93-49B1-9F73-13F3BDE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843-0F54-41D0-91B2-76CE7D02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31A3-B45E-495C-A79B-5FA71C8C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F7F5-B71F-43D5-9CC9-116CEC28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132-90EB-4157-8E9B-1354581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D6A-EB95-4F55-9F53-D8F4130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082A-ADC6-4260-BE6F-BD07F73D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741-F261-455F-8A44-35FB1FC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1489-DEF1-43C2-A724-C56D57E1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BAE3-A929-4770-A721-3F070102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8CE-D87D-4B7B-B963-DA023836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2CD4-8780-476A-95F5-3969E018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BCED-48D6-471F-A9E8-AD8DE8A2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75E5-8EBF-47B4-97FF-6EDFEB1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C4C2-AB64-403F-8BEB-194A32AC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4E4E-BFDD-4C2D-9826-E1A617E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4D2-E59A-48CD-BE0B-E879542C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0114-E596-40F0-9895-7FB99CA9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01DC-E3FD-4E12-884C-F9B8969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FC66-96A0-4FD8-900F-B05CF35D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A4D2-7EE7-442C-AA0F-E4706DF5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8067-99F5-4668-80B7-C567FA0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DB64-4161-4F73-B261-8F10C6D7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B760-8894-4FAD-B47A-092725B0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3737-A8F8-4AED-A488-B537E90B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F692-10C3-4983-98C7-C4A33E8D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3AE1-51DD-4D5D-9124-535BB9D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7DB-EE27-4563-9907-25CCBEE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1F83-A13E-43A5-AF9C-6C83832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1E7B-B736-4DE7-A3A2-570DB96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86CD-D0A4-459E-ADE8-C8F1DD7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479A-FD81-4C4C-9743-B0846D2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95F5-857E-4021-BF94-EE2148F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8709-7FDB-449E-9676-2236AED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FD61-92D0-4C53-9F23-0DAAD9E1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A4D5-4DFC-49DF-8A60-5EA683B6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CCB5-5B8D-44D9-9E10-0B4F322E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3A4E-7ABF-4D4E-81D9-CECB6794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C4D-D10C-4E2C-8421-6C72158E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FCE92-0A4B-4BA8-A509-36AF6CE9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5210-29EF-4527-A365-3FFE662F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BA1FA-7091-4A85-93B9-F2E710BF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0CBF-C1DE-4C34-A9CE-D68E1699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847F-B76F-493D-B266-368420B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016C-A347-4E5F-BF43-ADB2893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7929-D116-4C72-8696-7570851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9689-3DAA-42B5-A0CC-1AD38C8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C118-34DF-41D1-ABD3-2BF03BA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723F-69F0-42D7-99F7-F2E3D736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971-50F2-4641-BA35-D22CA484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D136-8183-433C-8079-8C94E715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59273-3661-4575-83CB-74F06649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AD93-5271-4B5F-A7A4-1C17AF5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B0EA-D34E-4B7E-9261-134A429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D00D-6D7B-47E6-B27F-4AC568A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3E57-CCAB-41E9-9531-0D815D0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2A86-1ECF-4E63-8DE1-8EA9D998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EBC5-C974-44B2-AE16-C1F1FED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EF068-1C4A-47B1-9F8C-0155ADC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4FB6-2DF5-4DC4-BED5-63A0640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A42-FD7C-4297-81F0-D9B890C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7991-5F15-48BC-B503-697417F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2ACE-BFA2-42C8-A5CD-475FBE9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591F3-F9F7-4BFF-B454-9C5E806F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7BD8-5444-4EBD-B86C-CDBC77EB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797EC-3F7A-4AF7-8349-CDF2729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2A53-253E-45B6-8B06-9D8E9E6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0305-4C2F-462F-8FB8-DF8CA24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66B6-3AEC-45D9-86F9-F16328C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4073-FE0C-4E00-8070-D5B2F45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CB60-4F6B-47B2-9173-18556CA0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027-CCDD-45FF-A77C-0D7F4B0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B02D-55C9-4178-8B87-D135508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84B02-E009-4BBC-A0E1-8D86F35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733D-5C30-49AE-A5D6-0140B8F9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BB43-F924-4B78-B114-B257AD68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DA94-F184-4BC8-B3B1-19A4A9BF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F90-8F1C-44D5-99E5-349EA7C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1858-0262-43C9-9D54-C082DD78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7554-A9CB-412D-8AAE-42A820DA8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95E6-776E-46DF-A9F3-C5303BAD5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5B1-785D-4271-9067-57141593B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0075-F27E-4F82-A607-100387079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61AB-0289-4DE2-A8EE-E4FB9E81A6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718-E8F1-4F2D-9066-4DDDDBB79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4DBF-04DB-4F5C-A52D-1EB7874FE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FA7-7967-4335-948E-90BEF10E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D8A8-BB09-490A-AC9A-48ACA3D0D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FE7-B0FD-4D06-923C-833A4D42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750F-398D-4E9F-8033-ADBB0CB08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4133-B252-4E39-ACF4-08A4CB92D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7F2C-51B1-4735-9869-8AE8C3E1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E13-F46F-4B69-9D73-E1E54F15D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8F5-CD83-435C-AB46-113C30D7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9A3C-C799-444E-A27E-CD7DE982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8FB-3AF4-4BF5-92D3-D20094DD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7DFE-CD49-48F2-AE1F-BE12382E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BAA4-2F2F-4124-83E7-8F8AB829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783-AF3D-45D2-B954-ED0B5899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52C-A9C9-425D-B391-A6F01E936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EF16-4113-4492-B44A-BA7D15F8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933-7A7B-4222-9BB9-6EA59232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4E9-B52D-4135-A0CC-01B059CC9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3271320"/>
              <a:ext cx="668340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3965040"/>
              <a:ext cx="668340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4646520"/>
              <a:ext cx="668340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20080"/>
              <a:ext cx="671364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308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228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096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EA9B-B263-4B9D-B6D9-A417071CD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USER</cp:lastModifiedBy>
  <cp:lastPrinted>2011-09-02T18:20:27Z</cp:lastPrinted>
  <dcterms:modified xsi:type="dcterms:W3CDTF">2016-09-24T10:07:50Z</dcterms:modified>
  <cp:revision>493</cp:revision>
  <dc:subject>An Overview of Marketing</dc:subject>
  <dc:title>Chapter 1</dc:title>
</cp:coreProperties>
</file>