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dt" idx="22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ftr" idx="23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 type="sldNum" idx="24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6AD66F7-FDCD-4D55-BE8B-0CA53AF9D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F2B9C0D-167C-435F-ABCD-7C2314E7A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5D15C83-F364-48FE-9713-C1E7E4039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B591472-2834-4637-B046-FDFDF5803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ing your competitive arena and competitors’ strengths and weaknesses is a critical component of a market ori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3CA9C4B-E04C-4C23-ADDE-9AA331CCB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FE7781B-7BAB-40AF-8D92-2752EF8EB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5C31469-AA0A-4BF8-8584-233456114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22E107E-9737-4743-9E16-40CAC53DF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7EA30C8-C0DC-4468-90C6-8017DEDB7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s-oriented firms focus on their own needs; market-oriented firms focus on customers’ needs and preferen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s-oriented companies consider themselves to be deliverers of goods and services, whereas market-oriented companies view themselves as satisfiers of custom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s-oriented firms direct their products to everyone; market-oriented firms aim at specific segments of the popu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the primary goal of both types of firms is profit, sales-oriented businesses pursue maximum sales volume through intensive promotion, whereas market-oriented businesses pursue customer satisfaction through coordinated activ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omparison is not meant to belittle the role of promotion, especially personal selling, in the marketing mix. Salespeople in market-oriented organizations are generally perceived as problem solvers and links to supply sources and new product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organizations with sales or market orientations. Discuss the effectiveness of each organization’s strateg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724D69E-AEDA-48CD-93C4-F4587B970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Value is the relationship between benefits and the sacrifice necessary to obtain those benef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value is not simply a matter of high quality or high price.  Instead, the customer’s perception of value is the product/service quality they expect and a price they are willing to pa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 also includes customization and fast delive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ways that successful companies deliver superior customer valu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l Computer Corpor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u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edes Benz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zon.c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west Air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C37081E-5065-439E-B284-C802A35AF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B205234-E6C1-4322-80D2-FB4526552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E90DB4D-89FF-42A6-94D6-A153E7673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90675B4-C17B-4640-9DB7-6403F1978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companies that have made significant efforts at building long-term relationships.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Seas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ca-Col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ta Air L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she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llog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utilu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6E2DEF3-D831-4AB2-A905-5861036DC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6EF00D0-6764-4313-95F2-39274B0ED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0AB6225-E78E-4A90-AF35-45304CC94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6731BC4-1EA2-4F7C-A635-382A75025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3E20A7A-4FAF-499D-94F2-76DEDFDFE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n organization creates a high level of employee satisfaction, this leads to greater effort, which leads to higher quality,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The Home Depot believes that its employees are its biggest competitive advantage. “Taking care of our people” is listed as the first value on the company Web si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class to give examples of companies that value employees and discuss how motivated employees create customer and stockholder satisfac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6FE0851-2A18-446E-95AC-B90DFDFBD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27BA8C7-6B29-4CBA-9441-5089CC7D2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B462144-9425-432C-9069-B639AB1D5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competing philosophies influence an organization’s marketing process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a firm’s capabilities, such as production, are major considerations in strategic market planning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the guiding factor with all orientations should be the determination of what customers want, not what management thinks should be produced or s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examples of companies/organizations whose marketing management philosophies match each orient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:  Henry Ford’s Model T availability in any color as long as it was bl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t.com businesses in the late 1990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tz Carlton Hotels, Co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etal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Shop, Turtle Wax,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089B2CC-CE78-4F76-B9B1-71E1016D2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C70B-9EF7-4798-BFF3-3E3A0A661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2014-A840-462C-B11F-C1AD4826B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CD71-8BFC-4F55-A4DB-87216AC30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4377-4D5F-42AC-957B-4804DA0C8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4A6F2-7D34-4B5E-A190-AC7740DC1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F5686-BA0A-47A6-98CC-E621D17DC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9AFF1-6EF0-4A83-81DF-415AD0921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D81DD-7944-4DE3-8105-EC895F01C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1C7DB-412A-44D9-9C58-66C32E6C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AB7CF-83FE-4542-8BBA-BB7DD1501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00E80-C7BA-4995-A86D-91C87F5C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C4B9-C5B8-4935-BDB2-97E987B5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BD949-0D3E-4023-8338-69C8CE3F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E6CC5-901F-4F69-8F59-9C5977DC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8073C-392E-446C-A1D4-0C282EAD6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57525-B0CF-46A9-946F-D9049D836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08308-BB6D-4230-B814-002E13EA8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AF791-F8F1-4D89-86B7-AF4783285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790D9-7B7F-44A1-8F20-B7E2EC288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FAA66-E3FB-4AD5-A27F-D81BBA784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2EEC2-699D-4FC5-8A43-F14DC6173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E85B7-B655-4E6E-8D82-0B029825F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37A4-E979-4EE2-BE64-A2F58E23A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E0362-B845-436B-A593-E3E2AC084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C7E1E-1A36-410F-A6A7-10763BBE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97997-0DE5-40A1-BC57-5F725BDF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6CB92-3E4F-43D1-8AFD-D84C50A8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25BB2-5AC2-43B9-9E5A-3BC3C00D9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51513-1268-452F-A5CE-9436B72A5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BD89D-B750-4722-B8B8-400648F75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4984C-3800-4A68-AFC8-48584F19C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BC34E-4156-491D-ABD0-A88CFA6C4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213F2-F986-4867-B477-424CA10B1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EB10-6ECE-460B-976A-9837A9021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30EF2-01FE-43A3-BDC9-B5F1160EE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A45BC-0FDD-44CA-B9A1-ED0D08142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31A90-B13B-455C-9B81-C323020FA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DD165-CBC7-4B5D-A701-B56C0FBB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6ADD9-9243-4CAB-8195-C950A14F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29B7B-CA7E-4823-B900-231A2DAD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B1164-A33A-4CF9-B9E2-A7A7BB053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E1EA9-D4AB-4090-8BE0-45AA6CA6E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06663-8C5D-4157-A6ED-895781A56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0979F-E272-464E-B350-EDBC8DC2E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6B8E-5A96-4DDE-A80D-2BD421F52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B682C-F271-446B-9366-C91DA6820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B2D57-DB7E-4621-AD58-1F4A37D14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06D7AF-BEA8-4FD6-A2D5-757D018F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C3ED7-0914-4A33-BDA8-FDB262485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EBF9B-66A6-4F04-BC13-FF845B3A4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90E72-C057-4A41-812A-1934E2C4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A0F5F-18F8-4BDA-B3FC-EC971162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45CFA-F3EE-4EBE-B6DD-ED9D6769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D29A1-285A-4011-AE87-942BBEADA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931A1-6E5C-4E43-AE9D-5E2C08124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3ED9-18C2-43CB-A335-497BD7D63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CB310-F91E-4A74-B109-98ED96A3D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60F56-A58D-430A-B315-26B457253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44226F-9771-40D8-80E5-9040D98DE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AA988-318A-4873-9C98-5DE3004AA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FB8EFB-C3D4-4A73-86E6-978699A26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82E072-EF49-483B-920A-52233619F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D8E61-2F55-47B8-B02B-17E60EE28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8DE6E-D626-433D-890D-6FA9B56D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4EA34-42CB-4ABD-A5FF-E9DA3CD2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4F1CA-FB3C-44D7-B617-D401EA28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72AB-5762-489C-8E70-AC8DFD79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8D47F-A0D6-43AB-9432-5EBD21DBF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C1F4F-C544-44DA-88A1-26CD8A0CE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5E6540-3EE5-44BB-98F3-AB7439CFE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4D1AF-E1A4-4031-BD30-08A158B42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E8EBC-DCD7-4AA1-A887-36219DEF6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58FD3-C850-4078-AB6C-1AF14BA12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672BFE-F30A-43AA-BED3-51DC1E340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8E52B8-9301-47B6-83C1-5EA2A7EB0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D87AA3-7A37-4D12-81CF-716773A56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9A1D1A-FD89-4624-BF46-2AE7403E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C22C-3760-4098-A36B-116720B1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2B3357-F731-4340-9750-784B62BC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915B2A-08FC-4B0E-97C7-F136F23D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84B95-4E33-4966-A5B4-AA086F8CF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08A25-F4F9-489D-8AC3-4AC936F75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C8C7D8-98EA-40AD-8D3D-267227169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407B-BAEF-45D1-889F-1EA80E9D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4920" y="759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52388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AFCC1-BFF6-4B60-A4FA-79475E67E1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-46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819520" y="99072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7057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743200" y="6356520"/>
            <a:ext cx="373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533520" y="635904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C212D-3C07-44A0-9B0C-748E66E5EE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0" y="1440"/>
            <a:ext cx="9139320" cy="6855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2285640" y="6248520"/>
            <a:ext cx="4267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76ECE-AB6C-4969-A8D7-E108F18728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1676160" y="1599840"/>
            <a:ext cx="7010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38052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11"/>
          </p:nvPr>
        </p:nvSpPr>
        <p:spPr>
          <a:xfrm>
            <a:off x="2514600" y="6552720"/>
            <a:ext cx="4038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2"/>
          </p:nvPr>
        </p:nvSpPr>
        <p:spPr>
          <a:xfrm>
            <a:off x="655272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5CB11-B993-435B-A91A-D6C3E8371A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51920" y="3475080"/>
            <a:ext cx="396252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marL="209160" indent="-209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3240" indent="-174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696960" indent="-139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975960" indent="-139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254960" indent="-139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254960" indent="-139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254960" indent="-139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289512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5562720" y="6400800"/>
            <a:ext cx="35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15192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6CF44-D622-4571-A997-AB56F81ECE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410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22096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685764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274284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45684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9288B-9171-4237-AB3D-139C02EE0AA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0218c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a0218c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2209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38052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2666520" y="6552720"/>
            <a:ext cx="3962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62904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2430E-D1C6-4A5C-B0EF-3EBF154814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Slide Number Placeholder 3"/>
          <p:cNvSpPr/>
          <p:nvPr/>
        </p:nvSpPr>
        <p:spPr>
          <a:xfrm>
            <a:off x="15228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1D21A-C059-4703-974C-D58791F29A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5"/>
          <p:cNvSpPr/>
          <p:nvPr/>
        </p:nvSpPr>
        <p:spPr>
          <a:xfrm>
            <a:off x="0" y="511344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KTG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mb, Hair, and McDaniel</a:t>
            </a:r>
            <a:r>
              <a:rPr b="1" lang="en-US" sz="2800" spc="-1" strike="noStrike">
                <a:solidFill>
                  <a:srgbClr val="000000"/>
                </a:solidFill>
                <a:latin typeface="Informal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8"/>
          <p:cNvSpPr/>
          <p:nvPr/>
        </p:nvSpPr>
        <p:spPr>
          <a:xfrm>
            <a:off x="0" y="1219320"/>
            <a:ext cx="5715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e312d"/>
                </a:solidFill>
                <a:latin typeface="Calibri"/>
              </a:rPr>
              <a:t>Chapter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An Overview of Market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ooter Placeholder 1"/>
          <p:cNvSpPr/>
          <p:nvPr/>
        </p:nvSpPr>
        <p:spPr>
          <a:xfrm>
            <a:off x="5562720" y="6400800"/>
            <a:ext cx="3504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44B74-3740-45E2-AD00-C88E704FE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22000" y="380520"/>
            <a:ext cx="653436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Sales Orien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keting 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ling Things &amp; Collecting Mon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Box 1"/>
          <p:cNvSpPr/>
          <p:nvPr/>
        </p:nvSpPr>
        <p:spPr>
          <a:xfrm>
            <a:off x="1295280" y="3048120"/>
            <a:ext cx="6477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63640" indent="-406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regards market needs and consumer de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406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pite the quality of sales force, often cannot convince people to buy what is neither wanted nor nee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214C4-CB68-46A4-B558-55EC99420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314360" y="609120"/>
            <a:ext cx="66103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Market Orien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cusing on customer wants and needs to distinguish products from competitors’ offering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grating all the organization’s activities to satisfy these wa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hieving the organization’s long-term goals by satisfying customer wants and needs legally and responsib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 Box 7"/>
          <p:cNvSpPr/>
          <p:nvPr/>
        </p:nvSpPr>
        <p:spPr>
          <a:xfrm>
            <a:off x="1282680" y="150480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0218c"/>
                </a:solidFill>
                <a:latin typeface="Calibri"/>
              </a:rPr>
              <a:t>Marketing</a:t>
            </a:r>
            <a:r>
              <a:rPr b="1" lang="en-US" sz="3200" spc="-1" strike="noStrike">
                <a:solidFill>
                  <a:srgbClr val="a0218c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a0218c"/>
                </a:solidFill>
                <a:latin typeface="Calibri"/>
              </a:rPr>
              <a:t>Conce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94920" y="75960"/>
            <a:ext cx="6629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cietal Marketing Orient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750FD-01F2-4E76-BCD9-3A19823B5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8"/>
          <p:cNvSpPr/>
          <p:nvPr/>
        </p:nvSpPr>
        <p:spPr>
          <a:xfrm>
            <a:off x="1371600" y="1523880"/>
            <a:ext cx="6400800" cy="16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rganization exists not only to satisfy customer wants but also to preserve or enhance individuals’ and society’s long-term best intere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22"/>
          <p:cNvSpPr/>
          <p:nvPr/>
        </p:nvSpPr>
        <p:spPr>
          <a:xfrm>
            <a:off x="1828800" y="4038480"/>
            <a:ext cx="5334120" cy="2057400"/>
          </a:xfrm>
          <a:prstGeom prst="rect">
            <a:avLst/>
          </a:prstGeom>
          <a:solidFill>
            <a:srgbClr val="99d7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ss toxic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ore durable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ducts with reusable or recyc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o’s In Charg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295280" y="2133720"/>
            <a:ext cx="64771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d availability of comparative research enables customers to shop smarter, putting the customer in the driver se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Footer Placeholder 2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F5789-BFBA-4448-A835-4AA1C31BC3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6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Questions That Help Determin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arketing Philosophy</a:t>
            </a: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80" name="Footer Placeholder 1"/>
          <p:cNvSpPr/>
          <p:nvPr/>
        </p:nvSpPr>
        <p:spPr>
          <a:xfrm>
            <a:off x="2308320" y="6095880"/>
            <a:ext cx="42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26"/>
          <p:cNvGrpSpPr/>
          <p:nvPr/>
        </p:nvGrpSpPr>
        <p:grpSpPr>
          <a:xfrm>
            <a:off x="930240" y="1752480"/>
            <a:ext cx="7070400" cy="4129920"/>
            <a:chOff x="930240" y="1752480"/>
            <a:chExt cx="7070400" cy="4129920"/>
          </a:xfrm>
        </p:grpSpPr>
        <p:sp>
          <p:nvSpPr>
            <p:cNvPr id="382" name="Rectangle 35"/>
            <p:cNvSpPr/>
            <p:nvPr/>
          </p:nvSpPr>
          <p:spPr>
            <a:xfrm>
              <a:off x="930240" y="2290320"/>
              <a:ext cx="1856880" cy="66888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36"/>
            <p:cNvSpPr/>
            <p:nvPr/>
          </p:nvSpPr>
          <p:spPr>
            <a:xfrm>
              <a:off x="930240" y="3250800"/>
              <a:ext cx="1856880" cy="66924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a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37"/>
            <p:cNvSpPr/>
            <p:nvPr/>
          </p:nvSpPr>
          <p:spPr>
            <a:xfrm>
              <a:off x="930240" y="4211280"/>
              <a:ext cx="1856880" cy="66600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arke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38"/>
            <p:cNvSpPr/>
            <p:nvPr/>
          </p:nvSpPr>
          <p:spPr>
            <a:xfrm>
              <a:off x="930240" y="5170680"/>
              <a:ext cx="1856880" cy="66888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ociet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" name="Group 58"/>
            <p:cNvGrpSpPr/>
            <p:nvPr/>
          </p:nvGrpSpPr>
          <p:grpSpPr>
            <a:xfrm>
              <a:off x="3342960" y="2290320"/>
              <a:ext cx="4657680" cy="3592080"/>
              <a:chOff x="3342960" y="2290320"/>
              <a:chExt cx="4657680" cy="3592080"/>
            </a:xfrm>
          </p:grpSpPr>
          <p:sp>
            <p:nvSpPr>
              <p:cNvPr id="387" name="Rectangle 39"/>
              <p:cNvSpPr/>
              <p:nvPr/>
            </p:nvSpPr>
            <p:spPr>
              <a:xfrm>
                <a:off x="3342960" y="2290320"/>
                <a:ext cx="4657680" cy="659880"/>
              </a:xfrm>
              <a:prstGeom prst="rect">
                <a:avLst/>
              </a:prstGeom>
              <a:solidFill>
                <a:srgbClr val="99d7db">
                  <a:alpha val="50000"/>
                </a:srgbClr>
              </a:solidFill>
              <a:ln w="0">
                <a:noFill/>
              </a:ln>
              <a:effectLst>
                <a:outerShdw dist="107932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What can we make or do best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Rectangle 40"/>
              <p:cNvSpPr/>
              <p:nvPr/>
            </p:nvSpPr>
            <p:spPr>
              <a:xfrm>
                <a:off x="3342960" y="3265920"/>
                <a:ext cx="4657680" cy="659520"/>
              </a:xfrm>
              <a:prstGeom prst="rect">
                <a:avLst/>
              </a:prstGeom>
              <a:solidFill>
                <a:srgbClr val="99d7db"/>
              </a:solidFill>
              <a:ln w="0">
                <a:noFill/>
              </a:ln>
              <a:effectLst>
                <a:outerShdw dist="107932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ow can we sell more aggressively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Rectangle 41"/>
              <p:cNvSpPr/>
              <p:nvPr/>
            </p:nvSpPr>
            <p:spPr>
              <a:xfrm>
                <a:off x="3342960" y="4245480"/>
                <a:ext cx="4657680" cy="659520"/>
              </a:xfrm>
              <a:prstGeom prst="rect">
                <a:avLst/>
              </a:prstGeom>
              <a:solidFill>
                <a:srgbClr val="99d7db">
                  <a:alpha val="50000"/>
                </a:srgbClr>
              </a:solidFill>
              <a:ln w="0">
                <a:noFill/>
              </a:ln>
              <a:effectLst>
                <a:outerShdw dist="107932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What do customers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want and need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Rectangle 42"/>
              <p:cNvSpPr/>
              <p:nvPr/>
            </p:nvSpPr>
            <p:spPr>
              <a:xfrm>
                <a:off x="3342960" y="5222880"/>
                <a:ext cx="4657680" cy="659520"/>
              </a:xfrm>
              <a:prstGeom prst="rect">
                <a:avLst/>
              </a:prstGeom>
              <a:solidFill>
                <a:srgbClr val="99d7db"/>
              </a:solidFill>
              <a:ln w="0">
                <a:noFill/>
              </a:ln>
              <a:effectLst>
                <a:outerShdw dist="107932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What do customers want/need, and how can we benefit society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91" name="AutoShape 43"/>
            <p:cNvCxnSpPr>
              <a:stCxn id="382" idx="3"/>
              <a:endCxn id="387" idx="1"/>
            </p:cNvCxnSpPr>
            <p:nvPr/>
          </p:nvCxnSpPr>
          <p:spPr>
            <a:xfrm flipV="1">
              <a:off x="2786760" y="2621160"/>
              <a:ext cx="556200" cy="3240"/>
            </a:xfrm>
            <a:prstGeom prst="straightConnector1">
              <a:avLst/>
            </a:prstGeom>
            <a:ln w="0">
              <a:noFill/>
            </a:ln>
          </p:spPr>
        </p:cxnSp>
        <p:cxnSp>
          <p:nvCxnSpPr>
            <p:cNvPr id="392" name="AutoShape 44"/>
            <p:cNvCxnSpPr>
              <a:stCxn id="383" idx="3"/>
              <a:endCxn id="388" idx="1"/>
            </p:cNvCxnSpPr>
            <p:nvPr/>
          </p:nvCxnSpPr>
          <p:spPr>
            <a:xfrm>
              <a:off x="2786760" y="3584880"/>
              <a:ext cx="556200" cy="14040"/>
            </a:xfrm>
            <a:prstGeom prst="straightConnector1">
              <a:avLst/>
            </a:prstGeom>
            <a:ln w="0">
              <a:noFill/>
            </a:ln>
          </p:spPr>
        </p:cxnSp>
        <p:cxnSp>
          <p:nvCxnSpPr>
            <p:cNvPr id="393" name="AutoShape 45"/>
            <p:cNvCxnSpPr>
              <a:stCxn id="384" idx="3"/>
              <a:endCxn id="389" idx="1"/>
            </p:cNvCxnSpPr>
            <p:nvPr/>
          </p:nvCxnSpPr>
          <p:spPr>
            <a:xfrm>
              <a:off x="2786760" y="4545720"/>
              <a:ext cx="556200" cy="30240"/>
            </a:xfrm>
            <a:prstGeom prst="straightConnector1">
              <a:avLst/>
            </a:prstGeom>
            <a:ln w="0">
              <a:noFill/>
            </a:ln>
          </p:spPr>
        </p:cxnSp>
        <p:cxnSp>
          <p:nvCxnSpPr>
            <p:cNvPr id="394" name="AutoShape 46"/>
            <p:cNvCxnSpPr>
              <a:stCxn id="385" idx="3"/>
              <a:endCxn id="390" idx="1"/>
            </p:cNvCxnSpPr>
            <p:nvPr/>
          </p:nvCxnSpPr>
          <p:spPr>
            <a:xfrm>
              <a:off x="2786760" y="5504400"/>
              <a:ext cx="556200" cy="50040"/>
            </a:xfrm>
            <a:prstGeom prst="straightConnector1">
              <a:avLst/>
            </a:prstGeom>
            <a:ln w="0">
              <a:noFill/>
            </a:ln>
          </p:spPr>
        </p:cxnSp>
        <p:sp>
          <p:nvSpPr>
            <p:cNvPr id="395" name="Rectangle 47"/>
            <p:cNvSpPr/>
            <p:nvPr/>
          </p:nvSpPr>
          <p:spPr>
            <a:xfrm>
              <a:off x="1080360" y="1752480"/>
              <a:ext cx="153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i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48"/>
            <p:cNvSpPr/>
            <p:nvPr/>
          </p:nvSpPr>
          <p:spPr>
            <a:xfrm>
              <a:off x="5289480" y="1752480"/>
              <a:ext cx="93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oc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7" name="AutoShape 55"/>
            <p:cNvCxnSpPr/>
            <p:nvPr/>
          </p:nvCxnSpPr>
          <p:spPr>
            <a:xfrm>
              <a:off x="2797920" y="2655720"/>
              <a:ext cx="53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8" name="AutoShape 60"/>
            <p:cNvCxnSpPr/>
            <p:nvPr/>
          </p:nvCxnSpPr>
          <p:spPr>
            <a:xfrm>
              <a:off x="2797920" y="3648960"/>
              <a:ext cx="53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9" name="AutoShape 61"/>
            <p:cNvCxnSpPr/>
            <p:nvPr/>
          </p:nvCxnSpPr>
          <p:spPr>
            <a:xfrm>
              <a:off x="2797920" y="4559040"/>
              <a:ext cx="53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00" name="AutoShape 62"/>
            <p:cNvCxnSpPr/>
            <p:nvPr/>
          </p:nvCxnSpPr>
          <p:spPr>
            <a:xfrm>
              <a:off x="2797920" y="5550840"/>
              <a:ext cx="53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01" name="Slide Number Placeholder 1"/>
          <p:cNvSpPr/>
          <p:nvPr/>
        </p:nvSpPr>
        <p:spPr>
          <a:xfrm>
            <a:off x="6553080" y="60958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3004F-56BC-4DE7-A542-3C5274D156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Footer Placeholder 1"/>
          <p:cNvSpPr/>
          <p:nvPr/>
        </p:nvSpPr>
        <p:spPr>
          <a:xfrm>
            <a:off x="274320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ifferences betwee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ales and Market Orient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AutoShape 3"/>
          <p:cNvSpPr/>
          <p:nvPr/>
        </p:nvSpPr>
        <p:spPr>
          <a:xfrm>
            <a:off x="1828800" y="1752480"/>
            <a:ext cx="5486400" cy="3429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cuss the differe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twe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les and mark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i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6"/>
          <p:cNvSpPr/>
          <p:nvPr/>
        </p:nvSpPr>
        <p:spPr>
          <a:xfrm>
            <a:off x="457200" y="847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ounded Rectangle 5"/>
          <p:cNvSpPr/>
          <p:nvPr/>
        </p:nvSpPr>
        <p:spPr>
          <a:xfrm>
            <a:off x="1981080" y="3809880"/>
            <a:ext cx="5334120" cy="1828800"/>
          </a:xfrm>
          <a:prstGeom prst="roundRect">
            <a:avLst>
              <a:gd name="adj" fmla="val 16667"/>
            </a:avLst>
          </a:prstGeom>
          <a:solidFill>
            <a:srgbClr val="ffc4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ounded Rectangle 4"/>
          <p:cNvSpPr/>
          <p:nvPr/>
        </p:nvSpPr>
        <p:spPr>
          <a:xfrm>
            <a:off x="1981080" y="1676520"/>
            <a:ext cx="5334120" cy="1828800"/>
          </a:xfrm>
          <a:prstGeom prst="roundRect">
            <a:avLst>
              <a:gd name="adj" fmla="val 16667"/>
            </a:avLst>
          </a:prstGeom>
          <a:solidFill>
            <a:srgbClr val="ffc4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0E936-4C40-4831-9172-264DF8B859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mparing the Sales an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rket Orient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1828800" y="1828800"/>
            <a:ext cx="5486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ales Ori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ward loo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the firm mak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Market Ori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ward loo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the market w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6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Sales vs. Market Orientations</a:t>
            </a:r>
            <a:br>
              <a:rPr sz="4800"/>
            </a:br>
            <a:endParaRPr b="1" lang="en-US" sz="4800" spc="-1" strike="noStrike">
              <a:solidFill>
                <a:srgbClr val="a0218c"/>
              </a:solidFill>
              <a:latin typeface="Calibri"/>
            </a:endParaRPr>
          </a:p>
        </p:txBody>
      </p:sp>
      <p:sp>
        <p:nvSpPr>
          <p:cNvPr id="414" name="Footer Placeholder 1"/>
          <p:cNvSpPr/>
          <p:nvPr/>
        </p:nvSpPr>
        <p:spPr>
          <a:xfrm>
            <a:off x="2666880" y="6172200"/>
            <a:ext cx="3962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30"/>
          <p:cNvGrpSpPr/>
          <p:nvPr/>
        </p:nvGrpSpPr>
        <p:grpSpPr>
          <a:xfrm>
            <a:off x="299880" y="1905120"/>
            <a:ext cx="8234280" cy="3877920"/>
            <a:chOff x="299880" y="1905120"/>
            <a:chExt cx="8234280" cy="3877920"/>
          </a:xfrm>
        </p:grpSpPr>
        <p:sp>
          <p:nvSpPr>
            <p:cNvPr id="416" name="Rectangle 5"/>
            <p:cNvSpPr/>
            <p:nvPr/>
          </p:nvSpPr>
          <p:spPr>
            <a:xfrm>
              <a:off x="299880" y="1905120"/>
              <a:ext cx="8165880" cy="96696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6"/>
            <p:cNvSpPr/>
            <p:nvPr/>
          </p:nvSpPr>
          <p:spPr>
            <a:xfrm>
              <a:off x="299880" y="2972520"/>
              <a:ext cx="8165880" cy="1379880"/>
            </a:xfrm>
            <a:prstGeom prst="rect">
              <a:avLst/>
            </a:prstGeom>
            <a:solidFill>
              <a:srgbClr val="b7dee8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7"/>
            <p:cNvSpPr/>
            <p:nvPr/>
          </p:nvSpPr>
          <p:spPr>
            <a:xfrm>
              <a:off x="299880" y="4453920"/>
              <a:ext cx="8165880" cy="1329120"/>
            </a:xfrm>
            <a:prstGeom prst="rect">
              <a:avLst/>
            </a:prstGeom>
            <a:solidFill>
              <a:srgbClr val="99d7db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8"/>
            <p:cNvSpPr/>
            <p:nvPr/>
          </p:nvSpPr>
          <p:spPr>
            <a:xfrm>
              <a:off x="331200" y="3104280"/>
              <a:ext cx="137232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Sales Orien-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9"/>
            <p:cNvSpPr/>
            <p:nvPr/>
          </p:nvSpPr>
          <p:spPr>
            <a:xfrm>
              <a:off x="331200" y="4541400"/>
              <a:ext cx="133632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Market Orien-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10"/>
            <p:cNvSpPr/>
            <p:nvPr/>
          </p:nvSpPr>
          <p:spPr>
            <a:xfrm>
              <a:off x="1605600" y="2092680"/>
              <a:ext cx="177084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Organization’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Foc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1"/>
            <p:cNvSpPr/>
            <p:nvPr/>
          </p:nvSpPr>
          <p:spPr>
            <a:xfrm>
              <a:off x="3378960" y="2092680"/>
              <a:ext cx="124704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Firm’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Busin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2"/>
            <p:cNvSpPr/>
            <p:nvPr/>
          </p:nvSpPr>
          <p:spPr>
            <a:xfrm>
              <a:off x="4636080" y="2057760"/>
              <a:ext cx="102132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F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Whom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13"/>
            <p:cNvSpPr/>
            <p:nvPr/>
          </p:nvSpPr>
          <p:spPr>
            <a:xfrm>
              <a:off x="5852520" y="1922760"/>
              <a:ext cx="10944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rimar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rofit </a:t>
              </a:r>
              <a:br>
                <a:rPr sz="1800"/>
              </a:b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Goal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14"/>
            <p:cNvSpPr/>
            <p:nvPr/>
          </p:nvSpPr>
          <p:spPr>
            <a:xfrm>
              <a:off x="7158960" y="2092680"/>
              <a:ext cx="137520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Tools to Achie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15"/>
            <p:cNvSpPr/>
            <p:nvPr/>
          </p:nvSpPr>
          <p:spPr>
            <a:xfrm>
              <a:off x="3378960" y="3148560"/>
              <a:ext cx="1200600" cy="10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lling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oods and servi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6"/>
            <p:cNvSpPr/>
            <p:nvPr/>
          </p:nvSpPr>
          <p:spPr>
            <a:xfrm>
              <a:off x="4588560" y="3148560"/>
              <a:ext cx="1258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verybo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17"/>
            <p:cNvSpPr/>
            <p:nvPr/>
          </p:nvSpPr>
          <p:spPr>
            <a:xfrm>
              <a:off x="5884920" y="3148560"/>
              <a:ext cx="120672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ximum sales volu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18"/>
            <p:cNvSpPr/>
            <p:nvPr/>
          </p:nvSpPr>
          <p:spPr>
            <a:xfrm>
              <a:off x="7158960" y="3148560"/>
              <a:ext cx="123228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imarily promo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19"/>
            <p:cNvSpPr/>
            <p:nvPr/>
          </p:nvSpPr>
          <p:spPr>
            <a:xfrm>
              <a:off x="1751040" y="3148560"/>
              <a:ext cx="865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w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20"/>
            <p:cNvSpPr/>
            <p:nvPr/>
          </p:nvSpPr>
          <p:spPr>
            <a:xfrm>
              <a:off x="1721160" y="4558680"/>
              <a:ext cx="1044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utw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21"/>
            <p:cNvSpPr/>
            <p:nvPr/>
          </p:nvSpPr>
          <p:spPr>
            <a:xfrm>
              <a:off x="7158960" y="4558680"/>
              <a:ext cx="1366560" cy="10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ordin-ated use of marketing activiti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22"/>
            <p:cNvSpPr/>
            <p:nvPr/>
          </p:nvSpPr>
          <p:spPr>
            <a:xfrm>
              <a:off x="5884920" y="4538160"/>
              <a:ext cx="12798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ustomer satisfac-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23"/>
            <p:cNvSpPr/>
            <p:nvPr/>
          </p:nvSpPr>
          <p:spPr>
            <a:xfrm>
              <a:off x="4626000" y="4560120"/>
              <a:ext cx="1101960" cy="10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pecific groups of peop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24"/>
            <p:cNvSpPr/>
            <p:nvPr/>
          </p:nvSpPr>
          <p:spPr>
            <a:xfrm>
              <a:off x="3378960" y="4560120"/>
              <a:ext cx="1176840" cy="10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atisfying wants and nee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Slide Number Placeholder 2"/>
          <p:cNvSpPr/>
          <p:nvPr/>
        </p:nvSpPr>
        <p:spPr>
          <a:xfrm>
            <a:off x="6629400" y="6172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0DFD9-9C80-4DC5-920E-9B2F7D4F5F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05193-0277-413C-8FAC-2D4C47F767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1676160" y="1752480"/>
            <a:ext cx="6172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lnSpc>
                <a:spcPct val="90000"/>
              </a:lnSpc>
              <a:spcBef>
                <a:spcPts val="751"/>
              </a:spcBef>
              <a:spcAft>
                <a:spcPts val="1624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ffer products that perfor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187"/>
              </a:spcBef>
              <a:spcAft>
                <a:spcPts val="1687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arn trus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187"/>
              </a:spcBef>
              <a:spcAft>
                <a:spcPts val="1687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void unrealistic pric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187"/>
              </a:spcBef>
              <a:spcAft>
                <a:spcPts val="1687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 the buyer fac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187"/>
              </a:spcBef>
              <a:spcAft>
                <a:spcPts val="1687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ffer organization-wide commitment in service and after-sales suppor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187"/>
              </a:spcBef>
              <a:spcAft>
                <a:spcPts val="1687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-creation with custom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title"/>
          </p:nvPr>
        </p:nvSpPr>
        <p:spPr>
          <a:xfrm>
            <a:off x="1295280" y="456840"/>
            <a:ext cx="65534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ustomer Value Require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3BDAD-83F3-4821-95E7-679285B0C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1905120" y="2133360"/>
            <a:ext cx="54705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ustomers’ evaluation of a good or service in terms of whether that good or service has met their needs and expect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extBox 5"/>
          <p:cNvSpPr/>
          <p:nvPr/>
        </p:nvSpPr>
        <p:spPr>
          <a:xfrm>
            <a:off x="1447920" y="658800"/>
            <a:ext cx="65466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er Satisf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ooter Placeholder 2"/>
          <p:cNvSpPr/>
          <p:nvPr/>
        </p:nvSpPr>
        <p:spPr>
          <a:xfrm>
            <a:off x="2514600" y="6553080"/>
            <a:ext cx="4038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lide Number Placeholder 1"/>
          <p:cNvSpPr/>
          <p:nvPr/>
        </p:nvSpPr>
        <p:spPr>
          <a:xfrm>
            <a:off x="6553080" y="65689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34029-2892-4330-B035-61272562F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990720" y="14479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ee312d"/>
                </a:solidFill>
                <a:latin typeface="Calibri"/>
              </a:rPr>
              <a:t>1-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the ter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ee312d"/>
                </a:solidFill>
                <a:latin typeface="Calibri"/>
              </a:rPr>
              <a:t>1-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four marketing management philosoph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ee312d"/>
                </a:solidFill>
                <a:latin typeface="Calibri"/>
              </a:rPr>
              <a:t>1-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he differences between sales and market ori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ee312d"/>
                </a:solidFill>
                <a:latin typeface="Calibri"/>
              </a:rPr>
              <a:t>1-4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several reasons for studying 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1"/>
          <p:cNvSpPr/>
          <p:nvPr/>
        </p:nvSpPr>
        <p:spPr>
          <a:xfrm>
            <a:off x="0" y="22860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e312d"/>
                </a:solidFill>
                <a:latin typeface="Arial Narrow"/>
              </a:rPr>
              <a:t>L</a:t>
            </a:r>
            <a:r>
              <a:rPr b="0" lang="en-US" sz="6000" spc="-1" strike="noStrike">
                <a:solidFill>
                  <a:srgbClr val="ee312d"/>
                </a:solidFill>
                <a:latin typeface="Arial Narrow"/>
              </a:rPr>
              <a:t>EARNING</a:t>
            </a:r>
            <a:r>
              <a:rPr b="0" lang="en-US" sz="6600" spc="-1" strike="noStrike">
                <a:solidFill>
                  <a:srgbClr val="ee312d"/>
                </a:solidFill>
                <a:latin typeface="Arial Narrow"/>
              </a:rPr>
              <a:t> O</a:t>
            </a:r>
            <a:r>
              <a:rPr b="0" lang="en-US" sz="6000" spc="-1" strike="noStrike">
                <a:solidFill>
                  <a:srgbClr val="ee312d"/>
                </a:solidFill>
                <a:latin typeface="Arial Narrow"/>
              </a:rPr>
              <a:t>UTCOM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FA62-118E-40CE-AA3F-05656D16C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1676160" y="1494000"/>
            <a:ext cx="609588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ategy that focuses on keeping and improving relationships with custom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ccessful strategies ne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stomer-Oriented Personn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ffective Training Progra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powered Employe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am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TextBox 5"/>
          <p:cNvSpPr/>
          <p:nvPr/>
        </p:nvSpPr>
        <p:spPr>
          <a:xfrm>
            <a:off x="1301760" y="380880"/>
            <a:ext cx="662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lationship Mark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9E968-ED15-49F7-AFC3-8E3A5FD7F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95280" y="1519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Building</a:t>
            </a:r>
            <a:r>
              <a:rPr b="0" lang="en-US" sz="4800" spc="-1" strike="noStrike">
                <a:solidFill>
                  <a:srgbClr val="a0218c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Relationshi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Rectangle 15"/>
          <p:cNvSpPr/>
          <p:nvPr/>
        </p:nvSpPr>
        <p:spPr>
          <a:xfrm>
            <a:off x="1447920" y="1371600"/>
            <a:ext cx="6324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stomer-oriented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very employee represents the firm in the eyes of the custom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ployee training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powered employ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mployees are given more authority to solve customer problems on the sp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am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mphasizing cooperation over competition while helping a custom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Footer Placeholder 1"/>
          <p:cNvSpPr/>
          <p:nvPr/>
        </p:nvSpPr>
        <p:spPr>
          <a:xfrm>
            <a:off x="274320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Study Market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Rectangle 2"/>
          <p:cNvSpPr/>
          <p:nvPr/>
        </p:nvSpPr>
        <p:spPr>
          <a:xfrm>
            <a:off x="1219320" y="106668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3"/>
          <p:cNvSpPr/>
          <p:nvPr/>
        </p:nvSpPr>
        <p:spPr>
          <a:xfrm>
            <a:off x="2286000" y="1981080"/>
            <a:ext cx="4572000" cy="3429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cribe several reasons for studying mark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7"/>
          <p:cNvSpPr/>
          <p:nvPr/>
        </p:nvSpPr>
        <p:spPr>
          <a:xfrm>
            <a:off x="457200" y="847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16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9" name="Footer Placeholder 1"/>
          <p:cNvSpPr/>
          <p:nvPr/>
        </p:nvSpPr>
        <p:spPr>
          <a:xfrm>
            <a:off x="2286000" y="6111720"/>
            <a:ext cx="42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6553080" y="60958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C33E0-A5BE-4A1B-87AC-6FE1ED40A2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32"/>
          <p:cNvSpPr/>
          <p:nvPr/>
        </p:nvSpPr>
        <p:spPr>
          <a:xfrm>
            <a:off x="0" y="152280"/>
            <a:ext cx="9144000" cy="9194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Why Study Marketing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Group 34"/>
          <p:cNvGrpSpPr/>
          <p:nvPr/>
        </p:nvGrpSpPr>
        <p:grpSpPr>
          <a:xfrm>
            <a:off x="2057400" y="1828800"/>
            <a:ext cx="5562720" cy="3962160"/>
            <a:chOff x="2057400" y="1828800"/>
            <a:chExt cx="5562720" cy="3962160"/>
          </a:xfrm>
        </p:grpSpPr>
        <p:sp>
          <p:nvSpPr>
            <p:cNvPr id="463" name="Oval 22"/>
            <p:cNvSpPr/>
            <p:nvPr/>
          </p:nvSpPr>
          <p:spPr>
            <a:xfrm>
              <a:off x="2743200" y="1828800"/>
              <a:ext cx="2362320" cy="2286000"/>
            </a:xfrm>
            <a:prstGeom prst="ellipse">
              <a:avLst/>
            </a:prstGeom>
            <a:solidFill>
              <a:srgbClr val="ca0088">
                <a:alpha val="4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5"/>
            <p:cNvSpPr/>
            <p:nvPr/>
          </p:nvSpPr>
          <p:spPr>
            <a:xfrm>
              <a:off x="3581640" y="3124080"/>
              <a:ext cx="2361960" cy="2286000"/>
            </a:xfrm>
            <a:prstGeom prst="ellipse">
              <a:avLst/>
            </a:prstGeom>
            <a:solidFill>
              <a:srgbClr val="ca0088">
                <a:alpha val="4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6"/>
            <p:cNvSpPr/>
            <p:nvPr/>
          </p:nvSpPr>
          <p:spPr>
            <a:xfrm>
              <a:off x="2057400" y="3124080"/>
              <a:ext cx="2362320" cy="2286000"/>
            </a:xfrm>
            <a:prstGeom prst="ellipse">
              <a:avLst/>
            </a:prstGeom>
            <a:solidFill>
              <a:srgbClr val="ca0088">
                <a:alpha val="4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Text Box 27"/>
            <p:cNvSpPr/>
            <p:nvPr/>
          </p:nvSpPr>
          <p:spPr>
            <a:xfrm>
              <a:off x="3324240" y="2238120"/>
              <a:ext cx="1219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mportant to Socie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8"/>
            <p:cNvSpPr/>
            <p:nvPr/>
          </p:nvSpPr>
          <p:spPr>
            <a:xfrm>
              <a:off x="2286000" y="4066920"/>
              <a:ext cx="1295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mportant to Busin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AutoShape 30"/>
            <p:cNvSpPr/>
            <p:nvPr/>
          </p:nvSpPr>
          <p:spPr>
            <a:xfrm>
              <a:off x="5486400" y="4419360"/>
              <a:ext cx="304920" cy="1371600"/>
            </a:xfrm>
            <a:prstGeom prst="flowChartProcess">
              <a:avLst/>
            </a:prstGeom>
            <a:solidFill>
              <a:srgbClr val="00afd7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AutoShape 31"/>
            <p:cNvSpPr/>
            <p:nvPr/>
          </p:nvSpPr>
          <p:spPr>
            <a:xfrm rot="16200000">
              <a:off x="5486400" y="4419000"/>
              <a:ext cx="304920" cy="1371600"/>
            </a:xfrm>
            <a:prstGeom prst="flowChartProcess">
              <a:avLst/>
            </a:prstGeom>
            <a:solidFill>
              <a:srgbClr val="00afd7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32"/>
            <p:cNvSpPr/>
            <p:nvPr/>
          </p:nvSpPr>
          <p:spPr>
            <a:xfrm>
              <a:off x="4343400" y="4066920"/>
              <a:ext cx="1447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ood Career Opportunit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Text Box 33"/>
            <p:cNvSpPr/>
            <p:nvPr/>
          </p:nvSpPr>
          <p:spPr>
            <a:xfrm>
              <a:off x="5562720" y="4991040"/>
              <a:ext cx="2057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rketing affects you every day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1"/>
          <p:cNvSpPr/>
          <p:nvPr/>
        </p:nvSpPr>
        <p:spPr>
          <a:xfrm>
            <a:off x="274320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arket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AutoShape 8"/>
          <p:cNvSpPr/>
          <p:nvPr/>
        </p:nvSpPr>
        <p:spPr>
          <a:xfrm>
            <a:off x="2619360" y="2743200"/>
            <a:ext cx="3809880" cy="2057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e the term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1"/>
          <p:cNvSpPr/>
          <p:nvPr/>
        </p:nvSpPr>
        <p:spPr>
          <a:xfrm>
            <a:off x="457200" y="847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BE54E-72BC-423A-9694-E7ED118A1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1219320" y="2133720"/>
            <a:ext cx="6635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Marketing</a:t>
            </a: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the activity, set of institutions, and processes for creating, communicating, delivering, and exchanging offerings that have value for customers, clients, partners, and society at lar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1218960" y="533160"/>
            <a:ext cx="669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merican Marketing Association Definition of Mark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58110-1FA9-4040-8070-102A596055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"/>
          <p:cNvSpPr/>
          <p:nvPr/>
        </p:nvSpPr>
        <p:spPr>
          <a:xfrm>
            <a:off x="1320840" y="876240"/>
            <a:ext cx="46483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Marketing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1828800" y="1718280"/>
            <a:ext cx="5943600" cy="28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tails processes that focus on delivering value and benefits to customers, not just selling goods and servic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18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Exchange</a:t>
            </a:r>
            <a:endParaRPr b="0" lang="en-US" sz="7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22" name="Footer Placeholder 1"/>
          <p:cNvSpPr/>
          <p:nvPr/>
        </p:nvSpPr>
        <p:spPr>
          <a:xfrm>
            <a:off x="2286000" y="6095880"/>
            <a:ext cx="42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2"/>
          <p:cNvSpPr/>
          <p:nvPr/>
        </p:nvSpPr>
        <p:spPr>
          <a:xfrm>
            <a:off x="6553080" y="60958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7BF26-E713-4F4F-A18D-D1BD2F0C6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17"/>
          <p:cNvGrpSpPr/>
          <p:nvPr/>
        </p:nvGrpSpPr>
        <p:grpSpPr>
          <a:xfrm>
            <a:off x="650880" y="1905120"/>
            <a:ext cx="7426080" cy="3885840"/>
            <a:chOff x="650880" y="1905120"/>
            <a:chExt cx="7426080" cy="3885840"/>
          </a:xfrm>
        </p:grpSpPr>
        <p:sp>
          <p:nvSpPr>
            <p:cNvPr id="325" name="Rectangle 6"/>
            <p:cNvSpPr/>
            <p:nvPr/>
          </p:nvSpPr>
          <p:spPr>
            <a:xfrm>
              <a:off x="3753720" y="1905120"/>
              <a:ext cx="4323240" cy="592560"/>
            </a:xfrm>
            <a:prstGeom prst="rect">
              <a:avLst/>
            </a:prstGeom>
            <a:solidFill>
              <a:srgbClr val="99d7db">
                <a:alpha val="50000"/>
              </a:srgbClr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At Least Two Parties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7"/>
            <p:cNvSpPr/>
            <p:nvPr/>
          </p:nvSpPr>
          <p:spPr>
            <a:xfrm>
              <a:off x="3753720" y="2728440"/>
              <a:ext cx="4323240" cy="592560"/>
            </a:xfrm>
            <a:prstGeom prst="rect">
              <a:avLst/>
            </a:prstGeom>
            <a:solidFill>
              <a:srgbClr val="99d7db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Something of Valu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8"/>
            <p:cNvSpPr/>
            <p:nvPr/>
          </p:nvSpPr>
          <p:spPr>
            <a:xfrm>
              <a:off x="3753720" y="3551760"/>
              <a:ext cx="4323240" cy="595080"/>
            </a:xfrm>
            <a:prstGeom prst="rect">
              <a:avLst/>
            </a:prstGeom>
            <a:solidFill>
              <a:srgbClr val="99d7db">
                <a:alpha val="50000"/>
              </a:srgbClr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Autofit/>
            </a:bodyPr>
            <a:p>
              <a:pPr algn="ctr">
                <a:lnSpc>
                  <a:spcPct val="9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Communication and Delivery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9"/>
            <p:cNvSpPr/>
            <p:nvPr/>
          </p:nvSpPr>
          <p:spPr>
            <a:xfrm>
              <a:off x="3753720" y="4375080"/>
              <a:ext cx="4323240" cy="592560"/>
            </a:xfrm>
            <a:prstGeom prst="rect">
              <a:avLst/>
            </a:prstGeom>
            <a:solidFill>
              <a:srgbClr val="99d7db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Autofit/>
            </a:bodyPr>
            <a:p>
              <a:pPr algn="ctr">
                <a:lnSpc>
                  <a:spcPct val="9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Freedom to Accept or Reject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0"/>
            <p:cNvSpPr/>
            <p:nvPr/>
          </p:nvSpPr>
          <p:spPr>
            <a:xfrm>
              <a:off x="3753720" y="5198400"/>
              <a:ext cx="4323240" cy="592560"/>
            </a:xfrm>
            <a:prstGeom prst="rect">
              <a:avLst/>
            </a:prstGeom>
            <a:solidFill>
              <a:srgbClr val="99d7db">
                <a:alpha val="50000"/>
              </a:srgbClr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Autofit/>
            </a:bodyPr>
            <a:p>
              <a:pPr algn="ctr">
                <a:lnSpc>
                  <a:spcPct val="9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Desire to Deal with Other Party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0" name="AutoShape 11"/>
            <p:cNvCxnSpPr/>
            <p:nvPr/>
          </p:nvCxnSpPr>
          <p:spPr>
            <a:xfrm flipV="1">
              <a:off x="2917080" y="2185560"/>
              <a:ext cx="837360" cy="1678680"/>
            </a:xfrm>
            <a:prstGeom prst="bentConnector3">
              <a:avLst>
                <a:gd name="adj1" fmla="val 49978"/>
              </a:avLst>
            </a:prstGeom>
            <a:ln w="9360">
              <a:solidFill>
                <a:srgbClr val="eeece1"/>
              </a:solidFill>
              <a:miter/>
            </a:ln>
          </p:spPr>
        </p:cxnSp>
        <p:cxnSp>
          <p:nvCxnSpPr>
            <p:cNvPr id="331" name="AutoShape 12"/>
            <p:cNvCxnSpPr/>
            <p:nvPr/>
          </p:nvCxnSpPr>
          <p:spPr>
            <a:xfrm>
              <a:off x="2917080" y="3864600"/>
              <a:ext cx="837360" cy="1615680"/>
            </a:xfrm>
            <a:prstGeom prst="bentConnector3">
              <a:avLst>
                <a:gd name="adj1" fmla="val 49978"/>
              </a:avLst>
            </a:prstGeom>
            <a:ln w="9360">
              <a:solidFill>
                <a:srgbClr val="eeece1"/>
              </a:solidFill>
              <a:miter/>
            </a:ln>
          </p:spPr>
        </p:cxnSp>
        <p:cxnSp>
          <p:nvCxnSpPr>
            <p:cNvPr id="332" name="AutoShape 13"/>
            <p:cNvCxnSpPr/>
            <p:nvPr/>
          </p:nvCxnSpPr>
          <p:spPr>
            <a:xfrm flipV="1">
              <a:off x="2917080" y="3009240"/>
              <a:ext cx="837360" cy="855360"/>
            </a:xfrm>
            <a:prstGeom prst="bentConnector3">
              <a:avLst>
                <a:gd name="adj1" fmla="val 49978"/>
              </a:avLst>
            </a:prstGeom>
            <a:ln w="9360">
              <a:solidFill>
                <a:srgbClr val="eeece1"/>
              </a:solidFill>
              <a:miter/>
            </a:ln>
          </p:spPr>
        </p:cxnSp>
        <p:cxnSp>
          <p:nvCxnSpPr>
            <p:cNvPr id="333" name="AutoShape 14"/>
            <p:cNvCxnSpPr/>
            <p:nvPr/>
          </p:nvCxnSpPr>
          <p:spPr>
            <a:xfrm>
              <a:off x="2917080" y="3864240"/>
              <a:ext cx="837360" cy="792360"/>
            </a:xfrm>
            <a:prstGeom prst="bentConnector3">
              <a:avLst>
                <a:gd name="adj1" fmla="val 49978"/>
              </a:avLst>
            </a:prstGeom>
            <a:ln w="9360">
              <a:solidFill>
                <a:srgbClr val="eeece1"/>
              </a:solidFill>
              <a:miter/>
            </a:ln>
          </p:spPr>
        </p:cxnSp>
        <p:sp>
          <p:nvSpPr>
            <p:cNvPr id="334" name="Line 15"/>
            <p:cNvSpPr/>
            <p:nvPr/>
          </p:nvSpPr>
          <p:spPr>
            <a:xfrm flipH="1">
              <a:off x="3335400" y="3865680"/>
              <a:ext cx="418320" cy="0"/>
            </a:xfrm>
            <a:prstGeom prst="line">
              <a:avLst/>
            </a:prstGeom>
            <a:ln w="93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5"/>
            <p:cNvSpPr/>
            <p:nvPr/>
          </p:nvSpPr>
          <p:spPr>
            <a:xfrm>
              <a:off x="650880" y="3121920"/>
              <a:ext cx="2266200" cy="145296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nditions for Exchan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1"/>
          <p:cNvSpPr/>
          <p:nvPr/>
        </p:nvSpPr>
        <p:spPr>
          <a:xfrm>
            <a:off x="274320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rketing Managemen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hilosoph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ectangle 2"/>
          <p:cNvSpPr/>
          <p:nvPr/>
        </p:nvSpPr>
        <p:spPr>
          <a:xfrm>
            <a:off x="1219320" y="990720"/>
            <a:ext cx="79246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3"/>
          <p:cNvSpPr/>
          <p:nvPr/>
        </p:nvSpPr>
        <p:spPr>
          <a:xfrm>
            <a:off x="2266920" y="1905120"/>
            <a:ext cx="4572000" cy="3429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cribe four market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agement philosoph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7"/>
          <p:cNvSpPr/>
          <p:nvPr/>
        </p:nvSpPr>
        <p:spPr>
          <a:xfrm>
            <a:off x="457200" y="847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16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2" name="Footer Placeholder 1"/>
          <p:cNvSpPr/>
          <p:nvPr/>
        </p:nvSpPr>
        <p:spPr>
          <a:xfrm>
            <a:off x="2286000" y="6095880"/>
            <a:ext cx="42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lide Number Placeholder 2"/>
          <p:cNvSpPr/>
          <p:nvPr/>
        </p:nvSpPr>
        <p:spPr>
          <a:xfrm>
            <a:off x="6553080" y="60958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BBD69-5209-43EE-8C78-31E8D718A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1"/>
          <p:cNvGrpSpPr/>
          <p:nvPr/>
        </p:nvGrpSpPr>
        <p:grpSpPr>
          <a:xfrm>
            <a:off x="1054080" y="1981080"/>
            <a:ext cx="6794640" cy="3504960"/>
            <a:chOff x="1054080" y="1981080"/>
            <a:chExt cx="6794640" cy="3504960"/>
          </a:xfrm>
        </p:grpSpPr>
        <p:pic>
          <p:nvPicPr>
            <p:cNvPr id="345" name="Group 29" descr=""/>
            <p:cNvPicPr/>
            <p:nvPr/>
          </p:nvPicPr>
          <p:blipFill>
            <a:blip r:embed="rId2"/>
            <a:stretch/>
          </p:blipFill>
          <p:spPr>
            <a:xfrm>
              <a:off x="1132200" y="3271320"/>
              <a:ext cx="6683400" cy="70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Group 32" descr=""/>
            <p:cNvPicPr/>
            <p:nvPr/>
          </p:nvPicPr>
          <p:blipFill>
            <a:blip r:embed="rId3"/>
            <a:stretch/>
          </p:blipFill>
          <p:spPr>
            <a:xfrm>
              <a:off x="1132200" y="3965040"/>
              <a:ext cx="6683400" cy="69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Group 44" descr=""/>
            <p:cNvPicPr/>
            <p:nvPr/>
          </p:nvPicPr>
          <p:blipFill>
            <a:blip r:embed="rId4"/>
            <a:stretch/>
          </p:blipFill>
          <p:spPr>
            <a:xfrm>
              <a:off x="1132200" y="4646520"/>
              <a:ext cx="6683400" cy="77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Group 28" descr=""/>
            <p:cNvPicPr/>
            <p:nvPr/>
          </p:nvPicPr>
          <p:blipFill>
            <a:blip r:embed="rId5"/>
            <a:stretch/>
          </p:blipFill>
          <p:spPr>
            <a:xfrm>
              <a:off x="1101960" y="2620080"/>
              <a:ext cx="6713640" cy="67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Rectangle 16"/>
            <p:cNvSpPr/>
            <p:nvPr/>
          </p:nvSpPr>
          <p:spPr>
            <a:xfrm>
              <a:off x="2990880" y="2757240"/>
              <a:ext cx="386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f497d"/>
                  </a:solidFill>
                  <a:latin typeface="Arial"/>
                </a:rPr>
                <a:t>internal capabilities of the fir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17"/>
            <p:cNvSpPr/>
            <p:nvPr/>
          </p:nvSpPr>
          <p:spPr>
            <a:xfrm>
              <a:off x="2956680" y="4033080"/>
              <a:ext cx="47055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f497d"/>
                  </a:solidFill>
                  <a:latin typeface="Arial"/>
                </a:rPr>
                <a:t>satisfying customer needs and wants while meeting obj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18"/>
            <p:cNvSpPr/>
            <p:nvPr/>
          </p:nvSpPr>
          <p:spPr>
            <a:xfrm>
              <a:off x="2944080" y="4652280"/>
              <a:ext cx="4904640" cy="83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f497d"/>
                  </a:solidFill>
                  <a:latin typeface="Arial"/>
                </a:rPr>
                <a:t>satisfying customer needs and </a:t>
              </a:r>
              <a:br>
                <a:rPr sz="1800"/>
              </a:br>
              <a:r>
                <a:rPr b="1" lang="en-US" sz="1800" spc="-1" strike="noStrike">
                  <a:solidFill>
                    <a:srgbClr val="1f497d"/>
                  </a:solidFill>
                  <a:latin typeface="Arial"/>
                </a:rPr>
                <a:t>wants while enhancing individual and </a:t>
              </a:r>
              <a:br>
                <a:rPr sz="1800"/>
              </a:br>
              <a:r>
                <a:rPr b="1" lang="en-US" sz="1800" spc="-1" strike="noStrike">
                  <a:solidFill>
                    <a:srgbClr val="1f497d"/>
                  </a:solidFill>
                  <a:latin typeface="Arial"/>
                </a:rPr>
                <a:t>societal well-be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19"/>
            <p:cNvSpPr/>
            <p:nvPr/>
          </p:nvSpPr>
          <p:spPr>
            <a:xfrm>
              <a:off x="2944080" y="3360960"/>
              <a:ext cx="47527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>
                <a:lnSpc>
                  <a:spcPct val="9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f497d"/>
                  </a:solidFill>
                  <a:latin typeface="Arial"/>
                </a:rPr>
                <a:t>aggressive sales techniques and belief that high sales result in high prof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3" name="Group 48" descr=""/>
            <p:cNvPicPr/>
            <p:nvPr/>
          </p:nvPicPr>
          <p:blipFill>
            <a:blip r:embed="rId6"/>
            <a:stretch/>
          </p:blipFill>
          <p:spPr>
            <a:xfrm>
              <a:off x="1054080" y="1981080"/>
              <a:ext cx="6767640" cy="67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4" name="Rectangle 58"/>
          <p:cNvSpPr/>
          <p:nvPr/>
        </p:nvSpPr>
        <p:spPr>
          <a:xfrm>
            <a:off x="0" y="304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Four Marketing Management Philosoph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152F6-523C-4FC3-B160-56B244414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629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roduction Orien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294920" y="2362320"/>
            <a:ext cx="64422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Field of Dream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i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you build it, they will come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esn’t consider if what is produced meets market nee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8T19:20:03Z</dcterms:created>
  <dc:creator>Deb Baker</dc:creator>
  <dc:description/>
  <dc:language>en-US</dc:language>
  <cp:lastModifiedBy>USER</cp:lastModifiedBy>
  <cp:lastPrinted>2011-09-02T18:20:27Z</cp:lastPrinted>
  <dcterms:modified xsi:type="dcterms:W3CDTF">2016-09-24T10:07:50Z</dcterms:modified>
  <cp:revision>493</cp:revision>
  <dc:subject>An Overview of Marketing</dc:subject>
  <dc:title>Chapter 1</dc:title>
</cp:coreProperties>
</file>