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29121B-AE9D-4116-82A9-EF6058E1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F64F8C-810C-4AC9-A019-3559EC0F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45A6A7-EE32-4194-B6A2-05195200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90B588-CEDA-40A3-833A-00990C67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B95DBC-644C-47E9-A1B4-D7F7DDB0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5BDC6D-2858-46EA-8029-5BD77BB1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963E2C-F03C-423D-B2F9-3B80F7BF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5D4A00-4180-4367-8A41-F9BC9B18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5785AE-D0A3-41E4-AD72-A0B22F8B1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206845-A97D-4521-AE39-A7C393EC2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849BE0-4736-4CEC-87A1-03CB2D6A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8C26FD-92C3-483C-BE02-9C2E0576D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6F799B-D074-4A38-AD79-A9319002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6714F2-1E12-431A-81F7-EC6BBA30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0E9A8D-B612-4C14-9AD4-0992C895E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C90DB0-7688-411F-949E-872F87C2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00A431-F0E2-407E-8F60-8670C052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AAE6D0-D2D8-40C6-9935-03085FC3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F655F4-A527-4FB6-B065-C9309BBF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BD51B5-5EC8-42A4-AB6F-29EE38F3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7D0CEA-781F-4CB5-B77D-904223E3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BC3536-FB71-4A5D-A934-57BF6F51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F35BAE-6561-4B02-A465-056C21BD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1EE-3CE5-4E71-9653-54B65F92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F25-41A3-477F-B3D7-B14AF6C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C36-3293-4E55-8115-EDE3560A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FD9-8AFC-480B-B724-E4E48E5D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4E0A-1ACF-4C01-A644-7429DC6E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945D-1CCB-4EA5-86F3-D108DE79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A98-1F8E-4847-922B-F8BB3F4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8BD3-F110-40CE-A0B0-37DAC2EE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E172-C466-4C8F-A6D7-FB7DA69C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741-21C1-4A0B-9986-904A4A57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E107-7AF7-4D38-884A-731806B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5BF-0EF2-4986-AF1A-2B6BF355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F88-F900-43C1-8B1F-24D660F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D269-E99B-455E-9D02-0770CFE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DAA0-F784-4FA5-AA30-DDB37AE2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338F-5590-43DC-902B-FA752764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A904-A2AC-4CBF-B886-4100D7B1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68E9-5742-4CBC-A5B8-452A6B89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A9BF-E7D0-491E-8CA8-6A26894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6C3B-6478-461A-9956-D7494A0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24B2-AFC0-4450-B5DB-B50FF39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9E31-3A23-4351-9502-A6AAB52A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E55-3FCB-4DBD-964D-45F65A81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D17A-CF90-4713-A116-576FEADA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90AB-3BA9-40FD-8A5A-A0AD3054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ECB6-C718-404C-B078-072902D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C04F-908E-49A2-B698-B345BCA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0480-3760-409A-83CC-21FCB32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402F-B6C3-4052-A89D-DB15DE3F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B274-B954-49F5-95A4-4539A65F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AAB3-E762-4ACE-A13E-61122DC8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25F7-7BA8-41F9-8F7F-7827F75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BB1A-6A23-4E28-B8C6-813DE39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9B2-8585-49B6-ADA6-1F928976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8A48-E093-46F7-BBBD-D7C1677F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1C55-C3D4-4002-BEF4-B27472F4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2202-AD90-46AD-8C0C-71D5669A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B6CF-CBF4-472A-ACE6-03CA145F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7B73-803F-4608-BBA6-D81439C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7FE6-937D-4C1C-A88F-22FA0E9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8CB5-582F-4232-8C5B-EBD1D80D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F2C1-5D51-4B37-B5BE-542AF3B0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0DF4-1D54-46FC-A3B9-0F491A39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E676-F2BE-4504-B043-473AF8E8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134-7B89-4DF7-83B4-FA3B497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07656-BBA0-4520-98BE-9677B75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267B-5BF8-46A6-8EAB-D402EFF7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87D7-8A8D-4E0E-BF85-D4DDA90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464C-16F5-4B6D-ADFA-08B6BCDA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62DCE-0587-4251-9660-5B195A2C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F666-CD0F-4BAD-BC44-AB86B43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F0D5-1268-47CF-B051-A9306BB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75C2E-7A9F-4CEE-9487-C24EE77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047C-BC64-4C85-96F6-E1A1BA0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97BD-309F-41F3-9FED-907D58D7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4F0-4B59-4F9D-A03D-3259A773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615B1-2869-4C4F-8A0E-1F76B3AD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D1F7C-61A2-483A-BD06-7D5473CB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6BB08-206D-465C-8E30-8426C120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04A8-A72A-4217-ABEB-574F5A6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E74C-EDF1-45DA-90EE-F76C47A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502F-2C6D-436F-8B96-E205C1E8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FF60E-2BD9-4238-9C8D-374B3746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FD04E-FB86-44FF-834B-CF3ED1D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72FF-10F4-4924-BDC1-AA0E8ED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14C0-FC60-4472-8D26-3B898812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2F0-685C-4ACB-8E4C-2269A13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44E99-21D7-401E-815E-5FBCDC5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9768-2ABF-497D-86C6-C02DDD54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8AFC-FE7B-4BA1-99B8-D0718796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AE10E-E4BA-4A7C-BFC7-13BF6AAB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7F070-D047-43F3-BAC2-EE5C1036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40FA9-141C-4732-8C92-AE0E20F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6D3AF-6C57-4083-B4FB-49C2F7F9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87C7D-BBE3-43A6-9CCF-0662D037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F47B-83E3-4C95-B64B-B306FBE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B0C9-65CB-4A09-BB26-688E3C3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A36-D30C-42DB-9861-1A6B0B3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B1BAC-2432-42D9-9DF8-2AEFD2E9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D5AE-089C-440D-857B-F2E2CEF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FC34C-9623-4ED4-9953-71A5751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9C18-A914-4B10-8648-9101A27D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17259-356A-4260-9AB5-9D26424D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76B-52D6-4387-AF88-0220E79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86A2-E239-4AB6-85AC-BE783435F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7FA-01C4-4736-A5FE-C35926A70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0F1-086C-41F2-ABC5-EB4AC7EBB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1A57-1F37-45B9-928F-D4A1FC600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C44A-57B8-4EC9-8F6A-163F56418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231B-FB7A-4B52-AD6D-59C8428DF3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FD0-FA2A-4859-8A8B-49164D311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9765-CD1F-4C07-945D-D9B72808F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A30-4BD5-4D47-8573-CE249AEF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E0A-645D-492A-9410-BE08B2BB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ing your competitive arena and competitors’ strengths and weaknesses is a critical component of a market ori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8E33-D6DB-4BAA-A7E7-1E57E5F9D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A70-D9B4-459F-B319-DA21A84A1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2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4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9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3" name="AutoShape 43"/>
            <p:cNvCxnSpPr>
              <a:stCxn id="384" idx="3"/>
              <a:endCxn id="389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4"/>
            <p:cNvCxnSpPr>
              <a:stCxn id="385" idx="3"/>
              <a:endCxn id="390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5" name="AutoShape 45"/>
            <p:cNvCxnSpPr>
              <a:stCxn id="386" idx="3"/>
              <a:endCxn id="391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6" name="AutoShape 46"/>
            <p:cNvCxnSpPr>
              <a:stCxn id="387" idx="3"/>
              <a:endCxn id="392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7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1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3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CE8-F4DA-4C09-B764-48FF62F80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24BA-7CD9-48BC-8B16-87E8D9D09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6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8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ADA-6CC3-4E32-8F6F-E65D8B32B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Notes: </a:t>
            </a: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1-Sales-oriented firms focus on their own needs; market-oriented firms focus on customers’ needs and preference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2-Sales-oriented companies consider themselves to be deliverers of goods and services, whereas market-oriented companies view themselves as satisfiers of customer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3-Sales-oriented firms direct their products to everyone; market-oriented firms aim at specific segments of the population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4-Although the primary goal of both types of firms is profit, sales-oriented businesses pursue maximum sales volume through intensive promotion, whereas market-oriented businesses pursue customer satisfaction through coordinated activit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5-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1" lang="en-US" sz="16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2666880" y="65530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6294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F281-9EE5-4C7E-B9BA-C8BD108BE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7257-CA02-4C56-AE6C-39D14D2F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1676160" y="2437920"/>
            <a:ext cx="6172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1371600" y="914400"/>
            <a:ext cx="5715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Value also includes customization and fast deliv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34AA-9026-4E96-A2D4-D9903B69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FCE8-06A5-454A-8E07-725B6B8F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D2E4-9968-4EDC-AD03-55F7E6D7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CE94-8E27-447D-9C48-2A3AE5EB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D777-18DE-47DA-97E2-0D2C66557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9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372-E355-48BE-BD39-7D13BD602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4929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46AC-119C-4009-B28F-81BCED52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202760"/>
            <a:ext cx="594360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09480" y="3657600"/>
            <a:ext cx="8077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3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BCCB-EC82-453D-A129-96FB89D8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6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4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5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64BF-8ADC-4554-BEBA-CB00AB6C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"/>
          <p:cNvGrpSpPr/>
          <p:nvPr/>
        </p:nvGrpSpPr>
        <p:grpSpPr>
          <a:xfrm>
            <a:off x="1054080" y="1219320"/>
            <a:ext cx="6794640" cy="3213000"/>
            <a:chOff x="1054080" y="1219320"/>
            <a:chExt cx="6794640" cy="3213000"/>
          </a:xfrm>
        </p:grpSpPr>
        <p:pic>
          <p:nvPicPr>
            <p:cNvPr id="346" name="Group 29" descr=""/>
            <p:cNvPicPr/>
            <p:nvPr/>
          </p:nvPicPr>
          <p:blipFill>
            <a:blip r:embed="rId2"/>
            <a:stretch/>
          </p:blipFill>
          <p:spPr>
            <a:xfrm>
              <a:off x="1132200" y="2367000"/>
              <a:ext cx="668952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32" descr=""/>
            <p:cNvPicPr/>
            <p:nvPr/>
          </p:nvPicPr>
          <p:blipFill>
            <a:blip r:embed="rId3"/>
            <a:stretch/>
          </p:blipFill>
          <p:spPr>
            <a:xfrm>
              <a:off x="1132200" y="2980080"/>
              <a:ext cx="668952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44" descr=""/>
            <p:cNvPicPr/>
            <p:nvPr/>
          </p:nvPicPr>
          <p:blipFill>
            <a:blip r:embed="rId4"/>
            <a:stretch/>
          </p:blipFill>
          <p:spPr>
            <a:xfrm>
              <a:off x="1132200" y="3587400"/>
              <a:ext cx="668952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1783800"/>
              <a:ext cx="6713640" cy="6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16"/>
            <p:cNvSpPr/>
            <p:nvPr/>
          </p:nvSpPr>
          <p:spPr>
            <a:xfrm>
              <a:off x="2993400" y="191556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7"/>
            <p:cNvSpPr/>
            <p:nvPr/>
          </p:nvSpPr>
          <p:spPr>
            <a:xfrm>
              <a:off x="2961000" y="30484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8"/>
            <p:cNvSpPr/>
            <p:nvPr/>
          </p:nvSpPr>
          <p:spPr>
            <a:xfrm>
              <a:off x="2948400" y="359856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2948400" y="245160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219320"/>
              <a:ext cx="6773760" cy="5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7"/>
          <p:cNvSpPr/>
          <p:nvPr/>
        </p:nvSpPr>
        <p:spPr>
          <a:xfrm>
            <a:off x="762120" y="4419720"/>
            <a:ext cx="739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Four competing philosophies influence an organization’s marketing process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E375-DB2C-4421-9D82-ACCD3376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WIN7HPTOUCH64</cp:lastModifiedBy>
  <cp:lastPrinted>2011-09-02T18:20:27Z</cp:lastPrinted>
  <dcterms:modified xsi:type="dcterms:W3CDTF">2016-09-08T15:12:13Z</dcterms:modified>
  <cp:revision>495</cp:revision>
  <dc:subject>An Overview of Marketing</dc:subject>
  <dc:title>Chapter 1</dc:title>
</cp:coreProperties>
</file>