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E8DCA1-D697-40B9-BED2-684ADABE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6DEB5C-542A-4B44-94F0-7C31BE44F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146EDD-F044-4F4C-A3A6-11A15ED3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1B838A-0E13-45B4-B14A-87D2106A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33EBD0-5F2D-4864-AF1F-C5FB176C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4552C1-4B3C-4FD6-B3EA-872B6F8B3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E51942-8193-4C24-A247-501059D2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A1CC77-3F1B-441C-8A6F-79038AAD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4AF900-E1B3-4922-8314-48E9395E5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B9246B-105F-4E14-AA98-985339C26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4B251A-56AC-41D5-A0EC-2D524EE29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2F69BB-C8D3-49BC-BE60-53637E51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658814-A511-4551-AFF5-46F2DED9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49B4F5-BDB7-4BA6-AEB6-EB1E0D7F8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58917D-43D0-403C-A178-205A41B5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01F87F-72EC-4732-B318-54924C0E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8D5DDA-0EE2-46CB-B849-87FE7B5F4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671232-3771-4958-935C-EC1470F13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DF05FB-2116-4A9F-AD4A-9BD2CC30A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1241F1-5971-4F9A-96A2-0EB534DF0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5C04BE-1A0A-4BCA-800D-B71A22329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E55C97-42BF-4EB0-8362-73EBF281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BE4644-37DE-4DF3-A49E-59267F92A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DB9-6E9E-4459-8CEE-F94E30BE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080-B174-4385-8860-0185566E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65F-FAEC-4313-A5D5-A51CD958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2D3-8FC8-4254-B1AC-41EED511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3872-2AE4-44E5-8C36-1066BF8C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B76C-2C2A-4586-B747-6E2AA8D7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02AC-587C-43B9-9454-1DD39926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F915-4700-47E2-8C6A-53C5102D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8C9E-0444-4161-8051-B3F43087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F5EB-1295-4236-B0A5-BC4D8BB5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01AC-191E-45E3-8E08-601B3A13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DE9-4279-47BA-A624-FC6BC08C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C74A-2186-4F26-96B1-59331A1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8144-3802-4CA3-867F-117FEB4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866E-D115-43E3-B97B-C2722076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C59A-697D-4D14-AD5C-7822D9FE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DFCE-187C-424D-9BD9-3AC260A5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567F-3EE2-4F60-AF69-40EAAD89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42BB-42B0-4811-8FD3-CFDD08E4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A3E2-35AE-469E-B83B-D779D0ED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B115-08CC-44FF-97FE-3596DE89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A365-B53E-43EA-9296-58A1CC51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735-43B8-4E15-9C33-2F2F963D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ABA1-F9EA-4721-A401-A929FD7D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A1BF-4BA7-4F2B-A06E-9A4492B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5968-39BF-4ADA-9C6D-1BD45F02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26DE-5226-4220-A78D-BD9DF645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2B1C-4AD6-4D5E-89DD-73FA4709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C6C5-5571-4A65-BB46-BF02671D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D227A-B618-4D26-8CA5-D566F534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E5D9-636E-428F-B9EF-010CFF82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9441-0FB7-45A8-AF4E-7D1A79AF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D60B4-8DAA-452A-B95E-98FB66D2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42E-89E6-4D24-9090-B9876C64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90BA6-C9E4-4FE2-BF38-AEB64240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A19C-0A52-4B7A-AE46-43C576BD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6083-A5F7-4EAF-A7B5-0C843B8D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8AB7-C9FC-4611-ABC9-3BBEC2DC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C9A5-FC63-4ABF-A7C0-6141C517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BD4E-3F0C-495F-A17A-BE09CBE5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4932-0C94-4E2B-B6E8-FF9D9CCF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FB3C1-370F-42BC-8BCB-7BD6AEAF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4350-4197-49B2-91BE-FD6E824F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DD527-5A18-4213-8E46-41A6068E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6F3-A7D4-4D69-9DE5-6700BC67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90AD7-332A-4593-A165-384A2069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5E0B6-6225-47DD-B3C4-F831A335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E78E-CFA1-4D27-8007-4293EA58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E47FE-AAF2-48DC-8E41-6ECCE74C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FBCB-CD91-4768-8665-E7799EF8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8A801-3698-4F06-A11D-D0DBA4C9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D03BE-DBED-48C5-B39D-7A3363ED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38B2F-A354-4375-9C90-42839533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4718B-B917-4583-800F-D7F6E69F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4DB5F-04C3-49E6-A276-3DD06852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1F1-8136-4066-986E-8E7AC1F4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1C59A-95FB-444F-A24A-53D87F41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8904-B123-468C-9668-580E4282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3F19-9FE3-4EA5-AE8E-2F10B618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C658A-293D-4DE4-8837-C42714ED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D701E-2ECE-438F-8F50-8ADF1A2F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84BAE-A033-4E61-89DC-12D64E76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10AD2-1703-4CF0-BE4A-627625B5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AAF3B-9AB6-42A6-B3E2-C9667A6B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7C566-14CF-494E-8972-E8953A3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84152-A674-4AE2-919B-1A86028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7DC-C6B4-4B3D-9403-5C7B77D9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451C6-DF8C-436B-A8F2-65A7BBD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E50FB-50D1-40E8-ACD5-7248C302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CC3C-7372-43C4-BED0-6D50074A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596BC-F4EB-4D23-9C95-2D2B153C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9AC4A-C181-4A16-9B63-007A70F2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B0F54-1B49-4667-ABB2-A201AC35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1D19F-CA19-4053-9EE9-F0F6C534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940FD-F788-4865-BBBC-4A5B00BD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934C6-3359-49DB-8F96-DDA612B8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288C1-C940-4087-9879-486CD59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751-611E-44C0-AF62-A540923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EA48E-ACE9-4F2B-A485-7FB46321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59E43-09EB-4EF5-9892-1421B1CD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12200-3D3E-43C8-8518-7AE5E4D0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3D065-995C-47C7-B8A0-7F1965F1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C9B7-3A3C-49CA-9C51-E70787DD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F7C-7674-4541-92FD-FB73B2FF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CB3A-8CC4-40C4-9B97-69A2259B0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333E-26D2-46B2-8894-FA4C77116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6D82-3A85-4F8B-9B7A-7DCBE2676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D558-8E1E-489E-B9F5-3291CEEA2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C20A-2673-46C4-B1DD-319EF8F22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D5E5-302B-4ABF-B434-0496C24DF1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1A68-D4D1-42A3-B0FF-05DA93ABD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7D1-FB54-47F7-96D6-E0DD8A635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8182-A052-4190-BEA9-A4E622B1A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648A-FDF4-4F7C-B029-3E018C68C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ing your competitive arena and competitors’ strengths and weaknesses is a critical component of a market orien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9FBD-DD5B-4CDB-BFE8-A0A545202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5AED-418A-43C7-9719-1B8516A52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2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4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9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3" name="AutoShape 43"/>
            <p:cNvCxnSpPr>
              <a:stCxn id="384" idx="3"/>
              <a:endCxn id="389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4"/>
            <p:cNvCxnSpPr>
              <a:stCxn id="385" idx="3"/>
              <a:endCxn id="390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5" name="AutoShape 45"/>
            <p:cNvCxnSpPr>
              <a:stCxn id="386" idx="3"/>
              <a:endCxn id="391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6" name="AutoShape 46"/>
            <p:cNvCxnSpPr>
              <a:stCxn id="387" idx="3"/>
              <a:endCxn id="392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7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9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1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2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3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5179-1BE6-44E0-80F7-EEF4CB087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3255-7BA2-4BA1-939B-635CFE14B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6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8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6"/>
            <p:cNvSpPr/>
            <p:nvPr/>
          </p:nvSpPr>
          <p:spPr>
            <a:xfrm>
              <a:off x="299880" y="2972520"/>
              <a:ext cx="8165880" cy="1379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FFE6-965B-42C4-A7A6-5A2F61EE8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Notes: </a:t>
            </a: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1-Sales-oriented firms focus on their own needs; market-oriented firms focus on customers’ needs and preference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2-Sales-oriented companies consider themselves to be deliverers of goods and services, whereas market-oriented companies view themselves as satisfiers of customers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3-Sales-oriented firms direct their products to everyone; market-oriented firms aim at specific segments of the population.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4-Although the primary goal of both types of firms is profit, sales-oriented businesses pursue maximum sales volume through intensive promotion, whereas market-oriented businesses pursue customer satisfaction through coordinated activiti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a0218c"/>
                </a:solidFill>
                <a:latin typeface="Calibri"/>
              </a:rPr>
              <a:t>5-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1" lang="en-US" sz="16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2666880" y="655308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6294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36EA-A997-4C15-BA99-D380C06FC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307-10EB-4508-AB23-87B6426B0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1676160" y="2437920"/>
            <a:ext cx="6172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"/>
              </a:spcBef>
              <a:spcAft>
                <a:spcPts val="1349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1371600" y="914400"/>
            <a:ext cx="5715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Value also includes customization and fast delive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59E3-A797-434F-8587-B8C34D16F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5C28-B775-4119-A19B-46765B63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C221-1429-4B1A-8869-260BA83B4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82AC-5CAC-4505-BCE9-EB4CA4B8A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AF3-5299-4885-B0FB-A965F26B5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9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F9C7-5A70-4C10-BB47-18509B60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4929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C5F9-79AC-44FF-AC50-9C37337A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202760"/>
            <a:ext cx="594360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609480" y="3657600"/>
            <a:ext cx="80773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3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64B8-4E77-4E7D-8BCA-E18A81CFD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6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4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5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46C4-2CF0-4904-8C71-6D687997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"/>
          <p:cNvGrpSpPr/>
          <p:nvPr/>
        </p:nvGrpSpPr>
        <p:grpSpPr>
          <a:xfrm>
            <a:off x="1054080" y="1219320"/>
            <a:ext cx="6794640" cy="3213000"/>
            <a:chOff x="1054080" y="1219320"/>
            <a:chExt cx="6794640" cy="3213000"/>
          </a:xfrm>
        </p:grpSpPr>
        <p:pic>
          <p:nvPicPr>
            <p:cNvPr id="346" name="Group 29" descr=""/>
            <p:cNvPicPr/>
            <p:nvPr/>
          </p:nvPicPr>
          <p:blipFill>
            <a:blip r:embed="rId2"/>
            <a:stretch/>
          </p:blipFill>
          <p:spPr>
            <a:xfrm>
              <a:off x="1132200" y="2367000"/>
              <a:ext cx="6689520" cy="63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32" descr=""/>
            <p:cNvPicPr/>
            <p:nvPr/>
          </p:nvPicPr>
          <p:blipFill>
            <a:blip r:embed="rId3"/>
            <a:stretch/>
          </p:blipFill>
          <p:spPr>
            <a:xfrm>
              <a:off x="1132200" y="2980080"/>
              <a:ext cx="668952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44" descr=""/>
            <p:cNvPicPr/>
            <p:nvPr/>
          </p:nvPicPr>
          <p:blipFill>
            <a:blip r:embed="rId4"/>
            <a:stretch/>
          </p:blipFill>
          <p:spPr>
            <a:xfrm>
              <a:off x="1132200" y="3587400"/>
              <a:ext cx="668952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1783800"/>
              <a:ext cx="6713640" cy="6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16"/>
            <p:cNvSpPr/>
            <p:nvPr/>
          </p:nvSpPr>
          <p:spPr>
            <a:xfrm>
              <a:off x="2993400" y="191556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7"/>
            <p:cNvSpPr/>
            <p:nvPr/>
          </p:nvSpPr>
          <p:spPr>
            <a:xfrm>
              <a:off x="2961000" y="30484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8"/>
            <p:cNvSpPr/>
            <p:nvPr/>
          </p:nvSpPr>
          <p:spPr>
            <a:xfrm>
              <a:off x="2948400" y="359856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2948400" y="245160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219320"/>
              <a:ext cx="6773760" cy="5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7"/>
          <p:cNvSpPr/>
          <p:nvPr/>
        </p:nvSpPr>
        <p:spPr>
          <a:xfrm>
            <a:off x="762120" y="4419720"/>
            <a:ext cx="739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Four competing philosophies influence an organization’s marketing process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EB27-E0CA-41B3-B7AA-E80230943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WIN7HPTOUCH64</cp:lastModifiedBy>
  <cp:lastPrinted>2011-09-02T18:20:27Z</cp:lastPrinted>
  <dcterms:modified xsi:type="dcterms:W3CDTF">2016-09-08T15:12:13Z</dcterms:modified>
  <cp:revision>495</cp:revision>
  <dc:subject>An Overview of Marketing</dc:subject>
  <dc:title>Chapter 1</dc:title>
</cp:coreProperties>
</file>