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F12571-9039-42D3-9EFA-0D9F009E7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AF6A61-985A-443C-BEBB-254FE4BC6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3A5EE2-8329-4CEF-A3F8-6DB526FC9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EF622B-D9EA-4A02-8F10-BCA19AD57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2FC6C9-6565-42F7-8C55-E36B841FE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F5D364-6B8D-4F29-92FA-32E7AF096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B30649-F9B4-496C-ABF2-D2DD71187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67CCAA-CAF9-4092-970A-363283EB4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55A7AF-39A5-49AC-A173-6131D3D4D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6AB0FB-E891-4962-8E5A-3E2E950EC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B0D952-AA4F-4D48-B594-4F2E0707D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34A7CE-52AC-4C5C-BA10-F76D42BA4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1F1E29-5B18-49CD-8D3B-C9ABAF0D6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3B810B-CF38-4428-94B8-4918B3C03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B65692-5B1E-46C3-BB3F-473567FD1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BBD143-6794-4E2C-98F6-9C04B0D30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A70D3C-B67A-4CFE-8A69-B20C2295A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F32117-19F4-44D0-9D5A-84CA760A8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B1BBD4-9CA1-446F-B7B8-EE0028599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2BE56E-D024-453D-AE8D-6B315D686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29D7D3-E795-464A-BD2A-DBB4116C9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C7B261-59C9-40B0-8C53-A59995ADF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13FEBE-52B0-427B-9200-5856F9C12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7E7-436F-4D98-9101-DD611745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017-5486-4184-9310-C418E4C4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530-F228-462B-A066-7E914CF5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579-03A0-4181-BCE7-1517520F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7356-7E80-476A-91FD-6B9FFDF2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A983-843B-4FD4-A5A6-2787D797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F880-6938-44B5-A766-1E3E1CDC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1E9F-9A0B-422E-8042-D29E74AB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3FC0-2CE6-4792-BBAD-4970A5D8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B318-12B3-4216-8805-59F62683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479B-860B-49DC-AA5D-248365AC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EF4-7D87-4F08-A446-DDC06E6A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7AA1-59C4-447D-BA11-B5947254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C4C4-5D17-49E2-A53C-B991A2D5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BA04-7353-4A34-917C-F0034CA6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C08C-EBAF-4476-957F-8EA6DB13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600C-7184-4CCC-8EA8-BB283AA0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5A138-DDBD-4804-8BFF-B4696FA3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00AE-75B3-455A-B39F-D773B4EB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97DA4-BC9B-49CE-B718-2A4BE2ED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91F9E-A73A-48E7-9D83-74683791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CCD3-53A2-40EB-A2AA-712036C7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EB1-AB0F-4D1F-9033-3153BF6B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EBA93-3892-4A00-A9F3-F72995A4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91B65-0C47-4E56-B083-6EBBDA19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AD81F-1060-475A-BFBD-EF3684D4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289EB-F702-4025-AE7B-F8290B9E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A2B99-43DE-44C9-AF66-A480230D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472F0-7C4A-473D-B239-054F1405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7FB5C-0CDE-4213-93BA-172C1164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F7E84-FF82-44E3-9BF6-6DE33D04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EF8AE-7FCF-45B1-AA8D-2F614093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8CA3F-7D2B-4987-B595-35729272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0CC-C1C2-41AA-9BA5-4C725712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B6D59-B764-4499-8355-FDAFE3F6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9A144-475A-4250-AEEF-E07EE443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0F0AC-B665-4831-A35F-A7989A44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63619-4DE9-4411-8429-E4C32E7D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7DED6-4737-49F6-9E6F-5B58EE47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CFEF9-39D5-4619-9484-5601DA35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51E3B-67B6-4E24-970F-F3954692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8AE9A-5E79-4978-B5A2-8D5D58E8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8A70E-A0D6-4B23-B25F-D280FFE2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DD2E2-4E86-4665-92D1-8DD882E4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1C9-E56C-4318-ADB8-6334C12A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D3118-F915-4A1D-838C-277DA923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ED617-7288-46E6-9774-1A96A405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FD4BB-B4BE-4023-842A-2AF3F0B5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9041-74BA-4211-A676-27A589CC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A91CC-E290-4589-9285-0BA749FC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1ED97-9E11-4DED-896A-347CF575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42FE8-CA89-4E2C-B1C5-3456E27C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1819D-23F1-4977-8250-41B686E4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5A086-675E-4318-9682-9C222252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1344C-831B-455C-A656-53D0D178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757-8FDF-49A7-AFED-CF1185F3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506F1-B75B-422A-93A8-F0D35D3E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41AD8-FC98-4430-9B1E-D4981DB0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340C5-BA47-48E7-886B-5D74CB0E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093BC-5F6E-4672-A3C1-5585EFAC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01647-92F3-4313-BB8C-58CD52E3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D7F0E-27C9-4056-BFBC-F40A7A2F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474E5-9D50-4354-BEDC-3D4F3E7B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0C95B-087D-4628-867F-085DD822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65B4F-878D-4CE7-9F66-EBEB77A6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16177-9BFF-4BCE-B577-2F9396A0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E93-08C0-45D9-98A7-8DF7ABA7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20F08-82ED-4F2B-90FE-342B4D1F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5BB5B-3423-429D-9218-98EA49A0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44894-27ED-4F7D-88EF-B21AD252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C92E2-D125-454A-8FE8-12FE58C0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3B459-AED7-4B20-859D-9504AB76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9C4F5-6ACF-4A59-8E7E-A36BB8D2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52E77-AAF6-4424-AC01-60DDC3D8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11105-01D1-407E-967E-B46A190D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E0091-F3C1-4957-92DD-EF360E59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5E5DB-1538-47F0-880F-0CF1B190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A90-1B8E-4308-8448-5925D74E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DA813-D785-4CFB-9088-59A879AD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9A173-B46B-4F84-9E04-31059E44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8B3D0-2ED5-4F9A-9F7C-9CA73AF8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32343-08C2-42CF-84B7-3766E110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C117E-D9CB-4C1B-B639-764E6C5F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877-3AEA-43B7-BE82-03E158EA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CC6C-8E75-475B-B494-AB875D5DD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4C96-043B-4CE0-B486-A2FB2C365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B216-CE81-4320-AA05-B53A90386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28D0-D7B3-4DE8-86D0-282C6E805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954F-B6EF-46C5-BAA9-743810B80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738A-178A-4707-8B74-44064D8DC8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FD5A-3739-4C8F-A194-2E0982B59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65B7-D1B8-41ED-98BD-9B797115DEA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998A-FBEE-4367-B69C-A009AD5871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5A3F-3A1F-47AE-8D4F-85B9DE593C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6EEE-54AD-4EDF-8D6C-737F201530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0B85-D81B-48C2-942F-5B1700A3B1B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4843-2BDA-45F6-AECA-85A2BB9DD35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F768-CA8F-400B-9325-035A6C55A2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80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543A-7BC0-4326-B982-EE88D3016AC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660E-5628-44B2-9531-80D4963095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7813-1AB9-4FFD-BDA2-D1F73BC331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C184-D020-4E8C-9D1B-F1BEED1993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F02C-0B26-48B8-8425-7A9671FBDF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7ECE-85D7-4B5E-8FED-F241EA7214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AC9F-1AAF-447F-99DB-DAAA9925A3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607E-6EBA-4E30-A0C3-7F8514D16D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A438-B4D7-4203-82BA-C5B8B491B4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9F22-4317-4F9D-9F84-4A21897F2F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 fontScale="89000"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7FC6-6E80-47E1-950C-62851FADAA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7960" y="3271320"/>
              <a:ext cx="667764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7960" y="3965040"/>
              <a:ext cx="667764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7960" y="4646520"/>
              <a:ext cx="667764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8080" y="2620080"/>
              <a:ext cx="670752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340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61000" y="4033080"/>
              <a:ext cx="4701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8400" y="4652280"/>
              <a:ext cx="49003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8400" y="3360960"/>
              <a:ext cx="4748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24A5-ECD3-49CE-9CC1-39C2DCEE5C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Tanvir Khan</cp:lastModifiedBy>
  <cp:lastPrinted>2011-09-02T18:20:27Z</cp:lastPrinted>
  <dcterms:modified xsi:type="dcterms:W3CDTF">2016-08-23T08:57:25Z</dcterms:modified>
  <cp:revision>493</cp:revision>
  <dc:subject>An Overview of Marketing</dc:subject>
  <dc:title>Chapter 1</dc:title>
</cp:coreProperties>
</file>