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0199CA-1126-4917-97C7-71F61B00D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CCE41F-14BB-49BE-B657-1913CDC16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0445D3-382F-41C8-8A01-357B58E62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6424A8-5C57-4594-8187-BE4800A37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C428CF-1CCF-403D-BCD7-5F8D091F5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79DA67-DF42-4C94-84A0-029031600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A7339D-8CB2-4A75-AF6A-AF408E97C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329BDD-400E-452D-874E-A0C9C6B19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29C6FE-43F9-43CA-84FF-13E384F0D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5E157F-F9DA-4AF3-926C-C2FD63046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F3FA1B-1BE7-4D79-A429-EF0A1F585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B679B0-58BD-44D8-A726-7F7F47744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E26C5C-593C-49B3-9FA3-269070CFB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C47A7B-E73C-46D7-AF29-022D3B890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6AE14C-F63B-49E0-8B4C-399152DFB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9904D2-CBEF-415A-9123-1486EF8DC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87E978-8376-49C5-87E5-6E14DE2CE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E4BBC2-CA2C-4649-ABB7-56E5904D3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FDE70D-935E-4A21-BAF2-9F527B690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0F4364-604D-4C7D-A8F1-9025E7870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32F6F8-C7F4-48A8-BD0E-B07A84904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CCABA8-5CB1-480D-BDB9-12CA823FE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FC1003-D1D8-4076-84A1-8807D58FC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2B2-B185-4971-A8CC-05915B64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8479-C104-4EA7-A805-4E30BD16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02E-5CE9-40F6-8083-379CE6FF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8DE-A4D1-44AC-A4B0-E8071EE1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F9F5-FA2A-423D-9FCD-03EDA6BB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FB31-F42B-4DDB-B9D7-A242998C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FAC9-DE65-44A5-9704-50D4F99A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3CCC-BC2B-44FC-BA59-E7C70DC6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24CA-4B63-4639-80FF-65F095A8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87AC-9918-4E33-997D-5BA36DCB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15B4-B8C8-418F-B691-69990DF6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0D4-F318-4F24-9ABD-54957D5F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8889-AA41-4C13-AAB8-E2BFB1F7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FE4C-A043-463B-93EE-73C60D66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C37A-8277-4AE8-8F05-E45A3D5F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281B-9126-4D29-BBD4-6A2C36B2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6879-D5A4-445B-A310-3D6532EB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FF20E-8159-45D3-B24B-D3C4701F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ECFBC-CF38-4C3E-94FF-EDBE9062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12491-48A9-4016-AF34-70976F91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1ADE6-76A2-45CE-A037-63E99AAB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55A3D-A0BC-4765-ABA9-00FE9191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296-8576-434A-A472-2E19A271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8CFDB-4913-403D-98BD-1767F6FC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3AD77-507F-463C-B015-3DBBA587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5412D-57E3-4D2D-9597-684AD9BD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549D0-5E88-44FB-BBAE-DF22ED3B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99E1D-5CD0-442F-9FF9-E3F6759C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D0A3B-62DF-4294-A556-DDA7129E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C69CB-CA80-494C-B4DD-5B9DEAD3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9B551-F19D-4D3E-A8DF-DE95C7B8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A5FB0-20FF-481F-9C33-04004DFE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36A13-01B1-4D68-A570-CF54CADB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5D7-3C49-4240-8632-37EE3DAB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0B21F-591D-4173-9786-7B19EDD8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678F1-C3E2-4974-9900-301AD60F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9165D-5271-420E-B71D-787F4ECD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EFFD6-118C-46CD-819A-5A2B4FFD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A08FB-2AF1-4055-9B60-616EEFA3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33D0B-1F40-4B0F-8BB8-E83CD9B3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788B3-51F3-4B4D-AE42-056214F9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2F136-AF7A-405D-9C65-B6B7C040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A30C0-D7ED-4A78-814D-99884ABB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1FAA4-CB69-4B56-91BA-801F55DA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760-5A53-46DF-9AB7-3F02A1CE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8CCBE-B7D6-4257-96A3-14176847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28E3B-2AA5-4501-83B3-CF984A8F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30328-65F4-4D7F-A4F9-21536669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8E32C-5237-4292-81BC-715D0695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1839B-2D6D-41C2-8F7E-BA3CFE5E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97422-7750-444B-AB27-924703E7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3C3DD-59A9-44B8-82EE-EDD07393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959FF-F10A-4E85-8B43-AFE027F1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604CD-3CCB-4A42-B7FF-7A1B73A9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8AAF3-1D23-4319-84E5-8EEFA69A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848-5EB5-423B-B314-9733C107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589C3-BEFD-4436-B0C5-A27004D8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BB6A3-8F74-4AD9-87A4-D8AB47B9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9DE63-BEC8-4F92-82B3-B5140863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DD641-7E8D-4D1E-B309-9CE6313E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2ED9D-E749-4EAB-8FE0-944316A5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779D4-5018-4DA4-AB12-8F5F2210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43CFE-92D9-44F0-BFEC-CDABDDF6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E0F3D-1F5B-47A0-A1BF-519E6AC0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91941-96ED-4202-B22E-80549D61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F3694-FBE2-4935-B23B-6AE6DDED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82D-EA75-4F3B-908F-4E53A2C9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90FE1-4587-45FF-B75E-A778481F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1FE48-A6ED-41B8-88D6-E317CA0D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AFDE2-CA06-47CB-B8D3-0D5C2000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F8C56-0419-4D61-8C3C-90E0EB18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B550A-54A9-402A-9C07-B1B7DA1D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3FB77-1008-4666-AF5E-64D5CEA8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4953D-C16A-4462-A0FD-D410DD5C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AC4A3-3335-4F3A-8A97-C1F8650F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6738F-725F-4D1F-9E54-1ABF6B97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471D3-4C62-457F-A074-D6C3CEEC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D87-ED4A-40AC-9D0D-F5E3F193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61E69-3320-414D-998F-D7D4C89B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86DA5-CF66-48CC-8D58-5D7F8649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8EF49-4A02-47EB-926B-3525369B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E39A7-C082-4605-8E77-BA7CA2B4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737FF-4759-4629-B796-40D297ED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E19-DBDA-4D2A-A765-DCCD5C4C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9753-F0A2-4157-AA7B-B04AADDE5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FCFA-52E3-4277-AF9B-65AF4CA27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A900-D4C9-421A-9EBC-478A5CBBC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E32A-EFE0-4696-9355-CA50A3EA8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992B-CA52-4D6E-9FCE-C6C3047E9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4047-BA10-450A-8D0E-90235F6E7D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5126-2F4D-4C27-B3DD-E3B6C2862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96B7-4CF8-4089-8E59-9DC8DE0AFAB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A8AC-CC58-4D4C-84DC-FB52E67D18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499C-D1DE-4D46-AA10-C6036830CB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FA5C-3D33-4C6E-8C10-7371FEA6AA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331C-A474-4AE2-A14E-D861F7550AB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4832-2979-4A7F-9BF3-3A8B5522539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0AE6-44D5-4455-AE17-58EE745B8C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80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7033-E6D0-4379-B747-DE6CAE1815C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9A37-F8A2-4517-98BA-C969AEE4F2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F660-6935-435C-9EB2-3F110A5F64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B0E9-7388-4A03-8C63-BC30488908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7A24-EF7E-4960-8D8A-430791D673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B600-1D24-453E-BD73-91272CE3B6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2C87-2A73-4961-ADB5-84AFD35925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C31B-0938-4C47-91ED-73B6B5E1BF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EE14-D399-42EB-AAA3-D462F01CBE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9D4E-A0D8-4CA6-BBCD-86EA0AAF4C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 fontScale="89000"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E1D4-60EF-48CE-B5BB-B76D2EFE41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4960"/>
            <a:chOff x="1054080" y="1981080"/>
            <a:chExt cx="6794640" cy="350496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37960" y="3271320"/>
              <a:ext cx="6677640" cy="7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37960" y="3965040"/>
              <a:ext cx="667764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37960" y="4646520"/>
              <a:ext cx="667764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8080" y="2620080"/>
              <a:ext cx="6707520" cy="6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3400" y="275724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61000" y="4033080"/>
              <a:ext cx="4701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8400" y="4652280"/>
              <a:ext cx="49003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8400" y="3360960"/>
              <a:ext cx="4748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67640" cy="67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9BDC-867D-4D67-9F9A-3C063B9534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Tanvir Khan</cp:lastModifiedBy>
  <cp:lastPrinted>2011-09-02T18:20:27Z</cp:lastPrinted>
  <dcterms:modified xsi:type="dcterms:W3CDTF">2016-08-23T08:57:25Z</dcterms:modified>
  <cp:revision>493</cp:revision>
  <dc:subject>An Overview of Marketing</dc:subject>
  <dc:title>Chapter 1</dc:title>
</cp:coreProperties>
</file>