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4A3EE3-68CE-4365-BB6A-66B04F379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77D015-1224-4059-B159-E49AEFDC0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AC16EC-899D-4B87-9425-43DAEB107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56A6C8-D6DC-4B1C-A606-A376A0112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050CF7-5111-467C-9FDF-34E23BB81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517ADE-2952-40CD-A9E2-274D4A41F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6EDA28-5EA2-41FE-9DE3-AEE9555AD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9483E7-AD84-4A0B-B318-EA790E978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CCFC64-D076-46D2-8C72-751052F9C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CE4CA9-4274-410B-BE8E-7E6789B10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384BCF-C8CC-4835-A3F2-03C8549B5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A1C902-5B64-4A28-98CA-E210455B1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3F93CC-D881-41B8-91C2-13C14290C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0AE30B-0B45-4E9C-9F75-00B29BD76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5541A5-B460-4ADC-8088-591B0C16C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8DD103-0E2A-4726-8BF6-80CB53B91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BAB876-BA3B-496A-B9E9-94F0A17AC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8A8749-F049-49E0-A7DA-8D22C824B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6C5ADE-7335-406E-8F0F-873C820A6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7EB0F6-BB25-4143-A45E-5961A4D6D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4A1FEB-26AB-415D-8815-0221F52AC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0DED39-6E02-444D-944E-4CCE569EC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13398B-CFA7-4702-8C9E-14C00A489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683C-D537-4A75-AF7C-5DF1BA9C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222-FB40-45A8-8F4E-B27A2EB0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75B-E723-4926-9F1B-D49EBD11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6FE-48EC-45DC-9165-8531D38E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EFFF-6EB5-4CB5-ACAF-5E57A1B8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32CB-4B10-4AE9-A25C-C74FE4E6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DFB5-841C-4DDE-A625-D6921C38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A899-1A35-4093-BCD6-99D4C19D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0D7D-9DD6-4708-B1F5-51833B6D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AC31-A9B1-4613-96B4-3C30952D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4E03-7BAC-4C0B-B091-F8AAC08D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DC1-467B-4BAA-94E5-3F6ABDBC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55AF-14A1-44A2-B0C0-ACEC100B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31CB-44C2-47C7-9B65-81542F22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5881-A7BC-41AA-808E-3B72B188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A173-5C8E-4B83-9B1C-9F594009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C738-46E1-4E40-BE15-8569D806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A7744-85DD-4138-861B-7489F8BC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ABC56-C01B-4FD6-96CB-B7EE07F5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DF7C1-8EC7-435F-A769-78D396B0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F1581-3F08-403A-989C-0A6360BC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2C015-4894-48F2-9DD2-6C42746F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3952-60C6-4EC8-9727-DF817D3A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983C0-635C-471E-8878-441CEB62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3D343-4C88-47DA-A920-09B231A0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3D9FB-CCEA-4738-9468-D1805BA9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CC6DF-45FB-4EEE-94AA-819BB933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1AB93-9906-4407-AE45-E654956C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7ADE1-6C4C-4EE7-9C5B-1736C958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48174-F3A5-412D-9075-1D53CDE2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2F1E5-5D00-4E3E-9927-FE9761DF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ABAAF-0649-40ED-9352-3451B7E0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98406-AEFB-4A26-B619-D766BE89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950-6E9B-4848-BDB7-4FE52328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15AA5-9919-4FF3-82E0-5E8D4B42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84B41-8552-456A-9988-C92824E8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A069D-68F0-40DE-8304-804E4E4C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BA221-C94E-4B65-8EB1-E3D34EF9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C7F16-0435-43E6-A965-32246164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5C18F-3C80-44E6-A077-59A43A05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C66E0-5899-4FE6-A8C9-119773D0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A332A-AE9F-4BEC-9B49-39A4767C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FCA08-994A-4324-A0FD-1B0A13ED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27E18-9CB4-4599-9DA6-3F72FD14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CC2-7383-41AA-8A6D-5112D8BE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DF030-D7B0-4FE2-9D34-E586E159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B10F7-689F-47C8-8549-566D91DA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B6BA0-A56D-44C2-B429-52352C23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EF287-7E29-4AB2-9B3C-4C432424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46E23-4886-4958-A793-D23EEBB0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C070A-0FB2-485C-B2F4-695DBA92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713DA-A074-49A6-B8BF-2C0B3113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106CD-72E5-4FD3-8D9E-AB3C0298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CCCC2-8935-4E31-AC05-D6F56760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3153F-B2EE-462E-9199-AEBACFF8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C92-0D95-4090-BB64-FB1CE73E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FC21B-12AC-47C3-A65F-4A9DD6DC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ACCE2-742C-4B30-9372-037D2AD1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01056-76DA-4FCF-9F22-F9D86F82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27CE6-DA64-4D0C-9D47-71CBE74C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53A3F-0830-4AB7-A9D4-F1EBF030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6564E-9766-4945-B57C-C1D5EE0A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1BEEE-0E4E-4856-8278-9E30C732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9DB3D-CF64-4A5B-B292-24708C82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8021A-47BD-4DAF-A2E1-B9256690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FE189-6F2B-4BC6-BE8D-4E94A7DD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6ECB-BC78-49C7-AB96-C8E88421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6EEC9-6EAE-4AA5-AC55-428E3454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A99BE-CF9C-41B3-B4EE-689EA2DD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2122C-0B78-4CE3-B2DE-7E7D1424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A2723-A43C-4FAE-9D3F-DAD46970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7F5EB-9EDB-4082-8C56-AD1A6709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4E25A-5FDB-4A97-83E6-854C1CDD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F1A3F-7495-48CE-AB36-9B687112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DE970-536F-4516-8C8B-478879EE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10E0E-DCA2-4B69-9592-45562BCC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59123-A8DF-4D79-9BF3-BB9BCAC7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38C-D727-4C41-9530-18186A01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74D70-C295-4094-B4C7-B507D90C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41BC7-F7CE-473E-BC95-398B04C9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6BDAC-915D-4199-A58E-1CD969B4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83BB4-4ACD-460A-9F94-336EA4FA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CD38C-AD09-475E-B816-456C9BF5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017-95BD-4257-8FF0-DF9F428C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4023-DDD8-4145-AAFE-92172E95B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F110-F867-497C-BB65-0D21CD2DC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80E2-6525-464C-A2B6-5DC45AB10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12B9-099B-4230-BB4A-B6767635D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93EA-50DA-4F13-8B78-62A10E836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C206-801B-4978-8C9A-37E5592BAE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C445-11EE-4ACF-9E62-E5F81C374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54C6-030D-4052-87C2-0261089AD74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895E-DD56-4A52-8C91-9E2031A0DF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F59C-FB1B-41B6-987E-3BA655DE80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F7E1-0D35-4F6F-BDC4-A7C0DDA81C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E474-9371-4601-9DFF-B5B56CADF67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0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2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7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1" name="AutoShape 43"/>
            <p:cNvCxnSpPr>
              <a:stCxn id="382" idx="3"/>
              <a:endCxn id="387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2" name="AutoShape 44"/>
            <p:cNvCxnSpPr>
              <a:stCxn id="383" idx="3"/>
              <a:endCxn id="388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3" name="AutoShape 45"/>
            <p:cNvCxnSpPr>
              <a:stCxn id="384" idx="3"/>
              <a:endCxn id="389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6"/>
            <p:cNvCxnSpPr>
              <a:stCxn id="385" idx="3"/>
              <a:endCxn id="390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5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1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2ACC-D8D2-484E-A64F-226BB742922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D8EF-FA78-4CB5-A277-989ADB9EB9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4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6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99880" y="2972520"/>
              <a:ext cx="8165880" cy="13780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E04F-3E2F-4191-8342-C6FEB3962C5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D236-AD38-4311-A5A7-D0AD3B9A94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75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46B6-A6E9-4D66-85AE-E7C97F94A0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58CF-DFCA-461F-B028-7E1382264A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6B21-8307-4793-AB00-2B119D9E83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958A-CF01-49CC-8771-1D9157EA96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4485-579C-4F10-AE39-633DD68ECE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3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9616-6C3F-4836-86F6-9DF550696E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DC56-87D6-4105-8564-9C8B79B885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718280"/>
            <a:ext cx="59436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99DB-5FB9-46DE-87A5-43ECF70772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5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 fontScale="89000"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1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4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880D-5BA2-403E-BDA1-3AA5FE7FC2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1054080" y="1981080"/>
            <a:ext cx="6794640" cy="3504960"/>
            <a:chOff x="1054080" y="1981080"/>
            <a:chExt cx="6794640" cy="3504960"/>
          </a:xfrm>
        </p:grpSpPr>
        <p:pic>
          <p:nvPicPr>
            <p:cNvPr id="345" name="Group 29" descr=""/>
            <p:cNvPicPr/>
            <p:nvPr/>
          </p:nvPicPr>
          <p:blipFill>
            <a:blip r:embed="rId2"/>
            <a:stretch/>
          </p:blipFill>
          <p:spPr>
            <a:xfrm>
              <a:off x="1137960" y="3271320"/>
              <a:ext cx="6677640" cy="7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Group 32" descr=""/>
            <p:cNvPicPr/>
            <p:nvPr/>
          </p:nvPicPr>
          <p:blipFill>
            <a:blip r:embed="rId3"/>
            <a:stretch/>
          </p:blipFill>
          <p:spPr>
            <a:xfrm>
              <a:off x="1137960" y="3965040"/>
              <a:ext cx="667764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44" descr=""/>
            <p:cNvPicPr/>
            <p:nvPr/>
          </p:nvPicPr>
          <p:blipFill>
            <a:blip r:embed="rId4"/>
            <a:stretch/>
          </p:blipFill>
          <p:spPr>
            <a:xfrm>
              <a:off x="1137960" y="4646520"/>
              <a:ext cx="667764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28" descr=""/>
            <p:cNvPicPr/>
            <p:nvPr/>
          </p:nvPicPr>
          <p:blipFill>
            <a:blip r:embed="rId5"/>
            <a:stretch/>
          </p:blipFill>
          <p:spPr>
            <a:xfrm>
              <a:off x="1108080" y="2620080"/>
              <a:ext cx="6707520" cy="6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16"/>
            <p:cNvSpPr/>
            <p:nvPr/>
          </p:nvSpPr>
          <p:spPr>
            <a:xfrm>
              <a:off x="2993400" y="275724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2961000" y="4033080"/>
              <a:ext cx="4701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2948400" y="4652280"/>
              <a:ext cx="49003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948400" y="3360960"/>
              <a:ext cx="4748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981080"/>
              <a:ext cx="6767640" cy="67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5F37-4A37-4971-B7DF-04ABB84AA7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Tanvir Khan</cp:lastModifiedBy>
  <cp:lastPrinted>2011-09-02T18:20:27Z</cp:lastPrinted>
  <dcterms:modified xsi:type="dcterms:W3CDTF">2016-08-23T08:57:25Z</dcterms:modified>
  <cp:revision>493</cp:revision>
  <dc:subject>An Overview of Marketing</dc:subject>
  <dc:title>Chapter 1</dc:title>
</cp:coreProperties>
</file>