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2C5D93-06E3-4684-B1C2-C83C0C479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0E92B0-75E0-47F5-B622-1983C104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A042A0-B3B0-4C0B-A233-4F99F02F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672C14-5B2C-48B4-A164-E80C96D5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E3C0D4-86E5-4ACE-814E-BBEBC5CC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3BAA52-D21B-48F8-9D6C-DA25C3D54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F55F6F-AD4F-44AB-B3D7-FAA4BC12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8D7F94-7EFC-4582-89E1-53A0F9CF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07F4C9-90E7-4DAE-BE4B-B85E03BA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E332DE-DA17-4C0A-B970-E1FCDE82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CFB0D0-9564-4950-A8BA-0E15B10B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4B0109-8B1C-4483-AEBD-02D2F383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D78A26-5012-4850-99D9-1A6ECE51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7238CE-29D5-4196-AE24-FD1D4FB4F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388AB2-9B94-499C-9FE2-DB6CB6699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FA527B-1C0F-417E-92A1-DC4C7F85A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BE8F8F-E4D8-4A36-A562-363ABED0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95E8FF-6F43-4184-93FD-27B3D7E3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7B92E9-9CB2-4147-9F40-E163A938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6D29D1-611B-46E4-890C-44749A17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93DC6F-9F37-458B-BC13-E167BEDF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492A18-4367-4BFA-8FF1-FCD98CEF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D523F7-49BE-43C2-9CF4-030A0D4E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F05-1B4F-4F49-BC8C-08A2AC15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1B4-F9ED-4ED5-BD13-E5594B56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73A-16F0-4E64-BA33-D63F0C83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139-52E0-4785-BB9E-57B5B479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ED64-2658-412D-8C0F-E26B0FD0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8AF-A1AB-4D06-8CDF-F5B4D56A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808-A8BD-429F-AEB6-0FEBCED3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1F32-DD90-4730-A17E-3BF4213D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A31D-83F1-4317-B3C0-AF98CFD5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6414-B1C2-4457-8207-B8445231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6E4E-6CC2-4A3B-ACDF-E6AE769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74B-FE1D-4E17-B00B-01FEFB7D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21FC-F7A8-4F28-88FD-61D1542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1ED1-69EE-4CDC-A205-A85B7CC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B935-DD39-46C3-9C15-ABDF4F6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332F-58A4-4103-8901-732570A1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C71D-D450-4DA5-991C-5E650C58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74E3-6F79-4F4F-B77A-506ECB98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3CE53-6F86-4697-AA6F-8C3983EF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E14D-6D24-4222-BE15-8642631B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7E52-8BE3-4F21-92EA-41D4BCE6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EECC-2D44-477F-AACC-5A13FC0C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0ED-9CDE-4FC2-BE98-C9AD9310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5E2B-444B-4DEB-95ED-97E47B3A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D4943-B938-4488-AB05-CB92BFC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17CD-D2FA-4A95-9CF4-9285377A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91CB-B88F-4DF9-BCA1-AAB9764F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6AB44-5200-4606-A113-895B4C6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36C5-A724-4979-BA52-CE2375E3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204B-258A-4C5E-AEE6-37E1BB43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EDE9-25CB-451A-887A-320EDD2D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BAA4-5677-41E7-ABCD-B9807A7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4FDC-EB7A-4608-BB0F-53E33C4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883-AA35-4819-AB0C-54F312A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6D1A-83BA-4610-9CEC-D4FF8344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D8C4-7660-470D-967C-0679881E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B836-5575-4C0E-8B76-AC9D25DD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2C44-57A4-43E8-90D6-9663045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DAB4-E81F-4F36-888F-2392DCA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4FA7-690A-4E4B-9093-54BFFD4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1572-A3B9-48D2-9167-53B9005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4389-F910-4211-B0AF-DC65821A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FD4D-B7DB-4C1E-BE72-35898C41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D3D7-53B6-48D8-B8C9-8D654CE0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063-83B5-4573-A33A-8F39710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BEE5-DE56-4BC2-8F92-55FEE79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95FC-A209-4F19-A3A0-897F227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A620-BE6F-45AE-B78B-0CEBC034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E784-D8DD-4B35-96FA-76AEAB8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5CACA-5740-4C48-B1E5-5217AA22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9B82D-40DB-4E94-AD43-3CDDF23A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7DB4-3917-4D67-83C1-E648E6E0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84F6-881C-4CA5-9BD3-BB202AE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1D08-AD07-4401-BC15-8688DF90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E943-C0E3-4D2F-A2F1-B152A97F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0BA-5CC2-4C23-9AAA-603B7A5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2DFC-08F0-4F0F-B534-E846EA57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A8017-81B7-4C4F-BE6E-1562221A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A2487-484B-4A01-B782-1BDDA2B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8A3FE-5A26-4877-BFB1-2754B47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B894-90D7-41A6-9F8B-E2583CB5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B844-319A-4938-9248-398C349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A2C2-6683-436C-940E-D72D69F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E9C8-FA22-48DD-9E46-7358880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8703-F93D-4F0D-8001-D622B73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BD9C-B9C8-4A5F-BA9B-942FA445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829-6692-4662-AE92-E074675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7D9D-A37F-441C-B3B5-26A2BBB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1C28F-5BC5-42EA-871A-A15BDDA4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ECE8C-6371-4200-8ECD-AB0FBBE1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CFE5F-7FC3-45E4-82B8-EA24D433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8FED-3335-4186-9FCA-20B100A5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C2F2-EBCF-4BF6-BCD4-F4BBCFE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AAFAB-6DF3-49FC-AA72-CD3D51E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5317-F0C6-452D-B612-FAAC5A77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8AA59-210B-44A1-9F6C-16D2994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05B0-2B42-486F-8824-F3121A4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59A-5864-4CF5-95DC-28C8689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FE1B-7C0C-425F-93F3-0609413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2FCC-4B86-475F-9B15-5F69B36F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C16C3-A6DC-4D7C-8E03-DAD27F9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E886-B03E-4D25-B654-276CE959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4765-6393-4AC4-9E89-C3C3912B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8CD-ECD4-4CC7-9463-B34143C5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B1EA-25F4-466C-9758-CFCEC0EC2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7DF5-E4E2-40D2-B05E-CDECECFCE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23A-3F50-4F1B-9B12-E9E1C862E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50C-F5B0-435B-BF3B-87CD3D388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213D-0AB6-48A6-8380-57627DFFC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53DA-61B7-4102-86D7-3C89C6F7C5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6C34-8AE3-4A44-915B-7AB41E12D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0B8-7969-450D-9F38-02D845806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DB2-4F66-493F-8F22-356E2845F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C33A-5D2A-40A4-8FF3-E20E8C05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0F8-18D9-4404-BFAC-09ECD95D5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634C-6AE2-41E0-8C63-03B765186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246-E66D-445F-86CA-5852FA90C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1BB8-3794-47CC-9014-F4181ECC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C6F2-C34F-41EA-846F-318320A99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DB4-2F53-4215-9E44-A2FD88BF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8530-046B-463B-844B-F87EB48F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F1A-2DD9-46E7-9AAC-0F875809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A3B-CC25-411F-BBF1-FA4DB8051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82BF-17C0-4F72-9BE6-18566086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8D42-2367-4CB5-B02D-821F1311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83CC-A372-4D48-BFC4-8A68590A6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4931-B3E4-4FCC-87B2-C81EE2C1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68A3-F90C-4854-B3B3-EECDDD73D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D852-4829-4A2A-B3E4-B5530CBB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6400"/>
            <a:chOff x="1054080" y="1981080"/>
            <a:chExt cx="6794640" cy="350640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26080" y="3268800"/>
              <a:ext cx="669564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26080" y="3961440"/>
              <a:ext cx="6695640" cy="70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26080" y="4641840"/>
              <a:ext cx="669564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1960" y="2619000"/>
              <a:ext cx="6719400" cy="6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0880" y="276192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56680" y="4035600"/>
              <a:ext cx="4705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4080" y="4653720"/>
              <a:ext cx="4904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4080" y="3364920"/>
              <a:ext cx="47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73760" cy="6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89ED-5387-4EB7-9AB2-9B9E4626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Yasmeen</cp:lastModifiedBy>
  <cp:lastPrinted>2011-09-02T18:20:27Z</cp:lastPrinted>
  <dcterms:modified xsi:type="dcterms:W3CDTF">2016-09-26T15:28:17Z</dcterms:modified>
  <cp:revision>493</cp:revision>
  <dc:subject>An Overview of Marketing</dc:subject>
  <dc:title>Chapter 1</dc:title>
</cp:coreProperties>
</file>