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6A553A-58FA-4ABC-8AF4-421D89FD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49C0FB-933F-4E6A-9C61-ACD7FCE4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49D1E-B9F6-4DE9-8383-55E947E2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BE421E-E417-46C4-9753-BE845182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F7B584-5D7F-4855-96C1-F2BE0705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7411D-773F-47D8-BF02-A9FDF7DA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C881E0-7355-4B6F-9F62-13C2159D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D48C3C-07C4-433F-8041-0923C7CC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264B22-DD50-48F1-9475-B9B81F7E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52F1D8-520C-4AC3-9EFE-90769359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D82703-8DCB-446E-8328-04D56716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6FEE29-1069-4945-9926-1882959E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26A13F-5C85-451A-B985-38F58FB38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915D0C-10A5-493B-B24F-CADDE5AE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5CDEA0-94B7-4BC8-8872-10417BB1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8E475F-5D66-4356-9BFD-5AFE78C1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BE6461-D39F-4C63-B91D-C673434E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0C3703-5273-4126-A067-92FABDBE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1EE3BA-1E6E-4DBC-83BF-535659E1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782716-11AA-4C5D-A5A4-1FA45E04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C45875-14BC-4258-B92A-903F4D9E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BF3F8B-8F9D-4A3C-82F2-4F7D7662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3007D9-87A6-4564-8192-93A01C6B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940-D79F-4B34-AB20-F2C353C4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C44-E797-4DEA-8EC7-F5C5CEE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A29-62F4-4992-8C1C-7E433BB8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CBF-8BAD-478E-A12C-941F004F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C23-79BE-4F56-94D4-DA7E1AAF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6A48-2BCD-4A45-981E-6CEEEC7B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4E84-2CC4-4284-B732-08DB8131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DD6-2A7A-43CD-9894-D7DE15A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3E4-B4E5-4FB0-BA38-0891489C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D8A-7899-4FC6-BB18-EC0046C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56A2-06C6-45B2-B582-47D58E3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0DF-F619-4782-A221-50E66B74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C3D2-D71E-498F-8165-1D22996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C33-5050-4BE3-B66F-246F338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BAC5-800F-4937-BFA7-828692BA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160-9603-46A5-9C04-1110A847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BD2F-D9CE-4A7A-A0AF-3E3858E1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CAD4-47A3-4105-9545-0BAC9E17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E1E5-6F53-4991-8CCD-AB1B3FA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B68C-CE64-4533-81AB-EF2E0BE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0BBA-3090-4F65-9E89-2A296DFE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10DC-CEAB-424D-BFDD-C83677E0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28E-F9B2-451F-8073-6259193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650E-73C1-41D7-8217-33722B4B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BFCF-389E-4A1B-A9C5-F5B68F7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F4DB-FFE4-4A9C-9C7E-094C458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EEDC-2305-4D9E-B191-CCF8C23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3A4E-FF4B-444B-8989-8755C6B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0ACA-5CDE-4D1F-A58C-6DDBE483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411C-C201-45EA-9ADE-23947711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16AEE-8DD5-4E80-8316-0CE8706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C06C-5B29-43F6-8DCE-B0BFFC58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037B-030B-41FB-B565-4BBE99A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2D5-2DDB-493A-91A8-C6B981B2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8966-1F7C-4ADF-9C6B-7B22AC0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E63C-46E4-4A1D-80C6-954F885B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56A6-B083-491B-A83D-265641E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2EBA-9D3C-4CE4-AA6A-D69BC8F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182A-B157-4AE7-ABBC-28672BC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1753-9364-4C9E-96ED-6E87D34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209B-11E8-4833-AC74-DC06306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9170-A4D5-415D-8A89-B1A21B26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9A66-5FF8-48BF-BD6E-82E805AE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DBA4-96C1-4ADE-9D97-72854014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449-C990-4049-8E86-E525D2F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E1E2-9F77-4955-8952-1FD2E0E6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15C3-6027-4352-8E5C-34FF9EAC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8D69-CE2D-4BA3-8FE6-E65FFC01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1B14E-06E6-428C-AED8-7D6E4B3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03B6-EFE9-4B95-9F44-509CC5D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5FD0-FBE8-486E-9AD7-0ABB378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424E-5C2A-40A3-8866-FDA96F8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FC65-3EDC-4425-BF1D-271FEA18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157D-A0A0-4BCF-9B05-0D115CCC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AD82-ED4C-4DAA-98B5-93B98919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982-3D61-42EA-8D2B-35D6A88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B23E3-F43D-4888-97E0-0CF8869E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0DD3-AC64-43EA-B51D-775DB3E3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18008-6940-4AEB-9B2D-A34C14EE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FA84-96E4-4445-A542-1A9B4D9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AE08-2722-47F5-AE0B-5503E2E8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98A8-C637-4B46-A72E-409CD2F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6A65-81C7-465E-B92E-01FAB7D4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7EBF-E3B8-4AEE-9963-2EF0BF76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4F3E-D293-4EA2-89C2-E1182E4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FE8D-69EC-4B2F-B504-E539CDA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48C-8CFA-47AD-AC38-9F64799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F2A3-5100-47B8-8F0B-D8BE7BBA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3223-A1D6-43D1-B5E6-500764D9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806E-4ECA-4E25-8549-AD310DC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B8BE-D101-4BF1-8F1F-C5EBADCB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36E9-0968-435F-AF7E-7D66A4A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6C30-04D4-4F3C-8FE8-E92DD3E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0AC2-7652-4A41-A375-F327959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5608-8D2F-468E-B8C1-56BE009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943D-4DDB-4E60-BA6B-FE228553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637E-7E87-4C70-97C2-687F412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E81-13E5-46D3-8104-5023591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99C0-EC7C-4EFB-873A-ABC0F41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F5954-823F-4A89-90F7-B2FB1F0A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9E9D-0452-43E3-95DE-6192A9A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5033B-4AD2-4026-B764-DC36D669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FA2E-B9D2-4538-A6E7-AE53F5A5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EF5-2CF8-4A3A-BC4F-9FC9F65F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19A5-9EAE-4AB9-AE81-C702D550D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66A1-781C-4297-BD06-BFF499D96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F6B-CB6C-4063-9952-8472652F4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621-7535-421E-B9CD-3D2348477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D86-3A79-47F1-8B97-3BCD9F9E6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A8F-5F54-4915-96E1-AEFE7472A0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812F-3CB7-406C-A870-36A93CA40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EB0-8C45-4929-9291-DA05D0429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0C19-73E8-4D86-8B22-73380DBA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E0B-3439-4996-BDD1-9EF229D69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801-FD52-4218-85ED-06508CEA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8B7-599D-4F74-A378-3A81EDE89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CAF-8F75-4A73-91CA-5FE88E8FA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D1B-EAAB-406F-9402-5DA7E29F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756-3712-4B78-B68C-57F1E593A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603-81AA-41FA-A8F6-A2E53C187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5C0C-F65E-4B29-8812-5FE9EF8D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F7AE-E63A-449C-A220-E9B889A5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D00-C3F5-45C2-820B-305DFC1D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AD33-D34C-4A7C-9E6C-939F8E28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410E-733D-4A27-974C-0EE12073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A8FE-4779-4CFE-A2BE-4CD116C6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C2D-43E9-4924-B181-F1A96553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B1C-EAB3-48B0-B68C-7762F09D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6DE-E291-44AC-8184-8A84FF4B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6400"/>
            <a:chOff x="1054080" y="1981080"/>
            <a:chExt cx="6794640" cy="350640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26080" y="3268800"/>
              <a:ext cx="6695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26080" y="3961440"/>
              <a:ext cx="669564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26080" y="4641840"/>
              <a:ext cx="669564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19000"/>
              <a:ext cx="6719400" cy="6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6192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560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372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492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73760" cy="6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E1B-20A9-4F91-A6DE-87A8D756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Yasmeen</cp:lastModifiedBy>
  <cp:lastPrinted>2011-09-02T18:20:27Z</cp:lastPrinted>
  <dcterms:modified xsi:type="dcterms:W3CDTF">2016-09-26T15:28:17Z</dcterms:modified>
  <cp:revision>493</cp:revision>
  <dc:subject>An Overview of Marketing</dc:subject>
  <dc:title>Chapter 1</dc:title>
</cp:coreProperties>
</file>