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D316-6BC9-4BBE-B4C7-0464F69F77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8460-E599-4475-8962-8D4C0A7DF1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FECE-1169-4600-AE7B-6D8AC1404CB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40C5-F794-459A-937D-BC528D67A7D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68F3-82B6-4078-81FC-554589B3FA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60E0-BBC9-40D7-9557-EA3A9F55D5F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22D9-0C62-40A4-AD61-6DD7DE1E85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C427-1893-40AA-AF3E-CDAE15FF1B7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EAF7-8F85-42FE-AA82-3B989637F4B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387A-CC67-448F-83A8-A0434D44585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A0FD-A972-4F11-AAFD-196AADC657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E652-0A87-453F-A6FD-82C88A86A7E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DFDC-1A7C-44AD-BBC9-2F668E5EB21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DACC-2DBF-4A5D-9DC2-E8447226E0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ADE4-3C6D-4041-956B-D3C69CC8F6D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B380-2C98-4EC6-9A50-9EFB69B1F64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4FAC-E967-466E-A810-F190690C87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3949-8CAC-4F4D-86E4-767ED1C898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7ACA-C563-4C22-8E8F-2C07C343A46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00EF-D53B-49AC-B60D-370B418683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CEC2-C0F7-4F7B-877F-91326FFA9D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5007-5EE7-4A6D-93DD-E17FAED6E9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C985-8AE5-405C-A231-C69D7714B9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5B83-33C0-4760-B835-4266A7EE1C8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239C-DEF3-4DD7-B6DB-638C267B813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4D47-CCDC-488E-84F1-35022443E3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8368-86F1-4BD2-9A71-EC51F68046D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39A5-29EB-430B-BB1B-75FCD65A97E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7EC1-CED2-47DA-A13B-7478B279F74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1C2E-F88B-42C0-8D64-903EDD070A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744F-DCFB-4D68-9C16-540B76659B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87AD-5EA7-4603-A73E-565B594A911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484D-81F4-4F83-9142-58F3EB3F5E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B72F-39E4-43C7-88B4-9BE7830BC9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6E06-CC2C-4EBB-A20D-F83C2DBE272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FDD2-9F79-4BC2-89E9-E0C0FA27DD1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A42D-A0F3-424D-B7B7-0BFDA7708E2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57D8-50B1-4FE1-961A-2675004B11B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FBA9-D3FF-4EA3-8F95-64F04B9BAB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2A70-7AD0-4D5D-ABB7-A41098FC65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AB8B-FCF5-4C21-9CDB-445869868AD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C68A-FCEC-4EF3-8109-975B916C001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63BA-2D73-443A-B2C1-027AE08FA1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68E4-238C-4C72-BA01-38847D25A1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FCE2-C85E-4771-ADB0-5F7318736B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E3BE-DD0F-4BAA-BAF3-40DC9811D0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A1B4-AC38-4703-9DDB-D4593E8758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208C-C4DE-4E09-8A8E-3E80A9131C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6489-7190-4F60-B206-7D4174F493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3C0BD-D41A-47EE-AC37-12C6318D8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F48A5-9F2F-4FBA-B3DE-B907F7444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F4296-36AB-4B5C-BC2F-656644783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9054B-99E8-4582-94EB-5BDDD76EC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21BC84-A329-4B2B-96C9-F02AA16A8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DC1CE-761E-45EE-A615-D0DB83844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3ADD0-DB1B-4BDB-A303-C23FFE966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F8E95-299A-4CEA-AD3C-2831EDC33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C927D-BF4D-499D-A153-2B7890336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B3ECE-EF74-4CFD-9C76-12FD24C8B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84D6F-A537-427B-88E9-DBBDD8267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A6C81-5FA5-4A15-A374-060FFC6AF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D48BD-9A55-4472-A858-349AEA6E3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FB601-2054-4D19-81BC-E8BF8BEE4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22A82-DB46-462D-935A-44DA22827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E7A80B-19EB-4613-9132-9E96F4968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5027B-5B58-42D5-88BD-82159FF4D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9AFC00-40CC-4AD8-BEBB-F4979094CB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65A2FE-E811-4C6C-A433-09200A798B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0F6F81-B6A3-4039-BE05-3A39C9B790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D3C351-C5C9-4FF9-8DCF-B9DBC05F45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86371-95C5-4D90-951B-AE2368D960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E62D7-E413-4C58-959E-ECAAF520C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60936-4E66-4DBF-AE8A-54B22BC3BB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9E4486-84D0-4702-B55F-69380030F0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5ACAD0-7DAD-45AC-B21A-BD4BA1501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FB8EC-F0D5-4851-BB87-01468165C9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32E156-FBB4-4EA0-B5A1-30B0409DC1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E86887-43D4-4B2B-A60F-672F68B5A8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F74406-4F63-4788-A93E-237ADA3347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C37748-DA40-4808-AE1B-04EDED6635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953B6B-8D42-4200-8301-CE0A1392F8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C452B1-5338-4686-A38D-FDD56FA40B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778B4-F9D4-4628-8482-05E700541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C4B24-377F-49DD-882C-47CAF14013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3D948C-0670-470C-AA29-ED9814CBCB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36805F-FC8E-4A4A-847B-87C3EBC2F4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3B454F-2EF6-4283-B191-457A4EA4E4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7BC0C-03B5-4BEB-8958-A326E36AC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C3B5D6-7FDE-4880-9B2C-03EC3E3394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E5E9FF-D8EB-4FF6-B8B9-727F08F560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C1F0B4-359A-4044-8C7B-B1854EE5FA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43E897-6EEC-4B11-864A-2AF833D788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FF25E6-ABA6-488B-BAED-5C7D4AE618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555FB-9113-4D48-842F-4B19B5C6E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DC5286-B0D8-4B10-B001-9134E89C35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B19A0E-B9CF-482D-B1E1-70D1F810B4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15DF76-6B74-41C2-A4B1-751EC4D702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474D33-6525-48D4-9214-6D79CB5D39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A03520-8DE1-409A-B86C-F02FE44BAC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EE0AC-951F-4D69-9D07-CABF9E4542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D58749-F9E3-40F1-9828-49AAF2E028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65FF09-0C8C-496F-8FC7-EFBCC0E93B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A728F9-4462-4333-8CB8-4B1B5CDDDA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21F606-DFC7-4A26-9AAF-ED8BB2B2B4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0416C-630E-49C2-9CA0-56D3B3F7C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6BEF5F-C6C0-41F1-993B-612E17EF2A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B7BA80-E9F7-4E3E-B242-7DCF264329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A0A771-5D73-4FC0-B608-F82B775DE7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4F7674-2C18-4545-8E92-5545F55202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1428C7-CD3A-4B84-9C92-1AAC95F8A7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C2F289-A91B-4495-B011-83A1C0F513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942582-529F-442E-A52C-69258DFA5C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A915E6-8690-42CD-B884-B2D5D39AD0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7C7A98-503C-426C-91E2-2D2C6DC758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406D6C-C86F-4C70-9BB7-7922D22AFB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3FA78-1D32-4836-A8FB-3BEC6FEE3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7C5BE8-6EC0-4CCB-8C2B-D5973341CB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CFF653-9F97-4656-9065-A98B9E5905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96901A-9EA9-4AC6-B8A9-7A9656E8B9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B0B95-EF1B-4014-BCEF-3329A10A1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C1630-E1F4-481B-BD29-D18B3E591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937E-BF74-4980-B06F-6547C396B7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4DB6-A03E-4F7E-BB95-2117EE531E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898C9-E54E-442B-91F5-174DCA4539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5E5F-60B0-47BF-9871-89FDEEED5E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0113-9721-4C72-8661-2C3319A34F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606E-88D2-4B26-8C62-BBC14F7C87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D620-A480-43FC-A20C-D8BEF14EB07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930B-8F37-4884-B751-A49375805CB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0058-B4C9-4D0C-BA50-42AE6977176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740F-0757-44B4-B5DF-2E6672F9BF8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8557-9FCC-42EC-A313-737D568D8CC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C583-2E35-417C-9CBE-044FFADD62C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3040"/>
            <a:chOff x="3098880" y="3529080"/>
            <a:chExt cx="2793600" cy="164304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8280"/>
              <a:ext cx="2793600" cy="40464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712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A514-27FE-4BB5-A108-2699013172B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Purchasing Power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2B58-6D26-49DE-B405-E6CC8852776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FD02-A0B6-44D1-A452-1FECE4258FD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Inflation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E4B7-0410-495F-9BCA-EF1468954D1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F77B-7787-452E-B73C-507C3F4B444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a:t>
            </a:r>
            <a:r>
              <a:rPr b="1" i="1" lang="en-US" sz="4000" spc="-1" strike="noStrike">
                <a:solidFill>
                  <a:srgbClr val="000000"/>
                </a:solidFill>
                <a:latin typeface="Arial"/>
              </a:rPr>
              <a:t> recession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4B6E-56FF-4ED7-9FCB-B2370F1CE18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EE70-A183-40BE-BA8F-D0A07F08D24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512C-CC2B-4D8B-BB42-50E82F19EF2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interdependent is</a:t>
              </a:r>
              <a:br>
                <a:rPr sz="2300"/>
              </a:br>
              <a:r>
                <a:rPr b="1" lang="en-US" sz="2300" spc="-1" strike="noStrike">
                  <a:solidFill>
                    <a:srgbClr val="000000"/>
                  </a:solidFill>
                  <a:latin typeface="Arial"/>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460E-5D78-4752-89C4-6BD7EF87D5E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5 </a:t>
            </a:r>
            <a:r>
              <a:rPr b="0" lang="en-US" sz="2800" spc="-1" strike="noStrike">
                <a:solidFill>
                  <a:srgbClr val="000000"/>
                </a:solidFill>
                <a:latin typeface="Arial"/>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6 </a:t>
            </a:r>
            <a:r>
              <a:rPr b="0" lang="en-US" sz="2800" spc="-1" strike="noStrike">
                <a:solidFill>
                  <a:srgbClr val="000000"/>
                </a:solidFill>
                <a:latin typeface="Arial"/>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7 </a:t>
            </a:r>
            <a:r>
              <a:rPr b="0" lang="en-US" sz="2800" spc="-1" strike="noStrike">
                <a:solidFill>
                  <a:srgbClr val="000000"/>
                </a:solidFill>
                <a:latin typeface="Arial"/>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8 </a:t>
            </a:r>
            <a:r>
              <a:rPr b="0" lang="en-US" sz="2800" spc="-1" strike="noStrike">
                <a:solidFill>
                  <a:srgbClr val="000000"/>
                </a:solidFill>
                <a:latin typeface="Arial"/>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057C-7F99-4CC2-90CC-795A957EA77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BF25-898E-4B21-B39A-F853F1366CF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9418-0575-4249-8CA3-DE5A5FD4314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rPr>
              <a:t>Environmental Management</a:t>
            </a:r>
            <a:r>
              <a:rPr b="1" i="1" lang="en-US" sz="4000" spc="-1" strike="noStrike">
                <a:solidFill>
                  <a:srgbClr val="00afd7"/>
                </a:solidFill>
                <a:latin typeface="Arial"/>
              </a:rPr>
              <a:t> </a:t>
            </a:r>
            <a:r>
              <a:rPr b="0" i="1" lang="en-US" sz="2800" spc="-1" strike="noStrike">
                <a:solidFill>
                  <a:srgbClr val="00afd7"/>
                </a:solidFill>
                <a:latin typeface="Arial"/>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e social factors </a:t>
            </a:r>
            <a:br>
              <a:rPr sz="2400"/>
            </a:br>
            <a:r>
              <a:rPr b="1" lang="en-US" sz="2400" spc="-1" strike="noStrike">
                <a:solidFill>
                  <a:srgbClr val="000000"/>
                </a:solidFill>
                <a:latin typeface="Arial"/>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45C3-FA93-47E9-9780-7CBF2267A3E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720"/>
              <a:ext cx="2220840" cy="2570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3D49-CCC6-468E-82EE-7D982ED21DC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10-01T15:57:41Z</dcterms:modified>
  <cp:revision>597</cp:revision>
  <dc:subject>An Overview of Marketing</dc:subject>
  <dc:title>Chapter 1</dc:title>
</cp:coreProperties>
</file>