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7450-ABDD-4350-834E-D90E8FF47D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9543-0297-4658-A142-B9E71A765B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1252-F636-44DE-A032-81352B4CB7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80EC-4D55-4E0C-961F-622E103010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5599-590A-4C28-BE30-3C3F95C4F0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16E6-506F-4953-AB8A-089A886E63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C039-48F3-45AC-82A4-70CE1642ED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CAC7-4749-45B4-8646-989953B16B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4B30-3B39-46B2-8229-D893DD02E6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7ECE-AC5B-4916-A819-034365E7CB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6980-8214-40DF-B363-9C99FE30100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F8A-674A-4C8E-98A4-E5515113D5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57F8-797A-4912-9615-C300EC343A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9E48-ECF8-4C58-A328-C1E369D2B7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028A-A8AE-4C9F-9F8E-9125F776B7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026F-2898-460A-A48F-AA176EAA7E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60DE-6787-4A38-A4C0-FB3D91845E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A622-70AA-485A-AEF4-E363D153D9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8676-4DEA-46D1-87F3-1B2A11DA31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258D-F6C0-45F2-B493-E09318A8CD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2D1B-F73B-4090-902F-A01B0B2D4E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F0B5-0C00-413E-BDE8-77DA7987F4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A137-4595-4A7B-B82B-DFD87CEF06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FC5F-06A9-4F59-9BBE-FEC9BE480E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D2ED-7C1F-460E-A12D-6266728873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F0FB-14E3-4382-AAAF-D948CA47A0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84B6-5906-404A-9326-61C461A56F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873A-0340-4E99-9E06-CAE23862CB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42F3-5A1A-4083-84B9-136C7072BA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D8AA-D674-453D-B7D2-064BA38B94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51E6-CF3F-42C0-BA7C-E2B4741974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3E11-4602-45BF-9D80-E16957769C0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87A6-99C2-414D-AE44-27A520D4D73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E3C6-A424-449F-87C6-260B15A06C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A859-F74B-4531-9491-5524845E95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A6ED-311E-4D34-B1B4-94AC0928BA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6B61-8E63-48CF-9EC3-38CB3AC089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2671-64B5-4BE9-AE33-82A862050D9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452A-D313-4CB0-8BCE-B7899C04A5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D3A2-E95B-4ED5-B21B-0C72D8E609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397D-226A-4FAD-B4CA-F19C7F6B47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583C-3934-4DA2-A4CA-417AAD90A3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1256-FA17-4F39-AB73-974378925C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ED4B-84CE-4BD1-9B09-DB7E5DD174F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1A4D-8209-40FE-89C4-BEC2619951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834E-7567-4014-BF6E-5A8D1278C8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18D9-4B82-4DFF-AFAF-0B3D3280B7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6CA7-D2B5-48AD-A8AC-FFFF7819EC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7E9E-3884-4D6B-984C-F4873F3FD5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E8333-F23F-4F78-9D16-93E44C2E0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06AE-2EA7-419C-9B25-397873871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38A5B-ED0A-42B2-A7EB-C98790D2E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20E57-E526-44F6-AE65-381D9E5A4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2C902-845C-4821-8CDB-73CB403A0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5AE62-8DC0-421A-8E8B-1E458023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BF8F4-F14C-4822-8675-E0E43B2C0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00EED-4FDF-48BA-9AB9-52202AD5E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3895F-EBEA-4827-93B0-14AC9FF27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9D49C-7D1D-4544-ACD2-2CCB7D94E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25B5E-97A7-40AC-B8F1-3B3BC4138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C2E05-F1BF-4188-BD46-79322DDB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EF478-D5D7-4C8B-9939-DB908C2F0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F4732-8710-472C-8AF1-06B9A229D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9413C-C921-4125-9A4D-DA2CAAD08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34AB0-3F78-4632-B96E-A0BFA0D44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E91C1-A1DB-4AEB-B6BD-72E2B3DA6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3ED07-F757-439B-A7ED-2FEACA75D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622E5-CEC2-477C-B11C-0EBFD2F52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74D76-E775-4423-93DF-3CC4F3616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620DE-830A-4093-8D6B-E5CAFDCED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25BDB-B2D8-46F6-86BF-039F7D0E6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DA75-BFC4-4985-AD01-AE87BE6BB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6CF3F-CEA8-4059-9347-477F529A4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7FE7F-4B01-4A2C-AB61-180964680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2ABB9-B4E2-4495-989D-CE1575B0A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7AC38-D1F4-4C8F-A015-867487415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AE2B3-D54C-4997-9CEE-5505122E3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F49DE8-39F4-45AF-ADFF-9E6E1B8E3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3DB4BB-82E2-4328-B792-43C45A8C1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846018-1374-4EE0-9483-CD8CABAEF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07739-5A4C-4A33-80F9-87B75537D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B4ABA-B434-489A-8E40-3ADAC1E00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400D-956F-4FC6-AAE4-952D08925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C8586-0C7A-40E5-A223-39E1F7AC3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A4E6F-7D96-448C-B5F4-E7762E030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7B79E-70E5-4152-BA4C-C472A4EE2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5A15F-FB2C-4157-9F4C-EA64716EC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C79FB-3C8B-4A88-8002-2830EC5A0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FA35F-6F21-4023-A6E2-B953D9F81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F5884-979F-4EB4-A00A-D7BCA88A8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8A6D5A-85F2-4B94-9585-0214DAFF0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7605C9-E0D2-429A-9BF2-4D884C998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B557B-56DC-4C5B-87E6-A114676A7B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22C5-0E92-4EDB-B9B9-B6A86598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886AD-95E0-42F0-A25B-686C8A9FF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F8006-B05B-469A-991F-7F061BAB1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F051C-5F1C-4CD9-B06A-98540FBEB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E05AE-D9CC-4587-8CF9-F01DA1373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C701B-AD28-4C13-A1A4-9A6B61482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67C35-2E4F-4882-8A8C-094B1B0ED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1DDBD-D0DF-4D8C-BE55-F15369AEB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D5285-8129-4AFF-AA59-17C2E318D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A3BB89-CBE2-45AA-9DE7-A74486967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BEA43-6D5D-46E4-A087-4CE8290ECF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B612-E497-469F-94AE-F0EB60E5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9B5EC-401B-4343-9671-84384FF168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F54D84-7882-4723-9973-30E2A79C5B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780E1-85D3-4E45-8801-B0AB2C7A91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EDEE4-90EB-49C2-9CE2-20EDEE66B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5B2208-67B2-441B-ADAA-9F59183646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5083B-C492-4D35-99C4-BF04E49D0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F6C75-DD26-4813-A5E5-D2A0A4DD8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BC1C8D-585A-49D1-B995-7921C4E74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40469-0011-4297-9C1C-270B5872F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8883C-93E0-49BD-957E-E6438EA0D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9C39-4FEA-45ED-A876-F236ED84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2E33F-ABAD-4C31-AE4B-458999D3F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0BA7DC-204B-4D6D-9CFB-4C8392CC4F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C7D55D-5609-405B-95F3-28E669A2B8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B32C-BE2A-4701-84B5-277351278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5A3CA-E632-46EF-A7D4-86B9CE6E2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FFBE-DCD2-4B7F-A0BA-1FF029C582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4C58-54EC-478F-890E-C159A4AFA8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3400-A057-42E8-826B-E936DAE1E7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9B85-DF42-4115-86CE-F02AE64487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4F4C-C8AC-4DA7-916A-2BC488B36D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7F78-7A1C-4C55-A9FA-14806FE1AA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EE99-604C-4F69-8691-DA2BFB196C3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1DD4-630A-4E63-AD8D-1830D765D6B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C3ED-A6BF-4FB7-AD16-C3C45A91F01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EAD0-C736-408C-BD8C-64CC4013598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A38F-606C-4084-A94B-BED6A69A0E7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71EF-EDB0-4180-B223-4A1886BE879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1194-F342-4616-8BD0-3C0863ED060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81DB-CC46-4D5D-A8BE-B1B3E405C51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D42B-28E4-4B41-8265-042ACD7D9F4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4D26-1E29-43D6-8598-528EF534560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08F9-08A4-46D7-8B20-59AEE568438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1A4D-8661-4260-99C9-2B60AC78F9A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3223-9F27-47DE-9B71-DA906989628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0A05-8C0E-4D0B-8D80-C0AB064E723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4D42-5898-44DD-A8A3-B93C53119C1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04D1-5AF4-4FF0-97B4-FB19304A84B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DAB1-D004-4D8C-AD94-7465B985977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8A7F-CE2E-4831-BBAC-6494C245A7F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7F68-7141-4418-9613-D1149B98A2D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674F-F692-4398-9588-F15164BC006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10-01T15:57:41Z</dcterms:modified>
  <cp:revision>597</cp:revision>
  <dc:subject>An Overview of Marketing</dc:subject>
  <dc:title>Chapter 1</dc:title>
</cp:coreProperties>
</file>