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27A3-B2F3-405D-8C57-DE329C305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882E-151A-4E0D-B6EB-71E11E6B7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CEAC-5EA0-43A4-A6E8-D7531A0C6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292A-6648-4B62-A0F8-6292ED1C6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76D9-0F5B-41B6-A2AC-58BD7D8C1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8DBB-9A6E-4601-B998-AF75AAA75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B27F-1F75-4836-AA42-3ECEF57CE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374F-0AAD-44CD-B216-0E3D302CE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7668-3944-403C-BF07-8A74218B8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0729-CE25-4D9E-9227-CF8E72649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C020-A15D-4071-8F1C-9057F397A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A64B-6405-4127-84B9-D27B3B4AF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CA9C-9970-4C8E-8209-14748E712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AF16-1B3F-443E-B679-199398E0C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9397-76AB-428C-8B08-A67406BCA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87BE-C325-4BF5-A4DA-99EDAC29B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DE45-7F1D-45E1-ABFA-A35544B4B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FEB0-DB0E-4972-92F5-32592DE71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23AA-84B2-4C8C-BF2C-0CB0E03F1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6237-CEEF-4C24-AB9B-C6D581107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515C-DC2C-4386-9FCC-6AA47D1F5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99BB-57C5-4262-8FF6-9D7BC61DB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D293-2165-4C9F-AF9F-8499958D4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40D4-71DB-451B-A47C-D32D92E6F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8A81-CA44-40CB-ADDA-0CD043B86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D1FB-CCF3-4A26-8602-3577E49BD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7A15-AFE1-4136-9F41-01B1676A9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5A1A-FEFF-42F5-A0DD-D86493445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1CAF-6811-4783-8CA8-3E3C6BBDC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BF25-D893-408E-BD4D-01A6179F7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A0A1-3E10-4A91-AB91-3306E2470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148A-F050-4BAF-87CE-FC57408C8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DEA9-4E83-4EDE-A30D-AD7709A99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8990-1216-4BB7-B560-88948719A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0AA5-7AB2-4373-AEDE-F42482204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8866-A6C9-48FB-9331-FD1820709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C0CC-270E-4A05-B73D-D9522C1D6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3D5C-6DD2-4192-B6C5-8D4BC42CD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BFE6-826F-46E2-ACDE-12C040B50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79B4-BC07-450F-9FF5-4507C3B2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86B2-77E0-40ED-BD1A-AB0CD3041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8391-B8B6-4022-A6B8-544EF9D57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7C92-A253-4303-832E-F3A931CF6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4F32-7F51-46BD-B05F-1C08BD233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7E07-EF40-49EE-8C68-88CAFEAF4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27FB-B193-490F-A26A-D7797947C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D972-FE8B-4A0F-AF44-143C02A11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5EAE-85F9-47CD-A854-488511978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2EDF-EB8B-4223-B2ED-5F89C5E52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134D-3640-49B2-A8B9-ECEFEA312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5356-C290-4900-A29C-C1464C6F2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6515-83AF-4380-9D20-69E1F1720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8F95-EF72-4B63-A036-E2184FCBD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F2CBE-4937-4135-B10A-FC3A6AB0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3C6CF-02C9-46AF-89B6-E8C341571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FF92D-2B5A-4DE5-B09C-67C77E867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41B92-B1ED-4119-9C62-B8E3B55B5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8749D-5691-4549-905E-37AD3B1E1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EDCD8-B526-4471-BFFC-5749040F9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0A59A-030A-4D19-87B6-A0642CC8E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EB188-902F-4252-9E02-264704D35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1FDEB-F715-4ED0-A0BE-5284B546C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40F51-475B-4406-A9AD-F689EA9D9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8579B-DA44-476A-A125-7F373A833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C4DE2-9CFA-4398-B821-AB6B1F828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5162D-ACEF-4DF6-9ED3-00D99B552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975A5-480A-455C-A19D-15B978F27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3AFEA-9286-476B-BB09-A6560B555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AB94B0-03A8-4B15-826C-491941B8C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555EC-8522-4EA7-A0F0-18E29EF0B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55A27-96AA-49A3-BF89-34AEBA8CD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508809-F2A1-40E4-9C78-463CE6DE4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48488-A3E9-4DAD-AFA3-1CD3D1874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7A8E3-6F50-41FF-9632-6387A4E3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E2ECD-DD31-430A-8E1D-241A108AF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00458-7DD6-4035-8184-51BE68928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7D136-101F-4E9D-A24E-F3B6D55E3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8ED27-AD7C-4D17-B51D-221DE74C5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3B7FF-5232-4A80-9A11-CC2108721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09AA4B-5E70-4657-9671-BE29ABE0E3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B93E46-CDAF-4CD5-A894-48EEAFCB6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F24D6B-8A1E-45A5-9067-8C674D060C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D5D8B-B52C-406C-90BC-7C1687E53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19A5E-81B4-489B-92EB-142EC0694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EC86-1AFA-4203-80AE-AE09BF078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2F59C-5927-4F8E-8C58-3E1EC2E3E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74FEC-8920-447F-BA30-2990D6B467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0FD15-87B3-4CBA-9143-CE54261F7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626611-AFB5-4270-B71B-3F5559DE2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84520-747B-4D4C-AF7B-F8538F0AB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CA0B7-2A6C-4911-920E-7739616DF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E35B41-BAEF-441C-93CC-39ADD93A9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E6118C-C2CE-40F1-B2A6-642628CA6C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816FE3-3C72-45C8-8060-E1AA6451D9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430DDC-CE3B-4029-982A-83B441F916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DB3F1-7EDE-46A7-AAF9-376E7067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490C0-8299-4552-A873-134D52FCA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D21AE-E697-43CE-89BE-DE1FC7AE7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55B4C-F936-4E2F-9071-95CB66564F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868CA-1175-4206-8D12-0673D47FC2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91A68-ED21-4975-8C1A-26159A1A29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1085F0-D7FD-4144-916E-B1F0B8BE1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215BF-8D50-41F5-AFD3-963D64CA3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1B9FE-DFAB-411B-9B76-285699ABB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5E1A2-A514-454D-955B-23A929645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EDDC99-A906-49B0-B70A-06B6AE259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F603D-2159-4FC7-AC78-46A25C85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78865-641B-46FB-9689-B082937867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3E4A77-B039-42A5-AEF8-A700617968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6FB41-F5C7-414F-96D1-11665AD0A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DD6057-153F-4445-8E07-28AB7BAB1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6ADE6-71F2-46C5-9F35-D31648EA8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7356E-B4E9-4A12-9C16-0F564431AE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70FED6-5BCE-429C-B120-BC321887F2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CD819-B886-42E3-8471-971F240E3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2AE72-AB93-48E0-995C-1CBBAECF5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00758-129A-4D6D-A0F8-D9E55A53C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ED04-FB5B-4A64-B593-35238533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21BF1-9C7C-4E91-A560-1ACD75E2B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A47069-F900-45E4-803B-5EBAF889C1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17E5A6-5EAE-4828-88AA-2CBD1AC14E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19EF-5B94-4F65-A6B5-CF9D4A6CC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475F-7388-4C50-9EC5-580E929B4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D5A3-BC94-4B01-960B-87FD68B4A3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B211-8D26-4E39-A7C4-4A350DDA07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6452-7938-4B55-901D-B85979EC47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0432-1108-4529-9A20-EF24DE8DBA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63E1-6519-45FB-A3C9-C11ED7DA60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B591-2AAC-49F7-ACA9-85C7348234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80E5-51CA-4F52-B8CB-CB264A9AB7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4CC5-56E3-4975-8563-ECCCE3DB0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5D75-94BB-4A5C-B35C-CFCAF810F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Any unit of input affecting one or more of the five senses:</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ight</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Smell</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aste</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Touch</a:t>
              </a:r>
              <a:endParaRPr b="0" lang="en-US" sz="2300" spc="-1" strike="noStrike">
                <a:solidFill>
                  <a:srgbClr val="000000"/>
                </a:solidFill>
                <a:latin typeface="Arial"/>
              </a:endParaRPr>
            </a:p>
            <a:p>
              <a:pPr>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 </a:t>
              </a:r>
              <a:r>
                <a:rPr b="0" lang="en-US" sz="2300" spc="-1" strike="noStrike">
                  <a:solidFill>
                    <a:srgbClr val="000000"/>
                  </a:solidFill>
                  <a:latin typeface="Arial"/>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2945-42E5-4879-89A5-94EB45C6A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arketing helps consumers recognize </a:t>
              </a:r>
              <a:br>
                <a:rPr sz="2200"/>
              </a:br>
              <a:r>
                <a:rPr b="1" i="1" lang="en-US" sz="2200" spc="-1" strike="noStrike">
                  <a:solidFill>
                    <a:srgbClr val="000000"/>
                  </a:solidFill>
                  <a:latin typeface="Arial"/>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s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tat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ter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A73E-B512-46E3-B555-33D0E5C06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S PGothic"/>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211E-C66E-43A8-8F82-C3EE2725F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48CE-35A2-4E0D-9DC0-3E550BCDA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09560" y="1841400"/>
            <a:ext cx="5980320" cy="18399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243B-3810-42B0-95F2-58A86412C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prstGeom prst="pie">
                  <a:avLst/>
                </a:prstGeom>
                <a:solidFill>
                  <a:srgbClr val="f6b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prstGeom prst="pie">
                  <a:avLst/>
                </a:prstGeom>
                <a:solidFill>
                  <a:srgbClr val="f35b1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prstGeom prst="pie">
                  <a:avLst/>
                </a:prstGeom>
                <a:solidFill>
                  <a:srgbClr val="d49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prstGeom prst="pie">
                  <a:avLst/>
                </a:prstGeom>
                <a:solidFill>
                  <a:srgbClr val="b76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prstGeom prst="pie">
                  <a:avLst/>
                </a:prstGeom>
                <a:solidFill>
                  <a:srgbClr val="618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prstGeom prst="pie">
                  <a:avLst/>
                </a:prstGeom>
                <a:solidFill>
                  <a:srgbClr val="7084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5" name="Freeform 38"/>
                <p:cNvSpPr/>
                <p:nvPr/>
              </p:nvSpPr>
              <p:spPr>
                <a:xfrm>
                  <a:off x="1529640" y="2811600"/>
                  <a:ext cx="2490120" cy="255240"/>
                </a:xfrm>
                <a:prstGeom prst="pie">
                  <a:avLst/>
                </a:prstGeom>
                <a:solidFill>
                  <a:srgbClr val="3aa6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88" name="Freeform 41"/>
              <p:cNvSpPr/>
              <p:nvPr/>
            </p:nvSpPr>
            <p:spPr>
              <a:xfrm>
                <a:off x="2050200" y="1910160"/>
                <a:ext cx="1450800" cy="85716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Freeform 42"/>
              <p:cNvSpPr/>
              <p:nvPr/>
            </p:nvSpPr>
            <p:spPr>
              <a:xfrm>
                <a:off x="2806200" y="2622600"/>
                <a:ext cx="172440" cy="15120"/>
              </a:xfrm>
              <a:prstGeom prst="pie">
                <a:avLst/>
              </a:prstGeom>
              <a:solidFill>
                <a:srgbClr val="008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Freeform 43"/>
              <p:cNvSpPr/>
              <p:nvPr/>
            </p:nvSpPr>
            <p:spPr>
              <a:xfrm>
                <a:off x="2717280" y="2622600"/>
                <a:ext cx="259560" cy="160200"/>
              </a:xfrm>
              <a:prstGeom prst="pie">
                <a:avLst/>
              </a:prstGeom>
              <a:solidFill>
                <a:srgbClr val="0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Freeform 44"/>
              <p:cNvSpPr/>
              <p:nvPr/>
            </p:nvSpPr>
            <p:spPr>
              <a:xfrm>
                <a:off x="2514240" y="2622600"/>
                <a:ext cx="125640" cy="15120"/>
              </a:xfrm>
              <a:prstGeom prst="pie">
                <a:avLst/>
              </a:prstGeom>
              <a:solidFill>
                <a:srgbClr val="008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Freeform 45"/>
              <p:cNvSpPr/>
              <p:nvPr/>
            </p:nvSpPr>
            <p:spPr>
              <a:xfrm>
                <a:off x="3232800" y="1910160"/>
                <a:ext cx="267120" cy="15120"/>
              </a:xfrm>
              <a:prstGeom prst="pie">
                <a:avLst/>
              </a:prstGeom>
              <a:solidFill>
                <a:srgbClr val="008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Freeform 46"/>
              <p:cNvSpPr/>
              <p:nvPr/>
            </p:nvSpPr>
            <p:spPr>
              <a:xfrm>
                <a:off x="1980360" y="1910160"/>
                <a:ext cx="253800" cy="16560"/>
              </a:xfrm>
              <a:prstGeom prst="pie">
                <a:avLst/>
              </a:prstGeom>
              <a:solidFill>
                <a:srgbClr val="008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Freeform 47"/>
              <p:cNvSpPr/>
              <p:nvPr/>
            </p:nvSpPr>
            <p:spPr>
              <a:xfrm>
                <a:off x="1975680" y="1926720"/>
                <a:ext cx="1451160" cy="857520"/>
              </a:xfrm>
              <a:prstGeom prst="pie">
                <a:avLst/>
              </a:prstGeom>
              <a:solidFill>
                <a:srgbClr val="a0ca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737A-FCCD-4605-9C0D-B5044A584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buy </a:t>
                </a:r>
                <a:br>
                  <a:rPr sz="2800"/>
                </a:br>
                <a:r>
                  <a:rPr b="1" i="1" lang="en-US" sz="2800" spc="-1" strike="noStrike">
                    <a:solidFill>
                      <a:srgbClr val="000000"/>
                    </a:solidFill>
                    <a:latin typeface="Arial"/>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8653-2515-4B2F-AE13-64E43EEF6E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Autofit/>
          </a:bodyPr>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1</a:t>
            </a:r>
            <a:r>
              <a:rPr b="0" lang="en-US" sz="2800" spc="-1" strike="noStrike">
                <a:solidFill>
                  <a:srgbClr val="322083"/>
                </a:solidFill>
                <a:latin typeface="Calibri"/>
              </a:rPr>
              <a:t> </a:t>
            </a:r>
            <a:r>
              <a:rPr b="0" lang="en-US" sz="2800" spc="-1" strike="noStrike">
                <a:solidFill>
                  <a:srgbClr val="000000"/>
                </a:solidFill>
                <a:latin typeface="Arial"/>
              </a:rPr>
              <a:t>Explain why marketing managers should understand consumer behavior</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2</a:t>
            </a:r>
            <a:r>
              <a:rPr b="0" lang="en-US" sz="2800" spc="-1" strike="noStrike">
                <a:solidFill>
                  <a:srgbClr val="322083"/>
                </a:solidFill>
                <a:latin typeface="Calibri"/>
              </a:rPr>
              <a:t> </a:t>
            </a:r>
            <a:r>
              <a:rPr b="0" lang="en-US" sz="2800" spc="-1" strike="noStrike">
                <a:solidFill>
                  <a:srgbClr val="000000"/>
                </a:solidFill>
                <a:latin typeface="Arial"/>
              </a:rPr>
              <a:t>Analyze the components of the consumer decision-making process</a:t>
            </a:r>
            <a:br>
              <a:rPr sz="2800"/>
            </a:b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3</a:t>
            </a:r>
            <a:r>
              <a:rPr b="0" lang="en-US" sz="2800" spc="-1" strike="noStrike">
                <a:solidFill>
                  <a:srgbClr val="322083"/>
                </a:solidFill>
                <a:latin typeface="Calibri"/>
              </a:rPr>
              <a:t> </a:t>
            </a:r>
            <a:r>
              <a:rPr b="0" lang="en-US" sz="2800" spc="-1" strike="noStrike">
                <a:solidFill>
                  <a:srgbClr val="000000"/>
                </a:solidFill>
                <a:latin typeface="Arial"/>
              </a:rPr>
              <a:t>Explain the consumer’s postpurchase evaluation process</a:t>
            </a: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8440" indent="-56844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6-4</a:t>
            </a:r>
            <a:r>
              <a:rPr b="0" lang="en-US" sz="2800" spc="-1" strike="noStrike">
                <a:solidFill>
                  <a:srgbClr val="322083"/>
                </a:solidFill>
                <a:latin typeface="Calibri"/>
              </a:rPr>
              <a:t> </a:t>
            </a:r>
            <a:r>
              <a:rPr b="0" lang="en-US" sz="2800" spc="-1" strike="noStrike">
                <a:solidFill>
                  <a:srgbClr val="000000"/>
                </a:solidFill>
                <a:latin typeface="Arial"/>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F1F0-C335-4BBC-BA30-76F66E1F3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EE4A-E61F-4CE9-AD48-7040BCFBE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nsumers can reduce dissonance by:</a:t>
            </a:r>
            <a:endParaRPr b="0" lang="en-US" sz="2800" spc="-1" strike="noStrike">
              <a:solidFill>
                <a:srgbClr val="000000"/>
              </a:solidFill>
              <a:latin typeface="Arial"/>
            </a:endParaRPr>
          </a:p>
          <a:p>
            <a:pPr marL="457200" indent="-45720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07960" y="5157720"/>
            <a:ext cx="6261120" cy="10843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BFCE-979C-45EB-AF6B-906A4F3A3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4115-BD51-4E8F-8EBE-42AB49AA2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D94A-713E-4C48-957D-391B50A5B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BD26-D435-4B13-B5FA-69F864AC6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0418-39CD-44B0-A911-C8BDE0B06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90AE-049C-4258-9716-34CFAC8E6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3F54-0459-4D73-8E75-DE1671CF5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Autofit/>
          </a:bodyPr>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5</a:t>
            </a:r>
            <a:r>
              <a:rPr b="0" lang="en-US" sz="2800" spc="-1" strike="noStrike">
                <a:solidFill>
                  <a:srgbClr val="322083"/>
                </a:solidFill>
                <a:latin typeface="Arial"/>
              </a:rPr>
              <a:t> </a:t>
            </a:r>
            <a:r>
              <a:rPr b="0" lang="en-US" sz="2800" spc="-1" strike="noStrike">
                <a:solidFill>
                  <a:srgbClr val="000000"/>
                </a:solidFill>
                <a:latin typeface="Arial"/>
              </a:rPr>
              <a:t>Identify and understand the cultur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6</a:t>
            </a:r>
            <a:r>
              <a:rPr b="0" lang="en-US" sz="2800" spc="-1" strike="noStrike">
                <a:solidFill>
                  <a:srgbClr val="322083"/>
                </a:solidFill>
                <a:latin typeface="Arial"/>
              </a:rPr>
              <a:t> </a:t>
            </a:r>
            <a:r>
              <a:rPr b="0" lang="en-US" sz="2800" spc="-1" strike="noStrike">
                <a:solidFill>
                  <a:srgbClr val="000000"/>
                </a:solidFill>
                <a:latin typeface="Arial"/>
              </a:rPr>
              <a:t>Identify and understand the social factors that affect consumer buying decisions </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7</a:t>
            </a:r>
            <a:r>
              <a:rPr b="0" lang="en-US" sz="2800" spc="-1" strike="noStrike">
                <a:solidFill>
                  <a:srgbClr val="322083"/>
                </a:solidFill>
                <a:latin typeface="Arial"/>
              </a:rPr>
              <a:t> </a:t>
            </a:r>
            <a:r>
              <a:rPr b="0" lang="en-US" sz="2800" spc="-1" strike="noStrike">
                <a:solidFill>
                  <a:srgbClr val="000000"/>
                </a:solidFill>
                <a:latin typeface="Arial"/>
              </a:rPr>
              <a:t>Identify and understand the individual factors that affect consumer buying decisions</a:t>
            </a:r>
            <a:br>
              <a:rPr sz="2800"/>
            </a:b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rPr>
              <a:t>6-8</a:t>
            </a:r>
            <a:r>
              <a:rPr b="0" lang="en-US" sz="2800" spc="-1" strike="noStrike">
                <a:solidFill>
                  <a:srgbClr val="322083"/>
                </a:solidFill>
                <a:latin typeface="Arial"/>
              </a:rPr>
              <a:t> </a:t>
            </a:r>
            <a:r>
              <a:rPr b="0" lang="en-US" sz="2800" spc="-1" strike="noStrike">
                <a:solidFill>
                  <a:srgbClr val="000000"/>
                </a:solidFill>
                <a:latin typeface="Arial"/>
              </a:rPr>
              <a:t>Identify and understand the psychological factors that affect consumer buying decisions</a:t>
            </a:r>
            <a:endParaRPr b="0" lang="en-US" sz="2800" spc="-1" strike="noStrike">
              <a:solidFill>
                <a:srgbClr val="000000"/>
              </a:solidFill>
              <a:latin typeface="Arial"/>
            </a:endParaRPr>
          </a:p>
          <a:p>
            <a:pPr marL="630360" indent="-6303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3528-C54F-49A9-94E3-6FA485A77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40D9-E586-446F-ADB5-3BB8FE4FFB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ci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dividu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sycho-logic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ultural </a:t>
              </a:r>
              <a:br>
                <a:rPr sz="2100"/>
              </a:br>
              <a:r>
                <a:rPr b="1" lang="en-US" sz="2100" spc="-1" strike="noStrike">
                  <a:solidFill>
                    <a:srgbClr val="000000"/>
                  </a:solidFill>
                  <a:latin typeface="Arial"/>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SUMER</a:t>
              </a:r>
              <a:br>
                <a:rPr sz="2100"/>
              </a:br>
              <a:r>
                <a:rPr b="1" lang="en-US" sz="2100" spc="-1" strike="noStrike">
                  <a:solidFill>
                    <a:srgbClr val="000000"/>
                  </a:solidFill>
                  <a:latin typeface="Arial"/>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UY or </a:t>
              </a:r>
              <a:br>
                <a:rPr sz="2100"/>
              </a:br>
              <a:r>
                <a:rPr b="1" lang="en-US" sz="2100" spc="-1" strike="noStrike">
                  <a:solidFill>
                    <a:srgbClr val="000000"/>
                  </a:solidFill>
                  <a:latin typeface="Arial"/>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869F-3208-47D2-9CAC-E51CB643B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3FB5-079F-4464-9A48-F53A51A6C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9777-83BC-4E26-86D2-7BC6259C7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homogeneous group </a:t>
            </a:r>
            <a:br>
              <a:rPr sz="3200"/>
            </a:br>
            <a:r>
              <a:rPr b="0" lang="en-US" sz="3200" spc="-1" strike="noStrike">
                <a:solidFill>
                  <a:srgbClr val="000000"/>
                </a:solidFill>
                <a:latin typeface="Arial"/>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EF3C-C2DE-4D5E-9F36-072CD9284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DBFB-2517-4D22-B3ED-DE2C1FECB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C99E-978F-4AED-9017-1167EAD13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6212-24CB-40A1-B3AD-A3B4215E94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760"/>
            <a:chOff x="1295280" y="3448080"/>
            <a:chExt cx="2323800" cy="1436760"/>
          </a:xfrm>
        </p:grpSpPr>
        <p:sp>
          <p:nvSpPr>
            <p:cNvPr id="546" name="Rectangle 22"/>
            <p:cNvSpPr/>
            <p:nvPr/>
          </p:nvSpPr>
          <p:spPr>
            <a:xfrm>
              <a:off x="1295280" y="3448080"/>
              <a:ext cx="2323800" cy="366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8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000"/>
              <a:ext cx="2323800" cy="36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1FD4-3149-4BCF-AEB0-67F877D72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Understand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ividual who influences others. They are often the most influential, informed, plugged in, and vocal members of socie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to try new products and services out of pure curiosity.</a:t>
            </a:r>
            <a:endParaRPr b="0" lang="en-US" sz="2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71C9-9D7B-428D-AA06-A334F7DE3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777B-2D23-4F60-86A3-CEEAD45EB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Autofit/>
          </a:bodyPr>
          <a:p>
            <a:pPr>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E231-5A98-47EE-84AF-956189DDF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108C-5FEB-4EE3-98E8-2FBC6E274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E5D1-1F1C-49EC-97B7-CC2E16871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F18F-EFA0-46C8-83F7-F52CB91CA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24E6-5F79-4AB8-98AF-FB4A64884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738B-966D-45C3-96CC-9EA475004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1D32-627D-49F5-BEAE-1A8FC139C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6837-FB21-4794-BA76-BAC2BFD54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E211-77F3-4C31-A463-F9A15A7C7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0676-8BFE-45D5-86E0-E67A39BD7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59000" y="2084400"/>
            <a:ext cx="6237360" cy="1914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92C9-A974-4E35-92E5-E6CCF83D3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36:48Z</dcterms:modified>
  <cp:revision>600</cp:revision>
  <dc:subject>An Overview of Marketing</dc:subject>
  <dc:title>Chapter 1</dc:title>
</cp:coreProperties>
</file>