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0.wmf" ContentType="image/x-wmf"/>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B4EA-B25F-4EE6-BCA8-39731AAC9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C710-C7F0-4030-964D-50837F4DE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F6577-2B5B-4CD2-960E-CBB742A38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F4DB-937C-44EA-BA9B-2220A7B92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BC9A-1787-4158-8C56-40622427B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E4B65-FC49-4B07-8544-4898A95FE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9929-7B09-40E1-8610-D4C4E3D9D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D5F2-E2CA-41E8-B353-1EB841D61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6180-D908-462E-982C-7C17ACB7D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5251-35C6-47C6-BCF9-D2657BA38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AD39-EDFE-4378-BF6D-27FDFAB33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0695A-52EA-4AEF-80AD-C9357CC7D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8AE2B-6F57-4EB5-BB12-88F535CD3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6AA0A-0F76-41DA-943F-AC2AA42CE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FC83-7EBD-47E8-BBC4-2D7E643FC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81C0-1FEB-4B69-9A6C-12046B994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6E04-1E63-49A5-9A28-D31D8EAB1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D412-A272-4E98-843E-4880EAD7A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C44B-7727-4645-821D-4C51CDDBB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2976-535D-4A0E-A753-3459A6A4F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58099-8D20-4466-8517-9C65803AC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FFC8-24C1-4B24-9B76-9E8D14EAA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50A4-8FAE-436C-B8A9-24CB74E19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F30B8-357B-4754-8D8A-7ACA6FD79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3F11-7057-4836-B0C7-B6F5DF7C2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8210-3E74-4437-BAC1-941DD4E0F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F6D2-BF75-47B4-920D-2F5A5070D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B648-9857-44AF-99AB-CC7C604B5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CB02-C51F-4D1B-AECA-02F97567B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702AF-0FC3-4194-9EFC-1AACA615F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CAEA-6842-4595-948D-575880090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0798-D081-4088-B605-99E1B7A2E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65707-3B42-4D8E-8424-3C6E05730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52BC3-1437-4EA3-B866-A6E5283E3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7D16-70C3-483E-83F8-BD42AABAF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EECA-D37B-4748-8E21-A1FD7EF06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645CD-558E-4EA3-A1FB-4FDD0E8D9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49AC-9F87-451C-9F68-A5B31B22F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539C-8745-481F-A6A7-8CE0ADA45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1F08-37CE-4AEE-B2AE-2937CC738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9D83-DA7D-4D3D-AD6C-4CAECA7A3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B4B65-8FB7-43B9-A079-5A2373F49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1E58-02E3-498A-B539-8380F475A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9549-C68E-4E53-A25C-07E025F93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D224-5F1E-4F54-A3D4-5FBA86667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1A2A-42CD-4A4F-9CAF-F55FAD0AB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5A10-C00A-479E-AA27-4BB0452BF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7B88-FDB1-4FCF-BF28-3C5BE477A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16E3-168F-48BD-A759-F3B201EF5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F43B-7CA7-45B0-BFCC-E0414A5B1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180F-7705-4046-A1A8-0D5B0ED4E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58389-F916-480D-888B-93DD1EF71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41A96-4A19-4FD9-87A0-734DE0363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081EB-6ED4-4C81-BD60-27450DA95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DFFA7-929A-417C-B106-3CBADBBB2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0F872-1F70-4DB1-BA53-633E5E118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A1E50-113B-4F26-9236-817CB4196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EB4A1-E1D4-469C-8234-4E44FBB5E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9FA9D-417E-4DD6-AA99-8662DA07D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BB79D-F41D-4008-8954-AE3733625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B2C9D-78C4-4EEA-8AEB-7A03F65A0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D4331-6221-47D3-BDEA-846D27F86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564B7-2306-4C60-819C-3BF3954B0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17879-96F8-4B98-BAF7-7225B42D6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7597B-F4DF-4E3F-A1C8-A43DC52B7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72255-3F1C-4623-B4F9-9A3871E8B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BE7EA-83B7-4462-B0D1-AB9F1F20DA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A4DAC3-CCE3-4C07-82E3-545A28E3B5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309F24-03C0-45E6-93C8-3FA9C3D274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DEC07C-0860-4E8B-968A-79306E065E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AF7402-CD93-47E9-B924-BDF21EBEDF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A2099B-A180-445E-A803-F7718EFE73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833ECD-7F29-4A56-AC2F-DD9B15622B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4DF70-71CE-48AD-8AE2-07E067D38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D818A8-C0C1-412F-9102-E625333EC0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72AF08-F278-48D1-AF5C-F854899D1C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EE8080-9689-4FC0-B72F-0B67FAE414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E8F371-52D8-45EE-8088-ABC23CA53D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D29CC8-A674-4F75-9E22-7EF0D3B9A4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2A60C7-BF2A-41E6-827E-77EAE950AC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813A4D-9D60-4F1E-A0D8-C8077D980B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0010C2-B8F5-46C4-9116-9CC4C5687F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FBAF18-28A3-4AB4-A6E4-9F0569E658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2F74A1-2A83-4EB6-B3AF-3D33414A67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8980A-AEE8-450D-89F3-0AC0E8257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58289E-4DBD-4500-8DDE-F9C8CDA11D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706BE6-627D-4207-B89F-39FB7D217D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E74FE0-B340-468A-A50D-4DEBBACB89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8EB581-A67B-47B9-8B8E-53373AFC10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1239E-61CC-44D7-A48B-84BC6E5113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3A3983-92BD-4F0F-8C6B-25F8DB3C48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E050E3-8786-46F4-83A2-08F31ADA24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89BD30-4D2C-4BB9-9B14-CD22C8B566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25659C-4183-419C-B09F-7087AFE5F3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5F1458-6057-4BBD-90FF-C2E9D7A21C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EAF1C-2653-4485-B4FE-546933FDA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B8BE5A-71A4-4745-A95B-3D7203000A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F00F4D-BDEC-4290-8B09-98D0EFBE3F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A624C0-4226-489A-8F50-9D4B3C6BE4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0F8329-723A-4495-82C4-A4CD290114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935194-CE61-43D6-B267-0FDE7E0426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1AEFD9-D49F-4F3B-A7F8-797D91ACA2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8097E9-58CC-47C0-B423-96A616AAC8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B461D3-6D59-497E-9ECA-AB6DD5DFF8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8141BB-FC26-4937-9969-10F5F3C4F6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4DD9FC-D513-476C-9E1E-DCF2887293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52969-952D-457D-9430-B53EA6AC1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9F3BCA-F582-495A-9E62-43FB9A20A8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F3B9CC-4D8C-440A-AAEA-7B085C694C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8BAF08-BC15-4835-9398-B18DA72020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BAFE0C-FD97-4337-B5DA-241FB07888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9CB395-B34F-434C-9FD8-2E4A2A21C6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43E5F4-0D4B-40AD-9E08-B2D270E6A5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E070B5-9065-44C9-97B2-258019A577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5EBA3A-1F32-4D3B-A485-88F3C90AE3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D6C2F3-D3D5-4798-A81E-272E29086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C954DD-5D7B-48B4-BBAE-E0BDD635D0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06D24-A685-482B-AD88-CB97FEB61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6DBE73-B797-474E-94DF-54089875C3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32B77A-35D8-4874-BB24-120CBE1E43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6B647F-103A-47C1-9E03-4BED8BA891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89B21-61F2-4645-9B9F-D16538A6C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FE510-F516-466C-8AC6-EFE647603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7AD1-5125-4C67-9644-D187816F4E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F131-EBB6-4777-85F6-794FD47A414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F560-58A5-4D38-9CA4-E6376ED7D4F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7704-5403-40AE-87B4-1C6B3C6D6A6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CB53-BB2C-4AB2-9241-F84EB8D633B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A594-210E-40C4-ADB3-82A9208412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5382-CD8E-4218-88C5-F5ADEAB5440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E08F7-0533-4AE7-A731-9FA240ACDB4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AAD42-6910-4BD1-97B9-1DD82C83AD5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Any unit of input affecting one or more of the five senses:</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ight</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mell</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aste</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ouch</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E5B15-3FD7-44B6-9629-BB5556F5056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arketing helps consumers recognize </a:t>
              </a:r>
              <a:br>
                <a:rPr sz="2200"/>
              </a:br>
              <a:r>
                <a:rPr b="1" i="1" lang="en-US" sz="2200" spc="-1" strike="noStrike">
                  <a:solidFill>
                    <a:srgbClr val="000000"/>
                  </a:solidFill>
                  <a:latin typeface="Arial"/>
                  <a:ea typeface="ＭＳ Ｐゴシック"/>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s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Stat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Ex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CE38-5570-4F1A-8DED-16430604F81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A699-D503-41BF-A9E4-3E5C496B032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B269D-109D-468A-A335-7D610B4D3F4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16040" y="1847880"/>
            <a:ext cx="5973840" cy="19810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CC150-7061-4599-A12C-272A6F0A2C1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custGeom>
                  <a:avLst/>
                  <a:gdLst>
                    <a:gd name="textAreaLeft" fmla="*/ 0 w 792720"/>
                    <a:gd name="textAreaRight" fmla="*/ 793080 w 792720"/>
                    <a:gd name="textAreaTop" fmla="*/ 0 h 285120"/>
                    <a:gd name="textAreaBottom" fmla="*/ 285480 h 285120"/>
                  </a:gdLst>
                  <a:ahLst/>
                  <a:rect l="textAreaLeft" t="textAreaTop" r="textAreaRight" b="textAreaBottom"/>
                  <a:pathLst>
                    <a:path w="859" h="341">
                      <a:moveTo>
                        <a:pt x="76" y="340"/>
                      </a:moveTo>
                      <a:lnTo>
                        <a:pt x="0" y="0"/>
                      </a:lnTo>
                      <a:lnTo>
                        <a:pt x="858" y="0"/>
                      </a:lnTo>
                      <a:lnTo>
                        <a:pt x="780" y="340"/>
                      </a:lnTo>
                      <a:lnTo>
                        <a:pt x="76" y="34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custGeom>
                  <a:avLst/>
                  <a:gdLst>
                    <a:gd name="textAreaLeft" fmla="*/ 0 w 977400"/>
                    <a:gd name="textAreaRight" fmla="*/ 977760 w 977400"/>
                    <a:gd name="textAreaTop" fmla="*/ 0 h 285840"/>
                    <a:gd name="textAreaBottom" fmla="*/ 286200 h 285840"/>
                  </a:gdLst>
                  <a:ahLst/>
                  <a:rect l="textAreaLeft" t="textAreaTop" r="textAreaRight" b="textAreaBottom"/>
                  <a:pathLst>
                    <a:path w="1059" h="341">
                      <a:moveTo>
                        <a:pt x="94" y="340"/>
                      </a:moveTo>
                      <a:lnTo>
                        <a:pt x="0" y="0"/>
                      </a:lnTo>
                      <a:lnTo>
                        <a:pt x="1058" y="0"/>
                      </a:lnTo>
                      <a:lnTo>
                        <a:pt x="961" y="340"/>
                      </a:lnTo>
                      <a:lnTo>
                        <a:pt x="94" y="340"/>
                      </a:lnTo>
                    </a:path>
                  </a:pathLst>
                </a:custGeom>
                <a:solidFill>
                  <a:srgbClr val="f35b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custGeom>
                  <a:avLst/>
                  <a:gdLst>
                    <a:gd name="textAreaLeft" fmla="*/ 0 w 1177920"/>
                    <a:gd name="textAreaRight" fmla="*/ 1177920 w 1177920"/>
                    <a:gd name="textAreaTop" fmla="*/ 0 h 285840"/>
                    <a:gd name="textAreaBottom" fmla="*/ 286200 h 285840"/>
                  </a:gdLst>
                  <a:ahLst/>
                  <a:rect l="textAreaLeft" t="textAreaTop" r="textAreaRight" b="textAreaBottom"/>
                  <a:pathLst>
                    <a:path w="1277" h="341">
                      <a:moveTo>
                        <a:pt x="113" y="340"/>
                      </a:moveTo>
                      <a:lnTo>
                        <a:pt x="0" y="0"/>
                      </a:lnTo>
                      <a:lnTo>
                        <a:pt x="1276" y="0"/>
                      </a:lnTo>
                      <a:lnTo>
                        <a:pt x="1160" y="340"/>
                      </a:lnTo>
                      <a:lnTo>
                        <a:pt x="113" y="340"/>
                      </a:lnTo>
                    </a:path>
                  </a:pathLst>
                </a:custGeom>
                <a:solidFill>
                  <a:srgbClr val="d49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custGeom>
                  <a:avLst/>
                  <a:gdLst>
                    <a:gd name="textAreaLeft" fmla="*/ 0 w 1447200"/>
                    <a:gd name="textAreaRight" fmla="*/ 1447560 w 1447200"/>
                    <a:gd name="textAreaTop" fmla="*/ 0 h 285120"/>
                    <a:gd name="textAreaBottom" fmla="*/ 285480 h 285120"/>
                  </a:gdLst>
                  <a:ahLst/>
                  <a:rect l="textAreaLeft" t="textAreaTop" r="textAreaRight" b="textAreaBottom"/>
                  <a:pathLst>
                    <a:path w="1569" h="341">
                      <a:moveTo>
                        <a:pt x="139" y="340"/>
                      </a:moveTo>
                      <a:lnTo>
                        <a:pt x="0" y="0"/>
                      </a:lnTo>
                      <a:lnTo>
                        <a:pt x="1568" y="0"/>
                      </a:lnTo>
                      <a:lnTo>
                        <a:pt x="1425" y="340"/>
                      </a:lnTo>
                      <a:lnTo>
                        <a:pt x="139" y="340"/>
                      </a:lnTo>
                    </a:path>
                  </a:pathLst>
                </a:custGeom>
                <a:solidFill>
                  <a:srgbClr val="b760f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custGeom>
                  <a:avLst/>
                  <a:gdLst>
                    <a:gd name="textAreaLeft" fmla="*/ 0 w 1730880"/>
                    <a:gd name="textAreaRight" fmla="*/ 1731240 w 1730880"/>
                    <a:gd name="textAreaTop" fmla="*/ 0 h 284760"/>
                    <a:gd name="textAreaBottom" fmla="*/ 285120 h 284760"/>
                  </a:gdLst>
                  <a:ahLst/>
                  <a:rect l="textAreaLeft" t="textAreaTop" r="textAreaRight" b="textAreaBottom"/>
                  <a:pathLst>
                    <a:path w="1879" h="341">
                      <a:moveTo>
                        <a:pt x="167" y="340"/>
                      </a:moveTo>
                      <a:lnTo>
                        <a:pt x="0" y="0"/>
                      </a:lnTo>
                      <a:lnTo>
                        <a:pt x="1878" y="0"/>
                      </a:lnTo>
                      <a:lnTo>
                        <a:pt x="1707" y="340"/>
                      </a:lnTo>
                      <a:lnTo>
                        <a:pt x="167" y="34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custGeom>
                  <a:avLst/>
                  <a:gdLst>
                    <a:gd name="textAreaLeft" fmla="*/ 0 w 2086560"/>
                    <a:gd name="textAreaRight" fmla="*/ 2086920 w 2086560"/>
                    <a:gd name="textAreaTop" fmla="*/ 0 h 285120"/>
                    <a:gd name="textAreaBottom" fmla="*/ 285480 h 285120"/>
                  </a:gdLst>
                  <a:ahLst/>
                  <a:rect l="textAreaLeft" t="textAreaTop" r="textAreaRight" b="textAreaBottom"/>
                  <a:pathLst>
                    <a:path w="2263" h="341">
                      <a:moveTo>
                        <a:pt x="201" y="340"/>
                      </a:moveTo>
                      <a:lnTo>
                        <a:pt x="0" y="0"/>
                      </a:lnTo>
                      <a:lnTo>
                        <a:pt x="2262" y="0"/>
                      </a:lnTo>
                      <a:lnTo>
                        <a:pt x="2056" y="340"/>
                      </a:lnTo>
                      <a:lnTo>
                        <a:pt x="201" y="340"/>
                      </a:lnTo>
                    </a:path>
                  </a:pathLst>
                </a:custGeom>
                <a:solidFill>
                  <a:srgbClr val="70849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Freeform 38"/>
                <p:cNvSpPr/>
                <p:nvPr/>
              </p:nvSpPr>
              <p:spPr>
                <a:xfrm>
                  <a:off x="1529640" y="2811600"/>
                  <a:ext cx="2490120" cy="255240"/>
                </a:xfrm>
                <a:custGeom>
                  <a:avLst/>
                  <a:gdLst>
                    <a:gd name="textAreaLeft" fmla="*/ 0 w 2490120"/>
                    <a:gd name="textAreaRight" fmla="*/ 2490480 w 2490120"/>
                    <a:gd name="textAreaTop" fmla="*/ 0 h 255240"/>
                    <a:gd name="textAreaBottom" fmla="*/ 255600 h 255240"/>
                  </a:gdLst>
                  <a:ahLst/>
                  <a:rect l="textAreaLeft" t="textAreaTop" r="textAreaRight" b="textAreaBottom"/>
                  <a:pathLst>
                    <a:path w="2701" h="305">
                      <a:moveTo>
                        <a:pt x="240" y="304"/>
                      </a:moveTo>
                      <a:lnTo>
                        <a:pt x="0" y="0"/>
                      </a:lnTo>
                      <a:lnTo>
                        <a:pt x="2700" y="0"/>
                      </a:lnTo>
                      <a:lnTo>
                        <a:pt x="2454" y="304"/>
                      </a:lnTo>
                      <a:lnTo>
                        <a:pt x="240" y="304"/>
                      </a:lnTo>
                    </a:path>
                  </a:pathLst>
                </a:custGeom>
                <a:solidFill>
                  <a:srgbClr val="3aa6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Freeform 41"/>
              <p:cNvSpPr/>
              <p:nvPr/>
            </p:nvSpPr>
            <p:spPr>
              <a:xfrm>
                <a:off x="2050200" y="1910160"/>
                <a:ext cx="1450800" cy="857160"/>
              </a:xfrm>
              <a:custGeom>
                <a:avLst/>
                <a:gdLst>
                  <a:gd name="textAreaLeft" fmla="*/ 0 w 1450800"/>
                  <a:gd name="textAreaRight" fmla="*/ 1451160 w 1450800"/>
                  <a:gd name="textAreaTop" fmla="*/ 0 h 857160"/>
                  <a:gd name="textAreaBottom" fmla="*/ 857520 h 857160"/>
                </a:gdLst>
                <a:ahLst/>
                <a:rect l="textAreaLeft" t="textAreaTop" r="textAreaRight" b="textAreaBottom"/>
                <a:pathLst>
                  <a:path w="3297" h="2527">
                    <a:moveTo>
                      <a:pt x="0" y="0"/>
                    </a:moveTo>
                    <a:lnTo>
                      <a:pt x="421" y="0"/>
                    </a:lnTo>
                    <a:lnTo>
                      <a:pt x="514" y="126"/>
                    </a:lnTo>
                    <a:lnTo>
                      <a:pt x="604" y="247"/>
                    </a:lnTo>
                    <a:lnTo>
                      <a:pt x="702" y="377"/>
                    </a:lnTo>
                    <a:lnTo>
                      <a:pt x="817" y="525"/>
                    </a:lnTo>
                    <a:lnTo>
                      <a:pt x="923" y="667"/>
                    </a:lnTo>
                    <a:lnTo>
                      <a:pt x="1021" y="794"/>
                    </a:lnTo>
                    <a:lnTo>
                      <a:pt x="1105" y="911"/>
                    </a:lnTo>
                    <a:lnTo>
                      <a:pt x="1182" y="1021"/>
                    </a:lnTo>
                    <a:lnTo>
                      <a:pt x="1270" y="1154"/>
                    </a:lnTo>
                    <a:lnTo>
                      <a:pt x="1341" y="1269"/>
                    </a:lnTo>
                    <a:lnTo>
                      <a:pt x="1415" y="1395"/>
                    </a:lnTo>
                    <a:lnTo>
                      <a:pt x="1491" y="1537"/>
                    </a:lnTo>
                    <a:lnTo>
                      <a:pt x="1552" y="1665"/>
                    </a:lnTo>
                    <a:lnTo>
                      <a:pt x="1608" y="1803"/>
                    </a:lnTo>
                    <a:lnTo>
                      <a:pt x="1655" y="1679"/>
                    </a:lnTo>
                    <a:lnTo>
                      <a:pt x="1708" y="1533"/>
                    </a:lnTo>
                    <a:lnTo>
                      <a:pt x="1770" y="1377"/>
                    </a:lnTo>
                    <a:lnTo>
                      <a:pt x="1838" y="1219"/>
                    </a:lnTo>
                    <a:lnTo>
                      <a:pt x="1911" y="1066"/>
                    </a:lnTo>
                    <a:lnTo>
                      <a:pt x="1995" y="916"/>
                    </a:lnTo>
                    <a:lnTo>
                      <a:pt x="2097" y="753"/>
                    </a:lnTo>
                    <a:lnTo>
                      <a:pt x="2243" y="561"/>
                    </a:lnTo>
                    <a:lnTo>
                      <a:pt x="2358" y="418"/>
                    </a:lnTo>
                    <a:lnTo>
                      <a:pt x="2483" y="285"/>
                    </a:lnTo>
                    <a:lnTo>
                      <a:pt x="2613" y="170"/>
                    </a:lnTo>
                    <a:lnTo>
                      <a:pt x="2834" y="0"/>
                    </a:lnTo>
                    <a:lnTo>
                      <a:pt x="3297" y="0"/>
                    </a:lnTo>
                    <a:lnTo>
                      <a:pt x="3134" y="133"/>
                    </a:lnTo>
                    <a:lnTo>
                      <a:pt x="2967" y="296"/>
                    </a:lnTo>
                    <a:lnTo>
                      <a:pt x="2824" y="443"/>
                    </a:lnTo>
                    <a:lnTo>
                      <a:pt x="2687" y="592"/>
                    </a:lnTo>
                    <a:lnTo>
                      <a:pt x="2540" y="771"/>
                    </a:lnTo>
                    <a:lnTo>
                      <a:pt x="2410" y="946"/>
                    </a:lnTo>
                    <a:lnTo>
                      <a:pt x="2321" y="1075"/>
                    </a:lnTo>
                    <a:lnTo>
                      <a:pt x="2227" y="1244"/>
                    </a:lnTo>
                    <a:lnTo>
                      <a:pt x="2144" y="1393"/>
                    </a:lnTo>
                    <a:lnTo>
                      <a:pt x="2085" y="1517"/>
                    </a:lnTo>
                    <a:lnTo>
                      <a:pt x="2016" y="1676"/>
                    </a:lnTo>
                    <a:lnTo>
                      <a:pt x="1966" y="1801"/>
                    </a:lnTo>
                    <a:lnTo>
                      <a:pt x="1933" y="1888"/>
                    </a:lnTo>
                    <a:lnTo>
                      <a:pt x="1897" y="2002"/>
                    </a:lnTo>
                    <a:lnTo>
                      <a:pt x="1870" y="2098"/>
                    </a:lnTo>
                    <a:lnTo>
                      <a:pt x="2103" y="2098"/>
                    </a:lnTo>
                    <a:lnTo>
                      <a:pt x="1672" y="2527"/>
                    </a:lnTo>
                    <a:lnTo>
                      <a:pt x="1205" y="2098"/>
                    </a:lnTo>
                    <a:lnTo>
                      <a:pt x="1437" y="2098"/>
                    </a:lnTo>
                    <a:lnTo>
                      <a:pt x="1419" y="2023"/>
                    </a:lnTo>
                    <a:lnTo>
                      <a:pt x="1385" y="1935"/>
                    </a:lnTo>
                    <a:lnTo>
                      <a:pt x="1337" y="1842"/>
                    </a:lnTo>
                    <a:lnTo>
                      <a:pt x="1275" y="1729"/>
                    </a:lnTo>
                    <a:lnTo>
                      <a:pt x="1204" y="1613"/>
                    </a:lnTo>
                    <a:lnTo>
                      <a:pt x="1141" y="1515"/>
                    </a:lnTo>
                    <a:lnTo>
                      <a:pt x="1076" y="1413"/>
                    </a:lnTo>
                    <a:lnTo>
                      <a:pt x="1002" y="1303"/>
                    </a:lnTo>
                    <a:lnTo>
                      <a:pt x="939" y="1211"/>
                    </a:lnTo>
                    <a:lnTo>
                      <a:pt x="867" y="1100"/>
                    </a:lnTo>
                    <a:lnTo>
                      <a:pt x="728" y="909"/>
                    </a:lnTo>
                    <a:lnTo>
                      <a:pt x="620" y="765"/>
                    </a:lnTo>
                    <a:lnTo>
                      <a:pt x="532" y="649"/>
                    </a:lnTo>
                    <a:lnTo>
                      <a:pt x="454" y="551"/>
                    </a:lnTo>
                    <a:lnTo>
                      <a:pt x="337" y="406"/>
                    </a:lnTo>
                    <a:lnTo>
                      <a:pt x="229" y="272"/>
                    </a:lnTo>
                    <a:lnTo>
                      <a:pt x="117"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42"/>
              <p:cNvSpPr/>
              <p:nvPr/>
            </p:nvSpPr>
            <p:spPr>
              <a:xfrm>
                <a:off x="2806200" y="2622600"/>
                <a:ext cx="172440" cy="15120"/>
              </a:xfrm>
              <a:custGeom>
                <a:avLst/>
                <a:gdLst>
                  <a:gd name="textAreaLeft" fmla="*/ 0 w 172440"/>
                  <a:gd name="textAreaRight" fmla="*/ 172800 w 172440"/>
                  <a:gd name="textAreaTop" fmla="*/ 0 h 15120"/>
                  <a:gd name="textAreaBottom" fmla="*/ 15480 h 15120"/>
                </a:gdLst>
                <a:ahLst/>
                <a:rect l="textAreaLeft" t="textAreaTop" r="textAreaRight" b="textAreaBottom"/>
                <a:pathLst>
                  <a:path w="390" h="42">
                    <a:moveTo>
                      <a:pt x="0" y="42"/>
                    </a:moveTo>
                    <a:lnTo>
                      <a:pt x="152" y="0"/>
                    </a:lnTo>
                    <a:lnTo>
                      <a:pt x="390" y="0"/>
                    </a:lnTo>
                    <a:lnTo>
                      <a:pt x="228"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0" name="Freeform 43"/>
              <p:cNvSpPr/>
              <p:nvPr/>
            </p:nvSpPr>
            <p:spPr>
              <a:xfrm>
                <a:off x="2717280" y="2622600"/>
                <a:ext cx="259560" cy="160200"/>
              </a:xfrm>
              <a:custGeom>
                <a:avLst/>
                <a:gdLst>
                  <a:gd name="textAreaLeft" fmla="*/ 0 w 259560"/>
                  <a:gd name="textAreaRight" fmla="*/ 259560 w 259560"/>
                  <a:gd name="textAreaTop" fmla="*/ 0 h 160200"/>
                  <a:gd name="textAreaBottom" fmla="*/ 160560 h 160200"/>
                </a:gdLst>
                <a:ahLst/>
                <a:rect l="textAreaLeft" t="textAreaTop" r="textAreaRight" b="textAreaBottom"/>
                <a:pathLst>
                  <a:path w="586" h="469">
                    <a:moveTo>
                      <a:pt x="0" y="469"/>
                    </a:moveTo>
                    <a:lnTo>
                      <a:pt x="154" y="427"/>
                    </a:lnTo>
                    <a:lnTo>
                      <a:pt x="586" y="0"/>
                    </a:lnTo>
                    <a:lnTo>
                      <a:pt x="428" y="42"/>
                    </a:lnTo>
                    <a:lnTo>
                      <a:pt x="0" y="4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44"/>
              <p:cNvSpPr/>
              <p:nvPr/>
            </p:nvSpPr>
            <p:spPr>
              <a:xfrm>
                <a:off x="2514240" y="2622600"/>
                <a:ext cx="125640" cy="15120"/>
              </a:xfrm>
              <a:custGeom>
                <a:avLst/>
                <a:gdLst>
                  <a:gd name="textAreaLeft" fmla="*/ 0 w 125640"/>
                  <a:gd name="textAreaRight" fmla="*/ 126000 w 125640"/>
                  <a:gd name="textAreaTop" fmla="*/ 0 h 15120"/>
                  <a:gd name="textAreaBottom" fmla="*/ 15480 h 15120"/>
                </a:gdLst>
                <a:ahLst/>
                <a:rect l="textAreaLeft" t="textAreaTop" r="textAreaRight" b="textAreaBottom"/>
                <a:pathLst>
                  <a:path w="289" h="42">
                    <a:moveTo>
                      <a:pt x="0" y="42"/>
                    </a:moveTo>
                    <a:lnTo>
                      <a:pt x="241" y="42"/>
                    </a:lnTo>
                    <a:lnTo>
                      <a:pt x="289" y="0"/>
                    </a:lnTo>
                    <a:lnTo>
                      <a:pt x="148" y="0"/>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2" name="Freeform 45"/>
              <p:cNvSpPr/>
              <p:nvPr/>
            </p:nvSpPr>
            <p:spPr>
              <a:xfrm>
                <a:off x="3232800" y="1910160"/>
                <a:ext cx="267120" cy="15120"/>
              </a:xfrm>
              <a:custGeom>
                <a:avLst/>
                <a:gdLst>
                  <a:gd name="textAreaLeft" fmla="*/ 0 w 267120"/>
                  <a:gd name="textAreaRight" fmla="*/ 267480 w 267120"/>
                  <a:gd name="textAreaTop" fmla="*/ 0 h 15120"/>
                  <a:gd name="textAreaBottom" fmla="*/ 15480 h 15120"/>
                </a:gdLst>
                <a:ahLst/>
                <a:rect l="textAreaLeft" t="textAreaTop" r="textAreaRight" b="textAreaBottom"/>
                <a:pathLst>
                  <a:path w="608" h="42">
                    <a:moveTo>
                      <a:pt x="0" y="42"/>
                    </a:moveTo>
                    <a:lnTo>
                      <a:pt x="151" y="0"/>
                    </a:lnTo>
                    <a:lnTo>
                      <a:pt x="608" y="0"/>
                    </a:lnTo>
                    <a:lnTo>
                      <a:pt x="456"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3" name="Freeform 46"/>
              <p:cNvSpPr/>
              <p:nvPr/>
            </p:nvSpPr>
            <p:spPr>
              <a:xfrm>
                <a:off x="1980360" y="1910160"/>
                <a:ext cx="253800" cy="16560"/>
              </a:xfrm>
              <a:custGeom>
                <a:avLst/>
                <a:gdLst>
                  <a:gd name="textAreaLeft" fmla="*/ 0 w 253800"/>
                  <a:gd name="textAreaRight" fmla="*/ 254160 w 253800"/>
                  <a:gd name="textAreaTop" fmla="*/ 0 h 16560"/>
                  <a:gd name="textAreaBottom" fmla="*/ 16920 h 16560"/>
                </a:gdLst>
                <a:ahLst/>
                <a:rect l="textAreaLeft" t="textAreaTop" r="textAreaRight" b="textAreaBottom"/>
                <a:pathLst>
                  <a:path w="571" h="45">
                    <a:moveTo>
                      <a:pt x="0" y="42"/>
                    </a:moveTo>
                    <a:lnTo>
                      <a:pt x="157" y="0"/>
                    </a:lnTo>
                    <a:lnTo>
                      <a:pt x="571" y="0"/>
                    </a:lnTo>
                    <a:lnTo>
                      <a:pt x="416" y="45"/>
                    </a:lnTo>
                    <a:lnTo>
                      <a:pt x="0" y="42"/>
                    </a:lnTo>
                    <a:close/>
                  </a:path>
                </a:pathLst>
              </a:custGeom>
              <a:solidFill>
                <a:srgbClr val="008000"/>
              </a:soli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394" name="Freeform 47"/>
              <p:cNvSpPr/>
              <p:nvPr/>
            </p:nvSpPr>
            <p:spPr>
              <a:xfrm>
                <a:off x="1975680" y="1926720"/>
                <a:ext cx="1451160" cy="857520"/>
              </a:xfrm>
              <a:custGeom>
                <a:avLst/>
                <a:gdLst>
                  <a:gd name="textAreaLeft" fmla="*/ 0 w 1451160"/>
                  <a:gd name="textAreaRight" fmla="*/ 1451520 w 1451160"/>
                  <a:gd name="textAreaTop" fmla="*/ 0 h 857520"/>
                  <a:gd name="textAreaBottom" fmla="*/ 857880 h 857520"/>
                </a:gdLst>
                <a:ahLst/>
                <a:rect l="textAreaLeft" t="textAreaTop" r="textAreaRight" b="textAreaBottom"/>
                <a:pathLst>
                  <a:path w="3298" h="2527">
                    <a:moveTo>
                      <a:pt x="0" y="0"/>
                    </a:moveTo>
                    <a:lnTo>
                      <a:pt x="422" y="0"/>
                    </a:lnTo>
                    <a:lnTo>
                      <a:pt x="514" y="126"/>
                    </a:lnTo>
                    <a:lnTo>
                      <a:pt x="604" y="247"/>
                    </a:lnTo>
                    <a:lnTo>
                      <a:pt x="704" y="378"/>
                    </a:lnTo>
                    <a:lnTo>
                      <a:pt x="818" y="525"/>
                    </a:lnTo>
                    <a:lnTo>
                      <a:pt x="924" y="667"/>
                    </a:lnTo>
                    <a:lnTo>
                      <a:pt x="1021" y="794"/>
                    </a:lnTo>
                    <a:lnTo>
                      <a:pt x="1105" y="911"/>
                    </a:lnTo>
                    <a:lnTo>
                      <a:pt x="1183" y="1022"/>
                    </a:lnTo>
                    <a:lnTo>
                      <a:pt x="1272" y="1155"/>
                    </a:lnTo>
                    <a:lnTo>
                      <a:pt x="1343" y="1270"/>
                    </a:lnTo>
                    <a:lnTo>
                      <a:pt x="1416" y="1396"/>
                    </a:lnTo>
                    <a:lnTo>
                      <a:pt x="1491" y="1537"/>
                    </a:lnTo>
                    <a:lnTo>
                      <a:pt x="1553" y="1665"/>
                    </a:lnTo>
                    <a:lnTo>
                      <a:pt x="1610" y="1803"/>
                    </a:lnTo>
                    <a:lnTo>
                      <a:pt x="1657" y="1681"/>
                    </a:lnTo>
                    <a:lnTo>
                      <a:pt x="1708" y="1533"/>
                    </a:lnTo>
                    <a:lnTo>
                      <a:pt x="1772" y="1377"/>
                    </a:lnTo>
                    <a:lnTo>
                      <a:pt x="1839" y="1219"/>
                    </a:lnTo>
                    <a:lnTo>
                      <a:pt x="1913" y="1066"/>
                    </a:lnTo>
                    <a:lnTo>
                      <a:pt x="1997" y="916"/>
                    </a:lnTo>
                    <a:lnTo>
                      <a:pt x="2098" y="753"/>
                    </a:lnTo>
                    <a:lnTo>
                      <a:pt x="2245" y="561"/>
                    </a:lnTo>
                    <a:lnTo>
                      <a:pt x="2359" y="419"/>
                    </a:lnTo>
                    <a:lnTo>
                      <a:pt x="2484" y="285"/>
                    </a:lnTo>
                    <a:lnTo>
                      <a:pt x="2613" y="171"/>
                    </a:lnTo>
                    <a:lnTo>
                      <a:pt x="2836" y="0"/>
                    </a:lnTo>
                    <a:lnTo>
                      <a:pt x="3298" y="0"/>
                    </a:lnTo>
                    <a:lnTo>
                      <a:pt x="3136" y="133"/>
                    </a:lnTo>
                    <a:lnTo>
                      <a:pt x="2969" y="296"/>
                    </a:lnTo>
                    <a:lnTo>
                      <a:pt x="2824" y="444"/>
                    </a:lnTo>
                    <a:lnTo>
                      <a:pt x="2688" y="592"/>
                    </a:lnTo>
                    <a:lnTo>
                      <a:pt x="2541" y="771"/>
                    </a:lnTo>
                    <a:lnTo>
                      <a:pt x="2412" y="946"/>
                    </a:lnTo>
                    <a:lnTo>
                      <a:pt x="2322" y="1075"/>
                    </a:lnTo>
                    <a:lnTo>
                      <a:pt x="2227" y="1244"/>
                    </a:lnTo>
                    <a:lnTo>
                      <a:pt x="2145" y="1393"/>
                    </a:lnTo>
                    <a:lnTo>
                      <a:pt x="2086" y="1518"/>
                    </a:lnTo>
                    <a:lnTo>
                      <a:pt x="2016" y="1676"/>
                    </a:lnTo>
                    <a:lnTo>
                      <a:pt x="1967" y="1802"/>
                    </a:lnTo>
                    <a:lnTo>
                      <a:pt x="1934" y="1888"/>
                    </a:lnTo>
                    <a:lnTo>
                      <a:pt x="1899" y="2002"/>
                    </a:lnTo>
                    <a:lnTo>
                      <a:pt x="1871" y="2098"/>
                    </a:lnTo>
                    <a:lnTo>
                      <a:pt x="2104" y="2098"/>
                    </a:lnTo>
                    <a:lnTo>
                      <a:pt x="1672" y="2527"/>
                    </a:lnTo>
                    <a:lnTo>
                      <a:pt x="1206" y="2098"/>
                    </a:lnTo>
                    <a:lnTo>
                      <a:pt x="1439" y="2098"/>
                    </a:lnTo>
                    <a:lnTo>
                      <a:pt x="1419" y="2024"/>
                    </a:lnTo>
                    <a:lnTo>
                      <a:pt x="1387" y="1935"/>
                    </a:lnTo>
                    <a:lnTo>
                      <a:pt x="1338" y="1843"/>
                    </a:lnTo>
                    <a:lnTo>
                      <a:pt x="1276" y="1730"/>
                    </a:lnTo>
                    <a:lnTo>
                      <a:pt x="1205" y="1614"/>
                    </a:lnTo>
                    <a:lnTo>
                      <a:pt x="1143" y="1515"/>
                    </a:lnTo>
                    <a:lnTo>
                      <a:pt x="1077" y="1414"/>
                    </a:lnTo>
                    <a:lnTo>
                      <a:pt x="1003" y="1303"/>
                    </a:lnTo>
                    <a:lnTo>
                      <a:pt x="940" y="1211"/>
                    </a:lnTo>
                    <a:lnTo>
                      <a:pt x="868" y="1101"/>
                    </a:lnTo>
                    <a:lnTo>
                      <a:pt x="729" y="909"/>
                    </a:lnTo>
                    <a:lnTo>
                      <a:pt x="622" y="765"/>
                    </a:lnTo>
                    <a:lnTo>
                      <a:pt x="533" y="649"/>
                    </a:lnTo>
                    <a:lnTo>
                      <a:pt x="456" y="552"/>
                    </a:lnTo>
                    <a:lnTo>
                      <a:pt x="338" y="407"/>
                    </a:lnTo>
                    <a:lnTo>
                      <a:pt x="229" y="272"/>
                    </a:lnTo>
                    <a:lnTo>
                      <a:pt x="119" y="141"/>
                    </a:lnTo>
                    <a:lnTo>
                      <a:pt x="0" y="0"/>
                    </a:lnTo>
                    <a:close/>
                  </a:path>
                </a:pathLst>
              </a:custGeom>
              <a:solidFill>
                <a:srgbClr val="a0c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18BA-F597-4B3B-89E9-B2EAC5DF6BC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To buy </a:t>
                </a:r>
                <a:br>
                  <a:rPr sz="2800"/>
                </a:br>
                <a:r>
                  <a:rPr b="1" i="1" lang="en-US" sz="2800" spc="-1" strike="noStrike">
                    <a:solidFill>
                      <a:srgbClr val="000000"/>
                    </a:solidFill>
                    <a:latin typeface="Arial"/>
                    <a:ea typeface="ＭＳ Ｐゴシック"/>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1A11-F4B1-4FC3-B8CA-EBA6D97C213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rm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rmAutofit fontScale="87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1</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why marketing managers should understand consumer behavior</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2</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Analyze the components of the consumer decision-making process</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3</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the consumer’s postpurchase evaluation process</a:t>
            </a: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4</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D8A8B-0A73-48EF-AF3B-513D7837B49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86E3-5CAC-48D4-9A01-F16B35CE913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Consumers can reduce dissonance by:</a:t>
            </a:r>
            <a:endParaRPr b="0" lang="en-US" sz="2800" spc="-1" strike="noStrike">
              <a:solidFill>
                <a:srgbClr val="000000"/>
              </a:solidFill>
              <a:latin typeface="Arial"/>
            </a:endParaRPr>
          </a:p>
          <a:p>
            <a:pPr marL="457200" indent="-45720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14440" y="5162400"/>
            <a:ext cx="6248520" cy="10731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 </a:t>
              </a: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0E1BA-635C-4E60-9D7C-F3EAA01D808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F4BE3-DC28-44CB-BF99-A904F1B14BE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6CEA-17E1-42F3-8FB9-888F7EB764E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562FC-5080-4959-9544-D83C6DCEFD0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58E86-08EC-4993-BF21-6FDEF659367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16FA-793B-464B-89C4-25CD101872E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62EF-8F29-49AB-A8B8-57B9D5CF76D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rmAutofit fontScale="97000"/>
          </a:bodyPr>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5</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cultur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6</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social factors that affect consumer buying decisions </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7</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individu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8</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psychological factors that affect consumer buying decisions</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AD98-077C-46EF-8BBD-005CE4E3EF2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CD04-D34A-4C5A-A61C-4A68C21E776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Soci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Individu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sycho-logic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ultur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ONSUMER</a:t>
              </a:r>
              <a:br>
                <a:rPr sz="2100"/>
              </a:br>
              <a:r>
                <a:rPr b="1" lang="en-US" sz="2100" spc="-1" strike="noStrike">
                  <a:solidFill>
                    <a:srgbClr val="000000"/>
                  </a:solidFill>
                  <a:latin typeface="Arial"/>
                  <a:ea typeface="ＭＳ Ｐゴシック"/>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BUY or </a:t>
              </a:r>
              <a:br>
                <a:rPr sz="2100"/>
              </a:br>
              <a:r>
                <a:rPr b="1" lang="en-US" sz="2100" spc="-1" strike="noStrike">
                  <a:solidFill>
                    <a:srgbClr val="000000"/>
                  </a:solidFill>
                  <a:latin typeface="Arial"/>
                  <a:ea typeface="ＭＳ Ｐゴシック"/>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87BA-3574-47DF-AB7D-7A0E9E609D8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D2B7-9964-4354-9EC1-B6CBD3FA417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4C7C-98A7-40B3-9B15-39BFD034E4A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rmAutofit fontScale="59000"/>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homogeneous group </a:t>
            </a:r>
            <a:br>
              <a:rPr sz="3200"/>
            </a:br>
            <a:r>
              <a:rPr b="0" lang="en-US" sz="3200" spc="-1" strike="noStrike">
                <a:solidFill>
                  <a:srgbClr val="000000"/>
                </a:solidFill>
                <a:latin typeface="Arial"/>
                <a:ea typeface="ＭＳ Ｐゴシック"/>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020D7-33D0-4130-8EC3-14317A6D7D2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rmAutofit fontScale="65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84C7-C8CB-47FB-9D6B-3CFCEA18713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B374-E20B-462D-A424-9C3FE62D7BB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40E7-82E6-4D24-B67A-6DFDF24181B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400"/>
            <a:chOff x="1295280" y="3448080"/>
            <a:chExt cx="2323800" cy="1436400"/>
          </a:xfrm>
        </p:grpSpPr>
        <p:sp>
          <p:nvSpPr>
            <p:cNvPr id="546" name="Rectangle 22"/>
            <p:cNvSpPr/>
            <p:nvPr/>
          </p:nvSpPr>
          <p:spPr>
            <a:xfrm>
              <a:off x="1295280" y="344808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1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36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F0C89-5517-46F6-AC22-D9165C51BA2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Importance of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n individual who influences others. They are often the most influential, informed, plugged in, and vocal members of socie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first to try new products and services out of pure curiosity.</a:t>
            </a:r>
            <a:endParaRPr b="0" lang="en-US" sz="2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92994-2D19-44E9-A80C-86CA1EFAF2C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ECE3-5796-4461-BFC7-67F95BF5195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E8CE-8AF8-4352-9BF3-EAD9D928CBC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F02D-F917-4F4B-B430-6E266391F32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84" name="Group 8"/>
          <p:cNvGrpSpPr/>
          <p:nvPr/>
        </p:nvGrpSpPr>
        <p:grpSpPr>
          <a:xfrm>
            <a:off x="1444680" y="1908000"/>
            <a:ext cx="6252840" cy="3353040"/>
            <a:chOff x="1444680" y="1908000"/>
            <a:chExt cx="6252840" cy="3353040"/>
          </a:xfrm>
        </p:grpSpPr>
        <p:grpSp>
          <p:nvGrpSpPr>
            <p:cNvPr id="585" name="Group 9"/>
            <p:cNvGrpSpPr/>
            <p:nvPr/>
          </p:nvGrpSpPr>
          <p:grpSpPr>
            <a:xfrm>
              <a:off x="1444680" y="1908000"/>
              <a:ext cx="1858680" cy="3353040"/>
              <a:chOff x="1444680" y="1908000"/>
              <a:chExt cx="1858680" cy="3353040"/>
            </a:xfrm>
          </p:grpSpPr>
          <p:sp>
            <p:nvSpPr>
              <p:cNvPr id="586"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587"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588"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589" name="Group 13"/>
            <p:cNvGrpSpPr/>
            <p:nvPr/>
          </p:nvGrpSpPr>
          <p:grpSpPr>
            <a:xfrm>
              <a:off x="3254760" y="1908000"/>
              <a:ext cx="4442760" cy="3353040"/>
              <a:chOff x="3254760" y="1908000"/>
              <a:chExt cx="4442760" cy="3353040"/>
            </a:xfrm>
          </p:grpSpPr>
          <p:sp>
            <p:nvSpPr>
              <p:cNvPr id="590"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591"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592"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59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9724-25D1-4D03-85EC-EAF30F7C38D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5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5223-8E86-46F5-9185-46701FB16E2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8"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6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D969-FF6C-4FE1-A14B-8D72093A5DF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2"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
          <p:cNvPicPr/>
          <p:nvPr/>
        </p:nvPicPr>
        <p:blipFill>
          <a:blip r:embed="rId1"/>
          <a:srcRect l="1794" t="3273" r="1500" b="0"/>
          <a:stretch/>
        </p:blipFill>
        <p:spPr>
          <a:xfrm>
            <a:off x="1712880" y="1841400"/>
            <a:ext cx="5452920" cy="4270320"/>
          </a:xfrm>
          <a:prstGeom prst="rect">
            <a:avLst/>
          </a:prstGeom>
          <a:ln w="0">
            <a:noFill/>
          </a:ln>
        </p:spPr>
      </p:pic>
      <p:sp>
        <p:nvSpPr>
          <p:cNvPr id="60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BE01-5384-4533-8A34-5440BD45A90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6"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60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AAF0-AD52-4AAA-981F-CEF678EEF4A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ea typeface="ＭＳ Ｐゴシック"/>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09" name="Group 4"/>
          <p:cNvGrpSpPr/>
          <p:nvPr/>
        </p:nvGrpSpPr>
        <p:grpSpPr>
          <a:xfrm>
            <a:off x="1440000" y="2448000"/>
            <a:ext cx="6273720" cy="2484360"/>
            <a:chOff x="1440000" y="2448000"/>
            <a:chExt cx="6273720" cy="2484360"/>
          </a:xfrm>
        </p:grpSpPr>
        <p:sp>
          <p:nvSpPr>
            <p:cNvPr id="610"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1"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2"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3"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92C0-98A6-4ABA-8E53-2CF317D8F2A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99016-7F39-4E84-8116-2DE3E9EC8B2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925B-F103-40A3-BED3-B46AA8D1221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65120" y="2090880"/>
            <a:ext cx="6231240" cy="190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0BDB-ABEE-44A4-8530-E21832A0196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9-05T12:16:59Z</dcterms:modified>
  <cp:revision>600</cp:revision>
  <dc:subject>An Overview of Marketing</dc:subject>
  <dc:title>Chapter 1</dc:title>
</cp:coreProperties>
</file>