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jpeg" ContentType="image/jpeg"/>
  <Override PartName="/ppt/media/image10.wmf" ContentType="image/x-wmf"/>
  <Override PartName="/ppt/media/image1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6 Consumer Decision Making</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9C340-4856-47FF-B4A1-BCEDF495A3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C4FE8-2C43-422E-8E36-34A5DEA5E7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1BF99-EFCD-44FA-A114-7B7E9946DE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age in the decision-making process is need recog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0230C-68F5-47A9-AE62-E6DF34B5FE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D7BA3-5537-4A2A-BFA9-A838F8248E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manager’s objective is to get consumers to recognize an imbalance between their present status and their preferred state. Advertising and sales promotion often provide this stimulu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balance between actual and desired states is sometimes referred to as the “want-got gap.”</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products and services that have been purchased recently. Indicate the types of internal and/or external stimuli that influenced th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DF918-E222-4FFD-83B4-BB01AB90E5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nal information search is the process of recalling information in memory. This includes prior experience or prior knowledge about a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information search relies on information in the outside environment. This includes personal and public references, advertisements, and public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 information may be obtained from non-marketing controlled sources and/or marketing controlled sour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marketing-controlled sources include personal experience, personal sources, and public sources such as Underwriters Laborator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controlled information is biased toward a specific product because it originates with marketers promoting that product. These sources include mass-media advertising, sales promotion, salespeople, product labels and packaging, and the Interne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FE4A6-98C1-45D1-94C1-569FB5EADA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to which an individual conducts an external source depends on such factors as the perceived risk of purchasing a product, knowledge, prior experience, and level of interest in the good or service. The external search is also influenced by the consumer’s confidence in her decision-making ability. If a consumer has prior experience, he/she will spend less time search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information searches conducted for products or services recently evaluated or purchased. Characterize this discussion based on the factors described on this slide.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E3F29-DBFB-48A4-B235-39D4F2D9DD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search should yield a group of brands, or evoked set, which are the consumer’s preferred alternatives. From this set, consumers will further evaluate the alternatives and make a choic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evoked set derived from information searches previously conducted.  What were the characteristics that made these products the preferred alterna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F8631-89C4-455C-A9C6-B4F6E6CCD4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evoked set is constructed, the consumer is ready to make a decisio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make a choice is to pick product attributes that are important to him/her, then exclude all products in the set that do not have that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narrow the number of choices is to use cutoffs, or minimum or maximum levels of an attribute that an alternative must have. Many times, price is an important cutoff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the marketing manager is to determine which attributes have the most influence on a consumer’s choice, and design a marketing mix that stresses those attributes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ngle attribute, such as price, may not always explain a consumer’s evaluation of products. Attributes that the marketer may consider important are not always important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d names, such as Johnson &amp; Johnson, have a significant impact over the choice of product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E43BC-630E-4817-A0A9-CAAA41B386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evaluation of alternatives, the consumer decides which product to buy or decides not to buy at al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ltimately, the consumer must specifically de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ther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to buy (product type and b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re to buy (type of retailer, specific retailer, online or in 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to pa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6C62F-20B6-4D9E-AFDD-5D62937B6E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C1A54-F535-441E-9C37-D60D4C2BC3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uying products, consumers expect certain outcomes from the purchase. Once a purchase decision is made, the next step in the process is the evaluation of the product after purchase. Consumers expect certain outcomes from the purchase, and how well these expectations are met determines the level of customer satisf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arketer, an important element of any postpurchase evaluation is reducing any lingering doubts that the decision was sou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try to reduce dissonance by justifying their decisio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DC6E8-D1A2-4486-AA7F-D72EFA051E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90CF5-799C-4531-98B2-734CCF57C5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instances, people deliberately seek contrary information in order to refute it and reduce dissonanc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ny of your purchases that generated cognitive dissonance and what was done to address the situation. What role, if any, did marketing play in minimizing cognitive dissonance? What was the outcome? Discuss ways in which the provider of the products/services might have reduced this inner ten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872CD-DA89-47BE-AD31-525ACECD28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D8E06-61FE-4997-9273-FF7EA32D13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buying decisions fall along a continuum of three broad categories: Routine response behavior, limited decision making, and extensive decision mak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ine response behavior: Frequently purchased, low-cost goods and services, with low involvement on search and decisions by consumers before making the purchase. Consumers buy first and evaluate lat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decision making: Consumer has previous product experience but is unfamiliar with the current brands available. A moderate effort is spent searching for information or in considering alternativ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decision making: Applies to unfamiliar, expensive products, or an infrequently bought item. The most complex type of consumer buying decisions, and is associated with high involvement on the part of the consumer.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products that fall into each of the decision making descriptions, and describe the decision making process for each.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2A6BD-2D11-43F8-9DA1-0854E74198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F0503-4ACF-4C3E-B2FA-E4BCEF6285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6.2 illustrates the continuum of consumer buying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2A36B-C2C4-495D-B207-F99C59CD72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1EC93-F0FF-45B4-AEE3-C496729C56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CAF75-C8BB-4246-8FB7-1C2369D292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CB0C3-F6CD-4A7F-A1B8-07CB9E29CD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igh involvement products, a good ad gives consumers the information they need for making the purchase decision, as well as specifying the benefits and advantages of owning the produc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low-involvement purchases, customers may not recognize their wants until they are in the store. In-store promotion and package design are important tools for catching the customer’s attention. Good displays can help explain a product’s purpose and create recognition of a wan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D8795-3BDA-42A4-A298-26A6E0E286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DE4B0-F0D2-4650-A2C2-FBE6D6A9ED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6E242-A7A6-4B0A-92D4-AC8224B8EF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trongly influenced by cultural, social, individual, and psychological factor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811DF-80C5-42F7-A1BA-7C797C1636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list contains the defining components of culture. Push students to think about American cultural elements for each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C814E-034D-49A0-9245-2112C59D9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e i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vasive: Cultural values influence individual life, yet most are completely unaware of its presence. What people eat, how they dress, and what language they speak are all cultural dimen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 By establishing expectations, culture gives order to society, such as law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Culture is not genetic.  Instead, consumers must learn what is acceptable from family and frien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It adapts to changing needs and an evolving environment. The rapid growth of technology has accelerated the rate of cultural change.</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09551-4DB5-48FE-B69D-A42D9B3B9F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 alone, countless subcultures can be identified, and many are concentrated geographically. The United States’ growing Hispanic population has made South and Central American subcultures a prime focus for many companies with large marketing bud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C58D9-C6F6-4084-8099-A996D39C68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of contemporary U.S. status structure is shown in Exhibit 6.4.</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D9B42-A127-4EAA-8013-C438BFF463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12431-71EE-43F6-95DB-21E296ACC5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interested in social class for the reasons of determining which medium to use for advertising, and for determining where best to distribute their produc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E005E-6F44-4F73-A158-1251FF0FCC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7AE44-E03F-4353-ADEE-FDB6834236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interact socially with reference groups, opinion leaders, and family members to obtain product information and decision approval.</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E3569-EEB6-499F-A7DE-DC2A85E0DA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rketers, reference groups have three implications, as sta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arketers must also consider that people with well-formed networks of somewhat overlapping reference groups and those with strong personal values are less susceptible to reference group influen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0667E-8A00-4FC4-9A9B-0D9F424350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3A6FB-9600-48A2-81D0-C4978426E6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 are often the first to try new products. Technology companies have found that teenagers, because of their willingness to experiment, are key opinion leaders for the success of new technologi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hip is a casual, face-to-face phenomenon. Locating opinion leaders can be a challenge. Marketers may try to create opinion leaders, such as cheerleaders or civic leader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national level, companies sometimes use prominent public figures, such as movie stars, sports figures, and celebrities to promote products.  </a:t>
            </a:r>
            <a:endParaRPr b="0" lang="en-US" sz="1200" spc="-1" strike="noStrike">
              <a:solidFill>
                <a:srgbClr val="000000"/>
              </a:solidFill>
              <a:latin typeface="Arial"/>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examples of opinion leaders, and the promoted products/services, in each of the categories shown on this slid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7A44E-1162-4693-AC7B-07D3D09B4D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is the most important social institution for many consumers, influencing values, attitudes, and buy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 decisions vary significantly among family members, who assume a variety of roles in the purchase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ors are the ones who suggest or initiate the purchase process.  </a:t>
            </a:r>
            <a:br>
              <a:rPr sz="1200"/>
            </a:br>
            <a:r>
              <a:rPr b="0" lang="en-US" sz="1200" spc="-1" strike="noStrike">
                <a:solidFill>
                  <a:srgbClr val="000000"/>
                </a:solidFill>
                <a:latin typeface="Arial"/>
              </a:rPr>
              <a:t>Influencers are those members whose opinions are valued.</a:t>
            </a:r>
            <a:br>
              <a:rPr sz="1200"/>
            </a:br>
            <a:r>
              <a:rPr b="0" lang="en-US" sz="1200" spc="-1" strike="noStrike">
                <a:solidFill>
                  <a:srgbClr val="000000"/>
                </a:solidFill>
                <a:latin typeface="Arial"/>
              </a:rPr>
              <a:t>Decision makers actually makes the decision to buy or not to buy.</a:t>
            </a:r>
            <a:br>
              <a:rPr sz="1200"/>
            </a:br>
            <a:r>
              <a:rPr b="0" lang="en-US" sz="1200" spc="-1" strike="noStrike">
                <a:solidFill>
                  <a:srgbClr val="000000"/>
                </a:solidFill>
                <a:latin typeface="Arial"/>
              </a:rPr>
              <a:t>The purchaser is the one who exchanges money for the product.  </a:t>
            </a:r>
            <a:br>
              <a:rPr sz="1200"/>
            </a:br>
            <a:r>
              <a:rPr b="0" lang="en-US" sz="1200" spc="-1" strike="noStrike">
                <a:solidFill>
                  <a:srgbClr val="000000"/>
                </a:solidFill>
                <a:latin typeface="Arial"/>
              </a:rPr>
              <a:t>The consumer is the one who uses the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can have great influence over the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933FA-849E-4886-BEF4-277C1DAAD0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83A41-6A4F-43D8-BD73-15D80644C3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ological differences in men and women result in the need for different products. Trends in gender marketing are influenced by the changing roles of men and wome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 and family life cycle can have a significant impact on consumer behavior. Consumer tastes in clothes, food, cars, and recreation are often age related. Related to age is the family life cycle, an orderly series of stages through which consumers’ attitudes and behavior evolve through maturity, experience, and changing income and status.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is a broad concept combining psychological makeup and environmental forces. Self-concept combines the ideal self-image and the real self-image. Consumers seldom buy products that jeopardize their self-image. A lifestyle is a mode of living as identified by a person’s activities, interests, and opinions.  </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18558-438D-492D-B10E-7F4D905C33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A8CCC-4B11-45E1-8F74-D847A0A2A1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sychological influences are the factors consumers use to interact with their world. They are the tools used to recognize feelings, gather and analyze information, formulate thoughts and opinions, and take action.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CA6FD-A506-41F4-9594-CCAEF6D7D9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cannot perceive every stimulus in their environment. They use selective exposure, along with the closely related concepts of selective distortion and retention, to decide which stimuli to notice and which to ignor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representing each of the described perception states.  </a:t>
            </a:r>
            <a:br>
              <a:rPr sz="1200"/>
            </a:b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00D60-0B4E-4309-BC3D-FC940294D7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recognize the importance of cues or signals in a consumers perception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managers first identify the important attributes such as those listed on this slide, then design signals to communicate these attributes to consumers.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947C6-6F4D-4FCF-9CC8-09550159E5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63930-DDFB-4852-BF97-3121A2114C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5456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low’s Hierarchy of Needs: A method of classifying human needs and motivations into five categories in ascending order of importance. Maslow’s Hierarchy of Needs, shown in Exhibit 6.6 and here, arranges needs in ascending order of importanc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tudying motivation, marketers can analyze the major forces influencing consumers’ purchase decisions. When a product is purchased a need is usually fulfilled. These needs become motives when aroused sufficiently. Motives are the driving forces that cause a person to take action to satisfy those need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F449B-E8CA-4350-B0C8-8C658717FF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consumer behavior can help marketing managers adapt the marketing mix to influence consumer purchasing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a manager knows through research that gas mileage is the most important attribute for a certain target market, the manufacturer can redesign the product, and create the appropriate marketing mix, to meet that criter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674A3-E8EE-489E-8375-A53AAEC76F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er for Science in the Public Interest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SPI regularly campaigns to change consumers’ beliefs about products it perceives as dangerous or harmful. What products are of interest to the CSPI at present? How should companies respond if their products become targets of the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spinet.org</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nsumer behavior results from learning, the process that creates changes in behavior through experience and pract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learning: experiential and conceptu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ment and repetition boost learning. This is a key strategy in promotional campaigns because it can lead to increased learning. Generally, to enhance learning, advertising messages should be spread over time rather than clustered togethe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434FA-F498-4AE2-8793-B1449E5A3B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0D171-9DF6-4601-85B6-DC2847F396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E9B3B-6323-44B2-9DA5-45D5BA8F89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represents a general five-step process that moves the consumer from recognition of a need to the evaluation of a purchase decision. It is a guideline for studying how consumers make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consumer decisions may not proceed in order through all the processes, and in fact, may end at any time without a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28388-99F5-493F-8B19-D8E98ECE2E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hown here and described on subsequent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9509D7-172E-48FA-9B37-B6C6ED281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AB4D9-3677-445B-9DCC-55F4B69B5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46A4F-BC7C-4E54-B51B-8E17BB405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A42EBA-A96C-4625-AC1A-624938FF3F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5BECB0-FC8B-4AF8-BE90-FB1E058FA4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6BBD69-096A-4BDA-9A35-473BCEFBFA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AF9CEB-DF7C-4555-ADAC-75CE60F0BB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A493C9-D0B7-482C-B17B-8A289D863D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06C67A-52F4-4409-994F-40A6E7DC0E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1FF9D-8741-4E83-908C-64C51F389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2CB25-8CA9-47D1-B52B-3E077FC13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33810-061A-4B11-A728-547431953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D408A-B869-48FE-AE51-EA64F81F0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9D055-5D52-435F-8C97-43EC856C2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20EC5F-B26F-4D11-BF0F-734F8FA39A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C993F1-2C46-4E81-8B30-86A4D5256E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4B1731-19C1-45AC-81DF-3B814D5DD7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A865B5-7135-4F57-A307-6708F39E06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3152EF-ACFF-4A09-A8F4-EF713272C2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B8E9D4-2FF0-4495-A839-9D509FD416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D1D1B6-8C53-4800-9619-071A4D0DD9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378E41-1679-4F36-99C9-2C70F0511F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92BBA-4AD6-485E-924D-2CE10E226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A5FBF2-36F3-4925-90D7-DAF86993BD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AED514-D4A3-4B1A-BAB5-05CA7DBB98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A235BD-32C9-460D-8EF5-688236C471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9BF30B-09CD-403E-9334-D6430B0F57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88EB49-2C06-477D-9723-B8B0014E49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9A0A08-5EBA-4970-9320-2E11BDBA27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8CCE18-FB7E-43D5-9E98-C5FEE9563B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3F948B-EF92-4C51-9625-C246479F05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FC346A-1802-4F19-9AEC-8D348167EE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E1CBA0-8E4F-4740-BF82-1F61CACC0C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564E8-2DDA-4470-BEE4-853390293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32843B-C89A-4B4B-8C35-23470A1B61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8094DD-9308-4585-B798-C9FC701066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B922D9-410E-414E-87F1-71AE416CB1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E6F3A8-72AD-4B92-98B5-F0CE15737F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03D7F5-3480-4886-9A63-84C6CAA6E0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D9716B-07FC-48DC-9E5F-189E8B0702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82A8BC-7471-41FB-9728-1E271D9E5F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37DF86-02A0-4DEC-A696-DB48470979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7B19C8-36CF-4738-9BA6-9DA49F97C0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2C9D16-733C-4CE8-82E2-5AADFAD6C1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B809D-75F9-427C-AD92-02B173B59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F5144E-F5A4-48BE-880C-D971509587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8568E5-F794-48FD-853C-2353BBE91C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7C3581-E983-4CD9-9566-BFA9F49D21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240E92-CDC2-47F4-A274-073E8C2A59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1D0948-B393-41E4-8FDC-16B12DD619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C0D818-F871-4EDC-B780-F64BEBC3B5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95D43F-FFD6-43D9-9B80-B8775AF6DD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EDF4FE-11F2-4F93-A53D-DE55AB7BC4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AB1F05-1CCD-43F1-B130-1D02AEDAA7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9A6B54-3B99-43E9-85FD-52D3E4E2EC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09D40-D948-4E7F-BB50-9B3548C40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55C0D2-CC53-42CF-AF18-EF68D70366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C13BE3-6E6E-46B0-BFF0-0C326FBF13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987179-FC5B-49FC-9F8B-499ACEFC65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18213A-2806-4C91-BCD8-31054BC749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DEF797-A529-4364-BA4A-ABB19FD554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6FF8F5-11BC-4F95-8794-D695823587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998A14-6BBC-4631-BB9E-96A45B8A5B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156A56-9E2B-4337-BD9D-822870FDD2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F1F689-48E4-4DEA-B585-0A9742E808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130063-C19F-47E4-8665-9CF6EE0B9F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051C5-018F-4552-B0DC-F976AEC76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787E84-52EE-4F51-9A3F-9CCF395DE6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6589A6-D6F5-4C36-BF4D-61DCA22C54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AD4B7A-0DBC-44A9-89A7-E1F48AB91B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4B926-208D-4352-BDF2-9CD0D1B22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92DA7-CE4A-4A5B-B1E8-6FAEC28A3D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8763C-E972-4B9A-A6EF-BA1A3CEAB3B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BCB94-E957-4457-952D-D910570B13D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C3C2A-198E-43A9-B335-9D6D7413ABC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AEF59-2044-43EE-89B1-46BBD4CD11F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22EF6-8AD8-421F-97BB-CA290937CC2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0762C-6F0A-4E7B-95B4-D1353FCC79D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51FC6-755D-43FF-A577-F13A2C94035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259"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260"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261"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6</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Consumer Decision Making</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0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E6B8A-3E33-4BCE-B7EF-0F804C80159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06" name="PlaceHolder 1"/>
          <p:cNvSpPr>
            <a:spLocks noGrp="1"/>
          </p:cNvSpPr>
          <p:nvPr>
            <p:ph type="title"/>
          </p:nvPr>
        </p:nvSpPr>
        <p:spPr>
          <a:xfrm>
            <a:off x="1396800" y="558360"/>
            <a:ext cx="65163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ed Recognition</a:t>
            </a:r>
            <a:endParaRPr b="0" lang="en-US" sz="4000" spc="-1" strike="noStrike">
              <a:solidFill>
                <a:srgbClr val="000000"/>
              </a:solidFill>
              <a:latin typeface="Calibri"/>
            </a:endParaRPr>
          </a:p>
        </p:txBody>
      </p:sp>
      <p:grpSp>
        <p:nvGrpSpPr>
          <p:cNvPr id="307" name="Group 31"/>
          <p:cNvGrpSpPr/>
          <p:nvPr/>
        </p:nvGrpSpPr>
        <p:grpSpPr>
          <a:xfrm>
            <a:off x="1479600" y="1938240"/>
            <a:ext cx="6151320" cy="1447920"/>
            <a:chOff x="1479600" y="1938240"/>
            <a:chExt cx="6151320" cy="1447920"/>
          </a:xfrm>
        </p:grpSpPr>
        <p:sp>
          <p:nvSpPr>
            <p:cNvPr id="308" name="Rectangle 28"/>
            <p:cNvSpPr/>
            <p:nvPr/>
          </p:nvSpPr>
          <p:spPr>
            <a:xfrm>
              <a:off x="1479600" y="1938240"/>
              <a:ext cx="6151320" cy="1447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Rectangle 29"/>
            <p:cNvSpPr/>
            <p:nvPr/>
          </p:nvSpPr>
          <p:spPr>
            <a:xfrm>
              <a:off x="1581480" y="2227680"/>
              <a:ext cx="5946480" cy="109188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Result of an imbalance between actual and desired states.</a:t>
              </a:r>
              <a:endParaRPr b="0" lang="en-US" sz="2300" spc="-1" strike="noStrike">
                <a:solidFill>
                  <a:srgbClr val="000000"/>
                </a:solidFill>
                <a:latin typeface="Arial"/>
              </a:endParaRPr>
            </a:p>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
        <p:nvSpPr>
          <p:cNvPr id="310" name="TextBox 9"/>
          <p:cNvSpPr/>
          <p:nvPr/>
        </p:nvSpPr>
        <p:spPr>
          <a:xfrm>
            <a:off x="2244600" y="3973680"/>
            <a:ext cx="46389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Need recognition is the first stage in the decision-making process</a:t>
            </a:r>
            <a:endParaRPr b="0" lang="en-US" sz="28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7A5CD-B237-4762-97CE-13391E9225B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3" name="PlaceHolder 1"/>
          <p:cNvSpPr>
            <a:spLocks noGrp="1"/>
          </p:cNvSpPr>
          <p:nvPr>
            <p:ph type="title"/>
          </p:nvPr>
        </p:nvSpPr>
        <p:spPr>
          <a:xfrm>
            <a:off x="1285920" y="444600"/>
            <a:ext cx="669456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imulus</a:t>
            </a:r>
            <a:endParaRPr b="0" lang="en-US" sz="4000" spc="-1" strike="noStrike">
              <a:solidFill>
                <a:srgbClr val="000000"/>
              </a:solidFill>
              <a:latin typeface="Calibri"/>
            </a:endParaRPr>
          </a:p>
        </p:txBody>
      </p:sp>
      <p:grpSp>
        <p:nvGrpSpPr>
          <p:cNvPr id="314" name="Group 5"/>
          <p:cNvGrpSpPr/>
          <p:nvPr/>
        </p:nvGrpSpPr>
        <p:grpSpPr>
          <a:xfrm>
            <a:off x="1962000" y="1744560"/>
            <a:ext cx="5319360" cy="3657240"/>
            <a:chOff x="1962000" y="1744560"/>
            <a:chExt cx="5319360" cy="3657240"/>
          </a:xfrm>
        </p:grpSpPr>
        <p:sp>
          <p:nvSpPr>
            <p:cNvPr id="315" name="Rectangle 6"/>
            <p:cNvSpPr/>
            <p:nvPr/>
          </p:nvSpPr>
          <p:spPr>
            <a:xfrm>
              <a:off x="1962000" y="1744560"/>
              <a:ext cx="5319360" cy="365724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Rectangle 7"/>
            <p:cNvSpPr/>
            <p:nvPr/>
          </p:nvSpPr>
          <p:spPr>
            <a:xfrm>
              <a:off x="2356200" y="1944360"/>
              <a:ext cx="4925160" cy="345708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Any unit of input affecting one or more of the five senses:</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Sight</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Smell</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Taste</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Touch</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Hearing</a:t>
              </a:r>
              <a:endParaRPr b="0" lang="en-US" sz="2300" spc="-1" strike="noStrike">
                <a:solidFill>
                  <a:srgbClr val="000000"/>
                </a:solidFill>
                <a:latin typeface="Arial"/>
              </a:endParaRPr>
            </a:p>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15" descr="\\FILESVR\SharedDocs\SWCP\CURRENT PROJECTS\MKTG9\Supplements\PowerPoints\Templates\PPT_BOX.jpg"/>
          <p:cNvPicPr/>
          <p:nvPr/>
        </p:nvPicPr>
        <p:blipFill>
          <a:blip r:embed="rId1"/>
          <a:stretch/>
        </p:blipFill>
        <p:spPr>
          <a:xfrm>
            <a:off x="0" y="-7920"/>
            <a:ext cx="9144000" cy="6865920"/>
          </a:xfrm>
          <a:prstGeom prst="rect">
            <a:avLst/>
          </a:prstGeom>
          <a:ln w="0">
            <a:noFill/>
          </a:ln>
        </p:spPr>
      </p:pic>
      <p:sp>
        <p:nvSpPr>
          <p:cNvPr id="318" name="Footer Placeholder 1"/>
          <p:cNvSpPr/>
          <p:nvPr/>
        </p:nvSpPr>
        <p:spPr>
          <a:xfrm>
            <a:off x="2286000" y="604368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9" name="Slide Number Placeholder 2"/>
          <p:cNvSpPr/>
          <p:nvPr/>
        </p:nvSpPr>
        <p:spPr>
          <a:xfrm>
            <a:off x="6553080" y="60436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FDF47-EA17-4823-B8D3-3CB78AB048D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20" name="PlaceHolder 1"/>
          <p:cNvSpPr>
            <a:spLocks noGrp="1"/>
          </p:cNvSpPr>
          <p:nvPr>
            <p:ph type="title"/>
          </p:nvPr>
        </p:nvSpPr>
        <p:spPr>
          <a:xfrm>
            <a:off x="0" y="-8280"/>
            <a:ext cx="91440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Need Recognition</a:t>
            </a:r>
            <a:endParaRPr b="0" lang="en-US" sz="6000" spc="-1" strike="noStrike">
              <a:solidFill>
                <a:srgbClr val="7030a0"/>
              </a:solidFill>
              <a:latin typeface="Calibri"/>
            </a:endParaRPr>
          </a:p>
        </p:txBody>
      </p:sp>
      <p:grpSp>
        <p:nvGrpSpPr>
          <p:cNvPr id="321" name="Group 10"/>
          <p:cNvGrpSpPr/>
          <p:nvPr/>
        </p:nvGrpSpPr>
        <p:grpSpPr>
          <a:xfrm>
            <a:off x="642960" y="1392120"/>
            <a:ext cx="7746480" cy="4535280"/>
            <a:chOff x="642960" y="1392120"/>
            <a:chExt cx="7746480" cy="4535280"/>
          </a:xfrm>
        </p:grpSpPr>
        <p:sp>
          <p:nvSpPr>
            <p:cNvPr id="322" name="Text Box 11"/>
            <p:cNvSpPr/>
            <p:nvPr/>
          </p:nvSpPr>
          <p:spPr>
            <a:xfrm>
              <a:off x="2758680" y="4827960"/>
              <a:ext cx="56307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Marketing helps consumers recognize </a:t>
              </a:r>
              <a:br>
                <a:rPr sz="2200"/>
              </a:br>
              <a:r>
                <a:rPr b="1" i="1" lang="en-US" sz="2200" spc="-1" strike="noStrike">
                  <a:solidFill>
                    <a:srgbClr val="000000"/>
                  </a:solidFill>
                  <a:latin typeface="Arial"/>
                  <a:ea typeface="ＭＳ Ｐゴシック"/>
                </a:rPr>
                <a:t>an imbalance between present status and preferred state.</a:t>
              </a:r>
              <a:endParaRPr b="0" lang="en-US" sz="2200" spc="-1" strike="noStrike">
                <a:solidFill>
                  <a:srgbClr val="000000"/>
                </a:solidFill>
                <a:latin typeface="Arial"/>
              </a:endParaRPr>
            </a:p>
          </p:txBody>
        </p:sp>
        <p:sp>
          <p:nvSpPr>
            <p:cNvPr id="323" name="Rectangle 12"/>
            <p:cNvSpPr/>
            <p:nvPr/>
          </p:nvSpPr>
          <p:spPr>
            <a:xfrm>
              <a:off x="6424200" y="3177360"/>
              <a:ext cx="184320" cy="4219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24" name="Group 13"/>
            <p:cNvGrpSpPr/>
            <p:nvPr/>
          </p:nvGrpSpPr>
          <p:grpSpPr>
            <a:xfrm>
              <a:off x="2558520" y="1392120"/>
              <a:ext cx="4656600" cy="3425040"/>
              <a:chOff x="2558520" y="1392120"/>
              <a:chExt cx="4656600" cy="3425040"/>
            </a:xfrm>
          </p:grpSpPr>
          <p:pic>
            <p:nvPicPr>
              <p:cNvPr id="325" name="Picture 14" descr=""/>
              <p:cNvPicPr/>
              <p:nvPr/>
            </p:nvPicPr>
            <p:blipFill>
              <a:blip r:embed="rId2"/>
              <a:stretch/>
            </p:blipFill>
            <p:spPr>
              <a:xfrm>
                <a:off x="2558520" y="1392120"/>
                <a:ext cx="4656600" cy="3425040"/>
              </a:xfrm>
              <a:prstGeom prst="rect">
                <a:avLst/>
              </a:prstGeom>
              <a:ln w="0">
                <a:noFill/>
              </a:ln>
            </p:spPr>
          </p:pic>
          <p:sp>
            <p:nvSpPr>
              <p:cNvPr id="326" name="Cloud"/>
              <p:cNvSpPr/>
              <p:nvPr/>
            </p:nvSpPr>
            <p:spPr>
              <a:xfrm>
                <a:off x="2559600" y="3608280"/>
                <a:ext cx="1785240" cy="103032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Pres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Stat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Cloud"/>
              <p:cNvSpPr/>
              <p:nvPr/>
            </p:nvSpPr>
            <p:spPr>
              <a:xfrm>
                <a:off x="5165640" y="3342960"/>
                <a:ext cx="2016360" cy="103860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Preferred State</a:t>
                </a:r>
                <a:endParaRPr b="0" lang="en-US" sz="2000" spc="-1" strike="noStrike">
                  <a:solidFill>
                    <a:srgbClr val="000000"/>
                  </a:solidFill>
                  <a:latin typeface="Arial"/>
                </a:endParaRPr>
              </a:p>
            </p:txBody>
          </p:sp>
        </p:grpSp>
        <p:sp>
          <p:nvSpPr>
            <p:cNvPr id="328" name="AutoShape 17"/>
            <p:cNvSpPr/>
            <p:nvPr/>
          </p:nvSpPr>
          <p:spPr>
            <a:xfrm rot="1722000">
              <a:off x="853560" y="2019600"/>
              <a:ext cx="1712520" cy="1251360"/>
            </a:xfrm>
            <a:prstGeom prst="rightArrow">
              <a:avLst>
                <a:gd name="adj1" fmla="val 50000"/>
                <a:gd name="adj2" fmla="val 34213"/>
              </a:avLst>
            </a:prstGeom>
            <a:solidFill>
              <a:srgbClr val="ffff99"/>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Inter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Stimuli</a:t>
              </a:r>
              <a:endParaRPr b="0" lang="en-US" sz="2000" spc="-1" strike="noStrike">
                <a:solidFill>
                  <a:srgbClr val="000000"/>
                </a:solidFill>
                <a:latin typeface="Arial"/>
              </a:endParaRPr>
            </a:p>
          </p:txBody>
        </p:sp>
        <p:sp>
          <p:nvSpPr>
            <p:cNvPr id="329" name="AutoShape 18"/>
            <p:cNvSpPr/>
            <p:nvPr/>
          </p:nvSpPr>
          <p:spPr>
            <a:xfrm rot="19602600">
              <a:off x="845640" y="4080960"/>
              <a:ext cx="1712520" cy="1251360"/>
            </a:xfrm>
            <a:prstGeom prst="rightArrow">
              <a:avLst>
                <a:gd name="adj1" fmla="val 50000"/>
                <a:gd name="adj2" fmla="val 34213"/>
              </a:avLst>
            </a:prstGeom>
            <a:solidFill>
              <a:srgbClr val="d83c3c"/>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Exter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Stimuli</a:t>
              </a:r>
              <a:endParaRPr b="0" lang="en-US" sz="20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CE4F2-3C28-4A6F-82DE-8AAF6A13E60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2" name="PlaceHolder 1"/>
          <p:cNvSpPr>
            <a:spLocks noGrp="1"/>
          </p:cNvSpPr>
          <p:nvPr>
            <p:ph type="title"/>
          </p:nvPr>
        </p:nvSpPr>
        <p:spPr>
          <a:xfrm>
            <a:off x="1296720" y="355680"/>
            <a:ext cx="6600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ormation Search</a:t>
            </a:r>
            <a:endParaRPr b="0" lang="en-US" sz="4000" spc="-1" strike="noStrike">
              <a:solidFill>
                <a:srgbClr val="000000"/>
              </a:solidFill>
              <a:latin typeface="Calibri"/>
            </a:endParaRPr>
          </a:p>
        </p:txBody>
      </p:sp>
      <p:sp>
        <p:nvSpPr>
          <p:cNvPr id="333" name="Rectangle 8"/>
          <p:cNvSpPr/>
          <p:nvPr/>
        </p:nvSpPr>
        <p:spPr>
          <a:xfrm>
            <a:off x="1712880" y="1844640"/>
            <a:ext cx="5710320" cy="144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rnal Information Search  </a:t>
            </a:r>
            <a:br>
              <a:rPr sz="2400"/>
            </a:br>
            <a:endParaRPr b="0" lang="en-US" sz="2400" spc="-1" strike="noStrike">
              <a:solidFill>
                <a:srgbClr val="000000"/>
              </a:solidFill>
              <a:latin typeface="Arial"/>
            </a:endParaRPr>
          </a:p>
          <a:p>
            <a:pPr lvl="1" marL="969840" indent="-4554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Recall information in memory</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4" name="Rectangle 11"/>
          <p:cNvSpPr/>
          <p:nvPr/>
        </p:nvSpPr>
        <p:spPr>
          <a:xfrm>
            <a:off x="1712880" y="3278160"/>
            <a:ext cx="6585120" cy="204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ternal Information search</a:t>
            </a:r>
            <a:br>
              <a:rPr sz="2400"/>
            </a:br>
            <a:endParaRPr b="0" lang="en-US" sz="2400" spc="-1" strike="noStrike">
              <a:solidFill>
                <a:srgbClr val="000000"/>
              </a:solidFill>
              <a:latin typeface="Arial"/>
            </a:endParaRPr>
          </a:p>
          <a:p>
            <a:pPr lvl="1" marL="1028880" indent="-4572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ek information in outside environment</a:t>
            </a:r>
            <a:endParaRPr b="0" lang="en-US" sz="24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ＭＳ Ｐゴシック"/>
              </a:rPr>
              <a:t>Nonmarketing-controlled</a:t>
            </a:r>
            <a:endParaRPr b="0" lang="en-US" sz="22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ＭＳ Ｐゴシック"/>
              </a:rPr>
              <a:t>Marketing-controlled</a:t>
            </a:r>
            <a:endParaRPr b="0" lang="en-US" sz="2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15" descr="\\FILESVR\SharedDocs\SWCP\CURRENT PROJECTS\MKTG9\Supplements\PowerPoints\Templates\PPT_BOX.jpg"/>
          <p:cNvPicPr/>
          <p:nvPr/>
        </p:nvPicPr>
        <p:blipFill>
          <a:blip r:embed="rId1"/>
          <a:stretch/>
        </p:blipFill>
        <p:spPr>
          <a:xfrm>
            <a:off x="-14400" y="-11160"/>
            <a:ext cx="9158400" cy="6869160"/>
          </a:xfrm>
          <a:prstGeom prst="rect">
            <a:avLst/>
          </a:prstGeom>
          <a:ln w="0">
            <a:noFill/>
          </a:ln>
        </p:spPr>
      </p:pic>
      <p:sp>
        <p:nvSpPr>
          <p:cNvPr id="336" name="Footer Placeholder 1"/>
          <p:cNvSpPr/>
          <p:nvPr/>
        </p:nvSpPr>
        <p:spPr>
          <a:xfrm>
            <a:off x="2286000" y="605952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7" name="Slide Number Placeholder 2"/>
          <p:cNvSpPr/>
          <p:nvPr/>
        </p:nvSpPr>
        <p:spPr>
          <a:xfrm>
            <a:off x="6553080" y="6059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0254B-75D3-4270-85D6-8E4AF41D31D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8" name="PlaceHolder 1"/>
          <p:cNvSpPr>
            <a:spLocks noGrp="1"/>
          </p:cNvSpPr>
          <p:nvPr>
            <p:ph type="title"/>
          </p:nvPr>
        </p:nvSpPr>
        <p:spPr>
          <a:xfrm>
            <a:off x="0" y="-15840"/>
            <a:ext cx="914400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External Information Searches</a:t>
            </a:r>
            <a:endParaRPr b="0" lang="en-US" sz="4800" spc="-1" strike="noStrike">
              <a:solidFill>
                <a:srgbClr val="7030a0"/>
              </a:solidFill>
              <a:latin typeface="Calibri"/>
            </a:endParaRPr>
          </a:p>
        </p:txBody>
      </p:sp>
      <p:grpSp>
        <p:nvGrpSpPr>
          <p:cNvPr id="339" name="Group 9"/>
          <p:cNvGrpSpPr/>
          <p:nvPr/>
        </p:nvGrpSpPr>
        <p:grpSpPr>
          <a:xfrm>
            <a:off x="647640" y="2054160"/>
            <a:ext cx="7848360" cy="3809880"/>
            <a:chOff x="647640" y="2054160"/>
            <a:chExt cx="7848360" cy="3809880"/>
          </a:xfrm>
        </p:grpSpPr>
        <p:grpSp>
          <p:nvGrpSpPr>
            <p:cNvPr id="340" name="Group 10"/>
            <p:cNvGrpSpPr/>
            <p:nvPr/>
          </p:nvGrpSpPr>
          <p:grpSpPr>
            <a:xfrm>
              <a:off x="4710960" y="2054160"/>
              <a:ext cx="3785040" cy="3809880"/>
              <a:chOff x="4710960" y="2054160"/>
              <a:chExt cx="3785040" cy="3809880"/>
            </a:xfrm>
          </p:grpSpPr>
          <p:sp>
            <p:nvSpPr>
              <p:cNvPr id="341" name="AutoShape 11"/>
              <p:cNvSpPr/>
              <p:nvPr/>
            </p:nvSpPr>
            <p:spPr>
              <a:xfrm>
                <a:off x="4710960" y="2258640"/>
                <a:ext cx="3785040" cy="3605400"/>
              </a:xfrm>
              <a:prstGeom prst="rightArrow">
                <a:avLst>
                  <a:gd name="adj1" fmla="val 50000"/>
                  <a:gd name="adj2" fmla="val 26246"/>
                </a:avLst>
              </a:prstGeom>
              <a:gradFill rotWithShape="0">
                <a:gsLst>
                  <a:gs pos="0">
                    <a:srgbClr val="00b0f0"/>
                  </a:gs>
                  <a:gs pos="100000">
                    <a:srgbClr val="ccecff"/>
                  </a:gs>
                </a:gsLst>
                <a:lin ang="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Rectangle 12"/>
              <p:cNvSpPr/>
              <p:nvPr/>
            </p:nvSpPr>
            <p:spPr>
              <a:xfrm>
                <a:off x="532224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More</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sp>
            <p:nvSpPr>
              <p:cNvPr id="343" name="Rectangle 13"/>
              <p:cNvSpPr/>
              <p:nvPr/>
            </p:nvSpPr>
            <p:spPr>
              <a:xfrm>
                <a:off x="4748040" y="3407040"/>
                <a:ext cx="35514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High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ack of confidence</a:t>
                </a:r>
                <a:endParaRPr b="0" lang="en-US" sz="2200" spc="-1" strike="noStrike">
                  <a:solidFill>
                    <a:srgbClr val="000000"/>
                  </a:solidFill>
                  <a:latin typeface="Arial"/>
                </a:endParaRPr>
              </a:p>
            </p:txBody>
          </p:sp>
        </p:grpSp>
        <p:grpSp>
          <p:nvGrpSpPr>
            <p:cNvPr id="344" name="Group 14"/>
            <p:cNvGrpSpPr/>
            <p:nvPr/>
          </p:nvGrpSpPr>
          <p:grpSpPr>
            <a:xfrm>
              <a:off x="647640" y="2054160"/>
              <a:ext cx="3785040" cy="3809880"/>
              <a:chOff x="647640" y="2054160"/>
              <a:chExt cx="3785040" cy="3809880"/>
            </a:xfrm>
          </p:grpSpPr>
          <p:sp>
            <p:nvSpPr>
              <p:cNvPr id="345" name="AutoShape 15"/>
              <p:cNvSpPr/>
              <p:nvPr/>
            </p:nvSpPr>
            <p:spPr>
              <a:xfrm flipH="1">
                <a:off x="647640" y="2258640"/>
                <a:ext cx="3785040" cy="3605400"/>
              </a:xfrm>
              <a:prstGeom prst="rightArrow">
                <a:avLst>
                  <a:gd name="adj1" fmla="val 50000"/>
                  <a:gd name="adj2" fmla="val 26246"/>
                </a:avLst>
              </a:prstGeom>
              <a:gradFill rotWithShape="0">
                <a:gsLst>
                  <a:gs pos="0">
                    <a:srgbClr val="ccecff"/>
                  </a:gs>
                  <a:gs pos="100000">
                    <a:srgbClr val="00b0f0"/>
                  </a:gs>
                </a:gsLst>
                <a:lin ang="1080000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Rectangle 16"/>
              <p:cNvSpPr/>
              <p:nvPr/>
            </p:nvSpPr>
            <p:spPr>
              <a:xfrm>
                <a:off x="794520" y="3407040"/>
                <a:ext cx="35532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ow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Confidence in decision</a:t>
                </a:r>
                <a:endParaRPr b="0" lang="en-US" sz="2200" spc="-1" strike="noStrike">
                  <a:solidFill>
                    <a:srgbClr val="000000"/>
                  </a:solidFill>
                  <a:latin typeface="Arial"/>
                </a:endParaRPr>
              </a:p>
            </p:txBody>
          </p:sp>
          <p:sp>
            <p:nvSpPr>
              <p:cNvPr id="347" name="Rectangle 17"/>
              <p:cNvSpPr/>
              <p:nvPr/>
            </p:nvSpPr>
            <p:spPr>
              <a:xfrm>
                <a:off x="181188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Less</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gr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4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7C77C-3EE4-4CC2-8CE6-504FB6855DF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0" name="PlaceHolder 1"/>
          <p:cNvSpPr>
            <a:spLocks noGrp="1"/>
          </p:cNvSpPr>
          <p:nvPr>
            <p:ph type="title"/>
          </p:nvPr>
        </p:nvSpPr>
        <p:spPr>
          <a:xfrm>
            <a:off x="1246320" y="495360"/>
            <a:ext cx="6651360" cy="150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oked Set </a:t>
            </a:r>
            <a:br>
              <a:rPr sz="4000"/>
            </a:br>
            <a:r>
              <a:rPr b="0" lang="en-US" sz="4000" spc="-1" strike="noStrike">
                <a:solidFill>
                  <a:srgbClr val="000000"/>
                </a:solidFill>
                <a:latin typeface="Calibri"/>
              </a:rPr>
              <a:t>(Consideration set)</a:t>
            </a:r>
            <a:endParaRPr b="0" lang="en-US" sz="4000" spc="-1" strike="noStrike">
              <a:solidFill>
                <a:srgbClr val="000000"/>
              </a:solidFill>
              <a:latin typeface="Calibri"/>
            </a:endParaRPr>
          </a:p>
        </p:txBody>
      </p:sp>
      <p:pic>
        <p:nvPicPr>
          <p:cNvPr id="351" name="Group 20" descr=""/>
          <p:cNvPicPr/>
          <p:nvPr/>
        </p:nvPicPr>
        <p:blipFill>
          <a:blip r:embed="rId1"/>
          <a:stretch/>
        </p:blipFill>
        <p:spPr>
          <a:xfrm>
            <a:off x="1616040" y="1847880"/>
            <a:ext cx="5973840" cy="19810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4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53" name="Footer Placeholder 1"/>
          <p:cNvSpPr/>
          <p:nvPr/>
        </p:nvSpPr>
        <p:spPr>
          <a:xfrm>
            <a:off x="2286000" y="607536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4" name="Slide Number Placeholder 2"/>
          <p:cNvSpPr/>
          <p:nvPr/>
        </p:nvSpPr>
        <p:spPr>
          <a:xfrm>
            <a:off x="6553080" y="607536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D6E97-FB80-41D0-87A0-E076B4057C6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0" y="-360"/>
            <a:ext cx="9144000" cy="116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valuation of Alternatives and Purchase</a:t>
            </a:r>
            <a:endParaRPr b="0" lang="en-US" sz="4000" spc="-1" strike="noStrike">
              <a:solidFill>
                <a:srgbClr val="7030a0"/>
              </a:solidFill>
              <a:latin typeface="Calibri"/>
            </a:endParaRPr>
          </a:p>
        </p:txBody>
      </p:sp>
      <p:grpSp>
        <p:nvGrpSpPr>
          <p:cNvPr id="356" name="Group 53"/>
          <p:cNvGrpSpPr/>
          <p:nvPr/>
        </p:nvGrpSpPr>
        <p:grpSpPr>
          <a:xfrm>
            <a:off x="1351080" y="1424160"/>
            <a:ext cx="6629040" cy="3961440"/>
            <a:chOff x="1351080" y="1424160"/>
            <a:chExt cx="6629040" cy="3961440"/>
          </a:xfrm>
        </p:grpSpPr>
        <p:sp>
          <p:nvSpPr>
            <p:cNvPr id="357" name="Rectangle 11"/>
            <p:cNvSpPr/>
            <p:nvPr/>
          </p:nvSpPr>
          <p:spPr>
            <a:xfrm>
              <a:off x="1351080" y="1424160"/>
              <a:ext cx="2775240" cy="111276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Evoked  Set</a:t>
              </a:r>
              <a:endParaRPr b="0" lang="en-US" sz="3600" spc="-1" strike="noStrike">
                <a:solidFill>
                  <a:srgbClr val="000000"/>
                </a:solidFill>
                <a:latin typeface="Arial"/>
              </a:endParaRPr>
            </a:p>
          </p:txBody>
        </p:sp>
        <p:grpSp>
          <p:nvGrpSpPr>
            <p:cNvPr id="358" name="Group 52"/>
            <p:cNvGrpSpPr/>
            <p:nvPr/>
          </p:nvGrpSpPr>
          <p:grpSpPr>
            <a:xfrm>
              <a:off x="1491120" y="1702440"/>
              <a:ext cx="6489000" cy="3683160"/>
              <a:chOff x="1491120" y="1702440"/>
              <a:chExt cx="6489000" cy="3683160"/>
            </a:xfrm>
          </p:grpSpPr>
          <p:grpSp>
            <p:nvGrpSpPr>
              <p:cNvPr id="359" name="Group 12"/>
              <p:cNvGrpSpPr/>
              <p:nvPr/>
            </p:nvGrpSpPr>
            <p:grpSpPr>
              <a:xfrm>
                <a:off x="2369880" y="4419720"/>
                <a:ext cx="808560" cy="463320"/>
                <a:chOff x="2369880" y="4419720"/>
                <a:chExt cx="808560" cy="463320"/>
              </a:xfrm>
            </p:grpSpPr>
            <p:sp>
              <p:nvSpPr>
                <p:cNvPr id="360" name="Freeform 13"/>
                <p:cNvSpPr/>
                <p:nvPr/>
              </p:nvSpPr>
              <p:spPr>
                <a:xfrm>
                  <a:off x="2377800" y="4506480"/>
                  <a:ext cx="792720" cy="285120"/>
                </a:xfrm>
                <a:custGeom>
                  <a:avLst/>
                  <a:gdLst>
                    <a:gd name="textAreaLeft" fmla="*/ 0 w 792720"/>
                    <a:gd name="textAreaRight" fmla="*/ 793080 w 792720"/>
                    <a:gd name="textAreaTop" fmla="*/ 0 h 285120"/>
                    <a:gd name="textAreaBottom" fmla="*/ 285480 h 285120"/>
                  </a:gdLst>
                  <a:ahLst/>
                  <a:rect l="textAreaLeft" t="textAreaTop" r="textAreaRight" b="textAreaBottom"/>
                  <a:pathLst>
                    <a:path w="859" h="341">
                      <a:moveTo>
                        <a:pt x="76" y="340"/>
                      </a:moveTo>
                      <a:lnTo>
                        <a:pt x="0" y="0"/>
                      </a:lnTo>
                      <a:lnTo>
                        <a:pt x="858" y="0"/>
                      </a:lnTo>
                      <a:lnTo>
                        <a:pt x="780" y="340"/>
                      </a:lnTo>
                      <a:lnTo>
                        <a:pt x="76" y="340"/>
                      </a:lnTo>
                    </a:path>
                  </a:pathLst>
                </a:custGeom>
                <a:solidFill>
                  <a:srgbClr val="f6bf6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1" name="Oval 14"/>
                <p:cNvSpPr/>
                <p:nvPr/>
              </p:nvSpPr>
              <p:spPr>
                <a:xfrm>
                  <a:off x="2449080" y="4709160"/>
                  <a:ext cx="64980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Oval 15"/>
                <p:cNvSpPr/>
                <p:nvPr/>
              </p:nvSpPr>
              <p:spPr>
                <a:xfrm>
                  <a:off x="2369880" y="4419720"/>
                  <a:ext cx="80856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63" name="Group 16"/>
              <p:cNvGrpSpPr/>
              <p:nvPr/>
            </p:nvGrpSpPr>
            <p:grpSpPr>
              <a:xfrm>
                <a:off x="2274840" y="4134240"/>
                <a:ext cx="998640" cy="464400"/>
                <a:chOff x="2274840" y="4134240"/>
                <a:chExt cx="998640" cy="464400"/>
              </a:xfrm>
            </p:grpSpPr>
            <p:sp>
              <p:nvSpPr>
                <p:cNvPr id="364" name="Freeform 17"/>
                <p:cNvSpPr/>
                <p:nvPr/>
              </p:nvSpPr>
              <p:spPr>
                <a:xfrm>
                  <a:off x="2285640" y="4221000"/>
                  <a:ext cx="977400" cy="285840"/>
                </a:xfrm>
                <a:custGeom>
                  <a:avLst/>
                  <a:gdLst>
                    <a:gd name="textAreaLeft" fmla="*/ 0 w 977400"/>
                    <a:gd name="textAreaRight" fmla="*/ 977760 w 977400"/>
                    <a:gd name="textAreaTop" fmla="*/ 0 h 285840"/>
                    <a:gd name="textAreaBottom" fmla="*/ 286200 h 285840"/>
                  </a:gdLst>
                  <a:ahLst/>
                  <a:rect l="textAreaLeft" t="textAreaTop" r="textAreaRight" b="textAreaBottom"/>
                  <a:pathLst>
                    <a:path w="1059" h="341">
                      <a:moveTo>
                        <a:pt x="94" y="340"/>
                      </a:moveTo>
                      <a:lnTo>
                        <a:pt x="0" y="0"/>
                      </a:lnTo>
                      <a:lnTo>
                        <a:pt x="1058" y="0"/>
                      </a:lnTo>
                      <a:lnTo>
                        <a:pt x="961" y="340"/>
                      </a:lnTo>
                      <a:lnTo>
                        <a:pt x="94" y="340"/>
                      </a:lnTo>
                    </a:path>
                  </a:pathLst>
                </a:custGeom>
                <a:solidFill>
                  <a:srgbClr val="f35b1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5" name="Oval 18"/>
                <p:cNvSpPr/>
                <p:nvPr/>
              </p:nvSpPr>
              <p:spPr>
                <a:xfrm>
                  <a:off x="2373120" y="4424400"/>
                  <a:ext cx="80136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Oval 19"/>
                <p:cNvSpPr/>
                <p:nvPr/>
              </p:nvSpPr>
              <p:spPr>
                <a:xfrm>
                  <a:off x="2274840" y="4134240"/>
                  <a:ext cx="99864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67" name="Group 20"/>
              <p:cNvGrpSpPr/>
              <p:nvPr/>
            </p:nvGrpSpPr>
            <p:grpSpPr>
              <a:xfrm>
                <a:off x="2170080" y="3849840"/>
                <a:ext cx="1208520" cy="464040"/>
                <a:chOff x="2170080" y="3849840"/>
                <a:chExt cx="1208520" cy="464040"/>
              </a:xfrm>
            </p:grpSpPr>
            <p:sp>
              <p:nvSpPr>
                <p:cNvPr id="368" name="Freeform 21"/>
                <p:cNvSpPr/>
                <p:nvPr/>
              </p:nvSpPr>
              <p:spPr>
                <a:xfrm>
                  <a:off x="2185560" y="3936600"/>
                  <a:ext cx="1177920" cy="285840"/>
                </a:xfrm>
                <a:custGeom>
                  <a:avLst/>
                  <a:gdLst>
                    <a:gd name="textAreaLeft" fmla="*/ 0 w 1177920"/>
                    <a:gd name="textAreaRight" fmla="*/ 1177920 w 1177920"/>
                    <a:gd name="textAreaTop" fmla="*/ 0 h 285840"/>
                    <a:gd name="textAreaBottom" fmla="*/ 286200 h 285840"/>
                  </a:gdLst>
                  <a:ahLst/>
                  <a:rect l="textAreaLeft" t="textAreaTop" r="textAreaRight" b="textAreaBottom"/>
                  <a:pathLst>
                    <a:path w="1277" h="341">
                      <a:moveTo>
                        <a:pt x="113" y="340"/>
                      </a:moveTo>
                      <a:lnTo>
                        <a:pt x="0" y="0"/>
                      </a:lnTo>
                      <a:lnTo>
                        <a:pt x="1276" y="0"/>
                      </a:lnTo>
                      <a:lnTo>
                        <a:pt x="1160" y="340"/>
                      </a:lnTo>
                      <a:lnTo>
                        <a:pt x="113" y="340"/>
                      </a:lnTo>
                    </a:path>
                  </a:pathLst>
                </a:custGeom>
                <a:solidFill>
                  <a:srgbClr val="d49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9" name="Oval 22"/>
                <p:cNvSpPr/>
                <p:nvPr/>
              </p:nvSpPr>
              <p:spPr>
                <a:xfrm>
                  <a:off x="2288880" y="4139640"/>
                  <a:ext cx="97056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Oval 23"/>
                <p:cNvSpPr/>
                <p:nvPr/>
              </p:nvSpPr>
              <p:spPr>
                <a:xfrm>
                  <a:off x="2170080" y="3849840"/>
                  <a:ext cx="120852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1" name="Group 24"/>
              <p:cNvGrpSpPr/>
              <p:nvPr/>
            </p:nvGrpSpPr>
            <p:grpSpPr>
              <a:xfrm>
                <a:off x="2032560" y="3565440"/>
                <a:ext cx="1483200" cy="463320"/>
                <a:chOff x="2032560" y="3565440"/>
                <a:chExt cx="1483200" cy="463320"/>
              </a:xfrm>
            </p:grpSpPr>
            <p:sp>
              <p:nvSpPr>
                <p:cNvPr id="372" name="Freeform 25"/>
                <p:cNvSpPr/>
                <p:nvPr/>
              </p:nvSpPr>
              <p:spPr>
                <a:xfrm>
                  <a:off x="2050920" y="3652200"/>
                  <a:ext cx="1447200" cy="285120"/>
                </a:xfrm>
                <a:custGeom>
                  <a:avLst/>
                  <a:gdLst>
                    <a:gd name="textAreaLeft" fmla="*/ 0 w 1447200"/>
                    <a:gd name="textAreaRight" fmla="*/ 1447560 w 1447200"/>
                    <a:gd name="textAreaTop" fmla="*/ 0 h 285120"/>
                    <a:gd name="textAreaBottom" fmla="*/ 285480 h 285120"/>
                  </a:gdLst>
                  <a:ahLst/>
                  <a:rect l="textAreaLeft" t="textAreaTop" r="textAreaRight" b="textAreaBottom"/>
                  <a:pathLst>
                    <a:path w="1569" h="341">
                      <a:moveTo>
                        <a:pt x="139" y="340"/>
                      </a:moveTo>
                      <a:lnTo>
                        <a:pt x="0" y="0"/>
                      </a:lnTo>
                      <a:lnTo>
                        <a:pt x="1568" y="0"/>
                      </a:lnTo>
                      <a:lnTo>
                        <a:pt x="1425" y="340"/>
                      </a:lnTo>
                      <a:lnTo>
                        <a:pt x="139" y="340"/>
                      </a:lnTo>
                    </a:path>
                  </a:pathLst>
                </a:custGeom>
                <a:solidFill>
                  <a:srgbClr val="b760f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3" name="Oval 26"/>
                <p:cNvSpPr/>
                <p:nvPr/>
              </p:nvSpPr>
              <p:spPr>
                <a:xfrm>
                  <a:off x="2177280" y="3854880"/>
                  <a:ext cx="11934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Oval 27"/>
                <p:cNvSpPr/>
                <p:nvPr/>
              </p:nvSpPr>
              <p:spPr>
                <a:xfrm>
                  <a:off x="2032560" y="3565440"/>
                  <a:ext cx="14832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5" name="Group 28"/>
              <p:cNvGrpSpPr/>
              <p:nvPr/>
            </p:nvGrpSpPr>
            <p:grpSpPr>
              <a:xfrm>
                <a:off x="1885320" y="3281040"/>
                <a:ext cx="1778040" cy="462600"/>
                <a:chOff x="1885320" y="3281040"/>
                <a:chExt cx="1778040" cy="462600"/>
              </a:xfrm>
            </p:grpSpPr>
            <p:sp>
              <p:nvSpPr>
                <p:cNvPr id="376" name="Freeform 29"/>
                <p:cNvSpPr/>
                <p:nvPr/>
              </p:nvSpPr>
              <p:spPr>
                <a:xfrm>
                  <a:off x="1909080" y="3367800"/>
                  <a:ext cx="1730880" cy="284760"/>
                </a:xfrm>
                <a:custGeom>
                  <a:avLst/>
                  <a:gdLst>
                    <a:gd name="textAreaLeft" fmla="*/ 0 w 1730880"/>
                    <a:gd name="textAreaRight" fmla="*/ 1731240 w 1730880"/>
                    <a:gd name="textAreaTop" fmla="*/ 0 h 284760"/>
                    <a:gd name="textAreaBottom" fmla="*/ 285120 h 284760"/>
                  </a:gdLst>
                  <a:ahLst/>
                  <a:rect l="textAreaLeft" t="textAreaTop" r="textAreaRight" b="textAreaBottom"/>
                  <a:pathLst>
                    <a:path w="1879" h="341">
                      <a:moveTo>
                        <a:pt x="167" y="340"/>
                      </a:moveTo>
                      <a:lnTo>
                        <a:pt x="0" y="0"/>
                      </a:lnTo>
                      <a:lnTo>
                        <a:pt x="1878" y="0"/>
                      </a:lnTo>
                      <a:lnTo>
                        <a:pt x="1707" y="340"/>
                      </a:lnTo>
                      <a:lnTo>
                        <a:pt x="167" y="340"/>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7" name="Oval 30"/>
                <p:cNvSpPr/>
                <p:nvPr/>
              </p:nvSpPr>
              <p:spPr>
                <a:xfrm>
                  <a:off x="2059200" y="3570120"/>
                  <a:ext cx="142956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Oval 31"/>
                <p:cNvSpPr/>
                <p:nvPr/>
              </p:nvSpPr>
              <p:spPr>
                <a:xfrm>
                  <a:off x="1885320" y="3281040"/>
                  <a:ext cx="177804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9" name="Group 32"/>
              <p:cNvGrpSpPr/>
              <p:nvPr/>
            </p:nvGrpSpPr>
            <p:grpSpPr>
              <a:xfrm>
                <a:off x="1702800" y="2987640"/>
                <a:ext cx="2142720" cy="462960"/>
                <a:chOff x="1702800" y="2987640"/>
                <a:chExt cx="2142720" cy="462960"/>
              </a:xfrm>
            </p:grpSpPr>
            <p:sp>
              <p:nvSpPr>
                <p:cNvPr id="380" name="Freeform 33"/>
                <p:cNvSpPr/>
                <p:nvPr/>
              </p:nvSpPr>
              <p:spPr>
                <a:xfrm>
                  <a:off x="1731240" y="3074400"/>
                  <a:ext cx="2086560" cy="285120"/>
                </a:xfrm>
                <a:custGeom>
                  <a:avLst/>
                  <a:gdLst>
                    <a:gd name="textAreaLeft" fmla="*/ 0 w 2086560"/>
                    <a:gd name="textAreaRight" fmla="*/ 2086920 w 2086560"/>
                    <a:gd name="textAreaTop" fmla="*/ 0 h 285120"/>
                    <a:gd name="textAreaBottom" fmla="*/ 285480 h 285120"/>
                  </a:gdLst>
                  <a:ahLst/>
                  <a:rect l="textAreaLeft" t="textAreaTop" r="textAreaRight" b="textAreaBottom"/>
                  <a:pathLst>
                    <a:path w="2263" h="341">
                      <a:moveTo>
                        <a:pt x="201" y="340"/>
                      </a:moveTo>
                      <a:lnTo>
                        <a:pt x="0" y="0"/>
                      </a:lnTo>
                      <a:lnTo>
                        <a:pt x="2262" y="0"/>
                      </a:lnTo>
                      <a:lnTo>
                        <a:pt x="2056" y="340"/>
                      </a:lnTo>
                      <a:lnTo>
                        <a:pt x="201" y="340"/>
                      </a:lnTo>
                    </a:path>
                  </a:pathLst>
                </a:custGeom>
                <a:solidFill>
                  <a:srgbClr val="70849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1" name="Oval 34"/>
                <p:cNvSpPr/>
                <p:nvPr/>
              </p:nvSpPr>
              <p:spPr>
                <a:xfrm>
                  <a:off x="1911960" y="3276720"/>
                  <a:ext cx="172404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Oval 35"/>
                <p:cNvSpPr/>
                <p:nvPr/>
              </p:nvSpPr>
              <p:spPr>
                <a:xfrm>
                  <a:off x="1702800" y="2987640"/>
                  <a:ext cx="214272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83" name="Group 36"/>
              <p:cNvGrpSpPr/>
              <p:nvPr/>
            </p:nvGrpSpPr>
            <p:grpSpPr>
              <a:xfrm>
                <a:off x="1491120" y="2691000"/>
                <a:ext cx="2566800" cy="467280"/>
                <a:chOff x="1491120" y="2691000"/>
                <a:chExt cx="2566800" cy="467280"/>
              </a:xfrm>
            </p:grpSpPr>
            <p:sp>
              <p:nvSpPr>
                <p:cNvPr id="384" name="Oval 37"/>
                <p:cNvSpPr/>
                <p:nvPr/>
              </p:nvSpPr>
              <p:spPr>
                <a:xfrm>
                  <a:off x="1491120" y="2691000"/>
                  <a:ext cx="2566800" cy="18072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Freeform 38"/>
                <p:cNvSpPr/>
                <p:nvPr/>
              </p:nvSpPr>
              <p:spPr>
                <a:xfrm>
                  <a:off x="1529640" y="2811600"/>
                  <a:ext cx="2490120" cy="255240"/>
                </a:xfrm>
                <a:custGeom>
                  <a:avLst/>
                  <a:gdLst>
                    <a:gd name="textAreaLeft" fmla="*/ 0 w 2490120"/>
                    <a:gd name="textAreaRight" fmla="*/ 2490480 w 2490120"/>
                    <a:gd name="textAreaTop" fmla="*/ 0 h 255240"/>
                    <a:gd name="textAreaBottom" fmla="*/ 255600 h 255240"/>
                  </a:gdLst>
                  <a:ahLst/>
                  <a:rect l="textAreaLeft" t="textAreaTop" r="textAreaRight" b="textAreaBottom"/>
                  <a:pathLst>
                    <a:path w="2701" h="305">
                      <a:moveTo>
                        <a:pt x="240" y="304"/>
                      </a:moveTo>
                      <a:lnTo>
                        <a:pt x="0" y="0"/>
                      </a:lnTo>
                      <a:lnTo>
                        <a:pt x="2700" y="0"/>
                      </a:lnTo>
                      <a:lnTo>
                        <a:pt x="2454" y="304"/>
                      </a:lnTo>
                      <a:lnTo>
                        <a:pt x="240" y="304"/>
                      </a:lnTo>
                    </a:path>
                  </a:pathLst>
                </a:custGeom>
                <a:solidFill>
                  <a:srgbClr val="3aa66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6" name="Oval 39"/>
                <p:cNvSpPr/>
                <p:nvPr/>
              </p:nvSpPr>
              <p:spPr>
                <a:xfrm>
                  <a:off x="1744560" y="2984040"/>
                  <a:ext cx="2059560" cy="17424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387" name="Oval 40"/>
              <p:cNvSpPr/>
              <p:nvPr/>
            </p:nvSpPr>
            <p:spPr>
              <a:xfrm>
                <a:off x="1495080" y="2703240"/>
                <a:ext cx="2557800" cy="175680"/>
              </a:xfrm>
              <a:prstGeom prst="ellipse">
                <a:avLst/>
              </a:prstGeom>
              <a:noFill/>
              <a:ln w="1260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Freeform 41"/>
              <p:cNvSpPr/>
              <p:nvPr/>
            </p:nvSpPr>
            <p:spPr>
              <a:xfrm>
                <a:off x="2050200" y="1910160"/>
                <a:ext cx="1450800" cy="857160"/>
              </a:xfrm>
              <a:custGeom>
                <a:avLst/>
                <a:gdLst>
                  <a:gd name="textAreaLeft" fmla="*/ 0 w 1450800"/>
                  <a:gd name="textAreaRight" fmla="*/ 1451160 w 1450800"/>
                  <a:gd name="textAreaTop" fmla="*/ 0 h 857160"/>
                  <a:gd name="textAreaBottom" fmla="*/ 857520 h 857160"/>
                </a:gdLst>
                <a:ahLst/>
                <a:rect l="textAreaLeft" t="textAreaTop" r="textAreaRight" b="textAreaBottom"/>
                <a:pathLst>
                  <a:path w="3297" h="2527">
                    <a:moveTo>
                      <a:pt x="0" y="0"/>
                    </a:moveTo>
                    <a:lnTo>
                      <a:pt x="421" y="0"/>
                    </a:lnTo>
                    <a:lnTo>
                      <a:pt x="514" y="126"/>
                    </a:lnTo>
                    <a:lnTo>
                      <a:pt x="604" y="247"/>
                    </a:lnTo>
                    <a:lnTo>
                      <a:pt x="702" y="377"/>
                    </a:lnTo>
                    <a:lnTo>
                      <a:pt x="817" y="525"/>
                    </a:lnTo>
                    <a:lnTo>
                      <a:pt x="923" y="667"/>
                    </a:lnTo>
                    <a:lnTo>
                      <a:pt x="1021" y="794"/>
                    </a:lnTo>
                    <a:lnTo>
                      <a:pt x="1105" y="911"/>
                    </a:lnTo>
                    <a:lnTo>
                      <a:pt x="1182" y="1021"/>
                    </a:lnTo>
                    <a:lnTo>
                      <a:pt x="1270" y="1154"/>
                    </a:lnTo>
                    <a:lnTo>
                      <a:pt x="1341" y="1269"/>
                    </a:lnTo>
                    <a:lnTo>
                      <a:pt x="1415" y="1395"/>
                    </a:lnTo>
                    <a:lnTo>
                      <a:pt x="1491" y="1537"/>
                    </a:lnTo>
                    <a:lnTo>
                      <a:pt x="1552" y="1665"/>
                    </a:lnTo>
                    <a:lnTo>
                      <a:pt x="1608" y="1803"/>
                    </a:lnTo>
                    <a:lnTo>
                      <a:pt x="1655" y="1679"/>
                    </a:lnTo>
                    <a:lnTo>
                      <a:pt x="1708" y="1533"/>
                    </a:lnTo>
                    <a:lnTo>
                      <a:pt x="1770" y="1377"/>
                    </a:lnTo>
                    <a:lnTo>
                      <a:pt x="1838" y="1219"/>
                    </a:lnTo>
                    <a:lnTo>
                      <a:pt x="1911" y="1066"/>
                    </a:lnTo>
                    <a:lnTo>
                      <a:pt x="1995" y="916"/>
                    </a:lnTo>
                    <a:lnTo>
                      <a:pt x="2097" y="753"/>
                    </a:lnTo>
                    <a:lnTo>
                      <a:pt x="2243" y="561"/>
                    </a:lnTo>
                    <a:lnTo>
                      <a:pt x="2358" y="418"/>
                    </a:lnTo>
                    <a:lnTo>
                      <a:pt x="2483" y="285"/>
                    </a:lnTo>
                    <a:lnTo>
                      <a:pt x="2613" y="170"/>
                    </a:lnTo>
                    <a:lnTo>
                      <a:pt x="2834" y="0"/>
                    </a:lnTo>
                    <a:lnTo>
                      <a:pt x="3297" y="0"/>
                    </a:lnTo>
                    <a:lnTo>
                      <a:pt x="3134" y="133"/>
                    </a:lnTo>
                    <a:lnTo>
                      <a:pt x="2967" y="296"/>
                    </a:lnTo>
                    <a:lnTo>
                      <a:pt x="2824" y="443"/>
                    </a:lnTo>
                    <a:lnTo>
                      <a:pt x="2687" y="592"/>
                    </a:lnTo>
                    <a:lnTo>
                      <a:pt x="2540" y="771"/>
                    </a:lnTo>
                    <a:lnTo>
                      <a:pt x="2410" y="946"/>
                    </a:lnTo>
                    <a:lnTo>
                      <a:pt x="2321" y="1075"/>
                    </a:lnTo>
                    <a:lnTo>
                      <a:pt x="2227" y="1244"/>
                    </a:lnTo>
                    <a:lnTo>
                      <a:pt x="2144" y="1393"/>
                    </a:lnTo>
                    <a:lnTo>
                      <a:pt x="2085" y="1517"/>
                    </a:lnTo>
                    <a:lnTo>
                      <a:pt x="2016" y="1676"/>
                    </a:lnTo>
                    <a:lnTo>
                      <a:pt x="1966" y="1801"/>
                    </a:lnTo>
                    <a:lnTo>
                      <a:pt x="1933" y="1888"/>
                    </a:lnTo>
                    <a:lnTo>
                      <a:pt x="1897" y="2002"/>
                    </a:lnTo>
                    <a:lnTo>
                      <a:pt x="1870" y="2098"/>
                    </a:lnTo>
                    <a:lnTo>
                      <a:pt x="2103" y="2098"/>
                    </a:lnTo>
                    <a:lnTo>
                      <a:pt x="1672" y="2527"/>
                    </a:lnTo>
                    <a:lnTo>
                      <a:pt x="1205" y="2098"/>
                    </a:lnTo>
                    <a:lnTo>
                      <a:pt x="1437" y="2098"/>
                    </a:lnTo>
                    <a:lnTo>
                      <a:pt x="1419" y="2023"/>
                    </a:lnTo>
                    <a:lnTo>
                      <a:pt x="1385" y="1935"/>
                    </a:lnTo>
                    <a:lnTo>
                      <a:pt x="1337" y="1842"/>
                    </a:lnTo>
                    <a:lnTo>
                      <a:pt x="1275" y="1729"/>
                    </a:lnTo>
                    <a:lnTo>
                      <a:pt x="1204" y="1613"/>
                    </a:lnTo>
                    <a:lnTo>
                      <a:pt x="1141" y="1515"/>
                    </a:lnTo>
                    <a:lnTo>
                      <a:pt x="1076" y="1413"/>
                    </a:lnTo>
                    <a:lnTo>
                      <a:pt x="1002" y="1303"/>
                    </a:lnTo>
                    <a:lnTo>
                      <a:pt x="939" y="1211"/>
                    </a:lnTo>
                    <a:lnTo>
                      <a:pt x="867" y="1100"/>
                    </a:lnTo>
                    <a:lnTo>
                      <a:pt x="728" y="909"/>
                    </a:lnTo>
                    <a:lnTo>
                      <a:pt x="620" y="765"/>
                    </a:lnTo>
                    <a:lnTo>
                      <a:pt x="532" y="649"/>
                    </a:lnTo>
                    <a:lnTo>
                      <a:pt x="454" y="551"/>
                    </a:lnTo>
                    <a:lnTo>
                      <a:pt x="337" y="406"/>
                    </a:lnTo>
                    <a:lnTo>
                      <a:pt x="229" y="272"/>
                    </a:lnTo>
                    <a:lnTo>
                      <a:pt x="117" y="14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9" name="Freeform 42"/>
              <p:cNvSpPr/>
              <p:nvPr/>
            </p:nvSpPr>
            <p:spPr>
              <a:xfrm>
                <a:off x="2806200" y="2622600"/>
                <a:ext cx="172440" cy="15120"/>
              </a:xfrm>
              <a:custGeom>
                <a:avLst/>
                <a:gdLst>
                  <a:gd name="textAreaLeft" fmla="*/ 0 w 172440"/>
                  <a:gd name="textAreaRight" fmla="*/ 172800 w 172440"/>
                  <a:gd name="textAreaTop" fmla="*/ 0 h 15120"/>
                  <a:gd name="textAreaBottom" fmla="*/ 15480 h 15120"/>
                </a:gdLst>
                <a:ahLst/>
                <a:rect l="textAreaLeft" t="textAreaTop" r="textAreaRight" b="textAreaBottom"/>
                <a:pathLst>
                  <a:path w="390" h="42">
                    <a:moveTo>
                      <a:pt x="0" y="42"/>
                    </a:moveTo>
                    <a:lnTo>
                      <a:pt x="152" y="0"/>
                    </a:lnTo>
                    <a:lnTo>
                      <a:pt x="390" y="0"/>
                    </a:lnTo>
                    <a:lnTo>
                      <a:pt x="228" y="42"/>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0" name="Freeform 43"/>
              <p:cNvSpPr/>
              <p:nvPr/>
            </p:nvSpPr>
            <p:spPr>
              <a:xfrm>
                <a:off x="2717280" y="2622600"/>
                <a:ext cx="259560" cy="160200"/>
              </a:xfrm>
              <a:custGeom>
                <a:avLst/>
                <a:gdLst>
                  <a:gd name="textAreaLeft" fmla="*/ 0 w 259560"/>
                  <a:gd name="textAreaRight" fmla="*/ 259560 w 259560"/>
                  <a:gd name="textAreaTop" fmla="*/ 0 h 160200"/>
                  <a:gd name="textAreaBottom" fmla="*/ 160560 h 160200"/>
                </a:gdLst>
                <a:ahLst/>
                <a:rect l="textAreaLeft" t="textAreaTop" r="textAreaRight" b="textAreaBottom"/>
                <a:pathLst>
                  <a:path w="586" h="469">
                    <a:moveTo>
                      <a:pt x="0" y="469"/>
                    </a:moveTo>
                    <a:lnTo>
                      <a:pt x="154" y="427"/>
                    </a:lnTo>
                    <a:lnTo>
                      <a:pt x="586" y="0"/>
                    </a:lnTo>
                    <a:lnTo>
                      <a:pt x="428" y="42"/>
                    </a:lnTo>
                    <a:lnTo>
                      <a:pt x="0" y="4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1" name="Freeform 44"/>
              <p:cNvSpPr/>
              <p:nvPr/>
            </p:nvSpPr>
            <p:spPr>
              <a:xfrm>
                <a:off x="2514240" y="2622600"/>
                <a:ext cx="125640" cy="15120"/>
              </a:xfrm>
              <a:custGeom>
                <a:avLst/>
                <a:gdLst>
                  <a:gd name="textAreaLeft" fmla="*/ 0 w 125640"/>
                  <a:gd name="textAreaRight" fmla="*/ 126000 w 125640"/>
                  <a:gd name="textAreaTop" fmla="*/ 0 h 15120"/>
                  <a:gd name="textAreaBottom" fmla="*/ 15480 h 15120"/>
                </a:gdLst>
                <a:ahLst/>
                <a:rect l="textAreaLeft" t="textAreaTop" r="textAreaRight" b="textAreaBottom"/>
                <a:pathLst>
                  <a:path w="289" h="42">
                    <a:moveTo>
                      <a:pt x="0" y="42"/>
                    </a:moveTo>
                    <a:lnTo>
                      <a:pt x="241" y="42"/>
                    </a:lnTo>
                    <a:lnTo>
                      <a:pt x="289" y="0"/>
                    </a:lnTo>
                    <a:lnTo>
                      <a:pt x="148" y="0"/>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2" name="Freeform 45"/>
              <p:cNvSpPr/>
              <p:nvPr/>
            </p:nvSpPr>
            <p:spPr>
              <a:xfrm>
                <a:off x="3232800" y="1910160"/>
                <a:ext cx="267120" cy="15120"/>
              </a:xfrm>
              <a:custGeom>
                <a:avLst/>
                <a:gdLst>
                  <a:gd name="textAreaLeft" fmla="*/ 0 w 267120"/>
                  <a:gd name="textAreaRight" fmla="*/ 267480 w 267120"/>
                  <a:gd name="textAreaTop" fmla="*/ 0 h 15120"/>
                  <a:gd name="textAreaBottom" fmla="*/ 15480 h 15120"/>
                </a:gdLst>
                <a:ahLst/>
                <a:rect l="textAreaLeft" t="textAreaTop" r="textAreaRight" b="textAreaBottom"/>
                <a:pathLst>
                  <a:path w="608" h="42">
                    <a:moveTo>
                      <a:pt x="0" y="42"/>
                    </a:moveTo>
                    <a:lnTo>
                      <a:pt x="151" y="0"/>
                    </a:lnTo>
                    <a:lnTo>
                      <a:pt x="608" y="0"/>
                    </a:lnTo>
                    <a:lnTo>
                      <a:pt x="456" y="42"/>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3" name="Freeform 46"/>
              <p:cNvSpPr/>
              <p:nvPr/>
            </p:nvSpPr>
            <p:spPr>
              <a:xfrm>
                <a:off x="1980360" y="1910160"/>
                <a:ext cx="253800" cy="16560"/>
              </a:xfrm>
              <a:custGeom>
                <a:avLst/>
                <a:gdLst>
                  <a:gd name="textAreaLeft" fmla="*/ 0 w 253800"/>
                  <a:gd name="textAreaRight" fmla="*/ 254160 w 253800"/>
                  <a:gd name="textAreaTop" fmla="*/ 0 h 16560"/>
                  <a:gd name="textAreaBottom" fmla="*/ 16920 h 16560"/>
                </a:gdLst>
                <a:ahLst/>
                <a:rect l="textAreaLeft" t="textAreaTop" r="textAreaRight" b="textAreaBottom"/>
                <a:pathLst>
                  <a:path w="571" h="45">
                    <a:moveTo>
                      <a:pt x="0" y="42"/>
                    </a:moveTo>
                    <a:lnTo>
                      <a:pt x="157" y="0"/>
                    </a:lnTo>
                    <a:lnTo>
                      <a:pt x="571" y="0"/>
                    </a:lnTo>
                    <a:lnTo>
                      <a:pt x="416" y="45"/>
                    </a:lnTo>
                    <a:lnTo>
                      <a:pt x="0" y="42"/>
                    </a:lnTo>
                    <a:close/>
                  </a:path>
                </a:pathLst>
              </a:custGeom>
              <a:solidFill>
                <a:srgbClr val="008000"/>
              </a:solidFill>
              <a:ln w="0">
                <a:noFill/>
              </a:ln>
            </p:spPr>
            <p:style>
              <a:lnRef idx="0"/>
              <a:fillRef idx="0"/>
              <a:effectRef idx="0"/>
              <a:fontRef idx="minor"/>
            </p:style>
            <p:txBody>
              <a:bodyPr lIns="90000" rIns="90000" tIns="-29880" bIns="-29880" anchor="t">
                <a:noAutofit/>
              </a:bodyPr>
              <a:p>
                <a:endParaRPr b="0" lang="en-US" sz="2800" spc="-1" strike="noStrike">
                  <a:solidFill>
                    <a:srgbClr val="000000"/>
                  </a:solidFill>
                  <a:latin typeface="Arial"/>
                </a:endParaRPr>
              </a:p>
            </p:txBody>
          </p:sp>
          <p:sp>
            <p:nvSpPr>
              <p:cNvPr id="394" name="Freeform 47"/>
              <p:cNvSpPr/>
              <p:nvPr/>
            </p:nvSpPr>
            <p:spPr>
              <a:xfrm>
                <a:off x="1975680" y="1926720"/>
                <a:ext cx="1451160" cy="857520"/>
              </a:xfrm>
              <a:custGeom>
                <a:avLst/>
                <a:gdLst>
                  <a:gd name="textAreaLeft" fmla="*/ 0 w 1451160"/>
                  <a:gd name="textAreaRight" fmla="*/ 1451520 w 1451160"/>
                  <a:gd name="textAreaTop" fmla="*/ 0 h 857520"/>
                  <a:gd name="textAreaBottom" fmla="*/ 857880 h 857520"/>
                </a:gdLst>
                <a:ahLst/>
                <a:rect l="textAreaLeft" t="textAreaTop" r="textAreaRight" b="textAreaBottom"/>
                <a:pathLst>
                  <a:path w="3298" h="2527">
                    <a:moveTo>
                      <a:pt x="0" y="0"/>
                    </a:moveTo>
                    <a:lnTo>
                      <a:pt x="422" y="0"/>
                    </a:lnTo>
                    <a:lnTo>
                      <a:pt x="514" y="126"/>
                    </a:lnTo>
                    <a:lnTo>
                      <a:pt x="604" y="247"/>
                    </a:lnTo>
                    <a:lnTo>
                      <a:pt x="704" y="378"/>
                    </a:lnTo>
                    <a:lnTo>
                      <a:pt x="818" y="525"/>
                    </a:lnTo>
                    <a:lnTo>
                      <a:pt x="924" y="667"/>
                    </a:lnTo>
                    <a:lnTo>
                      <a:pt x="1021" y="794"/>
                    </a:lnTo>
                    <a:lnTo>
                      <a:pt x="1105" y="911"/>
                    </a:lnTo>
                    <a:lnTo>
                      <a:pt x="1183" y="1022"/>
                    </a:lnTo>
                    <a:lnTo>
                      <a:pt x="1272" y="1155"/>
                    </a:lnTo>
                    <a:lnTo>
                      <a:pt x="1343" y="1270"/>
                    </a:lnTo>
                    <a:lnTo>
                      <a:pt x="1416" y="1396"/>
                    </a:lnTo>
                    <a:lnTo>
                      <a:pt x="1491" y="1537"/>
                    </a:lnTo>
                    <a:lnTo>
                      <a:pt x="1553" y="1665"/>
                    </a:lnTo>
                    <a:lnTo>
                      <a:pt x="1610" y="1803"/>
                    </a:lnTo>
                    <a:lnTo>
                      <a:pt x="1657" y="1681"/>
                    </a:lnTo>
                    <a:lnTo>
                      <a:pt x="1708" y="1533"/>
                    </a:lnTo>
                    <a:lnTo>
                      <a:pt x="1772" y="1377"/>
                    </a:lnTo>
                    <a:lnTo>
                      <a:pt x="1839" y="1219"/>
                    </a:lnTo>
                    <a:lnTo>
                      <a:pt x="1913" y="1066"/>
                    </a:lnTo>
                    <a:lnTo>
                      <a:pt x="1997" y="916"/>
                    </a:lnTo>
                    <a:lnTo>
                      <a:pt x="2098" y="753"/>
                    </a:lnTo>
                    <a:lnTo>
                      <a:pt x="2245" y="561"/>
                    </a:lnTo>
                    <a:lnTo>
                      <a:pt x="2359" y="419"/>
                    </a:lnTo>
                    <a:lnTo>
                      <a:pt x="2484" y="285"/>
                    </a:lnTo>
                    <a:lnTo>
                      <a:pt x="2613" y="171"/>
                    </a:lnTo>
                    <a:lnTo>
                      <a:pt x="2836" y="0"/>
                    </a:lnTo>
                    <a:lnTo>
                      <a:pt x="3298" y="0"/>
                    </a:lnTo>
                    <a:lnTo>
                      <a:pt x="3136" y="133"/>
                    </a:lnTo>
                    <a:lnTo>
                      <a:pt x="2969" y="296"/>
                    </a:lnTo>
                    <a:lnTo>
                      <a:pt x="2824" y="444"/>
                    </a:lnTo>
                    <a:lnTo>
                      <a:pt x="2688" y="592"/>
                    </a:lnTo>
                    <a:lnTo>
                      <a:pt x="2541" y="771"/>
                    </a:lnTo>
                    <a:lnTo>
                      <a:pt x="2412" y="946"/>
                    </a:lnTo>
                    <a:lnTo>
                      <a:pt x="2322" y="1075"/>
                    </a:lnTo>
                    <a:lnTo>
                      <a:pt x="2227" y="1244"/>
                    </a:lnTo>
                    <a:lnTo>
                      <a:pt x="2145" y="1393"/>
                    </a:lnTo>
                    <a:lnTo>
                      <a:pt x="2086" y="1518"/>
                    </a:lnTo>
                    <a:lnTo>
                      <a:pt x="2016" y="1676"/>
                    </a:lnTo>
                    <a:lnTo>
                      <a:pt x="1967" y="1802"/>
                    </a:lnTo>
                    <a:lnTo>
                      <a:pt x="1934" y="1888"/>
                    </a:lnTo>
                    <a:lnTo>
                      <a:pt x="1899" y="2002"/>
                    </a:lnTo>
                    <a:lnTo>
                      <a:pt x="1871" y="2098"/>
                    </a:lnTo>
                    <a:lnTo>
                      <a:pt x="2104" y="2098"/>
                    </a:lnTo>
                    <a:lnTo>
                      <a:pt x="1672" y="2527"/>
                    </a:lnTo>
                    <a:lnTo>
                      <a:pt x="1206" y="2098"/>
                    </a:lnTo>
                    <a:lnTo>
                      <a:pt x="1439" y="2098"/>
                    </a:lnTo>
                    <a:lnTo>
                      <a:pt x="1419" y="2024"/>
                    </a:lnTo>
                    <a:lnTo>
                      <a:pt x="1387" y="1935"/>
                    </a:lnTo>
                    <a:lnTo>
                      <a:pt x="1338" y="1843"/>
                    </a:lnTo>
                    <a:lnTo>
                      <a:pt x="1276" y="1730"/>
                    </a:lnTo>
                    <a:lnTo>
                      <a:pt x="1205" y="1614"/>
                    </a:lnTo>
                    <a:lnTo>
                      <a:pt x="1143" y="1515"/>
                    </a:lnTo>
                    <a:lnTo>
                      <a:pt x="1077" y="1414"/>
                    </a:lnTo>
                    <a:lnTo>
                      <a:pt x="1003" y="1303"/>
                    </a:lnTo>
                    <a:lnTo>
                      <a:pt x="940" y="1211"/>
                    </a:lnTo>
                    <a:lnTo>
                      <a:pt x="868" y="1101"/>
                    </a:lnTo>
                    <a:lnTo>
                      <a:pt x="729" y="909"/>
                    </a:lnTo>
                    <a:lnTo>
                      <a:pt x="622" y="765"/>
                    </a:lnTo>
                    <a:lnTo>
                      <a:pt x="533" y="649"/>
                    </a:lnTo>
                    <a:lnTo>
                      <a:pt x="456" y="552"/>
                    </a:lnTo>
                    <a:lnTo>
                      <a:pt x="338" y="407"/>
                    </a:lnTo>
                    <a:lnTo>
                      <a:pt x="229" y="272"/>
                    </a:lnTo>
                    <a:lnTo>
                      <a:pt x="119" y="141"/>
                    </a:lnTo>
                    <a:lnTo>
                      <a:pt x="0" y="0"/>
                    </a:lnTo>
                    <a:close/>
                  </a:path>
                </a:pathLst>
              </a:custGeom>
              <a:solidFill>
                <a:srgbClr val="a0ca42"/>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5" name="Rectangle 48"/>
              <p:cNvSpPr/>
              <p:nvPr/>
            </p:nvSpPr>
            <p:spPr>
              <a:xfrm>
                <a:off x="1491120" y="4968360"/>
                <a:ext cx="2636640" cy="41724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Purchase!</a:t>
                </a:r>
                <a:endParaRPr b="0" lang="en-US" sz="3600" spc="-1" strike="noStrike">
                  <a:solidFill>
                    <a:srgbClr val="000000"/>
                  </a:solidFill>
                  <a:latin typeface="Arial"/>
                </a:endParaRPr>
              </a:p>
            </p:txBody>
          </p:sp>
          <p:sp>
            <p:nvSpPr>
              <p:cNvPr id="396" name="Rectangle 49"/>
              <p:cNvSpPr/>
              <p:nvPr/>
            </p:nvSpPr>
            <p:spPr>
              <a:xfrm>
                <a:off x="4295520" y="1702440"/>
                <a:ext cx="3684600" cy="762480"/>
              </a:xfrm>
              <a:prstGeom prst="rect">
                <a:avLst/>
              </a:prstGeom>
              <a:solidFill>
                <a:srgbClr val="bfdb81"/>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nalyze product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ttributes</a:t>
                </a:r>
                <a:br>
                  <a:rPr sz="2400"/>
                </a:br>
                <a:endParaRPr b="0" lang="en-US" sz="2400" spc="-1" strike="noStrike">
                  <a:solidFill>
                    <a:srgbClr val="000000"/>
                  </a:solidFill>
                  <a:latin typeface="Arial"/>
                </a:endParaRPr>
              </a:p>
            </p:txBody>
          </p:sp>
          <p:sp>
            <p:nvSpPr>
              <p:cNvPr id="397" name="Rectangle 50"/>
              <p:cNvSpPr/>
              <p:nvPr/>
            </p:nvSpPr>
            <p:spPr>
              <a:xfrm>
                <a:off x="4295520" y="4271760"/>
                <a:ext cx="3684600" cy="764280"/>
              </a:xfrm>
              <a:prstGeom prst="rect">
                <a:avLst/>
              </a:prstGeom>
              <a:solidFill>
                <a:srgbClr val="85ab2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nk attributes by</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ortance</a:t>
                </a:r>
                <a:br>
                  <a:rPr sz="2400"/>
                </a:br>
                <a:endParaRPr b="0" lang="en-US" sz="2400" spc="-1" strike="noStrike">
                  <a:solidFill>
                    <a:srgbClr val="000000"/>
                  </a:solidFill>
                  <a:latin typeface="Arial"/>
                </a:endParaRPr>
              </a:p>
            </p:txBody>
          </p:sp>
          <p:sp>
            <p:nvSpPr>
              <p:cNvPr id="398" name="Rectangle 51"/>
              <p:cNvSpPr/>
              <p:nvPr/>
            </p:nvSpPr>
            <p:spPr>
              <a:xfrm>
                <a:off x="4295520" y="2986200"/>
                <a:ext cx="3684600" cy="765360"/>
              </a:xfrm>
              <a:prstGeom prst="rect">
                <a:avLst/>
              </a:prstGeom>
              <a:solidFill>
                <a:srgbClr val="a0ca42"/>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se cutoff criteria</a:t>
                </a:r>
                <a:br>
                  <a:rPr sz="2400"/>
                </a:br>
                <a:endParaRPr b="0" lang="en-US" sz="2400" spc="-1" strike="noStrike">
                  <a:solidFill>
                    <a:srgbClr val="000000"/>
                  </a:solidFill>
                  <a:latin typeface="Arial"/>
                </a:endParaRPr>
              </a:p>
            </p:txBody>
          </p:sp>
        </p:gr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FC2F7-1740-436E-9573-75A1F6FB6B2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1" name="PlaceHolder 1"/>
          <p:cNvSpPr>
            <a:spLocks noGrp="1"/>
          </p:cNvSpPr>
          <p:nvPr>
            <p:ph type="title"/>
          </p:nvPr>
        </p:nvSpPr>
        <p:spPr>
          <a:xfrm>
            <a:off x="1213920" y="250920"/>
            <a:ext cx="6766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rchase</a:t>
            </a:r>
            <a:endParaRPr b="0" lang="en-US" sz="4000" spc="-1" strike="noStrike">
              <a:solidFill>
                <a:srgbClr val="000000"/>
              </a:solidFill>
              <a:latin typeface="Calibri"/>
            </a:endParaRPr>
          </a:p>
        </p:txBody>
      </p:sp>
      <p:grpSp>
        <p:nvGrpSpPr>
          <p:cNvPr id="402" name="Group 48"/>
          <p:cNvGrpSpPr/>
          <p:nvPr/>
        </p:nvGrpSpPr>
        <p:grpSpPr>
          <a:xfrm>
            <a:off x="1512720" y="1560600"/>
            <a:ext cx="5964120" cy="4190400"/>
            <a:chOff x="1512720" y="1560600"/>
            <a:chExt cx="5964120" cy="4190400"/>
          </a:xfrm>
        </p:grpSpPr>
        <p:sp>
          <p:nvSpPr>
            <p:cNvPr id="403" name="Rectangle 49"/>
            <p:cNvSpPr/>
            <p:nvPr/>
          </p:nvSpPr>
          <p:spPr>
            <a:xfrm>
              <a:off x="2158560" y="2170080"/>
              <a:ext cx="4302000" cy="3047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nvGrpSpPr>
            <p:cNvPr id="404" name="Group 50"/>
            <p:cNvGrpSpPr/>
            <p:nvPr/>
          </p:nvGrpSpPr>
          <p:grpSpPr>
            <a:xfrm>
              <a:off x="1512720" y="1560600"/>
              <a:ext cx="2981520" cy="2285640"/>
              <a:chOff x="1512720" y="1560600"/>
              <a:chExt cx="2981520" cy="2285640"/>
            </a:xfrm>
          </p:grpSpPr>
          <p:sp>
            <p:nvSpPr>
              <p:cNvPr id="405" name="Rectangle 51"/>
              <p:cNvSpPr/>
              <p:nvPr/>
            </p:nvSpPr>
            <p:spPr>
              <a:xfrm>
                <a:off x="1512720" y="1560600"/>
                <a:ext cx="2981520" cy="228564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Text Box 52"/>
              <p:cNvSpPr/>
              <p:nvPr/>
            </p:nvSpPr>
            <p:spPr>
              <a:xfrm>
                <a:off x="1652400" y="2171520"/>
                <a:ext cx="2648160" cy="861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To buy </a:t>
                </a:r>
                <a:br>
                  <a:rPr sz="2800"/>
                </a:br>
                <a:r>
                  <a:rPr b="1" i="1" lang="en-US" sz="2800" spc="-1" strike="noStrike">
                    <a:solidFill>
                      <a:srgbClr val="000000"/>
                    </a:solidFill>
                    <a:latin typeface="Arial"/>
                    <a:ea typeface="ＭＳ Ｐゴシック"/>
                  </a:rPr>
                  <a:t>or not to buy...</a:t>
                </a:r>
                <a:endParaRPr b="0" lang="en-US" sz="2800" spc="-1" strike="noStrike">
                  <a:solidFill>
                    <a:srgbClr val="000000"/>
                  </a:solidFill>
                  <a:latin typeface="Arial"/>
                </a:endParaRPr>
              </a:p>
            </p:txBody>
          </p:sp>
        </p:grpSp>
        <p:grpSp>
          <p:nvGrpSpPr>
            <p:cNvPr id="407" name="Group 53"/>
            <p:cNvGrpSpPr/>
            <p:nvPr/>
          </p:nvGrpSpPr>
          <p:grpSpPr>
            <a:xfrm>
              <a:off x="3797640" y="3236760"/>
              <a:ext cx="3679200" cy="2514240"/>
              <a:chOff x="3797640" y="3236760"/>
              <a:chExt cx="3679200" cy="2514240"/>
            </a:xfrm>
          </p:grpSpPr>
          <p:sp>
            <p:nvSpPr>
              <p:cNvPr id="408" name="Rectangle 54"/>
              <p:cNvSpPr/>
              <p:nvPr/>
            </p:nvSpPr>
            <p:spPr>
              <a:xfrm>
                <a:off x="3797640" y="3236760"/>
                <a:ext cx="3679200" cy="2514240"/>
              </a:xfrm>
              <a:prstGeom prst="rect">
                <a:avLst/>
              </a:prstGeom>
              <a:solidFill>
                <a:srgbClr val="b7dee8"/>
              </a:solidFill>
              <a:ln w="0">
                <a:noFill/>
              </a:ln>
              <a:effectLst>
                <a:outerShdw dist="99192" dir="3018055"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09" name="Rectangle 55"/>
              <p:cNvSpPr/>
              <p:nvPr/>
            </p:nvSpPr>
            <p:spPr>
              <a:xfrm>
                <a:off x="3797640" y="3563280"/>
                <a:ext cx="3679200" cy="1847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ltimately, the consumer has to decide whether to buy or not to buy.</a:t>
                </a:r>
                <a:endParaRPr b="0" lang="en-US" sz="3200" spc="-1" strike="noStrike">
                  <a:solidFill>
                    <a:srgbClr val="000000"/>
                  </a:solidFill>
                  <a:latin typeface="Arial"/>
                </a:endParaRPr>
              </a:p>
            </p:txBody>
          </p:sp>
        </p:gr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AutoShape 2"/>
          <p:cNvSpPr/>
          <p:nvPr/>
        </p:nvSpPr>
        <p:spPr>
          <a:xfrm>
            <a:off x="1922400" y="2360520"/>
            <a:ext cx="5243400" cy="31971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xplain the consumer’s postpurchase evaluation process</a:t>
            </a:r>
            <a:endParaRPr b="0" lang="en-US" sz="3000" spc="-1" strike="noStrike">
              <a:solidFill>
                <a:srgbClr val="000000"/>
              </a:solidFill>
              <a:latin typeface="Arial"/>
            </a:endParaRPr>
          </a:p>
        </p:txBody>
      </p:sp>
      <p:sp>
        <p:nvSpPr>
          <p:cNvPr id="411"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12" name="TextBox 12"/>
          <p:cNvSpPr/>
          <p:nvPr/>
        </p:nvSpPr>
        <p:spPr>
          <a:xfrm>
            <a:off x="152280" y="730080"/>
            <a:ext cx="8883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tpurchase Behavior</a:t>
            </a:r>
            <a:endParaRPr b="0" lang="en-US" sz="3600" spc="-1" strike="noStrike">
              <a:solidFill>
                <a:srgbClr val="000000"/>
              </a:solidFill>
              <a:latin typeface="Arial"/>
            </a:endParaRPr>
          </a:p>
        </p:txBody>
      </p:sp>
      <p:sp>
        <p:nvSpPr>
          <p:cNvPr id="41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3</a:t>
            </a:r>
            <a:endParaRPr b="0" lang="en-US" sz="2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55D48-8E6A-4FE4-A3E8-356A8C89BD1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6" name="PlaceHolder 1"/>
          <p:cNvSpPr>
            <a:spLocks noGrp="1"/>
          </p:cNvSpPr>
          <p:nvPr>
            <p:ph type="title"/>
          </p:nvPr>
        </p:nvSpPr>
        <p:spPr>
          <a:xfrm>
            <a:off x="1337760" y="523440"/>
            <a:ext cx="6559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gnitive Dissonance</a:t>
            </a:r>
            <a:endParaRPr b="0" lang="en-US" sz="4000" spc="-1" strike="noStrike">
              <a:solidFill>
                <a:srgbClr val="000000"/>
              </a:solidFill>
              <a:latin typeface="Calibri"/>
            </a:endParaRPr>
          </a:p>
        </p:txBody>
      </p:sp>
      <p:grpSp>
        <p:nvGrpSpPr>
          <p:cNvPr id="417" name="Group 53"/>
          <p:cNvGrpSpPr/>
          <p:nvPr/>
        </p:nvGrpSpPr>
        <p:grpSpPr>
          <a:xfrm>
            <a:off x="1919160" y="2262240"/>
            <a:ext cx="5279760" cy="2906280"/>
            <a:chOff x="1919160" y="2262240"/>
            <a:chExt cx="5279760" cy="2906280"/>
          </a:xfrm>
        </p:grpSpPr>
        <p:sp>
          <p:nvSpPr>
            <p:cNvPr id="418" name="Rectangle 48"/>
            <p:cNvSpPr/>
            <p:nvPr/>
          </p:nvSpPr>
          <p:spPr>
            <a:xfrm>
              <a:off x="1919160" y="2262240"/>
              <a:ext cx="5279760" cy="29062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Rectangle 49"/>
            <p:cNvSpPr/>
            <p:nvPr/>
          </p:nvSpPr>
          <p:spPr>
            <a:xfrm>
              <a:off x="1919160" y="2262240"/>
              <a:ext cx="5029200" cy="2906280"/>
            </a:xfrm>
            <a:prstGeom prst="rect">
              <a:avLst/>
            </a:prstGeom>
            <a:noFill/>
            <a:ln w="0">
              <a:noFill/>
            </a:ln>
          </p:spPr>
          <p:style>
            <a:lnRef idx="0"/>
            <a:fillRef idx="0"/>
            <a:effectRef idx="0"/>
            <a:fontRef idx="minor"/>
          </p:style>
          <p:txBody>
            <a:bodyPr lIns="90000" rIns="90000" tIns="46800" bIns="46800" anchor="t">
              <a:normAutofit/>
            </a:bodyPr>
            <a:p>
              <a:pPr marL="520560">
                <a:lnSpc>
                  <a:spcPct val="12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Inner tension that a consumer experiences after recognizing an inconsistency between behavior and values or opinions.</a:t>
              </a:r>
              <a:endParaRPr b="0" lang="en-US" sz="2400" spc="-1" strike="noStrike">
                <a:solidFill>
                  <a:srgbClr val="000000"/>
                </a:solidFill>
                <a:latin typeface="Arial"/>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898560" y="1450800"/>
            <a:ext cx="7851600" cy="4208760"/>
          </a:xfrm>
          <a:prstGeom prst="rect">
            <a:avLst/>
          </a:prstGeom>
          <a:noFill/>
          <a:ln w="0">
            <a:noFill/>
          </a:ln>
        </p:spPr>
        <p:style>
          <a:lnRef idx="0"/>
          <a:fillRef idx="0"/>
          <a:effectRef idx="0"/>
          <a:fontRef idx="minor"/>
        </p:style>
        <p:txBody>
          <a:bodyPr lIns="90000" rIns="90000" tIns="46800" bIns="46800" anchor="t">
            <a:normAutofit fontScale="87000"/>
          </a:bodyPr>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1</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why marketing managers should understand consumer behavior</a:t>
            </a:r>
            <a:br>
              <a:rPr sz="2800"/>
            </a:b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2</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Analyze the components of the consumer decision-making process</a:t>
            </a:r>
            <a:br>
              <a:rPr sz="2800"/>
            </a:b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3</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the consumer’s postpurchase evaluation process</a:t>
            </a: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4</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Identify the types of consumer buying decisions and discuss the significance of consumer involvement</a:t>
            </a:r>
            <a:br>
              <a:rPr sz="2800"/>
            </a:br>
            <a:endParaRPr b="0" lang="en-US" sz="2800" spc="-1" strike="noStrike">
              <a:solidFill>
                <a:srgbClr val="000000"/>
              </a:solidFill>
              <a:latin typeface="Arial"/>
            </a:endParaRPr>
          </a:p>
        </p:txBody>
      </p:sp>
      <p:sp>
        <p:nvSpPr>
          <p:cNvPr id="263"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64"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783BF-E01D-47EC-8E40-D7607D054AA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65"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992E2-F5D3-4C99-B4B1-606C60AF91C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2" name="PlaceHolder 1"/>
          <p:cNvSpPr>
            <a:spLocks noGrp="1"/>
          </p:cNvSpPr>
          <p:nvPr>
            <p:ph type="title"/>
          </p:nvPr>
        </p:nvSpPr>
        <p:spPr>
          <a:xfrm>
            <a:off x="1371240" y="240840"/>
            <a:ext cx="6459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tpurchase Behavior</a:t>
            </a:r>
            <a:endParaRPr b="0" lang="en-US" sz="4000" spc="-1" strike="noStrike">
              <a:solidFill>
                <a:srgbClr val="000000"/>
              </a:solidFill>
              <a:latin typeface="Calibri"/>
            </a:endParaRPr>
          </a:p>
        </p:txBody>
      </p:sp>
      <p:sp>
        <p:nvSpPr>
          <p:cNvPr id="423" name="Rectangle 13"/>
          <p:cNvSpPr/>
          <p:nvPr/>
        </p:nvSpPr>
        <p:spPr>
          <a:xfrm>
            <a:off x="1425600" y="1457280"/>
            <a:ext cx="6354720" cy="3810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Consumers can reduce dissonance by:</a:t>
            </a:r>
            <a:endParaRPr b="0" lang="en-US" sz="2800" spc="-1" strike="noStrike">
              <a:solidFill>
                <a:srgbClr val="000000"/>
              </a:solidFill>
              <a:latin typeface="Arial"/>
            </a:endParaRPr>
          </a:p>
          <a:p>
            <a:pPr marL="457200" indent="-457200">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eeking information that reinforces positive ideas about the purchas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voiding information that contradicts the purchase decision</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Revoking the original decision by returning   the product</a:t>
            </a:r>
            <a:endParaRPr b="0" lang="en-US" sz="2200" spc="-1" strike="noStrike">
              <a:solidFill>
                <a:srgbClr val="000000"/>
              </a:solidFill>
              <a:latin typeface="Arial"/>
            </a:endParaRPr>
          </a:p>
        </p:txBody>
      </p:sp>
      <p:pic>
        <p:nvPicPr>
          <p:cNvPr id="424" name="Group 14" descr=""/>
          <p:cNvPicPr/>
          <p:nvPr/>
        </p:nvPicPr>
        <p:blipFill>
          <a:blip r:embed="rId1"/>
          <a:stretch/>
        </p:blipFill>
        <p:spPr>
          <a:xfrm>
            <a:off x="1414440" y="5162400"/>
            <a:ext cx="6248520" cy="107316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AutoShape 3"/>
          <p:cNvSpPr/>
          <p:nvPr/>
        </p:nvSpPr>
        <p:spPr>
          <a:xfrm>
            <a:off x="2197080" y="2357280"/>
            <a:ext cx="4800600" cy="3197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the types of consumer buying decisions and discuss the significance of consumer involvement</a:t>
            </a:r>
            <a:endParaRPr b="0" lang="en-US" sz="2800" spc="-1" strike="noStrike">
              <a:solidFill>
                <a:srgbClr val="000000"/>
              </a:solidFill>
              <a:latin typeface="Arial"/>
            </a:endParaRPr>
          </a:p>
        </p:txBody>
      </p:sp>
      <p:sp>
        <p:nvSpPr>
          <p:cNvPr id="42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27" name="TextBox 13"/>
          <p:cNvSpPr/>
          <p:nvPr/>
        </p:nvSpPr>
        <p:spPr>
          <a:xfrm>
            <a:off x="341280" y="681120"/>
            <a:ext cx="8507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Consumer Buying Decis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Consumer Involvement</a:t>
            </a:r>
            <a:endParaRPr b="0" lang="en-US" sz="2400" spc="-1" strike="noStrike">
              <a:solidFill>
                <a:srgbClr val="000000"/>
              </a:solidFill>
              <a:latin typeface="Arial"/>
            </a:endParaRPr>
          </a:p>
        </p:txBody>
      </p:sp>
      <p:sp>
        <p:nvSpPr>
          <p:cNvPr id="42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4</a:t>
            </a:r>
            <a:endParaRPr b="0" lang="en-US" sz="2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17"/>
          <p:cNvGrpSpPr/>
          <p:nvPr/>
        </p:nvGrpSpPr>
        <p:grpSpPr>
          <a:xfrm>
            <a:off x="1123920" y="2211480"/>
            <a:ext cx="6638760" cy="3823200"/>
            <a:chOff x="1123920" y="2211480"/>
            <a:chExt cx="6638760" cy="3823200"/>
          </a:xfrm>
        </p:grpSpPr>
        <p:sp>
          <p:nvSpPr>
            <p:cNvPr id="430" name="Rectangle 18"/>
            <p:cNvSpPr/>
            <p:nvPr/>
          </p:nvSpPr>
          <p:spPr>
            <a:xfrm>
              <a:off x="1123920" y="2887200"/>
              <a:ext cx="3643560" cy="2595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1" name="Rectangle 19"/>
            <p:cNvSpPr/>
            <p:nvPr/>
          </p:nvSpPr>
          <p:spPr>
            <a:xfrm>
              <a:off x="5818320" y="5343120"/>
              <a:ext cx="1944360" cy="691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Mor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 </a:t>
              </a:r>
              <a:r>
                <a:rPr b="1" i="1" lang="en-US" sz="2200" spc="-1" strike="noStrike">
                  <a:solidFill>
                    <a:srgbClr val="000000"/>
                  </a:solidFill>
                  <a:latin typeface="Arial"/>
                  <a:ea typeface="ＭＳ Ｐゴシック"/>
                </a:rPr>
                <a:t>Involvement</a:t>
              </a:r>
              <a:endParaRPr b="0" lang="en-US" sz="2200" spc="-1" strike="noStrike">
                <a:solidFill>
                  <a:srgbClr val="000000"/>
                </a:solidFill>
                <a:latin typeface="Arial"/>
              </a:endParaRPr>
            </a:p>
          </p:txBody>
        </p:sp>
        <p:grpSp>
          <p:nvGrpSpPr>
            <p:cNvPr id="432" name="Group 20"/>
            <p:cNvGrpSpPr/>
            <p:nvPr/>
          </p:nvGrpSpPr>
          <p:grpSpPr>
            <a:xfrm>
              <a:off x="2543040" y="2211480"/>
              <a:ext cx="4094640" cy="348480"/>
              <a:chOff x="2543040" y="2211480"/>
              <a:chExt cx="4094640" cy="348480"/>
            </a:xfrm>
          </p:grpSpPr>
          <p:sp>
            <p:nvSpPr>
              <p:cNvPr id="433" name="AutoShape 21"/>
              <p:cNvSpPr/>
              <p:nvPr/>
            </p:nvSpPr>
            <p:spPr>
              <a:xfrm flipH="1">
                <a:off x="2542680" y="2212560"/>
                <a:ext cx="2032200" cy="340920"/>
              </a:xfrm>
              <a:prstGeom prst="rightArrow">
                <a:avLst>
                  <a:gd name="adj1" fmla="val 50000"/>
                  <a:gd name="adj2" fmla="val 113064"/>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34" name="AutoShape 22"/>
              <p:cNvSpPr/>
              <p:nvPr/>
            </p:nvSpPr>
            <p:spPr>
              <a:xfrm>
                <a:off x="4575600" y="2211480"/>
                <a:ext cx="2062080" cy="348480"/>
              </a:xfrm>
              <a:prstGeom prst="rightArrow">
                <a:avLst>
                  <a:gd name="adj1" fmla="val 50000"/>
                  <a:gd name="adj2" fmla="val 113991"/>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
          <p:nvSpPr>
            <p:cNvPr id="435" name="Rectangle 23"/>
            <p:cNvSpPr/>
            <p:nvPr/>
          </p:nvSpPr>
          <p:spPr>
            <a:xfrm>
              <a:off x="1461240" y="5326200"/>
              <a:ext cx="1812240" cy="691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Less</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Involvement</a:t>
              </a:r>
              <a:endParaRPr b="0" lang="en-US" sz="2200" spc="-1" strike="noStrike">
                <a:solidFill>
                  <a:srgbClr val="000000"/>
                </a:solidFill>
                <a:latin typeface="Arial"/>
              </a:endParaRPr>
            </a:p>
          </p:txBody>
        </p:sp>
        <p:grpSp>
          <p:nvGrpSpPr>
            <p:cNvPr id="436" name="Group 24"/>
            <p:cNvGrpSpPr/>
            <p:nvPr/>
          </p:nvGrpSpPr>
          <p:grpSpPr>
            <a:xfrm>
              <a:off x="1487880" y="2682360"/>
              <a:ext cx="6218280" cy="2481120"/>
              <a:chOff x="1487880" y="2682360"/>
              <a:chExt cx="6218280" cy="2481120"/>
            </a:xfrm>
          </p:grpSpPr>
          <p:sp>
            <p:nvSpPr>
              <p:cNvPr id="437" name="Rectangle 25"/>
              <p:cNvSpPr/>
              <p:nvPr/>
            </p:nvSpPr>
            <p:spPr>
              <a:xfrm>
                <a:off x="1487880" y="2682360"/>
                <a:ext cx="205560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in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a:t>
                </a:r>
                <a:endParaRPr b="0" lang="en-US" sz="2400" spc="-1" strike="noStrike">
                  <a:solidFill>
                    <a:srgbClr val="000000"/>
                  </a:solidFill>
                  <a:latin typeface="Arial"/>
                </a:endParaRPr>
              </a:p>
            </p:txBody>
          </p:sp>
          <p:sp>
            <p:nvSpPr>
              <p:cNvPr id="438" name="Rectangle 26"/>
              <p:cNvSpPr/>
              <p:nvPr/>
            </p:nvSpPr>
            <p:spPr>
              <a:xfrm>
                <a:off x="3552480" y="2682360"/>
                <a:ext cx="2070360" cy="2481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sp>
            <p:nvSpPr>
              <p:cNvPr id="439" name="Rectangle 27"/>
              <p:cNvSpPr/>
              <p:nvPr/>
            </p:nvSpPr>
            <p:spPr>
              <a:xfrm>
                <a:off x="5635800" y="2682360"/>
                <a:ext cx="207036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siv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grpSp>
      </p:grpSp>
      <p:sp>
        <p:nvSpPr>
          <p:cNvPr id="44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D4A45-4566-4098-B234-BA2BCBD3B22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2" name="PlaceHolder 1"/>
          <p:cNvSpPr>
            <a:spLocks noGrp="1"/>
          </p:cNvSpPr>
          <p:nvPr>
            <p:ph type="title"/>
          </p:nvPr>
        </p:nvSpPr>
        <p:spPr>
          <a:xfrm>
            <a:off x="1233360" y="479520"/>
            <a:ext cx="67471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Buying Decisions </a:t>
            </a:r>
            <a:br>
              <a:rPr sz="4000"/>
            </a:br>
            <a:r>
              <a:rPr b="0" lang="en-US" sz="4000" spc="-1" strike="noStrike">
                <a:solidFill>
                  <a:srgbClr val="000000"/>
                </a:solidFill>
                <a:latin typeface="Calibri"/>
              </a:rPr>
              <a:t>and Consumer Involvement</a:t>
            </a:r>
            <a:endParaRPr b="0" lang="en-US" sz="4000" spc="-1" strike="noStrike">
              <a:solidFill>
                <a:srgbClr val="000000"/>
              </a:solidFill>
              <a:latin typeface="Calibri"/>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Content Placeholder 2"/>
          <p:cNvSpPr/>
          <p:nvPr/>
        </p:nvSpPr>
        <p:spPr>
          <a:xfrm>
            <a:off x="1822320" y="2257560"/>
            <a:ext cx="5613480" cy="2514600"/>
          </a:xfrm>
          <a:prstGeom prst="rect">
            <a:avLst/>
          </a:prstGeom>
          <a:noFill/>
          <a:ln w="0">
            <a:noFill/>
          </a:ln>
        </p:spPr>
        <p:style>
          <a:lnRef idx="0"/>
          <a:fillRef idx="0"/>
          <a:effectRef idx="0"/>
          <a:fontRef idx="minor"/>
        </p:style>
        <p:txBody>
          <a:bodyPr lIns="90000" rIns="90000" tIns="46800" bIns="46800" anchor="t">
            <a:noAutofit/>
          </a:bodyPr>
          <a:p>
            <a:pPr marL="49320" indent="-4932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amount of time and effort a buyer invests in the search, evaluation, and decision processes of consumer behavior.</a:t>
            </a:r>
            <a:endParaRPr b="0" lang="en-US" sz="3200" spc="-1" strike="noStrike">
              <a:solidFill>
                <a:srgbClr val="000000"/>
              </a:solidFill>
              <a:latin typeface="Arial"/>
            </a:endParaRPr>
          </a:p>
        </p:txBody>
      </p:sp>
      <p:sp>
        <p:nvSpPr>
          <p:cNvPr id="444" name="TextBox 12"/>
          <p:cNvSpPr/>
          <p:nvPr/>
        </p:nvSpPr>
        <p:spPr>
          <a:xfrm>
            <a:off x="1442880" y="912960"/>
            <a:ext cx="61884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olvement</a:t>
            </a:r>
            <a:endParaRPr b="0" lang="en-US" sz="4400" spc="-1" strike="noStrike">
              <a:solidFill>
                <a:srgbClr val="000000"/>
              </a:solidFill>
              <a:latin typeface="Arial"/>
            </a:endParaRPr>
          </a:p>
        </p:txBody>
      </p:sp>
      <p:sp>
        <p:nvSpPr>
          <p:cNvPr id="44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06B4E-0A9A-42ED-9FB6-447E3B919C1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Footer Placeholder 1"/>
          <p:cNvSpPr/>
          <p:nvPr/>
        </p:nvSpPr>
        <p:spPr>
          <a:xfrm>
            <a:off x="0" y="6534000"/>
            <a:ext cx="9131400" cy="324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48" name="Slide Number Placeholder 2"/>
          <p:cNvSpPr/>
          <p:nvPr/>
        </p:nvSpPr>
        <p:spPr>
          <a:xfrm>
            <a:off x="216000" y="6489720"/>
            <a:ext cx="1600200" cy="3240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DCAA3-BFDA-419F-B6E6-B7B6F5BB224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449" name=""/>
          <p:cNvGraphicFramePr/>
          <p:nvPr/>
        </p:nvGraphicFramePr>
        <p:xfrm>
          <a:off x="1461960" y="1773360"/>
          <a:ext cx="6096240" cy="3941640"/>
        </p:xfrm>
        <a:graphic>
          <a:graphicData uri="http://schemas.openxmlformats.org/drawingml/2006/table">
            <a:tbl>
              <a:tblPr/>
              <a:tblGrid>
                <a:gridCol w="1524240"/>
                <a:gridCol w="1523880"/>
                <a:gridCol w="1523880"/>
                <a:gridCol w="1524240"/>
              </a:tblGrid>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out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imi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tens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369000">
                <a:tc gridSpan="4">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olv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Sear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On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stly In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and Ex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mber of Alterna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bl>
          </a:graphicData>
        </a:graphic>
      </p:graphicFrame>
      <p:cxnSp>
        <p:nvCxnSpPr>
          <p:cNvPr id="450" name="Straight Arrow Connector 5"/>
          <p:cNvCxnSpPr/>
          <p:nvPr/>
        </p:nvCxnSpPr>
        <p:spPr>
          <a:xfrm>
            <a:off x="2971440" y="2301480"/>
            <a:ext cx="4280760" cy="13320"/>
          </a:xfrm>
          <a:prstGeom prst="straightConnector1">
            <a:avLst/>
          </a:prstGeom>
          <a:ln w="54000">
            <a:solidFill>
              <a:srgbClr val="00b0f0"/>
            </a:solidFill>
            <a:miter/>
            <a:headEnd len="med" type="arrow" w="lg"/>
            <a:tailEnd len="med" type="arrow" w="lg"/>
          </a:ln>
        </p:spPr>
      </p:cxnSp>
      <p:sp>
        <p:nvSpPr>
          <p:cNvPr id="451"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2</a:t>
            </a:r>
            <a:endParaRPr b="0" lang="en-US" sz="9600" spc="-1" strike="noStrike">
              <a:solidFill>
                <a:srgbClr val="000000"/>
              </a:solidFill>
              <a:latin typeface="Arial"/>
            </a:endParaRPr>
          </a:p>
        </p:txBody>
      </p:sp>
      <p:sp>
        <p:nvSpPr>
          <p:cNvPr id="452"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ontinuum of Consumer Buying Decision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9CB0B-D32B-4F6A-99DE-A89533BB432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5" name="PlaceHolder 1"/>
          <p:cNvSpPr>
            <a:spLocks noGrp="1"/>
          </p:cNvSpPr>
          <p:nvPr>
            <p:ph type="title"/>
          </p:nvPr>
        </p:nvSpPr>
        <p:spPr>
          <a:xfrm>
            <a:off x="1307880" y="317160"/>
            <a:ext cx="65386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utine Response Behavior</a:t>
            </a:r>
            <a:endParaRPr b="0" lang="en-US" sz="4000" spc="-1" strike="noStrike">
              <a:solidFill>
                <a:srgbClr val="000000"/>
              </a:solidFill>
              <a:latin typeface="Calibri"/>
            </a:endParaRPr>
          </a:p>
        </p:txBody>
      </p:sp>
      <p:sp>
        <p:nvSpPr>
          <p:cNvPr id="456" name="PlaceHolder 2"/>
          <p:cNvSpPr>
            <a:spLocks noGrp="1"/>
          </p:cNvSpPr>
          <p:nvPr>
            <p:ph/>
          </p:nvPr>
        </p:nvSpPr>
        <p:spPr>
          <a:xfrm>
            <a:off x="1446120" y="1897200"/>
            <a:ext cx="638496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tle involvement in selection proces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equently purchased low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stick with one bran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y first/evaluate later</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ick decision</a:t>
            </a:r>
            <a:endParaRPr b="0" lang="en-US" sz="28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88DBE-D650-46EE-92CA-92404548688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9" name="PlaceHolder 1"/>
          <p:cNvSpPr>
            <a:spLocks noGrp="1"/>
          </p:cNvSpPr>
          <p:nvPr>
            <p:ph type="title"/>
          </p:nvPr>
        </p:nvSpPr>
        <p:spPr>
          <a:xfrm>
            <a:off x="1282680" y="202680"/>
            <a:ext cx="66470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mited Decision Making</a:t>
            </a:r>
            <a:endParaRPr b="0" lang="en-US" sz="4000" spc="-1" strike="noStrike">
              <a:solidFill>
                <a:srgbClr val="000000"/>
              </a:solidFill>
              <a:latin typeface="Calibri"/>
            </a:endParaRPr>
          </a:p>
        </p:txBody>
      </p:sp>
      <p:sp>
        <p:nvSpPr>
          <p:cNvPr id="460" name="PlaceHolder 2"/>
          <p:cNvSpPr>
            <a:spLocks noGrp="1"/>
          </p:cNvSpPr>
          <p:nvPr>
            <p:ph/>
          </p:nvPr>
        </p:nvSpPr>
        <p:spPr>
          <a:xfrm>
            <a:off x="1579320" y="1719360"/>
            <a:ext cx="5918040" cy="3200400"/>
          </a:xfrm>
          <a:prstGeom prst="rect">
            <a:avLst/>
          </a:prstGeom>
          <a:noFill/>
          <a:ln w="0">
            <a:noFill/>
          </a:ln>
        </p:spPr>
        <p:txBody>
          <a:bodyPr anchor="t">
            <a:normAutofit fontScale="94000"/>
          </a:bodyPr>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to moderate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a few alternative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rt to moderate time to decide</a:t>
            </a:r>
            <a:endParaRPr b="0" lang="en-US" sz="2800" spc="-1" strike="noStrike">
              <a:solidFill>
                <a:srgbClr val="000000"/>
              </a:solidFill>
              <a:latin typeface="Calibri"/>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85660-5930-468A-8E9B-FD0325692B7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3" name="PlaceHolder 1"/>
          <p:cNvSpPr>
            <a:spLocks noGrp="1"/>
          </p:cNvSpPr>
          <p:nvPr>
            <p:ph type="title"/>
          </p:nvPr>
        </p:nvSpPr>
        <p:spPr>
          <a:xfrm>
            <a:off x="1317600" y="266400"/>
            <a:ext cx="6696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tensive Decision Making</a:t>
            </a:r>
            <a:endParaRPr b="0" lang="en-US" sz="4000" spc="-1" strike="noStrike">
              <a:solidFill>
                <a:srgbClr val="000000"/>
              </a:solidFill>
              <a:latin typeface="Calibri"/>
            </a:endParaRPr>
          </a:p>
        </p:txBody>
      </p:sp>
      <p:sp>
        <p:nvSpPr>
          <p:cNvPr id="464" name="PlaceHolder 2"/>
          <p:cNvSpPr>
            <a:spLocks noGrp="1"/>
          </p:cNvSpPr>
          <p:nvPr>
            <p:ph/>
          </p:nvPr>
        </p:nvSpPr>
        <p:spPr>
          <a:xfrm>
            <a:off x="1463760" y="1668600"/>
            <a:ext cx="630072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many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ng time to decid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experience cognitive dissonance</a:t>
            </a:r>
            <a:endParaRPr b="0" lang="en-US" sz="2800" spc="-1" strike="noStrike">
              <a:solidFill>
                <a:srgbClr val="000000"/>
              </a:solidFill>
              <a:latin typeface="Calibri"/>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B2A52-65FC-4AA5-8E99-FEC32B52035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7" name="PlaceHolder 1"/>
          <p:cNvSpPr>
            <a:spLocks noGrp="1"/>
          </p:cNvSpPr>
          <p:nvPr>
            <p:ph type="title"/>
          </p:nvPr>
        </p:nvSpPr>
        <p:spPr>
          <a:xfrm>
            <a:off x="1295280" y="401760"/>
            <a:ext cx="66024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Implications </a:t>
            </a:r>
            <a:br>
              <a:rPr sz="4000"/>
            </a:br>
            <a:r>
              <a:rPr b="0" lang="en-US" sz="4000" spc="-1" strike="noStrike">
                <a:solidFill>
                  <a:srgbClr val="000000"/>
                </a:solidFill>
                <a:latin typeface="Calibri"/>
              </a:rPr>
              <a:t>of Involvement</a:t>
            </a:r>
            <a:endParaRPr b="0" lang="en-US" sz="4000" spc="-1" strike="noStrike">
              <a:solidFill>
                <a:srgbClr val="000000"/>
              </a:solidFill>
              <a:latin typeface="Calibri"/>
            </a:endParaRPr>
          </a:p>
        </p:txBody>
      </p:sp>
      <p:grpSp>
        <p:nvGrpSpPr>
          <p:cNvPr id="468" name="Group 19"/>
          <p:cNvGrpSpPr/>
          <p:nvPr/>
        </p:nvGrpSpPr>
        <p:grpSpPr>
          <a:xfrm>
            <a:off x="1413000" y="2249640"/>
            <a:ext cx="6201720" cy="3449160"/>
            <a:chOff x="1413000" y="2249640"/>
            <a:chExt cx="6201720" cy="3449160"/>
          </a:xfrm>
        </p:grpSpPr>
        <p:sp>
          <p:nvSpPr>
            <p:cNvPr id="469" name="Rectangle 12"/>
            <p:cNvSpPr/>
            <p:nvPr/>
          </p:nvSpPr>
          <p:spPr>
            <a:xfrm>
              <a:off x="1430280" y="2249640"/>
              <a:ext cx="237636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0" name="Rectangle 13"/>
            <p:cNvSpPr/>
            <p:nvPr/>
          </p:nvSpPr>
          <p:spPr>
            <a:xfrm>
              <a:off x="4491360" y="2249640"/>
              <a:ext cx="310752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and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ve promotion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target market</a:t>
              </a:r>
              <a:endParaRPr b="0" lang="en-US" sz="2000" spc="-1" strike="noStrike">
                <a:solidFill>
                  <a:srgbClr val="000000"/>
                </a:solidFill>
                <a:latin typeface="Arial"/>
              </a:endParaRPr>
            </a:p>
          </p:txBody>
        </p:sp>
        <p:sp>
          <p:nvSpPr>
            <p:cNvPr id="471" name="AutoShape 14"/>
            <p:cNvSpPr/>
            <p:nvPr/>
          </p:nvSpPr>
          <p:spPr>
            <a:xfrm>
              <a:off x="3878280" y="2814480"/>
              <a:ext cx="622440" cy="452160"/>
            </a:xfrm>
            <a:prstGeom prst="rightArrow">
              <a:avLst>
                <a:gd name="adj1" fmla="val 50000"/>
                <a:gd name="adj2" fmla="val 34415"/>
              </a:avLst>
            </a:prstGeom>
            <a:solidFill>
              <a:srgbClr val="a6a6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Rectangle 15"/>
            <p:cNvSpPr/>
            <p:nvPr/>
          </p:nvSpPr>
          <p:spPr>
            <a:xfrm>
              <a:off x="1413000" y="4078080"/>
              <a:ext cx="239400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3" name="Rectangle 16"/>
            <p:cNvSpPr/>
            <p:nvPr/>
          </p:nvSpPr>
          <p:spPr>
            <a:xfrm>
              <a:off x="4504680" y="4078080"/>
              <a:ext cx="311004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ore promotion, </a:t>
              </a:r>
              <a:br>
                <a:rPr sz="2000"/>
              </a:br>
              <a:r>
                <a:rPr b="1" lang="en-US" sz="2000" spc="-1" strike="noStrike">
                  <a:solidFill>
                    <a:srgbClr val="000000"/>
                  </a:solidFill>
                  <a:latin typeface="Arial"/>
                </a:rPr>
                <a:t>eye-catching package </a:t>
              </a:r>
              <a:br>
                <a:rPr sz="2000"/>
              </a:br>
              <a:r>
                <a:rPr b="1" lang="en-US" sz="2000" spc="-1" strike="noStrike">
                  <a:solidFill>
                    <a:srgbClr val="000000"/>
                  </a:solidFill>
                  <a:latin typeface="Arial"/>
                </a:rPr>
                <a:t>design, and good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s. Coupons,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two-for-one offers</a:t>
              </a:r>
              <a:endParaRPr b="0" lang="en-US" sz="2000" spc="-1" strike="noStrike">
                <a:solidFill>
                  <a:srgbClr val="000000"/>
                </a:solidFill>
                <a:latin typeface="Arial"/>
              </a:endParaRPr>
            </a:p>
          </p:txBody>
        </p:sp>
        <p:sp>
          <p:nvSpPr>
            <p:cNvPr id="474" name="AutoShape 17"/>
            <p:cNvSpPr/>
            <p:nvPr/>
          </p:nvSpPr>
          <p:spPr>
            <a:xfrm>
              <a:off x="3885120" y="4643280"/>
              <a:ext cx="620640" cy="452160"/>
            </a:xfrm>
            <a:prstGeom prst="rightArrow">
              <a:avLst>
                <a:gd name="adj1" fmla="val 50000"/>
                <a:gd name="adj2" fmla="val 34315"/>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AutoShape 3"/>
          <p:cNvSpPr/>
          <p:nvPr/>
        </p:nvSpPr>
        <p:spPr>
          <a:xfrm>
            <a:off x="2232000" y="2330280"/>
            <a:ext cx="4581720" cy="3268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cultural factors that affect consumer </a:t>
            </a:r>
            <a:br>
              <a:rPr sz="2800"/>
            </a:br>
            <a:r>
              <a:rPr b="1" lang="en-US" sz="2800" spc="-1" strike="noStrike">
                <a:solidFill>
                  <a:srgbClr val="000000"/>
                </a:solidFill>
                <a:latin typeface="Calibri"/>
              </a:rPr>
              <a:t>buying decisions</a:t>
            </a:r>
            <a:endParaRPr b="0" lang="en-US" sz="2800" spc="-1" strike="noStrike">
              <a:solidFill>
                <a:srgbClr val="000000"/>
              </a:solidFill>
              <a:latin typeface="Arial"/>
            </a:endParaRPr>
          </a:p>
        </p:txBody>
      </p:sp>
      <p:sp>
        <p:nvSpPr>
          <p:cNvPr id="4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77" name="TextBox 12"/>
          <p:cNvSpPr/>
          <p:nvPr/>
        </p:nvSpPr>
        <p:spPr>
          <a:xfrm>
            <a:off x="152280" y="50328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4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5</a:t>
            </a:r>
            <a:endParaRPr b="0" lang="en-US" sz="2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946080" y="1450800"/>
            <a:ext cx="7925040" cy="4272120"/>
          </a:xfrm>
          <a:prstGeom prst="rect">
            <a:avLst/>
          </a:prstGeom>
          <a:noFill/>
          <a:ln w="0">
            <a:noFill/>
          </a:ln>
        </p:spPr>
        <p:style>
          <a:lnRef idx="0"/>
          <a:fillRef idx="0"/>
          <a:effectRef idx="0"/>
          <a:fontRef idx="minor"/>
        </p:style>
        <p:txBody>
          <a:bodyPr lIns="90000" rIns="90000" tIns="46800" bIns="46800" anchor="t">
            <a:normAutofit fontScale="97000"/>
          </a:bodyPr>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5</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cultural factors that affect consumer buying decisions</a:t>
            </a:r>
            <a:br>
              <a:rPr sz="2800"/>
            </a:b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6</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social factors that affect consumer buying decisions </a:t>
            </a: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7</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individual factors that affect consumer buying decisions</a:t>
            </a:r>
            <a:br>
              <a:rPr sz="2800"/>
            </a:b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8</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psychological factors that affect consumer buying decisions</a:t>
            </a: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267"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68"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33CAE-9CF6-4984-B510-507B7F6203C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69"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4" descr="\\FILESVR\SharedDocs\SWCP\CURRENT PROJECTS\MKTG9\Supplements\PowerPoints\Templates\PPT_BOX.jpg"/>
          <p:cNvPicPr/>
          <p:nvPr/>
        </p:nvPicPr>
        <p:blipFill>
          <a:blip r:embed="rId1"/>
          <a:stretch/>
        </p:blipFill>
        <p:spPr>
          <a:xfrm>
            <a:off x="15840" y="0"/>
            <a:ext cx="9126720" cy="6845400"/>
          </a:xfrm>
          <a:prstGeom prst="rect">
            <a:avLst/>
          </a:prstGeom>
          <a:ln w="0">
            <a:noFill/>
          </a:ln>
        </p:spPr>
      </p:pic>
      <p:sp>
        <p:nvSpPr>
          <p:cNvPr id="480" name="Footer Placeholder 1"/>
          <p:cNvSpPr/>
          <p:nvPr/>
        </p:nvSpPr>
        <p:spPr>
          <a:xfrm>
            <a:off x="2286000" y="61070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81" name="Slide Number Placeholder 2"/>
          <p:cNvSpPr/>
          <p:nvPr/>
        </p:nvSpPr>
        <p:spPr>
          <a:xfrm>
            <a:off x="6553080" y="610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F0C52-F5C0-45A3-A89E-FF2227BE1B5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82" name="PlaceHolder 1"/>
          <p:cNvSpPr>
            <a:spLocks noGrp="1"/>
          </p:cNvSpPr>
          <p:nvPr>
            <p:ph type="title"/>
          </p:nvPr>
        </p:nvSpPr>
        <p:spPr>
          <a:xfrm>
            <a:off x="15840" y="0"/>
            <a:ext cx="9128160" cy="129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actors Influencing Buying Decisions</a:t>
            </a:r>
            <a:endParaRPr b="0" lang="en-US" sz="4000" spc="-1" strike="noStrike">
              <a:solidFill>
                <a:srgbClr val="7030a0"/>
              </a:solidFill>
              <a:latin typeface="Calibri"/>
            </a:endParaRPr>
          </a:p>
        </p:txBody>
      </p:sp>
      <p:grpSp>
        <p:nvGrpSpPr>
          <p:cNvPr id="483" name="Group 48"/>
          <p:cNvGrpSpPr/>
          <p:nvPr/>
        </p:nvGrpSpPr>
        <p:grpSpPr>
          <a:xfrm>
            <a:off x="733320" y="1799280"/>
            <a:ext cx="7573680" cy="3685680"/>
            <a:chOff x="733320" y="1799280"/>
            <a:chExt cx="7573680" cy="3685680"/>
          </a:xfrm>
        </p:grpSpPr>
        <p:sp>
          <p:nvSpPr>
            <p:cNvPr id="484" name="Line 31"/>
            <p:cNvSpPr/>
            <p:nvPr/>
          </p:nvSpPr>
          <p:spPr>
            <a:xfrm>
              <a:off x="3305160" y="5203800"/>
              <a:ext cx="0" cy="27936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5" name="Line 32"/>
            <p:cNvSpPr/>
            <p:nvPr/>
          </p:nvSpPr>
          <p:spPr>
            <a:xfrm flipV="1">
              <a:off x="3305160" y="1825200"/>
              <a:ext cx="0" cy="37332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6" name="Rectangle 33"/>
            <p:cNvSpPr/>
            <p:nvPr/>
          </p:nvSpPr>
          <p:spPr>
            <a:xfrm>
              <a:off x="4262040" y="2220840"/>
              <a:ext cx="1946520" cy="2795760"/>
            </a:xfrm>
            <a:prstGeom prst="rect">
              <a:avLst/>
            </a:prstGeom>
            <a:solidFill>
              <a:srgbClr val="b7dee8"/>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rial"/>
              </a:endParaRPr>
            </a:p>
          </p:txBody>
        </p:sp>
        <p:sp>
          <p:nvSpPr>
            <p:cNvPr id="487" name="Rectangle 34"/>
            <p:cNvSpPr/>
            <p:nvPr/>
          </p:nvSpPr>
          <p:spPr>
            <a:xfrm>
              <a:off x="6293160" y="2220840"/>
              <a:ext cx="2013840" cy="2795760"/>
            </a:xfrm>
            <a:prstGeom prst="rect">
              <a:avLst/>
            </a:prstGeom>
            <a:solidFill>
              <a:srgbClr val="bfbfbf"/>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8" name="Rectangle 35"/>
            <p:cNvSpPr/>
            <p:nvPr/>
          </p:nvSpPr>
          <p:spPr>
            <a:xfrm>
              <a:off x="2470320" y="3805200"/>
              <a:ext cx="160344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9" name="Rectangle 36"/>
            <p:cNvSpPr/>
            <p:nvPr/>
          </p:nvSpPr>
          <p:spPr>
            <a:xfrm>
              <a:off x="733320" y="3805200"/>
              <a:ext cx="159768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0" name="Rectangle 37"/>
            <p:cNvSpPr/>
            <p:nvPr/>
          </p:nvSpPr>
          <p:spPr>
            <a:xfrm>
              <a:off x="2470320" y="2129040"/>
              <a:ext cx="160344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cxnSp>
          <p:nvCxnSpPr>
            <p:cNvPr id="491" name="AutoShape 38"/>
            <p:cNvCxnSpPr>
              <a:stCxn id="489" idx="2"/>
              <a:endCxn id="486" idx="2"/>
            </p:cNvCxnSpPr>
            <p:nvPr/>
          </p:nvCxnSpPr>
          <p:spPr>
            <a:xfrm flipH="1" flipV="1" rot="5400000">
              <a:off x="3288600" y="3258360"/>
              <a:ext cx="187920" cy="3703320"/>
            </a:xfrm>
            <a:prstGeom prst="bentConnector3">
              <a:avLst>
                <a:gd name="adj1" fmla="val -149904"/>
              </a:avLst>
            </a:prstGeom>
            <a:ln w="57240">
              <a:solidFill>
                <a:srgbClr val="4d4d4d"/>
              </a:solidFill>
              <a:miter/>
              <a:tailEnd len="med" type="oval" w="med"/>
            </a:ln>
          </p:spPr>
        </p:cxnSp>
        <p:cxnSp>
          <p:nvCxnSpPr>
            <p:cNvPr id="492" name="AutoShape 39"/>
            <p:cNvCxnSpPr/>
            <p:nvPr/>
          </p:nvCxnSpPr>
          <p:spPr>
            <a:xfrm flipH="1" rot="16200000">
              <a:off x="3181680" y="362160"/>
              <a:ext cx="281880" cy="3718800"/>
            </a:xfrm>
            <a:prstGeom prst="bentConnector3">
              <a:avLst>
                <a:gd name="adj1" fmla="val -100000"/>
              </a:avLst>
            </a:prstGeom>
            <a:ln w="57240">
              <a:solidFill>
                <a:srgbClr val="4d4d4d"/>
              </a:solidFill>
              <a:miter/>
              <a:tailEnd len="med" type="oval" w="med"/>
            </a:ln>
          </p:spPr>
        </p:cxnSp>
        <p:sp>
          <p:nvSpPr>
            <p:cNvPr id="493" name="Rectangle 40"/>
            <p:cNvSpPr/>
            <p:nvPr/>
          </p:nvSpPr>
          <p:spPr>
            <a:xfrm>
              <a:off x="2699640" y="2527200"/>
              <a:ext cx="11422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Soci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4" name="Rectangle 41"/>
            <p:cNvSpPr/>
            <p:nvPr/>
          </p:nvSpPr>
          <p:spPr>
            <a:xfrm>
              <a:off x="807840" y="4127400"/>
              <a:ext cx="150192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Individu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5" name="Rectangle 42"/>
            <p:cNvSpPr/>
            <p:nvPr/>
          </p:nvSpPr>
          <p:spPr>
            <a:xfrm>
              <a:off x="2592360" y="3990960"/>
              <a:ext cx="1377000" cy="957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Psycho-logic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6" name="Rectangle 43"/>
            <p:cNvSpPr/>
            <p:nvPr/>
          </p:nvSpPr>
          <p:spPr>
            <a:xfrm>
              <a:off x="733320" y="2129040"/>
              <a:ext cx="159768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7" name="Rectangle 44"/>
            <p:cNvSpPr/>
            <p:nvPr/>
          </p:nvSpPr>
          <p:spPr>
            <a:xfrm>
              <a:off x="889200" y="2527200"/>
              <a:ext cx="12628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Cultur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8" name="Rectangle 45"/>
            <p:cNvSpPr/>
            <p:nvPr/>
          </p:nvSpPr>
          <p:spPr>
            <a:xfrm>
              <a:off x="4369320" y="2940120"/>
              <a:ext cx="1735200" cy="124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CONSUMER</a:t>
              </a:r>
              <a:br>
                <a:rPr sz="2100"/>
              </a:br>
              <a:r>
                <a:rPr b="1" lang="en-US" sz="2100" spc="-1" strike="noStrike">
                  <a:solidFill>
                    <a:srgbClr val="000000"/>
                  </a:solidFill>
                  <a:latin typeface="Arial"/>
                  <a:ea typeface="ＭＳ Ｐゴシック"/>
                </a:rPr>
                <a:t>DECISION-</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MAKING</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PROCESS</a:t>
              </a:r>
              <a:endParaRPr b="0" lang="en-US" sz="2100" spc="-1" strike="noStrike">
                <a:solidFill>
                  <a:srgbClr val="000000"/>
                </a:solidFill>
                <a:latin typeface="Arial"/>
              </a:endParaRPr>
            </a:p>
          </p:txBody>
        </p:sp>
        <p:sp>
          <p:nvSpPr>
            <p:cNvPr id="499" name="Rectangle 46"/>
            <p:cNvSpPr/>
            <p:nvPr/>
          </p:nvSpPr>
          <p:spPr>
            <a:xfrm>
              <a:off x="6530760" y="3273480"/>
              <a:ext cx="164664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BUY or </a:t>
              </a:r>
              <a:br>
                <a:rPr sz="2100"/>
              </a:br>
              <a:r>
                <a:rPr b="1" lang="en-US" sz="2100" spc="-1" strike="noStrike">
                  <a:solidFill>
                    <a:srgbClr val="000000"/>
                  </a:solidFill>
                  <a:latin typeface="Arial"/>
                  <a:ea typeface="ＭＳ Ｐゴシック"/>
                </a:rPr>
                <a:t>DON’T BUY</a:t>
              </a:r>
              <a:endParaRPr b="0" lang="en-US" sz="2100" spc="-1" strike="noStrike">
                <a:solidFill>
                  <a:srgbClr val="000000"/>
                </a:solidFill>
                <a:latin typeface="Arial"/>
              </a:endParaRPr>
            </a:p>
          </p:txBody>
        </p:sp>
        <p:sp>
          <p:nvSpPr>
            <p:cNvPr id="500" name="Line 47"/>
            <p:cNvSpPr/>
            <p:nvPr/>
          </p:nvSpPr>
          <p:spPr>
            <a:xfrm>
              <a:off x="6224400" y="3525840"/>
              <a:ext cx="347400" cy="0"/>
            </a:xfrm>
            <a:prstGeom prst="line">
              <a:avLst/>
            </a:prstGeom>
            <a:ln w="57240">
              <a:solidFill>
                <a:srgbClr val="4d4d4d"/>
              </a:solidFill>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a:t>
            </a:r>
            <a:endParaRPr b="0" lang="en-US" sz="4000" spc="-1" strike="noStrike">
              <a:solidFill>
                <a:srgbClr val="000000"/>
              </a:solidFill>
              <a:latin typeface="Calibri"/>
            </a:endParaRPr>
          </a:p>
        </p:txBody>
      </p:sp>
      <p:sp>
        <p:nvSpPr>
          <p:cNvPr id="502" name=""/>
          <p:cNvSpPr txBox="1"/>
          <p:nvPr/>
        </p:nvSpPr>
        <p:spPr>
          <a:xfrm>
            <a:off x="714240" y="1039680"/>
            <a:ext cx="7615440" cy="5197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the set of values, norms, attitudes, and other meaningful symbols that shape human behavior. It is the essential character of a society that distinguishes it from other cultural groups.</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Components of cultur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derlying elements of every culture are th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value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languag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myth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custom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rituals, and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aws</a:t>
            </a:r>
            <a:endParaRPr b="0" lang="en-US" sz="2400" spc="-1" strike="noStrike">
              <a:solidFill>
                <a:srgbClr val="000000"/>
              </a:solidFill>
              <a:latin typeface="Calibri"/>
            </a:endParaRPr>
          </a:p>
        </p:txBody>
      </p:sp>
      <p:sp>
        <p:nvSpPr>
          <p:cNvPr id="50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0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6CA7C-6B1E-43A9-9DF1-6648ACF6C87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05" name="Right Brace 2"/>
          <p:cNvSpPr/>
          <p:nvPr/>
        </p:nvSpPr>
        <p:spPr>
          <a:xfrm>
            <a:off x="3782880" y="3606840"/>
            <a:ext cx="501840" cy="2494080"/>
          </a:xfrm>
          <a:custGeom>
            <a:avLst/>
            <a:gdLst>
              <a:gd name="textAreaLeft" fmla="*/ 0 w 501840"/>
              <a:gd name="textAreaRight" fmla="*/ 181080 w 501840"/>
              <a:gd name="textAreaTop" fmla="*/ 12960 h 2494080"/>
              <a:gd name="textAreaBottom" fmla="*/ 2481120 h 2494080"/>
            </a:gdLst>
            <a:ahLst/>
            <a:rect l="textAreaLeft" t="textAreaTop" r="textAreaRight" b="textAreaBottom"/>
            <a:pathLst>
              <a:path w="21600" h="21600">
                <a:moveTo>
                  <a:pt x="0" y="0"/>
                </a:moveTo>
                <a:cubicBezTo>
                  <a:pt x="5400" y="0"/>
                  <a:pt x="10800" y="181"/>
                  <a:pt x="10800" y="362"/>
                </a:cubicBezTo>
                <a:lnTo>
                  <a:pt x="10800" y="10438"/>
                </a:lnTo>
                <a:cubicBezTo>
                  <a:pt x="10800" y="10619"/>
                  <a:pt x="16200" y="10800"/>
                  <a:pt x="21600" y="10800"/>
                </a:cubicBezTo>
                <a:cubicBezTo>
                  <a:pt x="16200" y="10800"/>
                  <a:pt x="10800" y="10981"/>
                  <a:pt x="10800" y="11162"/>
                </a:cubicBezTo>
                <a:lnTo>
                  <a:pt x="10800" y="21238"/>
                </a:lnTo>
                <a:cubicBezTo>
                  <a:pt x="10800" y="21419"/>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TextBox 3"/>
          <p:cNvSpPr/>
          <p:nvPr/>
        </p:nvSpPr>
        <p:spPr>
          <a:xfrm flipV="1" rot="10800000">
            <a:off x="4459320" y="4548600"/>
            <a:ext cx="3193920" cy="580680"/>
          </a:xfrm>
          <a:prstGeom prst="rect">
            <a:avLst/>
          </a:prstGeom>
          <a:noFill/>
          <a:ln w="0">
            <a:noFill/>
          </a:ln>
        </p:spPr>
        <p:style>
          <a:lnRef idx="0"/>
          <a:fillRef idx="0"/>
          <a:effectRef idx="0"/>
          <a:fontRef idx="minor"/>
        </p:style>
        <p:txBody>
          <a:bodyPr lIns="90000" rIns="90000" tIns="46800" bIns="46800" anchor="t">
            <a:spAutoFit/>
          </a:bodyPr>
          <a:p>
            <a:pPr marL="112680" indent="-50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b050"/>
                </a:solidFill>
                <a:latin typeface="Arial"/>
              </a:rPr>
              <a:t>These components  guide the behavior of the people.</a:t>
            </a:r>
            <a:endParaRPr b="0" lang="en-US" sz="1600" spc="-1" strike="noStrike">
              <a:solidFill>
                <a:srgbClr val="000000"/>
              </a:solidFill>
              <a:latin typeface="Arial"/>
            </a:endParaRPr>
          </a:p>
        </p:txBody>
      </p:sp>
      <p:sp>
        <p:nvSpPr>
          <p:cNvPr id="507" name="Double Brace 4"/>
          <p:cNvSpPr/>
          <p:nvPr/>
        </p:nvSpPr>
        <p:spPr>
          <a:xfrm>
            <a:off x="-2092320" y="2205000"/>
            <a:ext cx="46080" cy="46080"/>
          </a:xfrm>
          <a:prstGeom prst="bracePair">
            <a:avLst>
              <a:gd name="adj" fmla="val 8333"/>
            </a:avLst>
          </a:prstGeom>
          <a:noFill/>
          <a:ln w="9360">
            <a:solidFill>
              <a:srgbClr val="4a7ebb"/>
            </a:solidFill>
            <a:miter/>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0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7B8BC-9081-4BFE-A520-AADE987A326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10" name="PlaceHolder 1"/>
          <p:cNvSpPr>
            <a:spLocks noGrp="1"/>
          </p:cNvSpPr>
          <p:nvPr>
            <p:ph type="title"/>
          </p:nvPr>
        </p:nvSpPr>
        <p:spPr>
          <a:xfrm>
            <a:off x="1409400" y="374400"/>
            <a:ext cx="6519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 is. . . </a:t>
            </a:r>
            <a:endParaRPr b="0" lang="en-US" sz="4000" spc="-1" strike="noStrike">
              <a:solidFill>
                <a:srgbClr val="000000"/>
              </a:solidFill>
              <a:latin typeface="Calibri"/>
            </a:endParaRPr>
          </a:p>
        </p:txBody>
      </p:sp>
      <p:grpSp>
        <p:nvGrpSpPr>
          <p:cNvPr id="511" name="Group 21"/>
          <p:cNvGrpSpPr/>
          <p:nvPr/>
        </p:nvGrpSpPr>
        <p:grpSpPr>
          <a:xfrm>
            <a:off x="2741760" y="1994040"/>
            <a:ext cx="3657600" cy="3428640"/>
            <a:chOff x="2741760" y="1994040"/>
            <a:chExt cx="3657600" cy="3428640"/>
          </a:xfrm>
        </p:grpSpPr>
        <p:sp>
          <p:nvSpPr>
            <p:cNvPr id="512" name="Rectangle 22"/>
            <p:cNvSpPr/>
            <p:nvPr/>
          </p:nvSpPr>
          <p:spPr>
            <a:xfrm>
              <a:off x="2741760" y="377640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ed</a:t>
              </a:r>
              <a:endParaRPr b="0" lang="en-US" sz="2400" spc="-1" strike="noStrike">
                <a:solidFill>
                  <a:srgbClr val="000000"/>
                </a:solidFill>
                <a:latin typeface="Arial"/>
              </a:endParaRPr>
            </a:p>
          </p:txBody>
        </p:sp>
        <p:sp>
          <p:nvSpPr>
            <p:cNvPr id="513" name="Rectangle 23"/>
            <p:cNvSpPr/>
            <p:nvPr/>
          </p:nvSpPr>
          <p:spPr>
            <a:xfrm>
              <a:off x="2741760" y="288504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l</a:t>
              </a:r>
              <a:endParaRPr b="0" lang="en-US" sz="2400" spc="-1" strike="noStrike">
                <a:solidFill>
                  <a:srgbClr val="000000"/>
                </a:solidFill>
                <a:latin typeface="Arial"/>
              </a:endParaRPr>
            </a:p>
          </p:txBody>
        </p:sp>
        <p:sp>
          <p:nvSpPr>
            <p:cNvPr id="514" name="Rectangle 24"/>
            <p:cNvSpPr/>
            <p:nvPr/>
          </p:nvSpPr>
          <p:spPr>
            <a:xfrm>
              <a:off x="2741760" y="199404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vasive</a:t>
              </a:r>
              <a:endParaRPr b="0" lang="en-US" sz="2400" spc="-1" strike="noStrike">
                <a:solidFill>
                  <a:srgbClr val="000000"/>
                </a:solidFill>
                <a:latin typeface="Arial"/>
              </a:endParaRPr>
            </a:p>
          </p:txBody>
        </p:sp>
        <p:sp>
          <p:nvSpPr>
            <p:cNvPr id="515" name="Rectangle 25"/>
            <p:cNvSpPr/>
            <p:nvPr/>
          </p:nvSpPr>
          <p:spPr>
            <a:xfrm>
              <a:off x="2741760" y="466740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a:t>
              </a:r>
              <a:endParaRPr b="0" lang="en-US" sz="24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67964-BE2E-4306-8793-3EE55EC616A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18" name="PlaceHolder 1"/>
          <p:cNvSpPr>
            <a:spLocks noGrp="1"/>
          </p:cNvSpPr>
          <p:nvPr>
            <p:ph type="title"/>
          </p:nvPr>
        </p:nvSpPr>
        <p:spPr>
          <a:xfrm>
            <a:off x="1371600" y="299520"/>
            <a:ext cx="6541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bculture</a:t>
            </a:r>
            <a:endParaRPr b="0" lang="en-US" sz="4000" spc="-1" strike="noStrike">
              <a:solidFill>
                <a:srgbClr val="000000"/>
              </a:solidFill>
              <a:latin typeface="Calibri"/>
            </a:endParaRPr>
          </a:p>
        </p:txBody>
      </p:sp>
      <p:sp>
        <p:nvSpPr>
          <p:cNvPr id="519" name="Rectangle 23"/>
          <p:cNvSpPr/>
          <p:nvPr/>
        </p:nvSpPr>
        <p:spPr>
          <a:xfrm>
            <a:off x="1779480" y="2082960"/>
            <a:ext cx="5689800" cy="1477800"/>
          </a:xfrm>
          <a:prstGeom prst="rect">
            <a:avLst/>
          </a:prstGeom>
          <a:noFill/>
          <a:ln w="0">
            <a:noFill/>
          </a:ln>
        </p:spPr>
        <p:style>
          <a:lnRef idx="0"/>
          <a:fillRef idx="0"/>
          <a:effectRef idx="0"/>
          <a:fontRef idx="minor"/>
        </p:style>
        <p:txBody>
          <a:bodyPr lIns="90000" rIns="90000" tIns="46800" bIns="46800" anchor="t">
            <a:normAutofit fontScale="59000"/>
          </a:bodyPr>
          <a:p>
            <a:pPr algn="ctr">
              <a:lnSpc>
                <a:spcPct val="12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 homogeneous group </a:t>
            </a:r>
            <a:br>
              <a:rPr sz="3200"/>
            </a:br>
            <a:r>
              <a:rPr b="0" lang="en-US" sz="3200" spc="-1" strike="noStrike">
                <a:solidFill>
                  <a:srgbClr val="000000"/>
                </a:solidFill>
                <a:latin typeface="Arial"/>
                <a:ea typeface="ＭＳ Ｐゴシック"/>
              </a:rPr>
              <a:t>of people who share elements of the overall culture as well as cultural elements unique to their own group.</a:t>
            </a:r>
            <a:endParaRPr b="0" lang="en-US" sz="32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47C0F-F23A-4E92-87BB-E0FB8A1A8E1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22" name="PlaceHolder 1"/>
          <p:cNvSpPr>
            <a:spLocks noGrp="1"/>
          </p:cNvSpPr>
          <p:nvPr>
            <p:ph type="title"/>
          </p:nvPr>
        </p:nvSpPr>
        <p:spPr>
          <a:xfrm>
            <a:off x="1371600" y="274320"/>
            <a:ext cx="6492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a:t>
            </a:r>
            <a:endParaRPr b="0" lang="en-US" sz="4000" spc="-1" strike="noStrike">
              <a:solidFill>
                <a:srgbClr val="000000"/>
              </a:solidFill>
              <a:latin typeface="Calibri"/>
            </a:endParaRPr>
          </a:p>
        </p:txBody>
      </p:sp>
      <p:sp>
        <p:nvSpPr>
          <p:cNvPr id="523" name="Rectangle 17"/>
          <p:cNvSpPr/>
          <p:nvPr/>
        </p:nvSpPr>
        <p:spPr>
          <a:xfrm>
            <a:off x="1844640" y="2081160"/>
            <a:ext cx="5446800" cy="1447920"/>
          </a:xfrm>
          <a:prstGeom prst="rect">
            <a:avLst/>
          </a:prstGeom>
          <a:noFill/>
          <a:ln w="0">
            <a:noFill/>
          </a:ln>
        </p:spPr>
        <p:style>
          <a:lnRef idx="0"/>
          <a:fillRef idx="0"/>
          <a:effectRef idx="0"/>
          <a:fontRef idx="minor"/>
        </p:style>
        <p:txBody>
          <a:bodyPr lIns="90000" rIns="90000" tIns="46800" bIns="46800" anchor="t">
            <a:normAutofit fontScale="65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A group of people in a society who are considered nearly equal in status or community esteem, who regularly socialize among themselves both formally and informally, and who share behavioral norms.</a:t>
            </a:r>
            <a:endParaRPr b="0" lang="en-US" sz="2800" spc="-1" strike="noStrike">
              <a:solidFill>
                <a:srgbClr val="000000"/>
              </a:solidFill>
              <a:latin typeface="Arial"/>
            </a:endParaRPr>
          </a:p>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50DA2-AF91-44CB-9A50-8C4637D053D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26" name="PlaceHolder 1"/>
          <p:cNvSpPr>
            <a:spLocks noGrp="1"/>
          </p:cNvSpPr>
          <p:nvPr>
            <p:ph type="title"/>
          </p:nvPr>
        </p:nvSpPr>
        <p:spPr>
          <a:xfrm>
            <a:off x="1345680" y="259920"/>
            <a:ext cx="665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 Measurements</a:t>
            </a:r>
            <a:endParaRPr b="0" lang="en-US" sz="4000" spc="-1" strike="noStrike">
              <a:solidFill>
                <a:srgbClr val="000000"/>
              </a:solidFill>
              <a:latin typeface="Calibri"/>
            </a:endParaRPr>
          </a:p>
        </p:txBody>
      </p:sp>
      <p:grpSp>
        <p:nvGrpSpPr>
          <p:cNvPr id="527" name="Group 19"/>
          <p:cNvGrpSpPr/>
          <p:nvPr/>
        </p:nvGrpSpPr>
        <p:grpSpPr>
          <a:xfrm>
            <a:off x="2979720" y="1425600"/>
            <a:ext cx="3123720" cy="4570200"/>
            <a:chOff x="2979720" y="1425600"/>
            <a:chExt cx="3123720" cy="4570200"/>
          </a:xfrm>
        </p:grpSpPr>
        <p:sp>
          <p:nvSpPr>
            <p:cNvPr id="528" name="Rectangle 14"/>
            <p:cNvSpPr/>
            <p:nvPr/>
          </p:nvSpPr>
          <p:spPr>
            <a:xfrm>
              <a:off x="2979720" y="431316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Wealth</a:t>
              </a:r>
              <a:endParaRPr b="0" lang="en-US" sz="2400" spc="-1" strike="noStrike">
                <a:solidFill>
                  <a:srgbClr val="000000"/>
                </a:solidFill>
                <a:latin typeface="Arial"/>
              </a:endParaRPr>
            </a:p>
          </p:txBody>
        </p:sp>
        <p:sp>
          <p:nvSpPr>
            <p:cNvPr id="529" name="Rectangle 15"/>
            <p:cNvSpPr/>
            <p:nvPr/>
          </p:nvSpPr>
          <p:spPr>
            <a:xfrm>
              <a:off x="2979720" y="52758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ther Variables</a:t>
              </a:r>
              <a:endParaRPr b="0" lang="en-US" sz="2400" spc="-1" strike="noStrike">
                <a:solidFill>
                  <a:srgbClr val="000000"/>
                </a:solidFill>
                <a:latin typeface="Arial"/>
              </a:endParaRPr>
            </a:p>
          </p:txBody>
        </p:sp>
        <p:sp>
          <p:nvSpPr>
            <p:cNvPr id="530" name="Rectangle 16"/>
            <p:cNvSpPr/>
            <p:nvPr/>
          </p:nvSpPr>
          <p:spPr>
            <a:xfrm>
              <a:off x="2979720" y="238788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531" name="Rectangle 17"/>
            <p:cNvSpPr/>
            <p:nvPr/>
          </p:nvSpPr>
          <p:spPr>
            <a:xfrm>
              <a:off x="2979720" y="3350520"/>
              <a:ext cx="3123720" cy="7135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ducation</a:t>
              </a:r>
              <a:endParaRPr b="0" lang="en-US" sz="2400" spc="-1" strike="noStrike">
                <a:solidFill>
                  <a:srgbClr val="000000"/>
                </a:solidFill>
                <a:latin typeface="Arial"/>
              </a:endParaRPr>
            </a:p>
          </p:txBody>
        </p:sp>
        <p:sp>
          <p:nvSpPr>
            <p:cNvPr id="532" name="Rectangle 18"/>
            <p:cNvSpPr/>
            <p:nvPr/>
          </p:nvSpPr>
          <p:spPr>
            <a:xfrm>
              <a:off x="2979720" y="14256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ccupation</a:t>
              </a:r>
              <a:endParaRPr b="0" lang="en-US" sz="24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5E9BD-7941-4930-A70D-C79F851904F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35" name="PlaceHolder 1"/>
          <p:cNvSpPr>
            <a:spLocks noGrp="1"/>
          </p:cNvSpPr>
          <p:nvPr>
            <p:ph type="title"/>
          </p:nvPr>
        </p:nvSpPr>
        <p:spPr>
          <a:xfrm>
            <a:off x="1360080" y="21384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act of </a:t>
            </a:r>
            <a:br>
              <a:rPr sz="4000"/>
            </a:br>
            <a:r>
              <a:rPr b="0" lang="en-US" sz="4000" spc="-1" strike="noStrike">
                <a:solidFill>
                  <a:srgbClr val="000000"/>
                </a:solidFill>
                <a:latin typeface="Calibri"/>
              </a:rPr>
              <a:t>Social Class on Marketing</a:t>
            </a:r>
            <a:endParaRPr b="0" lang="en-US" sz="4000" spc="-1" strike="noStrike">
              <a:solidFill>
                <a:srgbClr val="000000"/>
              </a:solidFill>
              <a:latin typeface="Calibri"/>
            </a:endParaRPr>
          </a:p>
        </p:txBody>
      </p:sp>
      <p:sp>
        <p:nvSpPr>
          <p:cNvPr id="536" name="PlaceHolder 2"/>
          <p:cNvSpPr>
            <a:spLocks noGrp="1"/>
          </p:cNvSpPr>
          <p:nvPr>
            <p:ph/>
          </p:nvPr>
        </p:nvSpPr>
        <p:spPr>
          <a:xfrm>
            <a:off x="1591920" y="1968480"/>
            <a:ext cx="6305400" cy="371808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cates which medium to use for advertising</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ps determine the best distribution for products</a:t>
            </a:r>
            <a:endParaRPr b="0" lang="en-US" sz="2800" spc="-1" strike="noStrike">
              <a:solidFill>
                <a:srgbClr val="000000"/>
              </a:solidFill>
              <a:latin typeface="Calibri"/>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AutoShape 3"/>
          <p:cNvSpPr/>
          <p:nvPr/>
        </p:nvSpPr>
        <p:spPr>
          <a:xfrm>
            <a:off x="2300400" y="1905120"/>
            <a:ext cx="44956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social factors that affect consumer buying decisions</a:t>
            </a:r>
            <a:endParaRPr b="0" lang="en-US" sz="2800" spc="-1" strike="noStrike">
              <a:solidFill>
                <a:srgbClr val="000000"/>
              </a:solidFill>
              <a:latin typeface="Arial"/>
            </a:endParaRPr>
          </a:p>
        </p:txBody>
      </p:sp>
      <p:sp>
        <p:nvSpPr>
          <p:cNvPr id="53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39" name="TextBox 12"/>
          <p:cNvSpPr/>
          <p:nvPr/>
        </p:nvSpPr>
        <p:spPr>
          <a:xfrm>
            <a:off x="152280" y="53496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4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6</a:t>
            </a:r>
            <a:endParaRPr b="0" lang="en-US" sz="28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Influences on consumer buying decisions</a:t>
            </a:r>
            <a:endParaRPr b="0" lang="en-US" sz="3200" spc="-1" strike="noStrike">
              <a:solidFill>
                <a:srgbClr val="000000"/>
              </a:solidFill>
              <a:latin typeface="Calibri"/>
            </a:endParaRPr>
          </a:p>
        </p:txBody>
      </p:sp>
      <p:sp>
        <p:nvSpPr>
          <p:cNvPr id="542" name=""/>
          <p:cNvSpPr txBox="1"/>
          <p:nvPr/>
        </p:nvSpPr>
        <p:spPr>
          <a:xfrm>
            <a:off x="701640" y="1193760"/>
            <a:ext cx="7740720" cy="47102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consumers seek out the opinions of others to reduce their search and evaluation effort or uncertainty, especially as the perceived risk of the decision increase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umers interact socially with: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44834-9E5D-439C-8C04-F0ADDD94265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45" name="Group 21"/>
          <p:cNvGrpSpPr/>
          <p:nvPr/>
        </p:nvGrpSpPr>
        <p:grpSpPr>
          <a:xfrm>
            <a:off x="1295280" y="3448080"/>
            <a:ext cx="2323800" cy="1436400"/>
            <a:chOff x="1295280" y="3448080"/>
            <a:chExt cx="2323800" cy="1436400"/>
          </a:xfrm>
        </p:grpSpPr>
        <p:sp>
          <p:nvSpPr>
            <p:cNvPr id="546" name="Rectangle 22"/>
            <p:cNvSpPr/>
            <p:nvPr/>
          </p:nvSpPr>
          <p:spPr>
            <a:xfrm>
              <a:off x="1295280" y="3448080"/>
              <a:ext cx="2323800" cy="36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ference Groups</a:t>
              </a:r>
              <a:endParaRPr b="0" lang="en-US" sz="1800" spc="-1" strike="noStrike">
                <a:solidFill>
                  <a:srgbClr val="000000"/>
                </a:solidFill>
                <a:latin typeface="Arial"/>
              </a:endParaRPr>
            </a:p>
          </p:txBody>
        </p:sp>
        <p:sp>
          <p:nvSpPr>
            <p:cNvPr id="547" name="Rectangle 23"/>
            <p:cNvSpPr/>
            <p:nvPr/>
          </p:nvSpPr>
          <p:spPr>
            <a:xfrm>
              <a:off x="1295280" y="3983040"/>
              <a:ext cx="2323800" cy="3661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Opinion Leaders</a:t>
              </a:r>
              <a:endParaRPr b="0" lang="en-US" sz="1800" spc="-1" strike="noStrike">
                <a:solidFill>
                  <a:srgbClr val="000000"/>
                </a:solidFill>
                <a:latin typeface="Arial"/>
              </a:endParaRPr>
            </a:p>
          </p:txBody>
        </p:sp>
        <p:sp>
          <p:nvSpPr>
            <p:cNvPr id="548" name="Rectangle 24"/>
            <p:cNvSpPr/>
            <p:nvPr/>
          </p:nvSpPr>
          <p:spPr>
            <a:xfrm>
              <a:off x="1295280" y="4518360"/>
              <a:ext cx="2323800" cy="36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Family Members</a:t>
              </a:r>
              <a:endParaRPr b="0" lang="en-US" sz="1800" spc="-1" strike="noStrike">
                <a:solidFill>
                  <a:srgbClr val="000000"/>
                </a:solidFill>
                <a:latin typeface="Arial"/>
              </a:endParaRPr>
            </a:p>
          </p:txBody>
        </p:sp>
      </p:grpSp>
      <p:sp>
        <p:nvSpPr>
          <p:cNvPr id="549" name="Right Brace 3"/>
          <p:cNvSpPr/>
          <p:nvPr/>
        </p:nvSpPr>
        <p:spPr>
          <a:xfrm>
            <a:off x="4159080" y="3448080"/>
            <a:ext cx="451080" cy="1436760"/>
          </a:xfrm>
          <a:custGeom>
            <a:avLst/>
            <a:gdLst>
              <a:gd name="textAreaLeft" fmla="*/ 0 w 451080"/>
              <a:gd name="textAreaRight" fmla="*/ 162720 w 451080"/>
              <a:gd name="textAreaTop" fmla="*/ 11520 h 1436760"/>
              <a:gd name="textAreaBottom" fmla="*/ 1425240 h 1436760"/>
            </a:gdLst>
            <a:ahLst/>
            <a:rect l="textAreaLeft" t="textAreaTop" r="textAreaRight" b="textAreaBottom"/>
            <a:pathLst>
              <a:path w="21600" h="21600">
                <a:moveTo>
                  <a:pt x="0" y="0"/>
                </a:moveTo>
                <a:cubicBezTo>
                  <a:pt x="5400" y="0"/>
                  <a:pt x="10800" y="283"/>
                  <a:pt x="10800" y="565"/>
                </a:cubicBezTo>
                <a:lnTo>
                  <a:pt x="10800" y="10235"/>
                </a:lnTo>
                <a:cubicBezTo>
                  <a:pt x="10800" y="10518"/>
                  <a:pt x="16200" y="10800"/>
                  <a:pt x="21600" y="10800"/>
                </a:cubicBezTo>
                <a:cubicBezTo>
                  <a:pt x="16200" y="10800"/>
                  <a:pt x="10800" y="11083"/>
                  <a:pt x="10800" y="11365"/>
                </a:cubicBezTo>
                <a:lnTo>
                  <a:pt x="10800" y="21035"/>
                </a:lnTo>
                <a:cubicBezTo>
                  <a:pt x="10800" y="21318"/>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TextBox 4"/>
          <p:cNvSpPr/>
          <p:nvPr/>
        </p:nvSpPr>
        <p:spPr>
          <a:xfrm flipH="1">
            <a:off x="4722840" y="3929040"/>
            <a:ext cx="394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To obtain product information and decision approval.</a:t>
            </a:r>
            <a:endParaRPr b="0" lang="en-US" sz="18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A68B1-5493-4361-B5D1-D22C421CE22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53" name="PlaceHolder 1"/>
          <p:cNvSpPr>
            <a:spLocks noGrp="1"/>
          </p:cNvSpPr>
          <p:nvPr>
            <p:ph type="title"/>
          </p:nvPr>
        </p:nvSpPr>
        <p:spPr>
          <a:xfrm>
            <a:off x="1371600" y="325080"/>
            <a:ext cx="652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luences of</a:t>
            </a:r>
            <a:br>
              <a:rPr sz="4000"/>
            </a:br>
            <a:r>
              <a:rPr b="0" lang="en-US" sz="4000" spc="-1" strike="noStrike">
                <a:solidFill>
                  <a:srgbClr val="000000"/>
                </a:solidFill>
                <a:latin typeface="Calibri"/>
              </a:rPr>
              <a:t>Reference Groups</a:t>
            </a:r>
            <a:endParaRPr b="0" lang="en-US" sz="4000" spc="-1" strike="noStrike">
              <a:solidFill>
                <a:srgbClr val="000000"/>
              </a:solidFill>
              <a:latin typeface="Calibri"/>
            </a:endParaRPr>
          </a:p>
        </p:txBody>
      </p:sp>
      <p:sp>
        <p:nvSpPr>
          <p:cNvPr id="554" name="PlaceHolder 2"/>
          <p:cNvSpPr>
            <a:spLocks noGrp="1"/>
          </p:cNvSpPr>
          <p:nvPr>
            <p:ph/>
          </p:nvPr>
        </p:nvSpPr>
        <p:spPr>
          <a:xfrm>
            <a:off x="1460520" y="2077920"/>
            <a:ext cx="6337440" cy="3468960"/>
          </a:xfrm>
          <a:prstGeom prst="rect">
            <a:avLst/>
          </a:prstGeom>
          <a:noFill/>
          <a:ln w="0">
            <a:noFill/>
          </a:ln>
        </p:spPr>
        <p:txBody>
          <a:bodyPr anchor="t">
            <a:normAutofit fontScale="94000"/>
          </a:bodyPr>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serve as information sources and influence perception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ffect an individual’s aspiration level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ir norms either constrain or stimulate consumer behavior.</a:t>
            </a:r>
            <a:endParaRPr b="0" lang="en-US" sz="28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AutoShape 8"/>
          <p:cNvSpPr/>
          <p:nvPr/>
        </p:nvSpPr>
        <p:spPr>
          <a:xfrm>
            <a:off x="2171880" y="208296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why marketing manager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hould understand </a:t>
            </a:r>
            <a:br>
              <a:rPr sz="3200"/>
            </a:br>
            <a:r>
              <a:rPr b="1" lang="en-US" sz="3200" spc="-1" strike="noStrike">
                <a:solidFill>
                  <a:srgbClr val="000000"/>
                </a:solidFill>
                <a:latin typeface="Calibri"/>
              </a:rPr>
              <a:t>consumer behavior</a:t>
            </a:r>
            <a:endParaRPr b="0" lang="en-US" sz="3200" spc="-1" strike="noStrike">
              <a:solidFill>
                <a:srgbClr val="000000"/>
              </a:solidFill>
              <a:latin typeface="Arial"/>
            </a:endParaRPr>
          </a:p>
        </p:txBody>
      </p:sp>
      <p:sp>
        <p:nvSpPr>
          <p:cNvPr id="271" name="Rectangle 9"/>
          <p:cNvSpPr/>
          <p:nvPr/>
        </p:nvSpPr>
        <p:spPr>
          <a:xfrm>
            <a:off x="2314440" y="142920"/>
            <a:ext cx="4515120" cy="1868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TextBox 1"/>
          <p:cNvSpPr/>
          <p:nvPr/>
        </p:nvSpPr>
        <p:spPr>
          <a:xfrm>
            <a:off x="0" y="65232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Importance of Understandin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nsumer Behavior</a:t>
            </a:r>
            <a:endParaRPr b="0" lang="en-US" sz="2800" spc="-1" strike="noStrike">
              <a:solidFill>
                <a:srgbClr val="000000"/>
              </a:solidFill>
              <a:latin typeface="Arial"/>
            </a:endParaRPr>
          </a:p>
        </p:txBody>
      </p:sp>
      <p:sp>
        <p:nvSpPr>
          <p:cNvPr id="273"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27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776160" y="4135320"/>
            <a:ext cx="7766280" cy="1376640"/>
          </a:xfrm>
          <a:prstGeom prst="rect">
            <a:avLst/>
          </a:prstGeom>
          <a:solidFill>
            <a:srgbClr val="a0ca4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Text Box 25"/>
          <p:cNvSpPr/>
          <p:nvPr/>
        </p:nvSpPr>
        <p:spPr>
          <a:xfrm>
            <a:off x="650880" y="1703520"/>
            <a:ext cx="7778880" cy="242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n individual who influences others. They are often the most influential, informed, plugged in, and vocal members of socie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he first to try new products and services out of pure curiosity.</a:t>
            </a:r>
            <a:endParaRPr b="0" lang="en-US" sz="2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y be challenging to locate.</a:t>
            </a:r>
            <a:endParaRPr b="0" lang="en-US" sz="2800" spc="-1" strike="noStrike">
              <a:solidFill>
                <a:srgbClr val="000000"/>
              </a:solidFill>
              <a:latin typeface="Arial"/>
            </a:endParaRPr>
          </a:p>
        </p:txBody>
      </p:sp>
      <p:sp>
        <p:nvSpPr>
          <p:cNvPr id="557" name="Text Box 6"/>
          <p:cNvSpPr/>
          <p:nvPr/>
        </p:nvSpPr>
        <p:spPr>
          <a:xfrm>
            <a:off x="776160" y="4208400"/>
            <a:ext cx="7653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ers are increasingly using social media to determine and attract opinion leaders.</a:t>
            </a:r>
            <a:endParaRPr b="0" lang="en-US" sz="2400" spc="-1" strike="noStrike">
              <a:solidFill>
                <a:srgbClr val="000000"/>
              </a:solidFill>
              <a:latin typeface="Arial"/>
            </a:endParaRPr>
          </a:p>
        </p:txBody>
      </p:sp>
      <p:sp>
        <p:nvSpPr>
          <p:cNvPr id="55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497B1-EDA9-4134-8304-A8E9901ABA1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60" name="PlaceHolder 1"/>
          <p:cNvSpPr>
            <a:spLocks noGrp="1"/>
          </p:cNvSpPr>
          <p:nvPr>
            <p:ph type="title"/>
          </p:nvPr>
        </p:nvSpPr>
        <p:spPr>
          <a:xfrm>
            <a:off x="1466640" y="379080"/>
            <a:ext cx="6413400" cy="6224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inion Leaders</a:t>
            </a:r>
            <a:endParaRPr b="0" lang="en-US" sz="3200" spc="-1" strike="noStrike">
              <a:solidFill>
                <a:srgbClr val="000000"/>
              </a:solidFill>
              <a:latin typeface="Calibri"/>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mily</a:t>
            </a:r>
            <a:endParaRPr b="0" lang="en-US" sz="4000" spc="-1" strike="noStrike">
              <a:solidFill>
                <a:srgbClr val="000000"/>
              </a:solidFill>
              <a:latin typeface="Calibri"/>
            </a:endParaRPr>
          </a:p>
        </p:txBody>
      </p:sp>
      <p:sp>
        <p:nvSpPr>
          <p:cNvPr id="562" name=""/>
          <p:cNvSpPr txBox="1"/>
          <p:nvPr/>
        </p:nvSpPr>
        <p:spPr>
          <a:xfrm>
            <a:off x="750600" y="1523880"/>
            <a:ext cx="76532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mily is the most important social institution for many consumers, influencing values, attitudes, and buying behavior.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2051C-BB7E-4FA1-9F40-3A806875B4E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65" name="Rectangle 6"/>
          <p:cNvSpPr/>
          <p:nvPr/>
        </p:nvSpPr>
        <p:spPr>
          <a:xfrm>
            <a:off x="3519360" y="2895480"/>
            <a:ext cx="2432160" cy="2971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AutoShape 3"/>
          <p:cNvSpPr/>
          <p:nvPr/>
        </p:nvSpPr>
        <p:spPr>
          <a:xfrm>
            <a:off x="2279520" y="2085840"/>
            <a:ext cx="45100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individual factors that affect consumer buying decisions</a:t>
            </a:r>
            <a:endParaRPr b="0" lang="en-US" sz="2800" spc="-1" strike="noStrike">
              <a:solidFill>
                <a:srgbClr val="000000"/>
              </a:solidFill>
              <a:latin typeface="Arial"/>
            </a:endParaRPr>
          </a:p>
        </p:txBody>
      </p:sp>
      <p:sp>
        <p:nvSpPr>
          <p:cNvPr id="56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68"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6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7</a:t>
            </a:r>
            <a:endParaRPr b="0" lang="en-US" sz="2800" spc="-1" strike="noStrike">
              <a:solidFill>
                <a:srgbClr val="0000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30"/>
          <p:cNvSpPr/>
          <p:nvPr/>
        </p:nvSpPr>
        <p:spPr>
          <a:xfrm>
            <a:off x="0" y="380880"/>
            <a:ext cx="914400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1"/>
          <p:cNvSpPr>
            <a:spLocks noGrp="1"/>
          </p:cNvSpPr>
          <p:nvPr>
            <p:ph type="title"/>
          </p:nvPr>
        </p:nvSpPr>
        <p:spPr>
          <a:xfrm>
            <a:off x="1430280" y="141120"/>
            <a:ext cx="60595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Calibri"/>
              </a:rPr>
              <a:t>Individual Influences on consumer buying decisions</a:t>
            </a:r>
            <a:br>
              <a:rPr sz="2800"/>
            </a:br>
            <a:endParaRPr b="0" lang="en-US" sz="2800" spc="-1" strike="noStrike">
              <a:solidFill>
                <a:srgbClr val="000000"/>
              </a:solidFill>
              <a:latin typeface="Calibri"/>
            </a:endParaRPr>
          </a:p>
        </p:txBody>
      </p:sp>
      <p:sp>
        <p:nvSpPr>
          <p:cNvPr id="572" name=""/>
          <p:cNvSpPr txBox="1"/>
          <p:nvPr/>
        </p:nvSpPr>
        <p:spPr>
          <a:xfrm>
            <a:off x="695160" y="1104840"/>
            <a:ext cx="775368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7DBE6-3627-4C0B-A7E0-D66C15B901C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AutoShape 3"/>
          <p:cNvSpPr/>
          <p:nvPr/>
        </p:nvSpPr>
        <p:spPr>
          <a:xfrm>
            <a:off x="2257560" y="2290680"/>
            <a:ext cx="456876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psychological factors that affect consumer buying decisions</a:t>
            </a:r>
            <a:endParaRPr b="0" lang="en-US" sz="2800" spc="-1" strike="noStrike">
              <a:solidFill>
                <a:srgbClr val="000000"/>
              </a:solidFill>
              <a:latin typeface="Arial"/>
            </a:endParaRPr>
          </a:p>
        </p:txBody>
      </p:sp>
      <p:sp>
        <p:nvSpPr>
          <p:cNvPr id="5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77"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ychologic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8</a:t>
            </a:r>
            <a:endParaRPr b="0" lang="en-US" sz="28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Oval 2"/>
          <p:cNvSpPr/>
          <p:nvPr/>
        </p:nvSpPr>
        <p:spPr>
          <a:xfrm>
            <a:off x="963720" y="299880"/>
            <a:ext cx="7238880" cy="13780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logical</a:t>
            </a:r>
            <a:r>
              <a:rPr b="0" lang="en-US" sz="4000" spc="-1" strike="noStrike">
                <a:solidFill>
                  <a:srgbClr val="ffffff"/>
                </a:solidFill>
                <a:latin typeface="Calibri"/>
              </a:rPr>
              <a:t> </a:t>
            </a:r>
            <a:r>
              <a:rPr b="0" lang="en-US" sz="4000" spc="-1" strike="noStrike">
                <a:solidFill>
                  <a:srgbClr val="000000"/>
                </a:solidFill>
                <a:latin typeface="Calibri"/>
              </a:rPr>
              <a:t>Influences</a:t>
            </a:r>
            <a:endParaRPr b="0" lang="en-US" sz="4000" spc="-1" strike="noStrike">
              <a:solidFill>
                <a:srgbClr val="000000"/>
              </a:solidFill>
              <a:latin typeface="Arial"/>
            </a:endParaRPr>
          </a:p>
        </p:txBody>
      </p:sp>
      <p:sp>
        <p:nvSpPr>
          <p:cNvPr id="580" name="PlaceHolder 1"/>
          <p:cNvSpPr>
            <a:spLocks noGrp="1"/>
          </p:cNvSpPr>
          <p:nvPr>
            <p:ph type="subTitle"/>
          </p:nvPr>
        </p:nvSpPr>
        <p:spPr>
          <a:xfrm>
            <a:off x="550440" y="1608120"/>
            <a:ext cx="8078760" cy="40528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sychological influences are the factors consumers use to interact with their world. They are the tools used to recognize feelings, gather and analyze information, formulate thoughts and opinions, and take actio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hree psychological factors that influence buyer behavior ar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ercep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otiva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earning</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	</a:t>
            </a:r>
            <a:br>
              <a:rPr sz="2400"/>
            </a:b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02406-3ED5-44E0-ACEF-EA4551B7DFA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Oval 2"/>
          <p:cNvSpPr/>
          <p:nvPr/>
        </p:nvSpPr>
        <p:spPr>
          <a:xfrm>
            <a:off x="963720" y="21744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ception</a:t>
            </a:r>
            <a:r>
              <a:rPr b="0" lang="en-US" sz="4000" spc="-1" strike="noStrike">
                <a:solidFill>
                  <a:srgbClr val="ffffff"/>
                </a:solidFill>
                <a:latin typeface="Calibri"/>
              </a:rPr>
              <a:t> </a:t>
            </a:r>
            <a:endParaRPr b="0" lang="en-US" sz="4000" spc="-1" strike="noStrike">
              <a:solidFill>
                <a:srgbClr val="000000"/>
              </a:solidFill>
              <a:latin typeface="Arial"/>
            </a:endParaRPr>
          </a:p>
        </p:txBody>
      </p:sp>
      <p:grpSp>
        <p:nvGrpSpPr>
          <p:cNvPr id="584" name="Group 8"/>
          <p:cNvGrpSpPr/>
          <p:nvPr/>
        </p:nvGrpSpPr>
        <p:grpSpPr>
          <a:xfrm>
            <a:off x="1444680" y="1908000"/>
            <a:ext cx="6252840" cy="3353040"/>
            <a:chOff x="1444680" y="1908000"/>
            <a:chExt cx="6252840" cy="3353040"/>
          </a:xfrm>
        </p:grpSpPr>
        <p:grpSp>
          <p:nvGrpSpPr>
            <p:cNvPr id="585" name="Group 9"/>
            <p:cNvGrpSpPr/>
            <p:nvPr/>
          </p:nvGrpSpPr>
          <p:grpSpPr>
            <a:xfrm>
              <a:off x="1444680" y="1908000"/>
              <a:ext cx="1858680" cy="3353040"/>
              <a:chOff x="1444680" y="1908000"/>
              <a:chExt cx="1858680" cy="3353040"/>
            </a:xfrm>
          </p:grpSpPr>
          <p:sp>
            <p:nvSpPr>
              <p:cNvPr id="586" name="Rectangle 10"/>
              <p:cNvSpPr/>
              <p:nvPr/>
            </p:nvSpPr>
            <p:spPr>
              <a:xfrm>
                <a:off x="1444680" y="190800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Exposure</a:t>
                </a:r>
                <a:endParaRPr b="0" lang="en-US" sz="2200" spc="-1" strike="noStrike">
                  <a:solidFill>
                    <a:srgbClr val="000000"/>
                  </a:solidFill>
                  <a:latin typeface="Arial"/>
                </a:endParaRPr>
              </a:p>
            </p:txBody>
          </p:sp>
          <p:sp>
            <p:nvSpPr>
              <p:cNvPr id="587" name="Rectangle 11"/>
              <p:cNvSpPr/>
              <p:nvPr/>
            </p:nvSpPr>
            <p:spPr>
              <a:xfrm>
                <a:off x="1444680" y="3030840"/>
                <a:ext cx="1858680" cy="1109880"/>
              </a:xfrm>
              <a:prstGeom prst="rect">
                <a:avLst/>
              </a:prstGeom>
              <a:solidFill>
                <a:srgbClr val="93cddd"/>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a:t>
                </a:r>
                <a:br>
                  <a:rPr sz="2200"/>
                </a:br>
                <a:r>
                  <a:rPr b="1" lang="en-US" sz="2200" spc="-1" strike="noStrike">
                    <a:solidFill>
                      <a:srgbClr val="000000"/>
                    </a:solidFill>
                    <a:latin typeface="Arial"/>
                  </a:rPr>
                  <a:t>Distortion</a:t>
                </a:r>
                <a:endParaRPr b="0" lang="en-US" sz="2200" spc="-1" strike="noStrike">
                  <a:solidFill>
                    <a:srgbClr val="000000"/>
                  </a:solidFill>
                  <a:latin typeface="Arial"/>
                </a:endParaRPr>
              </a:p>
            </p:txBody>
          </p:sp>
          <p:sp>
            <p:nvSpPr>
              <p:cNvPr id="588" name="Rectangle 12"/>
              <p:cNvSpPr/>
              <p:nvPr/>
            </p:nvSpPr>
            <p:spPr>
              <a:xfrm>
                <a:off x="1444680" y="415512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Retention</a:t>
                </a:r>
                <a:endParaRPr b="0" lang="en-US" sz="2200" spc="-1" strike="noStrike">
                  <a:solidFill>
                    <a:srgbClr val="000000"/>
                  </a:solidFill>
                  <a:latin typeface="Arial"/>
                </a:endParaRPr>
              </a:p>
            </p:txBody>
          </p:sp>
        </p:grpSp>
        <p:grpSp>
          <p:nvGrpSpPr>
            <p:cNvPr id="589" name="Group 13"/>
            <p:cNvGrpSpPr/>
            <p:nvPr/>
          </p:nvGrpSpPr>
          <p:grpSpPr>
            <a:xfrm>
              <a:off x="3254760" y="1908000"/>
              <a:ext cx="4442760" cy="3353040"/>
              <a:chOff x="3254760" y="1908000"/>
              <a:chExt cx="4442760" cy="3353040"/>
            </a:xfrm>
          </p:grpSpPr>
          <p:sp>
            <p:nvSpPr>
              <p:cNvPr id="590" name="Rectangle 14"/>
              <p:cNvSpPr/>
              <p:nvPr/>
            </p:nvSpPr>
            <p:spPr>
              <a:xfrm>
                <a:off x="3254760" y="190800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notices certain stimuli and ignores others</a:t>
                </a:r>
                <a:endParaRPr b="0" lang="en-US" sz="2200" spc="-1" strike="noStrike">
                  <a:solidFill>
                    <a:srgbClr val="000000"/>
                  </a:solidFill>
                  <a:latin typeface="Arial"/>
                </a:endParaRPr>
              </a:p>
            </p:txBody>
          </p:sp>
          <p:sp>
            <p:nvSpPr>
              <p:cNvPr id="591" name="Rectangle 15"/>
              <p:cNvSpPr/>
              <p:nvPr/>
            </p:nvSpPr>
            <p:spPr>
              <a:xfrm>
                <a:off x="3254760" y="3030840"/>
                <a:ext cx="4442760" cy="110988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changes or distorts information that conflicts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th feelings or beliefs</a:t>
                </a:r>
                <a:endParaRPr b="0" lang="en-US" sz="2200" spc="-1" strike="noStrike">
                  <a:solidFill>
                    <a:srgbClr val="000000"/>
                  </a:solidFill>
                  <a:latin typeface="Arial"/>
                </a:endParaRPr>
              </a:p>
            </p:txBody>
          </p:sp>
          <p:sp>
            <p:nvSpPr>
              <p:cNvPr id="592" name="Rectangle 16"/>
              <p:cNvSpPr/>
              <p:nvPr/>
            </p:nvSpPr>
            <p:spPr>
              <a:xfrm>
                <a:off x="3254760" y="415512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remembers only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at information that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pports personal beliefs</a:t>
                </a:r>
                <a:endParaRPr b="0" lang="en-US" sz="2200" spc="-1" strike="noStrike">
                  <a:solidFill>
                    <a:srgbClr val="000000"/>
                  </a:solidFill>
                  <a:latin typeface="Arial"/>
                </a:endParaRPr>
              </a:p>
            </p:txBody>
          </p:sp>
        </p:grpSp>
      </p:grpSp>
      <p:sp>
        <p:nvSpPr>
          <p:cNvPr id="59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F8EDF-0BBF-4BC8-9AD0-6341F25A70E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Oval 2"/>
          <p:cNvSpPr/>
          <p:nvPr/>
        </p:nvSpPr>
        <p:spPr>
          <a:xfrm>
            <a:off x="1467000" y="431640"/>
            <a:ext cx="63640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keting Implication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 Perception</a:t>
            </a:r>
            <a:endParaRPr b="0" lang="en-US" sz="4400" spc="-1" strike="noStrike">
              <a:solidFill>
                <a:srgbClr val="000000"/>
              </a:solidFill>
              <a:latin typeface="Arial"/>
            </a:endParaRPr>
          </a:p>
        </p:txBody>
      </p:sp>
      <p:sp>
        <p:nvSpPr>
          <p:cNvPr id="59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B083C-FCAC-4B17-B791-48145CD20C0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98" name="PlaceHolder 1"/>
          <p:cNvSpPr>
            <a:spLocks noGrp="1"/>
          </p:cNvSpPr>
          <p:nvPr>
            <p:ph/>
          </p:nvPr>
        </p:nvSpPr>
        <p:spPr>
          <a:xfrm>
            <a:off x="1754280" y="2126880"/>
            <a:ext cx="5627520" cy="3971880"/>
          </a:xfrm>
          <a:prstGeom prst="rect">
            <a:avLst/>
          </a:prstGeom>
          <a:noFill/>
          <a:ln w="0">
            <a:noFill/>
          </a:ln>
        </p:spPr>
        <p:txBody>
          <a:bodyPr anchor="t">
            <a:normAutofit/>
          </a:bodyPr>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attribut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ce</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nd names </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 and reliability</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shold level of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t or repositioning chang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 consumer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liminal perception</a:t>
            </a:r>
            <a:endParaRPr b="0" lang="en-US" sz="2800" spc="-1" strike="noStrike">
              <a:solidFill>
                <a:srgbClr val="000000"/>
              </a:solidFill>
              <a:latin typeface="Calibri"/>
            </a:endParaRPr>
          </a:p>
          <a:p>
            <a:pPr marL="457200" indent="0">
              <a:lnSpc>
                <a:spcPct val="7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Text Box 20"/>
          <p:cNvSpPr/>
          <p:nvPr/>
        </p:nvSpPr>
        <p:spPr>
          <a:xfrm>
            <a:off x="1131840" y="347760"/>
            <a:ext cx="6821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tivation</a:t>
            </a:r>
            <a:endParaRPr b="0" lang="en-US" sz="4400" spc="-1" strike="noStrike">
              <a:solidFill>
                <a:srgbClr val="000000"/>
              </a:solidFill>
              <a:latin typeface="Arial"/>
            </a:endParaRPr>
          </a:p>
        </p:txBody>
      </p:sp>
      <p:sp>
        <p:nvSpPr>
          <p:cNvPr id="60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9BCA6-1BD8-4CF8-B464-CF692151AFA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2" name="TextBox 1"/>
          <p:cNvSpPr/>
          <p:nvPr/>
        </p:nvSpPr>
        <p:spPr>
          <a:xfrm>
            <a:off x="746280" y="1722600"/>
            <a:ext cx="76658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tive is the driving force that causes a person to take action to satisfy specific nee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ologic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ty</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eem</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actualization</a:t>
            </a:r>
            <a:endParaRPr b="0" lang="en-US" sz="2800" spc="-1" strike="noStrike">
              <a:solidFill>
                <a:srgbClr val="000000"/>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10" descr=""/>
          <p:cNvPicPr/>
          <p:nvPr/>
        </p:nvPicPr>
        <p:blipFill>
          <a:blip r:embed="rId1"/>
          <a:srcRect l="1794" t="3273" r="1500" b="0"/>
          <a:stretch/>
        </p:blipFill>
        <p:spPr>
          <a:xfrm>
            <a:off x="1712880" y="1841400"/>
            <a:ext cx="5452920" cy="4270320"/>
          </a:xfrm>
          <a:prstGeom prst="rect">
            <a:avLst/>
          </a:prstGeom>
          <a:ln w="0">
            <a:noFill/>
          </a:ln>
        </p:spPr>
      </p:pic>
      <p:sp>
        <p:nvSpPr>
          <p:cNvPr id="604"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0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52EF0-EDA9-43BB-89A7-96C3FBD4D1D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6"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6</a:t>
            </a:r>
            <a:endParaRPr b="0" lang="en-US" sz="9600" spc="-1" strike="noStrike">
              <a:solidFill>
                <a:srgbClr val="000000"/>
              </a:solidFill>
              <a:latin typeface="Arial"/>
            </a:endParaRPr>
          </a:p>
        </p:txBody>
      </p:sp>
      <p:sp>
        <p:nvSpPr>
          <p:cNvPr id="607"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Maslow’s Hierarchy of Need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85F95-8501-408D-AB9A-B16B949E1A6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371240" y="2646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erstanding Consumer Behavior</a:t>
            </a:r>
            <a:endParaRPr b="0" lang="en-US" sz="4000" spc="-1" strike="noStrike">
              <a:solidFill>
                <a:srgbClr val="000000"/>
              </a:solidFill>
              <a:latin typeface="Calibri"/>
            </a:endParaRPr>
          </a:p>
        </p:txBody>
      </p:sp>
      <p:grpSp>
        <p:nvGrpSpPr>
          <p:cNvPr id="278" name="Group 15"/>
          <p:cNvGrpSpPr/>
          <p:nvPr/>
        </p:nvGrpSpPr>
        <p:grpSpPr>
          <a:xfrm>
            <a:off x="1425600" y="2052720"/>
            <a:ext cx="6171840" cy="3428640"/>
            <a:chOff x="1425600" y="2052720"/>
            <a:chExt cx="6171840" cy="3428640"/>
          </a:xfrm>
        </p:grpSpPr>
        <p:grpSp>
          <p:nvGrpSpPr>
            <p:cNvPr id="279" name="Group 16"/>
            <p:cNvGrpSpPr/>
            <p:nvPr/>
          </p:nvGrpSpPr>
          <p:grpSpPr>
            <a:xfrm>
              <a:off x="1425600" y="2052720"/>
              <a:ext cx="6171840" cy="3428640"/>
              <a:chOff x="1425600" y="2052720"/>
              <a:chExt cx="6171840" cy="3428640"/>
            </a:xfrm>
          </p:grpSpPr>
          <p:sp>
            <p:nvSpPr>
              <p:cNvPr id="280" name="Rectangle 17"/>
              <p:cNvSpPr/>
              <p:nvPr/>
            </p:nvSpPr>
            <p:spPr>
              <a:xfrm>
                <a:off x="1425600" y="3255840"/>
                <a:ext cx="1547280" cy="10202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ea typeface="ＭＳ Ｐゴシック"/>
                  </a:rPr>
                  <a:t>Consumer behavior</a:t>
                </a:r>
                <a:endParaRPr b="0" lang="en-US" sz="2000" spc="-1" strike="noStrike">
                  <a:solidFill>
                    <a:srgbClr val="000000"/>
                  </a:solidFill>
                  <a:latin typeface="Arial"/>
                </a:endParaRPr>
              </a:p>
            </p:txBody>
          </p:sp>
          <p:grpSp>
            <p:nvGrpSpPr>
              <p:cNvPr id="281" name="Group 18"/>
              <p:cNvGrpSpPr/>
              <p:nvPr/>
            </p:nvGrpSpPr>
            <p:grpSpPr>
              <a:xfrm>
                <a:off x="4692240" y="2052720"/>
                <a:ext cx="2905200" cy="3428640"/>
                <a:chOff x="4692240" y="2052720"/>
                <a:chExt cx="2905200" cy="3428640"/>
              </a:xfrm>
            </p:grpSpPr>
            <p:sp>
              <p:nvSpPr>
                <p:cNvPr id="282" name="Rectangle 19"/>
                <p:cNvSpPr/>
                <p:nvPr/>
              </p:nvSpPr>
              <p:spPr>
                <a:xfrm>
                  <a:off x="4692240" y="2052720"/>
                  <a:ext cx="2905200" cy="1020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make purchase decisions</a:t>
                  </a:r>
                  <a:endParaRPr b="0" lang="en-US" sz="2000" spc="-1" strike="noStrike">
                    <a:solidFill>
                      <a:srgbClr val="000000"/>
                    </a:solidFill>
                    <a:latin typeface="Arial"/>
                  </a:endParaRPr>
                </a:p>
              </p:txBody>
            </p:sp>
            <p:sp>
              <p:nvSpPr>
                <p:cNvPr id="283" name="Rectangle 20"/>
                <p:cNvSpPr/>
                <p:nvPr/>
              </p:nvSpPr>
              <p:spPr>
                <a:xfrm>
                  <a:off x="4692240" y="4461480"/>
                  <a:ext cx="2905200" cy="10198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use and</a:t>
                  </a:r>
                  <a:br>
                    <a:rPr sz="2000"/>
                  </a:br>
                  <a:r>
                    <a:rPr b="1" lang="en-US" sz="2000" spc="-1" strike="noStrike">
                      <a:solidFill>
                        <a:srgbClr val="000000"/>
                      </a:solidFill>
                      <a:latin typeface="Arial"/>
                    </a:rPr>
                    <a:t>dispose of product</a:t>
                  </a:r>
                  <a:endParaRPr b="0" lang="en-US" sz="2000" spc="-1" strike="noStrike">
                    <a:solidFill>
                      <a:srgbClr val="000000"/>
                    </a:solidFill>
                    <a:latin typeface="Arial"/>
                  </a:endParaRPr>
                </a:p>
              </p:txBody>
            </p:sp>
          </p:grpSp>
          <p:sp>
            <p:nvSpPr>
              <p:cNvPr id="284" name="Text Box 21"/>
              <p:cNvSpPr/>
              <p:nvPr/>
            </p:nvSpPr>
            <p:spPr>
              <a:xfrm>
                <a:off x="2993400" y="3540240"/>
                <a:ext cx="14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HOW</a:t>
                </a:r>
                <a:endParaRPr b="0" lang="en-US" sz="2400" spc="-1" strike="noStrike">
                  <a:solidFill>
                    <a:srgbClr val="000000"/>
                  </a:solidFill>
                  <a:latin typeface="Arial"/>
                </a:endParaRPr>
              </a:p>
            </p:txBody>
          </p:sp>
        </p:grpSp>
        <p:cxnSp>
          <p:nvCxnSpPr>
            <p:cNvPr id="285" name="AutoShape 22"/>
            <p:cNvCxnSpPr>
              <a:stCxn id="282" idx="1"/>
            </p:cNvCxnSpPr>
            <p:nvPr/>
          </p:nvCxnSpPr>
          <p:spPr>
            <a:xfrm flipH="1">
              <a:off x="4173840" y="2562840"/>
              <a:ext cx="518400" cy="1204200"/>
            </a:xfrm>
            <a:prstGeom prst="straightConnector1">
              <a:avLst/>
            </a:prstGeom>
            <a:ln w="9360">
              <a:solidFill>
                <a:srgbClr val="000000"/>
              </a:solidFill>
              <a:miter/>
            </a:ln>
          </p:spPr>
        </p:cxnSp>
        <p:cxnSp>
          <p:nvCxnSpPr>
            <p:cNvPr id="286" name="AutoShape 23"/>
            <p:cNvCxnSpPr/>
            <p:nvPr/>
          </p:nvCxnSpPr>
          <p:spPr>
            <a:xfrm flipH="1" flipV="1">
              <a:off x="4173840" y="3788640"/>
              <a:ext cx="518400" cy="1151280"/>
            </a:xfrm>
            <a:prstGeom prst="straightConnector1">
              <a:avLst/>
            </a:prstGeom>
            <a:ln w="9360">
              <a:solidFill>
                <a:srgbClr val="000000"/>
              </a:solidFill>
              <a:miter/>
            </a:ln>
          </p:spPr>
        </p:cxnSp>
      </p:gr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Oval 2"/>
          <p:cNvSpPr/>
          <p:nvPr/>
        </p:nvSpPr>
        <p:spPr>
          <a:xfrm>
            <a:off x="947880" y="33336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ing</a:t>
            </a:r>
            <a:endParaRPr b="0" lang="en-US" sz="4400" spc="-1" strike="noStrike">
              <a:solidFill>
                <a:srgbClr val="000000"/>
              </a:solidFill>
              <a:latin typeface="Arial"/>
            </a:endParaRPr>
          </a:p>
        </p:txBody>
      </p:sp>
      <p:grpSp>
        <p:nvGrpSpPr>
          <p:cNvPr id="609" name="Group 4"/>
          <p:cNvGrpSpPr/>
          <p:nvPr/>
        </p:nvGrpSpPr>
        <p:grpSpPr>
          <a:xfrm>
            <a:off x="1440000" y="2448000"/>
            <a:ext cx="6273720" cy="2484360"/>
            <a:chOff x="1440000" y="2448000"/>
            <a:chExt cx="6273720" cy="2484360"/>
          </a:xfrm>
        </p:grpSpPr>
        <p:sp>
          <p:nvSpPr>
            <p:cNvPr id="610" name="Rectangle 5"/>
            <p:cNvSpPr/>
            <p:nvPr/>
          </p:nvSpPr>
          <p:spPr>
            <a:xfrm>
              <a:off x="1440000" y="2448000"/>
              <a:ext cx="1802160" cy="123192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eriential</a:t>
              </a:r>
              <a:endParaRPr b="0" lang="en-US" sz="2600" spc="-1" strike="noStrike">
                <a:solidFill>
                  <a:srgbClr val="000000"/>
                </a:solidFill>
                <a:latin typeface="Arial"/>
              </a:endParaRPr>
            </a:p>
          </p:txBody>
        </p:sp>
        <p:sp>
          <p:nvSpPr>
            <p:cNvPr id="611" name="Rectangle 6"/>
            <p:cNvSpPr/>
            <p:nvPr/>
          </p:nvSpPr>
          <p:spPr>
            <a:xfrm>
              <a:off x="1440000" y="3695760"/>
              <a:ext cx="1816920" cy="12366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ual</a:t>
              </a:r>
              <a:endParaRPr b="0" lang="en-US" sz="2600" spc="-1" strike="noStrike">
                <a:solidFill>
                  <a:srgbClr val="000000"/>
                </a:solidFill>
                <a:latin typeface="Arial"/>
              </a:endParaRPr>
            </a:p>
          </p:txBody>
        </p:sp>
        <p:sp>
          <p:nvSpPr>
            <p:cNvPr id="612" name="Rectangle 7"/>
            <p:cNvSpPr/>
            <p:nvPr/>
          </p:nvSpPr>
          <p:spPr>
            <a:xfrm>
              <a:off x="3256920" y="2448000"/>
              <a:ext cx="4456800" cy="123192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experience changes behavior</a:t>
              </a:r>
              <a:endParaRPr b="0" lang="en-US" sz="2600" spc="-1" strike="noStrike">
                <a:solidFill>
                  <a:srgbClr val="000000"/>
                </a:solidFill>
                <a:latin typeface="Arial"/>
              </a:endParaRPr>
            </a:p>
          </p:txBody>
        </p:sp>
        <p:sp>
          <p:nvSpPr>
            <p:cNvPr id="613" name="Rectangle 8"/>
            <p:cNvSpPr/>
            <p:nvPr/>
          </p:nvSpPr>
          <p:spPr>
            <a:xfrm>
              <a:off x="3275280" y="3695760"/>
              <a:ext cx="4438080" cy="123660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learned through direct experience</a:t>
              </a:r>
              <a:endParaRPr b="0" lang="en-US" sz="2600" spc="-1" strike="noStrike">
                <a:solidFill>
                  <a:srgbClr val="000000"/>
                </a:solidFill>
                <a:latin typeface="Arial"/>
              </a:endParaRPr>
            </a:p>
          </p:txBody>
        </p:sp>
      </p:grpSp>
      <p:sp>
        <p:nvSpPr>
          <p:cNvPr id="61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1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4CE72-2AF7-42AF-AED7-59568F1AD92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8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E99D5-2194-402D-821B-31A3436AD9F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89"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lue</a:t>
            </a:r>
            <a:endParaRPr b="0" lang="en-US" sz="4000" spc="-1" strike="noStrike">
              <a:solidFill>
                <a:srgbClr val="000000"/>
              </a:solidFill>
              <a:latin typeface="Calibri"/>
            </a:endParaRPr>
          </a:p>
        </p:txBody>
      </p:sp>
      <p:sp>
        <p:nvSpPr>
          <p:cNvPr id="290" name="TextBox 2"/>
          <p:cNvSpPr/>
          <p:nvPr/>
        </p:nvSpPr>
        <p:spPr>
          <a:xfrm>
            <a:off x="701640" y="1501920"/>
            <a:ext cx="7728120" cy="37530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 personal assessment of the net worth one obtains from making a purchase. What you get minus what you give.</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s are made based upon perceived value, which is what you </a:t>
            </a:r>
            <a:r>
              <a:rPr b="0" i="1" lang="en-US" sz="2000" spc="-1" strike="noStrike">
                <a:solidFill>
                  <a:srgbClr val="000000"/>
                </a:solidFill>
                <a:latin typeface="Arial"/>
              </a:rPr>
              <a:t>expect</a:t>
            </a:r>
            <a:r>
              <a:rPr b="0" lang="en-US" sz="2000" spc="-1" strike="noStrike">
                <a:solidFill>
                  <a:srgbClr val="000000"/>
                </a:solidFill>
                <a:latin typeface="Arial"/>
              </a:rPr>
              <a:t> to get. The Actual value may be more or less than you expected.</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tarian value is derived from a product or service that helps the consumer solve problems and accomplish tasks. </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donic value is an end in itself rather than as a means to an end. Its emotional – good feelings, happiness and satisfaction.</a:t>
            </a: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AutoShape 3"/>
          <p:cNvSpPr/>
          <p:nvPr/>
        </p:nvSpPr>
        <p:spPr>
          <a:xfrm>
            <a:off x="2292480" y="2475000"/>
            <a:ext cx="4624200" cy="299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nalyze the components </a:t>
            </a:r>
            <a:br>
              <a:rPr sz="2800"/>
            </a:br>
            <a:r>
              <a:rPr b="1" lang="en-US" sz="2800" spc="-1" strike="noStrike">
                <a:solidFill>
                  <a:srgbClr val="000000"/>
                </a:solidFill>
                <a:latin typeface="Calibri"/>
              </a:rPr>
              <a:t>of the consumer decision-making process</a:t>
            </a:r>
            <a:endParaRPr b="0" lang="en-US" sz="2800" spc="-1" strike="noStrike">
              <a:solidFill>
                <a:srgbClr val="000000"/>
              </a:solidFill>
              <a:latin typeface="Arial"/>
            </a:endParaRPr>
          </a:p>
        </p:txBody>
      </p:sp>
      <p:sp>
        <p:nvSpPr>
          <p:cNvPr id="292"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293" name="TextBox 7"/>
          <p:cNvSpPr/>
          <p:nvPr/>
        </p:nvSpPr>
        <p:spPr>
          <a:xfrm>
            <a:off x="152280" y="439560"/>
            <a:ext cx="8883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sumer </a:t>
            </a:r>
            <a:br>
              <a:rPr sz="3600"/>
            </a:br>
            <a:r>
              <a:rPr b="0" lang="en-US" sz="3600" spc="-1" strike="noStrike">
                <a:solidFill>
                  <a:srgbClr val="000000"/>
                </a:solidFill>
                <a:latin typeface="Arial"/>
              </a:rPr>
              <a:t>Decision-Making Process</a:t>
            </a:r>
            <a:endParaRPr b="0" lang="en-US" sz="3600" spc="-1" strike="noStrike">
              <a:solidFill>
                <a:srgbClr val="000000"/>
              </a:solidFill>
              <a:latin typeface="Arial"/>
            </a:endParaRPr>
          </a:p>
        </p:txBody>
      </p:sp>
      <p:sp>
        <p:nvSpPr>
          <p:cNvPr id="2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5565A-9258-4A25-B62F-DAA5A8823B1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97"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a:t>
            </a:r>
            <a:br>
              <a:rPr sz="4000"/>
            </a:br>
            <a:r>
              <a:rPr b="0" lang="en-US" sz="4000" spc="-1" strike="noStrike">
                <a:solidFill>
                  <a:srgbClr val="000000"/>
                </a:solidFill>
                <a:latin typeface="Calibri"/>
              </a:rPr>
              <a:t>Decision-Making Process</a:t>
            </a:r>
            <a:endParaRPr b="0" lang="en-US" sz="4000" spc="-1" strike="noStrike">
              <a:solidFill>
                <a:srgbClr val="000000"/>
              </a:solidFill>
              <a:latin typeface="Calibri"/>
            </a:endParaRPr>
          </a:p>
        </p:txBody>
      </p:sp>
      <p:pic>
        <p:nvPicPr>
          <p:cNvPr id="298" name="Group 32" descr=""/>
          <p:cNvPicPr/>
          <p:nvPr/>
        </p:nvPicPr>
        <p:blipFill>
          <a:blip r:embed="rId1"/>
          <a:stretch/>
        </p:blipFill>
        <p:spPr>
          <a:xfrm>
            <a:off x="1365120" y="2090880"/>
            <a:ext cx="6231240" cy="19080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1"/>
          <p:cNvSpPr/>
          <p:nvPr/>
        </p:nvSpPr>
        <p:spPr>
          <a:xfrm>
            <a:off x="2301840" y="649296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00"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17A7D-0A18-4F07-B93A-6F4E0586C0E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301" name="Picture 24" descr=""/>
          <p:cNvPicPr/>
          <p:nvPr/>
        </p:nvPicPr>
        <p:blipFill>
          <a:blip r:embed="rId1"/>
          <a:srcRect l="1226" t="1798" r="1641" b="2380"/>
          <a:stretch/>
        </p:blipFill>
        <p:spPr>
          <a:xfrm>
            <a:off x="1760400" y="1812960"/>
            <a:ext cx="5254920" cy="4438440"/>
          </a:xfrm>
          <a:prstGeom prst="rect">
            <a:avLst/>
          </a:prstGeom>
          <a:ln w="0">
            <a:noFill/>
          </a:ln>
        </p:spPr>
      </p:pic>
      <p:sp>
        <p:nvSpPr>
          <p:cNvPr id="302"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1</a:t>
            </a:r>
            <a:endParaRPr b="0" lang="en-US" sz="9600" spc="-1" strike="noStrike">
              <a:solidFill>
                <a:srgbClr val="000000"/>
              </a:solidFill>
              <a:latin typeface="Arial"/>
            </a:endParaRPr>
          </a:p>
        </p:txBody>
      </p:sp>
      <p:sp>
        <p:nvSpPr>
          <p:cNvPr id="303"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The Consumer Decision-Making Process</a:t>
            </a:r>
            <a:endParaRPr b="0" lang="en-US" sz="40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Tanvir Khan</cp:lastModifiedBy>
  <dcterms:modified xsi:type="dcterms:W3CDTF">2016-09-05T12:16:59Z</dcterms:modified>
  <cp:revision>600</cp:revision>
  <dc:subject>An Overview of Marketing</dc:subject>
  <dc:title>Chapter 1</dc:title>
</cp:coreProperties>
</file>