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8059-01F5-4CF1-A449-83369CB9D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ADC4-71CE-4471-9E5B-C71C8AB1F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2630-70E7-4A54-B92D-718E97760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C71B-EAEA-41E5-864E-9FDF6A7C7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08414-FFB6-4473-AD18-EAFC84AEE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BDC0-2626-4248-93D9-A25DBBB6B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BDB0-AA1A-4F14-AC34-735886BBDC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CB07-D9F6-4138-82DB-DF97C3B33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5B1C-F314-44F2-ACBA-983CD2CBF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6631-DEE0-4CE1-9B46-25849286F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8BE9-D64C-4D1D-B0CA-E3CE0DC3C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7145-F9DC-4950-825D-B4A3F2911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9332-E694-43E5-B3A2-957837699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C1EF-7179-4D5C-ADCE-7D3E083FA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A7D4-FAAD-4311-B673-CDF82C9C9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D33A-D109-4DA4-81C2-33FD62C58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8619-0D1C-4710-A86C-62A113D27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5975-A658-4DCD-8E6D-3DB70137D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EF01-3A53-4B06-819C-C5CEF8104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1056C-A201-4E81-9909-3FB605B16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C910-80BF-4479-9F2E-176794995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CE4F-FAF2-4596-B5E6-ECB7F34D4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739E-A232-45D3-9561-702AC415A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BFB0-3E5A-4565-940E-610D833E3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B300-2F0E-4116-A781-E84D32D03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AFEA-0FBF-4843-85D4-D2FD0A619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DADB-C4ED-4790-BE11-A12F8444B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5078-F74F-470F-AB82-EE42A5E53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DA7A3-E918-4DB9-B97F-EF1158341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F1F75-39F3-4F31-896C-82FE8BB93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CEB0-067D-46B1-9774-DC1A13397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AFD8A-1A60-4F79-AD81-33EA89BD3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A86B-5739-4AB2-AA77-3D81A2586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E6FC-0AC9-44C0-A762-93F424BD0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3C4F-E706-4199-8CC8-58222AE6A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B9558-DC4B-4612-B312-80B0B59C8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9B41-E77F-4835-BE4F-DAF5543CB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9289E-12C6-46F1-9304-638D7F122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24488-C832-4DA2-A3E7-720C7BB11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13AD-E384-41B0-8B47-FC779F7B6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890C-D438-4184-978D-0817C7E9A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77E8-D8AA-4DE3-831C-E944B9B22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84EE-B1DA-4D8E-899D-17654CED8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8680-24DA-4B6E-946A-3102B94E6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FD55-66B7-4DE1-BB63-B2F66FE22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69B3-8036-4DC2-ABDA-F8C513E35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D64B-D7C3-4A37-8B50-31A8E962C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1780-40D7-47E0-9777-B0F53F57D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0390-1D56-46EB-AF59-0D4BCE5D7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1D00-7828-4994-84FE-9E816C489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9EF9-A448-4BDC-A756-08EC815AE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CB4D4-9C4D-492C-9823-9CC65C826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F5BCB-F2DE-4CEC-80C5-8A1FD70AD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E23F9-B4A3-4EA6-89A8-91243E2B7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760F4-1807-4659-8C71-BC747C35D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DF9433-7847-4EFF-B543-EC2F072114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E9FCE-0822-469A-BD80-2051B0055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B8E6A-7495-4457-BB10-82B7DB9AC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73098-3D9E-4D32-812B-DB5B3ED9A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18D3A-4A34-450D-ACE1-D860DAF32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3CBE7-C28A-4C23-8DA6-9A73B88B2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2CD1F-44C7-493C-A4D3-809B4F9A4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AA3F4-A6E3-4693-8E9C-A3D206A81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E6DFB-6E80-48CD-98C6-4BE21E066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5944A-6E95-4EE1-A0E5-EA0037759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1996B-D53C-4C51-BAE4-CD95E202A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8E5AD6-49BF-4F53-9341-E2E6E37A6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F48671-7F16-424D-A577-7B3A48D03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D54647-CB79-4720-B592-440F88DC05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061508-3058-4353-A619-06178867B5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D630EC-14E1-4A41-ADCF-7BD21C2C4F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955E61-FD33-4AB6-B592-26714B8B86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2BB833-2FD6-4A7B-989A-E29733059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5001A-B955-442C-A7DD-58085124F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EEF75A-3392-47C5-871B-06D766C831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C7020E-1179-4043-851F-41BD5A0C8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29297B-E789-4CCB-A4F7-57100D9997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F576C7-CBAE-4040-A75D-55A3DAFEA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49F60E-CB14-4CC4-9856-D745FCEF1A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DACD6B-B50A-4DC1-B114-47E5023634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9D1435-4027-4A24-8625-54670262EB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F8FF35-48AB-480B-8EF4-DACAA3CEF9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097C1F-8C97-4B06-96D7-677AAA6BE8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18DADD-E8B5-4A67-B18D-678CD604B5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BE518-A22F-472E-89F6-1D14FDBF1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9BB5F2-2372-45DF-8027-D4A3E395B7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B763A4-7A08-4F9E-BC73-A0F74581A8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FB5CEE-D16B-455E-8F70-EDBE2CA7A0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61376-049D-4C70-B126-65F184B7F8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DEA8E2-A624-48B1-92EF-B8396D2D95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F047D5-F238-4462-AD7C-399FF33D69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0A281E-65DD-4948-B862-6A4FEA73AE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0600FF-73B7-4539-ADFC-B3DBC1EE63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2C389A-4130-49FA-932A-D0A5D823F8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5BE246-7076-45F8-954F-89438B0511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7A517-701A-413E-AAB5-C7B3EB484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874AED-FBBF-4174-BA1F-97FDF59EB7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57BF06-64DC-40CD-BC81-83E06E745D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BB73D4-0941-4BFA-BD9B-25967EB47A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F54AF7-DCA5-41B8-926B-91DB47A598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A469D4-0324-46E0-9F9B-5FB1847AE4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ADD961-65A1-4461-8B76-9E3F10CC48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81BCCD-9EF1-4695-9514-65E5665839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6D7A21-E893-455D-ABCA-8E98DE1980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C2D22C-053B-46DA-B460-0A8326DF62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DA6834-B7E5-4AFA-8207-B21AB929E2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5F895-69A4-4C4E-83CF-72C0FB198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AEF9A0-41EB-4113-BA0F-EF67F438F8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7BBD3F-57FF-4EE1-B4A1-ACD57A1E6B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B1C20C-55E3-42C8-9FC2-76790DED5E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3C8761-9519-473F-B657-7352CB9C8B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84118E-E140-4779-8D9F-34843CFE9D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C44E3C-50E8-4AE0-9059-109F5E4BEC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77AA4F-7A90-4823-96CC-C20833217F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13E2AB-CDE9-4A4C-AF6A-1826A82C25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791AFA-1B3D-4BB5-8F48-971923E22B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F5B98F-01DE-4C3C-BB16-BB97F958D7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2AB52-52B8-4C58-88B6-84365F27B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4A113B-403F-4E1D-A362-503D919439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11FF18-DC8A-4469-AC99-E2198A9587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F300E2-5B9A-4C7D-9694-7133C513C9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E56D7-053C-40BB-BD99-70845A63C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B5B3C-E16F-4334-B81B-732905FE5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F1F6E-838C-436B-8358-37BBCC6C9C6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7085-4188-430B-BB13-489A559F604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77C5-7CAB-4ACB-A33D-30DF03EFB6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BFC9-26D3-4D24-9628-9E4267FC15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1582-B563-4CD2-97EC-4801FB63F6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92E9-F25C-4507-B05F-942DADE8D6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EA1B-98A2-4DAC-8C44-E9D6BD0F1F1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E6E1-DCFC-4684-9D4C-174113FE5D7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CA44-B890-4B97-8840-51F4B9297E9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Any unit of input affecting one or more of the five senses:</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ight</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mell</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aste</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ouch</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EE54-DDB5-404E-8118-C76513DAACA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arketing helps consumers recognize </a:t>
              </a:r>
              <a:br>
                <a:rPr sz="2200"/>
              </a:br>
              <a:r>
                <a:rPr b="1" i="1" lang="en-US" sz="2200" spc="-1" strike="noStrike">
                  <a:solidFill>
                    <a:srgbClr val="000000"/>
                  </a:solidFill>
                  <a:latin typeface="Arial"/>
                  <a:ea typeface="ＭＳ Ｐゴシック"/>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s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Stat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Ex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6EAD-5D82-466A-832E-3A64DC882C1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4282-04F5-4488-83AD-F5271826EB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4739-8AFC-4900-ACB8-582CB84CED1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16040" y="1847880"/>
            <a:ext cx="5973840" cy="1981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CF4AE-95C9-447D-AC8E-23EC67EAD26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6531-F8FB-4B2D-98D1-AF0AF1FB129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To buy </a:t>
                </a:r>
                <a:br>
                  <a:rPr sz="2800"/>
                </a:br>
                <a:r>
                  <a:rPr b="1" i="1" lang="en-US" sz="2800" spc="-1" strike="noStrike">
                    <a:solidFill>
                      <a:srgbClr val="000000"/>
                    </a:solidFill>
                    <a:latin typeface="Arial"/>
                    <a:ea typeface="ＭＳ Ｐゴシック"/>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9085-17C3-4C8F-A626-3E067BFF48D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rm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rmAutofit fontScale="87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1</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why marketing managers should understand consumer behavior</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2</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Analyze the components of the consumer decision-making process</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3</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the consumer’s postpurchase evaluation process</a:t>
            </a: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4</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E772-BCAA-4F5E-8DE6-03741C36F0A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5C1C-955C-4654-96EC-C10712C3417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Consumers can reduce dissonance by:</a:t>
            </a:r>
            <a:endParaRPr b="0" lang="en-US" sz="2800" spc="-1" strike="noStrike">
              <a:solidFill>
                <a:srgbClr val="000000"/>
              </a:solidFill>
              <a:latin typeface="Arial"/>
            </a:endParaRPr>
          </a:p>
          <a:p>
            <a:pPr marL="457200" indent="-45720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14440" y="5162400"/>
            <a:ext cx="6248520" cy="10731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 </a:t>
              </a: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2160-4174-473C-A674-62D115235E0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B764-001F-4D99-AEF4-585F832066A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98E1-12D2-4B46-A5BD-BADD0B23124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10943-ABA7-4230-8DC3-01143E4DED3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DAAD-2EF2-4CB2-AF80-0A1E0FF8D39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5E9A-52A5-430C-AA0F-4142EDBF0B0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D579-0DCF-43C8-A80F-C10D4DA7878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rmAutofit fontScale="97000"/>
          </a:bodyPr>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5</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cultur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6</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social factors that affect consumer buying decisions </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7</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individu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8</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psychological factors that affect consumer buying decisions</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F805-51B0-4FB0-A276-E96BD289C47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3A82-1BA4-46D9-9429-507D938AF59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Soci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Individu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sycho-logic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ultur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ONSUMER</a:t>
              </a:r>
              <a:br>
                <a:rPr sz="2100"/>
              </a:br>
              <a:r>
                <a:rPr b="1" lang="en-US" sz="2100" spc="-1" strike="noStrike">
                  <a:solidFill>
                    <a:srgbClr val="000000"/>
                  </a:solidFill>
                  <a:latin typeface="Arial"/>
                  <a:ea typeface="ＭＳ Ｐゴシック"/>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UY or </a:t>
              </a:r>
              <a:br>
                <a:rPr sz="2100"/>
              </a:br>
              <a:r>
                <a:rPr b="1" lang="en-US" sz="2100" spc="-1" strike="noStrike">
                  <a:solidFill>
                    <a:srgbClr val="000000"/>
                  </a:solidFill>
                  <a:latin typeface="Arial"/>
                  <a:ea typeface="ＭＳ Ｐゴシック"/>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78BF-A10A-4F25-911D-152C5A66B13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E0EA-74DB-4E7E-AF69-60BBCA5F1A3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696B-0B76-47D3-830D-41A3319A123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rmAutofit fontScale="59000"/>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homogeneous group </a:t>
            </a:r>
            <a:br>
              <a:rPr sz="3200"/>
            </a:br>
            <a:r>
              <a:rPr b="0" lang="en-US" sz="3200" spc="-1" strike="noStrike">
                <a:solidFill>
                  <a:srgbClr val="000000"/>
                </a:solidFill>
                <a:latin typeface="Arial"/>
                <a:ea typeface="ＭＳ Ｐゴシック"/>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BF63-8225-4584-8E94-D4912773AEB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rmAutofit fontScale="65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0DAD-8107-4485-9C43-673A9C855AA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D12D-44E1-47E9-B01C-9A0B02BB892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5509-F6A3-4D1C-9D57-DB71F86A7D2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400"/>
            <a:chOff x="1295280" y="3448080"/>
            <a:chExt cx="2323800" cy="1436400"/>
          </a:xfrm>
        </p:grpSpPr>
        <p:sp>
          <p:nvSpPr>
            <p:cNvPr id="546" name="Rectangle 22"/>
            <p:cNvSpPr/>
            <p:nvPr/>
          </p:nvSpPr>
          <p:spPr>
            <a:xfrm>
              <a:off x="1295280" y="344808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1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36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A6FF-39DC-4416-B4D8-34C86CF8747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mportance of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n individual who influences others. They are often the most influential, informed, plugged in, and vocal members of socie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first to try new products and services out of pure curiosity.</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1781-9625-4A66-856A-DFF26F073A6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49D6-A52B-4759-80B6-9A5BA5B7AB3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C909-D089-49DA-83CB-2BE8B922326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0BE8-6723-480F-850E-2B3EB401358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654C-07F5-4F44-B48D-3B973CFEB49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9402-1E6E-48F3-B9F8-57F8FB4DAFF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3F0B-1ABB-47D0-B8CF-40A78902941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5012-2DF2-427F-9DBB-3305387D314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54CE-53AC-4213-9DC1-A3C3321C328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ea typeface="ＭＳ Ｐゴシック"/>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0E8A-E877-458C-873F-B1E39E910F0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CEA5-7BC6-43BD-AE4D-38136927B92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81BA-1CD5-43B2-BE0A-B2AF6584EF7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65120" y="2090880"/>
            <a:ext cx="6231240" cy="190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BDBC-FAB6-41DD-A76E-4D8C13E0B24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9-05T12:16:59Z</dcterms:modified>
  <cp:revision>600</cp:revision>
  <dc:subject>An Overview of Marketing</dc:subject>
  <dc:title>Chapter 1</dc:title>
</cp:coreProperties>
</file>