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45B7-FA06-43D3-9280-243F35402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25A8-E63A-4EE2-8118-F389D556A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99A3-095E-4FE7-A939-CADE0E711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2749-DA13-4CC0-92EC-6A1837CA7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1232-CDBD-4E4A-8E88-D360EDAB8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FF5B-F603-4991-9536-7C012D95E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8198-B4B1-4DBE-8766-C5B515F77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7BE2-7FC1-4496-BE53-3C36CCF21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8D6F-5CAB-4D2C-9AD2-0BD69D5C1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714B-520E-4BC1-8513-5933397E8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B52C-6164-4A8B-A3D7-109924127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1A13-56DD-4F17-B726-59F8C2C8D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EB53-401A-4139-90F0-7A2689F31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494B-0E14-4526-AE77-C29389945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836D-F3A7-4CDF-BA8F-C337DFABC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02FF-1C9B-43E8-8083-229EA4AAC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69D0-DCD6-4064-8E34-492B651BE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296C-B5DC-4DB4-9F6E-C2117BA44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39FD-EA5F-4D08-AA46-AECA06AF5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9563-D372-4AE1-AB42-F0BB1E78C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B2EE-FD43-412C-AC5A-32C62A2D9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21F5-A3D9-4B33-A724-53B6556C0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B358-1978-49FC-A6C7-F29DD6628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055E-D82C-423A-ACBE-88F147E50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882E-8B21-4BB8-8BEB-1AB26D0F9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1995-B4B9-40E9-AF0D-962C4F49B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81CA-5846-4347-8B93-5F714C289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0213-DCDE-436D-A54F-ED0C790D7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C7F1-C584-4F49-95A2-B747E849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1AEF-9A02-4146-A7FE-4FC102DA5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371F-630F-4811-8C3B-CA2E39DC1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7C1C-CABA-4371-885E-2F0E2D1D0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DEB3-F046-468D-A697-F72C1B38A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D5E1-3EBB-4847-B201-E13C7DAC5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8CDD-08C8-4F65-8E8B-D84E882F3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0873-2639-45F5-972F-0EF6D41C0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7341-9767-449C-AB83-83816DF3E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8C9B-398D-4DEA-B203-27842A4A6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2FAD-3D00-4CCE-87E9-3717F1AF2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AC61-2905-4531-ADBF-A1BA549E3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5339-12C5-4EE5-AF78-3C61C5494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2392-0F70-4649-95CA-8EAC9198E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9215-E96F-48DA-9159-4C99BE534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C691-E028-41A4-B093-123BC1F43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2DF67-EE6C-411B-9017-D33E1FE5A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E9982-DD36-4CA4-A9A1-2909F916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EAD29-8013-485E-858D-7CCD65B5F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32764-A363-423B-8CC8-9B931029A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7629D-D548-4525-9226-ED4682175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82945-87FE-4688-A824-09B7934BE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6EFB1-1217-4826-9F97-5F2BE50DF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5AFF-E8DB-49C6-82DE-946A3E157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47FCC-003E-4EFF-A278-0BDB203F4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13DCF-FB42-4475-9658-B323BDC99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46A71-7B2C-4E35-AB12-1097380AE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B6D0F-14B9-4DC5-B2C1-7E6AA05F6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36804-D6EF-44D0-B766-BA9721643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6E9C7-4876-46A7-B249-ABD4BAE0B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487F2-49C2-4B9E-A23C-431D4377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21CAA-846D-44BF-9178-F5F4961AF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E02FE-AD1D-43EC-B7D7-538672DD2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0553B5-0655-457E-8B4E-D29032C257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75F80-AA45-4BAC-97BB-F2FD2BA98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46BB7-5F0D-4F8D-A925-FD932F5F8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A6231-C60D-4CC0-B4C9-AFF68BB11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B83D0-9663-43EA-A93D-AF72CDA05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B0DB-BC3B-46F4-A3B9-92B77BD9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E7C0F-F455-4D1B-8804-AAD2F0685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8B907-E83E-45B0-B24F-5C1095E44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076FD-82D7-4FA1-9246-A2D2D2E1C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09630-B39E-46E6-86C1-724F8062A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BE943-0283-4197-8A25-AF954F1A4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FBEA7-8C36-446C-9D27-6B6D06E68D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C16A1D-AB13-41B1-A8EB-3172B292A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DD557C-A79D-4045-9D33-9899152ABA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46DEC-FE0F-42A9-8826-F151EB9E2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70897-2D9F-4CD4-95F0-3CF8FACB2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37A0-AC49-4A93-B999-06172F8E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C004F-08CD-4E97-818C-1CC8F51F2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71498C-8874-4942-B5D4-E6677192A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C0F03E-4F04-42CB-B3E5-FB3107A50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A055E-BF30-4DD0-BF8A-A63A54D85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54521-B7D1-4E23-89B4-51EC67C8B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A7E5D-CC4C-4CCB-BD32-B9A9E6443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864CC-79A9-43D1-9E5B-94C6BD1FC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54B42-7C2D-4B1A-A022-7DEDAB999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996653-21F3-41DD-B959-0D443BED0D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2F6BA-8F99-4568-B5F7-FE35FE08C6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D760-22D6-46B1-805C-636B2C2E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B99C7-0054-461B-9171-239FBC10E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AB522-937D-4870-AFE5-6E2DF2AC6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4DCB2-75F9-40C0-B11A-A1A26B592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7208A-6C27-4E63-A508-5760C9B53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17ED37-671A-44F2-A1D8-FFD581C1D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38D72-7C0D-4ABA-A666-ADD7A3B72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73A2D-79C4-4087-BEDA-CE05AEEBF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98C80-09CA-4EFE-9E08-B7CB8B937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7B76D-7179-4DFE-B692-EF039C830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109EC-6C0A-4736-9B6F-31D6D45E9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851DA-961C-4197-96A9-B7242EA7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2F0FBC-B627-4EDB-8D69-E12CA1D367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256796-CCD1-440B-93E7-AD097E92C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9FA2B-235F-4921-B3EC-5F88D4E3D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037B6-4255-4E5D-950E-26F8E7665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23964-0B14-4284-BF19-D167B45A85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115A5-790F-4BE7-BDF3-93D36A21D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AA078A-0A7D-4282-B9D8-B540446EA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0EAEA-52F9-49B6-9F47-E8ACC37E0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36484-EF05-4CC0-97C0-2A003CAD3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E59C6B-FFAF-44E9-8EBF-116480D3F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1DA1-FB58-4A6D-AA48-15F411B6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AB7FC-548D-4F1C-BFA5-4908763FC8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187D86-3305-4197-B091-940FF6386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56DC20-3A07-432F-A87A-E1335D35F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9F6463-F84F-48D3-88C6-F74E3DCF30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4D6ED-3890-4622-A179-9C5C8C5F5C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76045-6F65-4C15-B4F2-9A5102F3B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1B308-C6AA-4B5F-BAE6-1C2DAA74D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21E74-E996-46A1-899C-1A96C30F2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D4226F-6FF5-4B9C-B56F-EE6E4137F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08EE0-1211-49CC-922E-2659887EA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FCF5-C0BD-4FE3-AFE9-3747BD6F7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A9673-7534-4E74-8676-873C35BE7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B62D7-AED1-49FF-BA98-1F4656909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161EC2-3AAD-4006-9780-2A1135E640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581D9-29F9-4B35-A156-2B203CC8D5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C6C797-600F-43AE-BBFD-9190ACBFF2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5849C8-9202-465C-AC96-2322C4D48F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6560D-54A1-40C6-88D3-50D55F20C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51D3A-5610-4774-A9E2-95E1E1081D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4567CD-720A-4C26-B0B9-DE90B3F8E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9593A-1894-42E7-82AC-83D222DD5C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B40A-3D35-42BF-A7BC-3DCE727C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9668A1-2A21-4B91-AF25-6B491844EA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729CF-F41C-4C9A-B223-7450CFA1A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9227C-2B83-4357-AF3E-B85ACB118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CA263-DF40-4B54-98C8-EF68B81FF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B2C55C-6860-452A-A457-3A33379EE0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25C766-2E81-432B-B145-A4EDFD0D5E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3B07A9-4317-4F4C-BE66-4CCDF90C00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BE8B-02BD-46B7-AC0A-CED941032C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6D60-473E-4F94-8BDB-9D09C09B06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92F7-716D-4334-9104-3EC5FAD702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A0BD-B8C2-4FF9-B844-B76ECEAC37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2492-005A-427B-AE4F-720B97E67F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A24A-1B87-4EA1-89BD-C7D6D0DA48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9D32-CE0E-4E06-972C-531CA3B057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B346-12FB-4DAA-BFFB-AE0E1B28B4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C7CF-E5A9-4D4F-8ADF-FD0F8FAD1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s for Segmen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C1D0-2BA6-4610-957C-6EC2349FE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2AE6-637D-41BB-A64B-7E5AB34B4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DD4E-329B-47B8-BA53-90880D8E1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FF6F-ED06-482D-A36E-3A7F47FFDB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1BEB-7F83-4BB4-AF30-60E7AB610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F185-1CB9-48C0-B4A9-ECEC1F28E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DEDC-C42E-41B2-94D9-CC03CC2FA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00D3-8F46-4CDE-9859-172EE22E9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78080" y="1554120"/>
            <a:ext cx="6108480" cy="40784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Autofit/>
          </a:bodyPr>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1</a:t>
            </a:r>
            <a:r>
              <a:rPr b="0" lang="en-US" sz="2400" spc="-1" strike="noStrike">
                <a:solidFill>
                  <a:srgbClr val="322083"/>
                </a:solidFill>
                <a:latin typeface="Arial"/>
              </a:rPr>
              <a:t> </a:t>
            </a:r>
            <a:r>
              <a:rPr b="0" lang="en-US" sz="2400" spc="-1" strike="noStrike">
                <a:solidFill>
                  <a:srgbClr val="000000"/>
                </a:solidFill>
                <a:latin typeface="Arial"/>
              </a:rPr>
              <a:t>Describe the characteristics of markets and market segments</a:t>
            </a:r>
            <a:br>
              <a:rPr sz="2400"/>
            </a:b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2</a:t>
            </a:r>
            <a:r>
              <a:rPr b="0" lang="en-US" sz="2400" spc="-1" strike="noStrike">
                <a:solidFill>
                  <a:srgbClr val="322083"/>
                </a:solidFill>
                <a:latin typeface="Arial"/>
              </a:rPr>
              <a:t> </a:t>
            </a:r>
            <a:r>
              <a:rPr b="0" lang="en-US" sz="2400" spc="-1" strike="noStrike">
                <a:solidFill>
                  <a:srgbClr val="000000"/>
                </a:solidFill>
                <a:latin typeface="Arial"/>
              </a:rPr>
              <a:t>Explain the importance of market segmentation</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3</a:t>
            </a:r>
            <a:r>
              <a:rPr b="0" lang="en-US" sz="2400" spc="-1" strike="noStrike">
                <a:solidFill>
                  <a:srgbClr val="322083"/>
                </a:solidFill>
                <a:latin typeface="Arial"/>
              </a:rPr>
              <a:t> </a:t>
            </a:r>
            <a:r>
              <a:rPr b="0" lang="en-US" sz="2400" spc="-1" strike="noStrike">
                <a:solidFill>
                  <a:srgbClr val="000000"/>
                </a:solidFill>
                <a:latin typeface="Arial"/>
              </a:rPr>
              <a:t>Discuss the criteria for successful market segmentation</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4</a:t>
            </a:r>
            <a:r>
              <a:rPr b="0" lang="en-US" sz="2400" spc="-1" strike="noStrike">
                <a:solidFill>
                  <a:srgbClr val="322083"/>
                </a:solidFill>
                <a:latin typeface="Arial"/>
              </a:rPr>
              <a:t> </a:t>
            </a:r>
            <a:r>
              <a:rPr b="0" lang="en-US" sz="2400" spc="-1" strike="noStrike">
                <a:solidFill>
                  <a:srgbClr val="000000"/>
                </a:solidFill>
                <a:latin typeface="Arial"/>
              </a:rPr>
              <a:t>Describe the bases commonly used to segment consumer markets</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rPr>
              <a:t>8-5</a:t>
            </a:r>
            <a:r>
              <a:rPr b="0" lang="en-US" sz="2400" spc="-1" strike="noStrike">
                <a:solidFill>
                  <a:srgbClr val="322083"/>
                </a:solidFill>
                <a:latin typeface="Arial"/>
              </a:rPr>
              <a:t> </a:t>
            </a:r>
            <a:r>
              <a:rPr b="0" lang="en-US" sz="2400" spc="-1" strike="noStrike">
                <a:solidFill>
                  <a:srgbClr val="000000"/>
                </a:solidFill>
                <a:latin typeface="Arial"/>
              </a:rPr>
              <a:t>Describe the bases for segmenting business markets</a:t>
            </a:r>
            <a:endParaRPr b="0" lang="en-US" sz="2400" spc="-1" strike="noStrike">
              <a:solidFill>
                <a:srgbClr val="000000"/>
              </a:solidFill>
              <a:latin typeface="Arial"/>
            </a:endParaRPr>
          </a:p>
          <a:p>
            <a:pPr marL="520560" indent="-5205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D947-071F-4AE0-9950-B66A9DEF51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C1FC-7626-4523-A855-2B0CB512A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3A84-35C8-424E-ADC7-E4F44AC42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8D3C-6109-43D5-AF64-04EA7B239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152A-50C3-499E-AF20-707E9CE30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863A-9715-4B6E-AA53-7FE879E44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B2FF-060D-4827-87E4-558D9AF1F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8DC1-CA6C-44D9-85BC-ABD1530DC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ategies for Selecting </a:t>
            </a:r>
            <a:br>
              <a:rPr sz="3600"/>
            </a:br>
            <a:r>
              <a:rPr b="0" lang="en-US" sz="3600" spc="-1" strike="noStrike">
                <a:solidFill>
                  <a:srgbClr val="000000"/>
                </a:solidFill>
                <a:latin typeface="Arial"/>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4E06-FC8D-4411-BC40-34CA6A1BB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E0F8-8764-46A7-9378-46FF23E22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6</a:t>
            </a:r>
            <a:r>
              <a:rPr b="0" lang="en-US" sz="2800" spc="-1" strike="noStrike">
                <a:solidFill>
                  <a:srgbClr val="322083"/>
                </a:solidFill>
                <a:latin typeface="Calibri"/>
              </a:rPr>
              <a:t> </a:t>
            </a:r>
            <a:r>
              <a:rPr b="0" lang="en-US" sz="2800" spc="-1" strike="noStrike">
                <a:solidFill>
                  <a:srgbClr val="000000"/>
                </a:solidFill>
                <a:latin typeface="Arial"/>
              </a:rPr>
              <a:t>List the steps involved in segmenting markets</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7</a:t>
            </a:r>
            <a:r>
              <a:rPr b="0" lang="en-US" sz="2800" spc="-1" strike="noStrike">
                <a:solidFill>
                  <a:srgbClr val="322083"/>
                </a:solidFill>
                <a:latin typeface="Calibri"/>
              </a:rPr>
              <a:t> </a:t>
            </a:r>
            <a:r>
              <a:rPr b="0" lang="en-US" sz="2800" spc="-1" strike="noStrike">
                <a:solidFill>
                  <a:srgbClr val="000000"/>
                </a:solidFill>
                <a:latin typeface="Arial"/>
              </a:rPr>
              <a:t>Discuss alternative strategies for selecting target markets</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8</a:t>
            </a:r>
            <a:r>
              <a:rPr b="0" lang="en-US" sz="2800" spc="-1" strike="noStrike">
                <a:solidFill>
                  <a:srgbClr val="322083"/>
                </a:solidFill>
                <a:latin typeface="Calibri"/>
              </a:rPr>
              <a:t> </a:t>
            </a:r>
            <a:r>
              <a:rPr b="0" lang="en-US" sz="2800" spc="-1" strike="noStrike">
                <a:solidFill>
                  <a:srgbClr val="000000"/>
                </a:solidFill>
                <a:latin typeface="Arial"/>
              </a:rPr>
              <a:t>Explain how CRM can be used as a targeting tool</a:t>
            </a: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71680" indent="-5716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rPr>
              <a:t>8-9</a:t>
            </a:r>
            <a:r>
              <a:rPr b="0" lang="en-US" sz="2800" spc="-1" strike="noStrike">
                <a:solidFill>
                  <a:srgbClr val="322083"/>
                </a:solidFill>
                <a:latin typeface="Calibri"/>
              </a:rPr>
              <a:t> </a:t>
            </a:r>
            <a:r>
              <a:rPr b="0" lang="en-US" sz="2800" spc="-1" strike="noStrike">
                <a:solidFill>
                  <a:srgbClr val="000000"/>
                </a:solidFill>
                <a:latin typeface="Arial"/>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278F-0EC2-4050-8A83-56BEAE815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marketing approach that views the market as one big market with no individual segments and thus </a:t>
            </a:r>
            <a:br>
              <a:rPr sz="2400"/>
            </a:br>
            <a:r>
              <a:rPr b="0" lang="en-US" sz="2400" spc="-1" strike="noStrike">
                <a:solidFill>
                  <a:srgbClr val="000000"/>
                </a:solidFill>
                <a:latin typeface="Arial"/>
              </a:rPr>
              <a:t>uses a single </a:t>
            </a:r>
            <a:br>
              <a:rPr sz="2400"/>
            </a:br>
            <a:r>
              <a:rPr b="0" lang="en-US" sz="2400" spc="-1" strike="noStrike">
                <a:solidFill>
                  <a:srgbClr val="000000"/>
                </a:solidFill>
                <a:latin typeface="Arial"/>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B169-7B71-4334-9709-B2C680C33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Unimaginative product offerings</a:t>
            </a:r>
            <a:r>
              <a:rPr b="1" lang="en-US" sz="2200" spc="-1" strike="noStrike">
                <a:solidFill>
                  <a:srgbClr val="000000"/>
                </a:solidFill>
                <a:latin typeface="Arial"/>
                <a:ea typeface="MS PGothic"/>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mpany more susceptible to competition</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7951-4378-4201-84D0-B43689393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Niche</a:t>
            </a:r>
            <a:br>
              <a:rPr sz="2400"/>
            </a:br>
            <a:r>
              <a:rPr b="1" lang="en-US" sz="2000" spc="-1" strike="noStrike">
                <a:solidFill>
                  <a:srgbClr val="000000"/>
                </a:solidFill>
                <a:latin typeface="Arial"/>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93DF-D45B-41C5-BDBA-059CC3B8F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competitors may </a:t>
            </a:r>
            <a:br>
              <a:rPr sz="2000"/>
            </a:br>
            <a:r>
              <a:rPr b="1" lang="en-US" sz="2000" spc="-1" strike="noStrike">
                <a:solidFill>
                  <a:srgbClr val="000000"/>
                </a:solidFill>
                <a:latin typeface="Arial"/>
                <a:ea typeface="MS PGothic"/>
              </a:rPr>
              <a:t>market to niche segment</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DEC1-21E4-4269-BB3A-1388AEF4D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DD76-4218-4DAC-ACCB-62570871E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annibalization</a:t>
            </a:r>
            <a:r>
              <a:rPr b="1"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D94F-7577-42ED-B302-2D1BECA70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4F82-0C90-4AC2-A215-BDB3D1561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2080" y="1725480"/>
            <a:ext cx="6316560" cy="39927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D08B-B8D6-44ED-BAC2-613795222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2080" y="1725480"/>
            <a:ext cx="6316560" cy="381636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s an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91E8-25DC-4F5E-A5D2-AD960C9253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F799-41AA-446F-9DD0-689098FD1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ing of Procter &amp; Gamble Deterg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59FF-1BC6-4355-A3AD-F5A8BD71F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306A-027B-4AE0-BCB5-1A12B423A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0E02-3B11-48C6-A79B-0F57B4093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600-748E-4199-8031-9A3586690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A855-6FC5-46C6-85E6-7F34FA19E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mportance o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BD40-6947-47CD-851A-90112D79EB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teria for Successfu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8:14Z</dcterms:modified>
  <cp:revision>530</cp:revision>
  <dc:subject>An Overview of Marketing</dc:subject>
  <dc:title>Chapter 1</dc:title>
</cp:coreProperties>
</file>