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06A7-A4DB-4D8F-B0A8-4B8404134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8133-C5B1-4262-8E76-30954C7E9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9CE6-0201-485E-888D-A32E820B2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63A7-B12D-4A4B-A730-ED4F46F5D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ED5F-CBF8-4781-86C9-D864B15CB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873E-629B-4CB4-AE67-2D51AFF6B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D2BC-EFC2-48A2-92A1-C17D74AC8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EA5A-D7FA-44D6-967C-0BA1AB172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E02B-A5C8-473C-84B3-048F58EC6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22A4-C304-4D9B-AEF5-3CD226D95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BDCC-91A0-41D8-A8E6-1EAC20DA1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66D2-341D-4C74-8B84-1E004D28C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2C98-454D-410D-A1EE-1E41C9C38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FAD2-AD75-48E2-9FE2-FDF1A8AFD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947A-4EAD-410A-88B6-9687DB45C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1D18-A766-4ECB-BA81-9968B079D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0FD1-1CEE-4940-8BB1-668489103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CDF7-2891-4046-8797-C478DF875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5867-966F-4512-B894-3B1EF4FCE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D0A7-EF8D-447A-8966-A97AF621E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169A-7381-43AA-B05D-FFB4AEED6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1DE3-0EAA-422F-B264-6BC5FEC6C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7F22-1BAA-402D-866D-C777F5A9C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E428-F3DD-458A-8ACC-66D108461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A808-29F2-459E-889C-9F5F591A8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C9E7-6758-4376-BEB4-CCD9D0A1F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65A0-D985-4353-8ACE-7FDD7B2F7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DE1-2F11-4A90-96D8-7B43B503F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9B34-911B-4AC4-978F-169A169C8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76B6-FE4B-4199-99B2-9C7F10765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B6BF-95B5-4274-8A84-6D584BCFF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120A-16BF-4B8D-9546-6BB9D2E62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9519-E8A5-44A9-8872-8C7F3A9F2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BAC4-4C7F-4FAB-B978-8E9F7E3B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9483-FC5F-4DCC-A163-69EB02A90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266A-3C4E-49CC-86B4-B846C7825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5EB6-ED0F-491F-94FF-150A78066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A9E5-2DAF-4282-946E-084AC05F1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EC8F-09B8-4263-A488-FBD102021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189D-A605-4BB1-9C8B-78EB9D7FF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133F-CF76-4450-A092-59D653F22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056B-6744-492E-8443-F5BE9A852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A703-26FF-426F-B63F-FCF07C893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289E-4D26-4D9C-87F2-1E0962254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0D430-1F6A-4006-9111-AC2864F85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7E58A-C553-4513-BCDF-C18821C2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83E99-E466-4EE3-B192-02FF88635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F1BD9-2E5B-4831-945A-879E55F48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6861D-0514-4DC1-9D85-77FD20278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62BBF-A0F1-4925-AC7D-6A4CD6ED5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BD141-C2BA-4906-BD47-486966E0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1B3B-283F-43FD-87B5-00A1C6E24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6BEE5-17AC-4DC2-8EC6-3BC41388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69203-9845-48D9-92F2-3DE8E6EB0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FE29-97A9-4E00-B9B2-6C9EA471F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E6D0-6181-4205-AABF-0091C838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B34AC-F55C-41A4-8B69-489789375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05EE4-DF95-4039-ADEA-2815EA421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D2EB-A190-4796-9D65-6ECA67716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FA081-7F64-44CA-B694-E005470DE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A2395-AF3A-46BB-A98F-43BF50EE9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46060-401B-4C58-A863-B2F41152BB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EFE09-C496-4BB1-A0FB-FB04A9ABB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99C4D-1892-464E-BC49-2A6BAD18A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A40F1-58FC-426E-AADB-02A48DD1D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75C4E-4EE5-4F3C-ABAE-3619A9171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C89C-CDA0-4CA7-8B8C-BB8E04CF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2C759-43B2-4039-9B4A-55EE4FF8A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8307B-E6D5-4275-8116-22A902D00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15705-5A65-4B8B-B56E-2C12B32DB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99DB4-FDE4-455D-9047-F13CB3A73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55A44-D98E-48B2-8723-B5F1A2D45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86EDA-58F7-45BE-8CD9-D5472BEBBA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EC8BA0-718A-4962-A369-9925604B23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A8E5D-B121-40F5-8D59-3CF95A5DD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E7485-8D6F-4C97-ADAF-60FA2DDA9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0D382-D11B-4538-A8B8-356A949D7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25B8A-82F5-4210-A89B-E3E347F5A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B647E-DE40-4F8F-AE19-BF34B9FFF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85499-0FA2-4B6B-BC0A-26B255EF0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F32F3-AB9D-41CE-9C35-66DEA4069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FEBEE-3039-4321-B489-B13271918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8F96F-A430-49E0-A992-475D68413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4DB4A-2843-4521-BCA9-519A5D678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49199-99AA-4E33-AA72-81E4924A9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0BC857-2481-4038-AA81-58900FF86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E01283-A098-4D24-82DC-A8CFDCC2F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70F473-2DAD-4F69-9810-343BAF4E18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0144E-03FD-4296-8FB0-D680E2EEC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D61D0-18DF-4CAC-AE79-B19B677A5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056A9-430D-480F-9E08-4FEBB04D4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DA897-9F8E-4F65-BB6B-437104E4B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1D8EE-D21B-4239-8407-44290C6E3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34671-A8AF-4218-AF3C-6B3882CE9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8838E-C2D1-434B-82B7-12F96166E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26113-DCBB-4940-8F46-174B4E3A5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4C773-8A08-460F-AF80-237EDD789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171EE-2A50-4CC9-AA45-E8727741A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FFD4C4-FBA8-492F-A889-EDA7AC6A8B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A214-2E65-4D86-8DBE-D9804A9F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175E0-3734-4BEA-8E61-1B71984B20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A5AEBD-EC9A-4473-B9BF-02D5935700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D2214-CEC0-4F6B-8944-F086F626C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6A34B-D74F-48F1-89C7-0FA453CC0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B6BC5B-C8AA-4F7F-9CC7-0F46BEAEB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E25F2-E2C7-46D9-8B42-7C553C150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A6882-AA90-4929-85D8-CBEFE9B69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3C992C-5BEC-4DAA-B4A5-166464AE7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CDD25-1CE3-4D53-8996-599230B88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42160-14F3-4277-B0DC-9DE282AD5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36D8-C078-4417-AB54-6D7ED4767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73AAF-07C0-4B56-A04F-4CDBA60F9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E3C16-12C0-45FF-8388-ECF6575A5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0B665-0263-470D-AAD9-EC0655831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95A654-D379-4262-9369-A0FE53CEF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94F7CC-C99C-4A07-8AE2-BE913DEC2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431A0-AB0A-419C-ABE4-6DFEFFA72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F9EBF9-A7DD-4510-AE1E-3A9E3424A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4C62E-A851-47D1-AAF4-139EC7F65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72FC5-9D10-45EA-B548-6E3D65B4C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31FCC-1D11-4394-AFDB-1B2E8D43B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D2A1-1381-4D42-9A4A-44D93268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25AD3-7A25-4C0C-8073-47E5BBA6D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1653A-AEC5-4F6A-BD4C-0BB2FC3D5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39A2F-AD83-4BBB-A8D0-D248734DB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1CBC46-164A-4088-954B-DD5DC002D9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9D04D-653D-423D-B878-A00C9E988B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C06A7-2292-40F4-AFA5-253CC6DC0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D101B-F14D-447E-82F2-7A65FC9131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93F42-3E20-4BD2-A13C-484AE30459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015184-7320-410A-B32F-4D17E2D1A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FCB99E-613B-492A-AC66-02D8FEA5C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E103-9738-41A1-9D82-72EA9462C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4FDC2-1ACC-43FC-B1AC-EBA7AF7DB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96869-8A74-4E2B-B228-65EA5B64D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E91D7-AA55-4056-BEF1-55CB1632B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D667B-2C41-40B7-B284-A44515160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16816-7301-4F03-977F-CC3E1C3E0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D56B62-8F5A-4528-B4F9-EA33E47C16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98147E-9368-4DD1-9094-2D4BD8F8645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12A8-F98F-49FC-A0CC-CB7F126575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CDD5-49A3-4B31-BCA8-53946767F7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D48D-8DDE-4FBA-AF60-4B982AF53A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D538-2FDB-43FF-96BC-8517EB3C08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7E9D-093B-4E3A-BC1D-FAF95D13AD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29FA-9D82-4047-972C-3A4068EE57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A90B-37D0-4073-A4D0-2D1A1B5F12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674A-716A-4A3F-B50E-11DC1F2E28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6965-3B16-4C27-BAD5-0A5342BF8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s for Segmen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B114-6F0D-4DFF-B6E0-CED6EEB2F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1077-232E-4EB0-9AD4-8F42151EC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4698-52E7-4B80-8610-53F4BECC5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C10E-AF62-4D8A-99D1-1A8F87D58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ADF0-665B-4432-A6E6-B64F49D39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B1C3-78FC-405A-A41C-9440D955A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F76B-F0E5-42FB-A329-8B7668750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A476-CD4D-4391-97C3-F57CE9EA3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78080" y="1554120"/>
            <a:ext cx="6108480" cy="40784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1</a:t>
            </a:r>
            <a:r>
              <a:rPr b="0" lang="en-US" sz="2400" spc="-1" strike="noStrike">
                <a:solidFill>
                  <a:srgbClr val="322083"/>
                </a:solidFill>
                <a:latin typeface="Arial"/>
              </a:rPr>
              <a:t> </a:t>
            </a:r>
            <a:r>
              <a:rPr b="0" lang="en-US" sz="2400" spc="-1" strike="noStrike">
                <a:solidFill>
                  <a:srgbClr val="000000"/>
                </a:solidFill>
                <a:latin typeface="Arial"/>
              </a:rPr>
              <a:t>Describe the characteristics of markets and market segments</a:t>
            </a:r>
            <a:br>
              <a:rPr sz="2400"/>
            </a:b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2</a:t>
            </a:r>
            <a:r>
              <a:rPr b="0" lang="en-US" sz="2400" spc="-1" strike="noStrike">
                <a:solidFill>
                  <a:srgbClr val="322083"/>
                </a:solidFill>
                <a:latin typeface="Arial"/>
              </a:rPr>
              <a:t> </a:t>
            </a:r>
            <a:r>
              <a:rPr b="0" lang="en-US" sz="2400" spc="-1" strike="noStrike">
                <a:solidFill>
                  <a:srgbClr val="000000"/>
                </a:solidFill>
                <a:latin typeface="Arial"/>
              </a:rPr>
              <a:t>Explain the importance of market segmentation</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3</a:t>
            </a:r>
            <a:r>
              <a:rPr b="0" lang="en-US" sz="2400" spc="-1" strike="noStrike">
                <a:solidFill>
                  <a:srgbClr val="322083"/>
                </a:solidFill>
                <a:latin typeface="Arial"/>
              </a:rPr>
              <a:t> </a:t>
            </a:r>
            <a:r>
              <a:rPr b="0" lang="en-US" sz="2400" spc="-1" strike="noStrike">
                <a:solidFill>
                  <a:srgbClr val="000000"/>
                </a:solidFill>
                <a:latin typeface="Arial"/>
              </a:rPr>
              <a:t>Discuss the criteria for successful market segmentation</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4</a:t>
            </a:r>
            <a:r>
              <a:rPr b="0" lang="en-US" sz="2400" spc="-1" strike="noStrike">
                <a:solidFill>
                  <a:srgbClr val="322083"/>
                </a:solidFill>
                <a:latin typeface="Arial"/>
              </a:rPr>
              <a:t> </a:t>
            </a:r>
            <a:r>
              <a:rPr b="0" lang="en-US" sz="2400" spc="-1" strike="noStrike">
                <a:solidFill>
                  <a:srgbClr val="000000"/>
                </a:solidFill>
                <a:latin typeface="Arial"/>
              </a:rPr>
              <a:t>Describe the bases commonly used to segment consumer markets</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5</a:t>
            </a:r>
            <a:r>
              <a:rPr b="0" lang="en-US" sz="2400" spc="-1" strike="noStrike">
                <a:solidFill>
                  <a:srgbClr val="322083"/>
                </a:solidFill>
                <a:latin typeface="Arial"/>
              </a:rPr>
              <a:t> </a:t>
            </a:r>
            <a:r>
              <a:rPr b="0" lang="en-US" sz="2400" spc="-1" strike="noStrike">
                <a:solidFill>
                  <a:srgbClr val="000000"/>
                </a:solidFill>
                <a:latin typeface="Arial"/>
              </a:rPr>
              <a:t>Describe the bases for segmenting business markets</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9F3C-8896-4C31-9F82-4AFFEA487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5813-43EC-4620-9D15-DD29A6316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06A8-4D5F-4F9A-B6C6-A50D52F59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C91E-97E2-4C11-A360-F6409F5CE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857F-A642-480F-B010-67FFC5A7E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F6C2-8BF7-4BDC-9391-2BECD9666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F032-5937-45BB-9F41-B0690BEF3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F096-5993-453F-AC5B-B5EA8A0EA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ategies for Selecting </a:t>
            </a:r>
            <a:br>
              <a:rPr sz="3600"/>
            </a:br>
            <a:r>
              <a:rPr b="0" lang="en-US" sz="3600" spc="-1" strike="noStrike">
                <a:solidFill>
                  <a:srgbClr val="000000"/>
                </a:solidFill>
                <a:latin typeface="Arial"/>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4AD0-54F7-4D37-B1DD-6D4B03B1E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510D-65C2-4560-AEF8-05D1D1142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6</a:t>
            </a:r>
            <a:r>
              <a:rPr b="0" lang="en-US" sz="2800" spc="-1" strike="noStrike">
                <a:solidFill>
                  <a:srgbClr val="322083"/>
                </a:solidFill>
                <a:latin typeface="Calibri"/>
              </a:rPr>
              <a:t> </a:t>
            </a:r>
            <a:r>
              <a:rPr b="0" lang="en-US" sz="2800" spc="-1" strike="noStrike">
                <a:solidFill>
                  <a:srgbClr val="000000"/>
                </a:solidFill>
                <a:latin typeface="Arial"/>
              </a:rPr>
              <a:t>List the steps involved in segmenting markets</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7</a:t>
            </a:r>
            <a:r>
              <a:rPr b="0" lang="en-US" sz="2800" spc="-1" strike="noStrike">
                <a:solidFill>
                  <a:srgbClr val="322083"/>
                </a:solidFill>
                <a:latin typeface="Calibri"/>
              </a:rPr>
              <a:t> </a:t>
            </a:r>
            <a:r>
              <a:rPr b="0" lang="en-US" sz="2800" spc="-1" strike="noStrike">
                <a:solidFill>
                  <a:srgbClr val="000000"/>
                </a:solidFill>
                <a:latin typeface="Arial"/>
              </a:rPr>
              <a:t>Discuss alternative strategies for selecting target markets</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8</a:t>
            </a:r>
            <a:r>
              <a:rPr b="0" lang="en-US" sz="2800" spc="-1" strike="noStrike">
                <a:solidFill>
                  <a:srgbClr val="322083"/>
                </a:solidFill>
                <a:latin typeface="Calibri"/>
              </a:rPr>
              <a:t> </a:t>
            </a:r>
            <a:r>
              <a:rPr b="0" lang="en-US" sz="2800" spc="-1" strike="noStrike">
                <a:solidFill>
                  <a:srgbClr val="000000"/>
                </a:solidFill>
                <a:latin typeface="Arial"/>
              </a:rPr>
              <a:t>Explain how CRM can be used as a targeting tool</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9</a:t>
            </a:r>
            <a:r>
              <a:rPr b="0" lang="en-US" sz="2800" spc="-1" strike="noStrike">
                <a:solidFill>
                  <a:srgbClr val="322083"/>
                </a:solidFill>
                <a:latin typeface="Calibri"/>
              </a:rPr>
              <a:t> </a:t>
            </a:r>
            <a:r>
              <a:rPr b="0" lang="en-US" sz="2800" spc="-1" strike="noStrike">
                <a:solidFill>
                  <a:srgbClr val="000000"/>
                </a:solidFill>
                <a:latin typeface="Arial"/>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D701-9A68-4460-857F-D955065B0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marketing approach that views the market as one big market with no individual segments and thus </a:t>
            </a:r>
            <a:br>
              <a:rPr sz="2400"/>
            </a:br>
            <a:r>
              <a:rPr b="0" lang="en-US" sz="2400" spc="-1" strike="noStrike">
                <a:solidFill>
                  <a:srgbClr val="000000"/>
                </a:solidFill>
                <a:latin typeface="Arial"/>
              </a:rPr>
              <a:t>uses a single </a:t>
            </a:r>
            <a:br>
              <a:rPr sz="2400"/>
            </a:br>
            <a:r>
              <a:rPr b="0" lang="en-US" sz="2400" spc="-1" strike="noStrike">
                <a:solidFill>
                  <a:srgbClr val="000000"/>
                </a:solidFill>
                <a:latin typeface="Arial"/>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11F9-FC0D-42EB-99F2-BC2206F92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Unimaginative product offerings</a:t>
            </a:r>
            <a:r>
              <a:rPr b="1" lang="en-US" sz="2200" spc="-1" strike="noStrike">
                <a:solidFill>
                  <a:srgbClr val="000000"/>
                </a:solidFill>
                <a:latin typeface="Arial"/>
                <a:ea typeface="MS PGothic"/>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mpany more susceptible to competition</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0909-F9C9-43EB-B049-972733D47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Niche</a:t>
            </a:r>
            <a:br>
              <a:rPr sz="2400"/>
            </a:br>
            <a:r>
              <a:rPr b="1" lang="en-US" sz="2000" spc="-1" strike="noStrike">
                <a:solidFill>
                  <a:srgbClr val="000000"/>
                </a:solidFill>
                <a:latin typeface="Arial"/>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F3B-0F0D-4D6D-B76D-C24550279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competitors may </a:t>
            </a:r>
            <a:br>
              <a:rPr sz="2000"/>
            </a:br>
            <a:r>
              <a:rPr b="1" lang="en-US" sz="2000" spc="-1" strike="noStrike">
                <a:solidFill>
                  <a:srgbClr val="000000"/>
                </a:solidFill>
                <a:latin typeface="Arial"/>
                <a:ea typeface="MS PGothic"/>
              </a:rPr>
              <a:t>market to niche segment</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9EEA-856A-4DAD-800E-7493118DF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D6F5-3E2A-4E03-BDA9-06D639CF1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annibalization</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FBCB-E325-496B-B31E-7A45D3F83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08FA-885A-45BC-9141-3044A35ED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2080" y="1725480"/>
            <a:ext cx="6316560" cy="39927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2138-4893-4631-BE13-92A890678A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2080" y="1725480"/>
            <a:ext cx="6316560" cy="381636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s an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EE0F-6E74-472D-9B8F-21565AC73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7299-ADE7-422D-91EC-0C0C4105E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ing of Procter &amp; Gamble Deterg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2027-9DE5-42DC-BA09-62AFBD597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4FF1-7221-48A1-9A8A-F9D19DBF9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FA8C-D641-4B44-99E0-07BCEAE05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36E7-61EE-4D9D-AC51-8F7EC91A7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7BE2-B1BC-430D-AFD5-EF09A4380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mportance o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503E-426D-457C-97C5-E984A084A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for Successfu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8:14Z</dcterms:modified>
  <cp:revision>530</cp:revision>
  <dc:subject>An Overview of Marketing</dc:subject>
  <dc:title>Chapter 1</dc:title>
</cp:coreProperties>
</file>