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3243-7672-4C86-BF39-A7D96C8093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0313-192E-432C-AD83-9A5ABF103A4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6FC5-9C39-49CA-9729-6CF882C52A6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8710-7053-4B86-ACFC-04188903E84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EB58-6200-447A-B72D-01151089C69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E4DC-69BD-43E4-95E9-16E5C3186D7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01EF-C2B8-4D5E-8732-D7BF103150C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8EE9-F463-4952-84C7-4B806552D1C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593-0173-4367-96C8-7B54137BB99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700A-C6E4-4596-8279-19DD5293B22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BE70-412F-4666-8C84-6535233FBE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7E24-8CA9-43A8-8BA8-8B18B40AE9D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2677-C0BC-4A6C-B682-D309FF2163F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B96E-688E-4D52-94A0-20A37DD8394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3639-67E2-4A90-8606-33AE94749C6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5E4B-AE75-45A1-B961-B305F9B2953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2F11-EF7E-4B36-841D-C33C85AE1A6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00F4-EC59-4385-9EF2-4BBF9034426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EA95-AB21-4E45-BBD1-A00AC51323B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FCD9-DEF6-4783-8863-45EB3C1355C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C2D0-EE5B-434A-BD85-125DCC078AD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4B81-17DF-40AB-B965-61EBE21F983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9703-BC92-4631-84C4-D4E09287502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EFE4-0350-4783-8E04-1E5CE5A8843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A939-1FC9-4C80-AB7A-C7E55E6DEE9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60F1-E5DA-416D-8D40-5D79A3BAD37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9DC4-9796-4B74-804B-CD576317055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555B-BB2D-464B-8EEE-6FDDB0D02B0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F9BE-7E8E-451D-BF56-0427E316D49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48B6-6A25-419C-B4CC-3AA73280FD0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F3C72-4BC3-4489-A235-6C3104C2F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A4E1-4006-47F3-AE6E-1A408175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FBBEA-15C4-4A0F-BAC4-9DF357D34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BBDD79-3068-4EFF-A636-0028A99924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AE30A-1DBE-4820-A98E-9E1C3200A9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875F6-D744-4D67-A7F1-9DF44658E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3FA34-4602-472C-A044-513F77184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68C0B-5AC0-4A6F-AE80-445F5A105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7C50A9-BF28-45C4-9BD0-6CBB213527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C1C32A-7A91-4C73-A652-EF81D19576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B7899A-429D-46B8-9428-95CEA053C4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EBC4E4-DF42-42EA-A9B7-D156BA47CE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3156D-22A8-47B3-BA49-F92721494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BD14C5-B417-41BD-BEEB-D181771971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0F0681-C21C-4F78-933C-BAEAFFC024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98019B-113C-47CD-A0EB-7C5801C24B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2BE4D3-12AE-4C5F-9C66-24EAD65579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5B377B-ACB0-415F-99A1-82B3CFC285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9628D8-72F8-4091-949B-21F37E8926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7B4222-0ECD-4328-8A39-76FC85BF6B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2B8305-5BAB-4F54-9A26-612435C93A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6A388E-64DF-40A3-BA4E-7D18DFD7C7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1469DF-0BBF-48B2-9C4E-F9D32B535B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424B-1854-49B6-B22C-C38AA7EBE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35D436-EB87-49FF-8384-25CA18F611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DD9FE3-465D-4996-B454-52FDACA9A3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12F990-B14B-4EC8-84E0-42752489E6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C354C7-BAF8-41B2-BBDF-7B861FAD15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75686A-7E08-4EE3-B0F9-9217019166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0ACBF8-1005-4158-B7FF-CF8400D69E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4550BF-4ACB-4477-8957-3D20E24225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210D2E-8B13-4BF6-A60A-DEA7417A1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58E478-6129-48E4-9BFA-F72427BAFB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46824D-8B67-463B-91FE-14C3253C0C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A0F81-444F-438E-8184-17687772B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AB2BC8-F791-46F4-8394-01B6EB2FBA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8EEEA7-5FEA-48E7-A67B-65095ADCBB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C44202-8C9A-4799-8118-7618A7C08A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37EF79-391D-43FF-96A0-67350D770F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2D824C-623B-4AF7-9659-D400EA8259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09004F-88BD-4DB6-9EE5-C6E2EAEAEE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3A009C-2F71-4375-907B-CA22185A41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7A6816-030D-4E84-A309-7BD2024ACD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BDD337-E86D-4B8E-8581-861D7E4BA6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356719-502C-4334-8A3F-3CF432AD9A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02301-4B29-4253-972E-DD3C3EB85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875595-6A52-4532-A105-61C2F38169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664C4A-A56E-4335-9F21-2984DDC499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C08263-A01D-4C66-B349-570D1836C3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471D1F-410C-4E73-A9EE-B393A3B21C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372457-65BB-47CC-9CE9-3CB49A2A69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6E77BBB-6205-46EE-82C5-4AFFC744A0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092BAC-FA29-4E29-B001-0ECF2E8514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88A2E9-5513-4707-85EB-AEC35E8D23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64E184-A3CF-44A3-B164-2CE9DD0324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D9817A-6685-49B8-B014-FA1964CCE8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29A99-93ED-430D-BFAC-AA1F3FF1A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EE1D07-4187-45E9-A55F-1657DF504D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DAB026-AF24-41AA-A1A3-C0F62A102D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23C869-0A5F-46FE-A320-22B0A424A8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472691-CD60-45DB-BD2E-95AE1C4FBE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F3F2E7-FB69-4D83-8753-4BE49B16D8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F43EB20-7C15-4362-9CA2-58ED670A31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4CB931-F37E-4720-B518-949EE32677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109187-5D52-41F2-A1D7-5C0A47F752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1CF50E-FBFA-462F-9A46-39C8CD3C59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0A9025-33D4-463D-9207-AA03EA588C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60ACF-41F4-4DC7-A14F-DEA670395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98CD2C-2036-46AE-9E44-ACB1B3A556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E70B05-9AE5-439B-887E-62A113EAC7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38455A-9156-40F3-92FC-548B595769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4EE610-7543-4838-A3B0-13472EB921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B1571A-B9E8-40A5-9C47-B44C0C43AD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58229B-99A2-4BCB-8729-9C95B22E4F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4EBD77-6174-4A86-96DA-50DF459F0B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041A2D-9C8E-4135-95B1-1E52FFDB1C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23E61F4-C74B-4276-B5CE-BEF33666C5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E0A6ACF-5D7F-4837-878B-F53A2D244BE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C134C-AD16-4DAA-9F75-30BC32AD3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8EE0F4-1A1E-4D90-9FAD-F5FE9D2DFC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37AA3D-4EF9-4C65-8B61-9E975491C4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7BAC79E-C8AE-4686-B808-ED8A6801BD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D3A85E-CEDF-41F5-8F7A-804DF0ACAA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5D33D5-8A49-41C7-ACB5-1571F2D3E3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DDF4CB-12AC-427E-9F4A-DDBB3FD405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68A44B-0D1A-4108-86FB-9CFD87004F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648361-E0EE-4114-A591-8E59DBB05D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B7D789-2232-494B-ADA9-D893F86C7E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DF27C2-6FDF-4288-9133-E02D82784B3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F51F0-0F69-41F7-81DF-6E89C3342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551A36A-1A08-4F54-A20D-3CDB7A306CD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3E0661-6E55-4A0A-AFC2-446F2CFF347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E50604-B655-4573-B518-5D188DF1DA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9919D0-68D4-4E53-BE6F-F0F666A39C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6ED105-5C75-4745-8C68-E7ECE222ED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7402E7-2759-4682-B0B6-D14DA7F213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B82F8C-AE19-44F2-903F-D5CB9BE9F9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92F1A1-DE81-472E-86C8-D987CA2016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39BA90-24DA-4922-8E3D-D3157645EC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720739-6003-47B3-A316-1494A1890E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97952-F988-4C4E-AF02-BD88ECF4B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CF378E-A7A8-4A8B-9BBF-3F7438EDC4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252EF1-E570-4799-9032-04B2AD5D27C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6A9D6EB-CED8-4395-BE40-A0E58664161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7CAF5C7-811B-40F4-8100-3DF03773646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E8BCE9-F8E6-4B91-BCB0-E3311A31BF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49F5EB-AB2F-4B1A-95A4-E2D9BCC05D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B4B382-7CD4-485F-8A3A-9595A56B04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27B4A37-57D8-46C2-85DE-E2E6FC399D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C3506B-36D6-4D4F-8257-6DC81FBC73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7D9EE9-2B52-41D6-91BB-AD22142587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8C31-01BA-4577-A269-F889B0BD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E026C-92A5-468D-831D-90EF1C477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436831-26A4-41F2-ACDE-CFCBF98D65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DA9BEE-B6A3-473C-8B88-969E1CC131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A41F50-3C2E-4167-BEC6-651B1210C5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E1C3C8F-8ED7-41DB-B61D-6894167EFB3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E38BAF7-4D48-431D-99F1-FD4129577B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87B861D-AD13-496D-8A88-538840B718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0DB9A5-06CD-45F8-B58F-CAD8C09837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867DE1-1087-4A8B-8B36-9AEAFAAF82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1C7B884-8A0F-4977-9C5A-A41D5D8D9F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EC2E3E-5E79-46DD-9C8E-BA1AE93105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9BBC9-67F5-44A3-9D73-9E9C23112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42999A-D89D-4B7F-9C54-D27D926B14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05E5D2-91B6-4EDA-9672-7D8846AFE5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3DD4BED-B6A5-48F0-BE6E-9CF24F1DF4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83F345-6F2E-45F4-96B2-56A826A613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2BD6DEF-D96F-46A9-A928-70BC7BC9A2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702C03A-E4D6-4AE8-AAC2-E7A3E89C823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065E495-9DC6-41BD-9034-6B9A01C92C4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E0CED8D-E51C-4456-9593-4C3D9091A38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616A4C0-349C-4ED9-9701-264884D37A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8284740-50B3-421F-A205-8B2C90849E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14FFA-B529-4788-B0B8-3A0DC0BE1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BF8C3A4-F506-49A1-BA5B-C1B901A4243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B47CC7-BAC5-47AE-B114-14312DDC83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9197AC-89BD-46FF-BF1A-14F9F79ADE8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AF96E8-EF39-4278-AA7C-7FCF646F84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6CACC2-E664-46EB-84D7-4CCEBC5CBB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D0F3EB-B7D0-4015-9E8D-5DFE47D453F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C9BAA0-5D0F-40DE-82F2-3642DE4D042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AF38912-0851-412E-9301-F52EE22C7B0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2F8ABAE-20DD-45E9-91DD-95E8A6006E8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2A1DCED-32F0-4E4E-9ACD-FC672C290BC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C5009-1EC8-44F9-A1E6-7D91318DA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95793D1-C579-4835-9363-D1DCB16952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E6E45FF-B936-4836-B765-A46C9DCC52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A20BEEE-3935-4349-BC9D-3CAEB34748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F7D673-CCC0-436E-ABBD-D12A02E070B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02B711-6D9E-4E04-884A-BD059874500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1646C7-7816-4442-9401-C9BB2AEF74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C24606-9444-42FF-BF60-C14F7F9C2D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CB80CC-FCD8-46C8-A5C5-1739D426F4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F196E41-3522-48CE-AB3B-D07480F4A70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185D812-143A-4F53-B55A-399A5CA9F0A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E594E-B983-4AB1-B21A-DCD6BC48E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74C45F1-7745-43D9-99E9-BDC228CF482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949392D-134E-47A2-8002-8A241331AC8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4167FFB-C3BC-4228-86DE-3D71C2DCE5E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639D3F5-2D2D-4069-81D1-4AAC2810093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73A54F-E0DB-41BF-926F-1114DB34940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CFEC338-8825-4687-ACC8-4D7857A2C1F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176706E-FCCF-4EB7-AAF2-A0BBB561456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3BA5D1-21A5-48DB-B61D-1B1D6F62FF1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1323220-2025-48F7-9926-54600118191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FC05E46-0F7F-4FF0-86D5-785577E737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E6F750-010C-44C6-93E8-53A2011B78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8F34DE3-2115-4B5E-A93D-06DF0A67C7E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172898B-78A3-4C33-A229-732EA666053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35197B2-487F-43E8-944B-8F278085886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B5DB1E3-50E2-4E4E-BCA3-D7DD5956CA3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9BEDA08-9545-4EA5-9B36-B788266A79D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1DF2817-0862-4D97-B652-037BB772CDE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E8AC0B6-B523-4148-9275-0E57D33C12F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F5B78E5-4317-4396-A384-0A7F1D31844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1AFE67B-3C9D-472D-ADB3-F6423F44ED8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4403DAE-CDA7-4AFF-9517-65F41844D82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F43DC-900E-4BCF-83EC-4E398E801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6497DA0-6B29-44FC-BD2E-A0DC247CF8E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501EAF-550F-4E5B-92F5-547B3AC6617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1A60E68-C6C1-4ADF-BE56-1F387636F27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7DC42CF-1AD9-4439-B0AF-456627C0D72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8F4EA92-489C-4720-96E1-446C224D7C3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4C4811D-2322-4B72-8BC8-775486A6C23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23EF04C-9635-44D7-8582-10DD9B12B22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719850-F255-49B5-BE6C-659FA49E098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163FAE2-D509-4C77-A0F2-F4533F2001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1B0D334-1CD6-4B5A-B8A3-AA85D73774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20115-7EEA-4EF2-9546-2F34B4370A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F73296-3277-400A-A4F1-AF7C06BE492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074B87-7044-43EF-856A-9EA75CD2B00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2D72C5-7D70-4584-8756-BF069C5B7A7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5B7713E-4DB2-423D-83F4-CD9DE8B79C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0BD88FC-5FE8-4BD0-B00D-23799C99A09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FCA3AC3-0CB3-43FA-B197-2DF6CA454EB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90DC0DD-C416-4FFC-97F4-0400A2B6D7A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8CBB256-B2D4-45B6-8CAE-652F4DDF548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53CDF9C-2587-48A3-AE57-D991CCFFC8B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EE17613-22B9-4F93-92F2-53962776730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511F8-5A42-43B2-AF79-BED486F80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D5F22BB-A460-484B-BDFD-A9D32C6EFC9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220E7CC-3419-485D-A99B-9818D7ACBEF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7A0F1DC-4C93-4C70-95B0-59F501D8209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C142C7-9465-43E3-A5D8-9BD905724EF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187C065-5B81-4D84-B867-BF5B591294C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BD85A0E-A87F-4359-8436-0A12D17E14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C1B5087-FF27-4D59-9971-8629121124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D006A57-B05B-4853-82F7-6DEF692FB9F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30C84E2-25CE-47C2-9ABF-2E75B063B5C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54761AF-CAE3-4662-97C3-B9AC2C0950C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0D424-0F21-4B6D-9530-D6C5F1EE0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31FF029-50C5-4E23-B8D6-21020347D5E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87264CD-C490-4B43-A3CD-7F10483C7D7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32A404D-9A3F-4706-B925-F7B45C3106A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30A420C-3092-4D60-90E0-9C0E0CA6479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C4B492B-4119-44C8-B5F9-FBF09ADB2D2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EFAA881-6B4E-4668-8D13-AEDBB7AA08B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CE3CD24-1F84-4595-B568-FB19544AC2F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E2A047-C816-4799-BA7C-BD67CCD0C71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A1017C0-50DB-4817-A088-1DAD5869182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6DF0142-1235-4F5A-9C50-659B4DF90AB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7C772-3E98-4F05-9E7E-9D589E817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7B697-A500-4596-86BE-96B4B49D3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D2B651C-63E2-4E39-B308-76E4A9D6539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98FD131-3007-4BE6-B8CC-FB9C030FA8F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626F06D-863D-4608-A8C5-0E134F82ED9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9B0AA1D-4D51-4FF0-9D31-D63161BA37C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CA2ED87-2D99-40EA-B821-992F2F265F8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22D4055-8209-4972-A90F-29176CE67D2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9633ABB-3040-4674-8102-7EFF41C3567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6B36C8F-C347-49FC-A52B-22AF476AC8F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2479C32-B0EE-4030-AF6D-358D0A5A92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1F16DFC-7F3E-47F7-96CF-34375B33EF5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5F295-408F-4F77-B29F-DF5D912D3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38F0655-C9C5-4C23-9FB4-AC6D6DF51CB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0CCE98D-73FE-40BD-9FC3-BD66D703C23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844AA7A-7CE8-4B3F-AC79-A691D744218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6D38C2F-7E89-4584-9C2D-2023A33175A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89CE338-BCB5-48B8-9D5B-A3FFEEB26B3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E74A1A3-641F-45F3-BA01-2CD7F62C5DC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E56AC8C-FF2E-4529-BD56-22B104A799D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9E30D0C-8003-4DF5-B787-B52B9787333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F53CD4-AA02-464D-B02B-C1E12E1B0DC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0A2818-D0D3-432A-AC29-ECF6E2D87C6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D27B8-DFFC-4FF6-9FB0-2FCB4E7DB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394D002-384D-4A00-9B88-D6E5568D709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973295E-25EB-4247-8643-F0912EBC7AC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A21B8EB-E2B7-4651-BD5B-7E1E84644B9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289185D-5297-46C1-BA80-BB52CD4B786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23AB7F8-696E-4E9C-BFE2-B0395436EDF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78834B-EF05-48E7-BC0C-416733472C1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B373133-D708-4C81-B473-AEE7BF12CBD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FB5C964-E4E6-4909-9DB5-3B656E0ADDE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C6C5C19-EC8F-4A56-BF26-1BFD4C87647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C9C71C9-D0D5-4466-AC6E-6D4158E8174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84DFD-42FC-490A-9BEA-AA8A5F7A3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3CDF3CA-6E0F-42CA-8AE8-5AAC26FA2A3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5B2C1F1-B10A-4F36-BB4C-32B16212B64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77A8153-1D20-4B9A-933F-9C0FAD7023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97B6F99-FDBB-4134-831E-EABF3CBA648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3259B97-80A4-41BC-936A-C38D59C25A1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E7D8C82-B9B3-49FC-8104-6BBF39D4983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4BB0012-B580-41BC-AA0A-64F6BAD8985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161ACB7-2513-4FF4-A02F-DA1810219FF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3E9ED67-2476-4783-B417-D3CDEF7B143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E541867-5006-4669-A73B-10723E52E4F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6409B-6352-40D6-88C3-F90139203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9E28F95-233E-43B3-94C6-CC58A53978C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C9AE590-26D4-4481-BCC2-11EB2912AD3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1686312-536A-4CFA-BC81-469B078D108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4B031DB-56CB-47E8-ACE5-4AD4AF33BF5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4FE8B1E-D732-43BE-B1A4-80D3FE6CE67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23F852E-30BE-4ABD-807E-7476BE0B7A1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019696F-C320-4EE3-AEA4-3B63E843114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451D2D9-E4E2-458C-960D-B7C661CA1D6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C4155D6-3C3E-49BE-9155-9542D3C75E4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DEE2C-FC86-4516-B660-7FD83B34B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0DF8DF-186E-493A-BAA2-F94148062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A5B70-50FF-4FEF-8318-BBF94221FA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F6CFD-5B32-4AA4-BC60-755D26446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22BA4-B510-4E00-851D-AE3219DB2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B4F4-AB8D-48B7-876E-A4AAC8CF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B7ECF-8BFC-4E13-9B74-B83C4985E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845D8-D60B-4E5E-B53F-87F5EBCBD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8E9A2-1AA6-4C5A-8503-623603CC5D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D36D5-F5F3-4BB5-B6F9-37DFF8E88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38BDC-1F41-43B6-9B26-D155D6451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B4DAA-B5A9-4BC3-9C8C-54DC83EA3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82418-F8BB-43F6-8D5B-8729A97CB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D2554D-CEDB-4953-BFAF-3D3FECBCB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15B7D0-9BEA-412E-8B1E-01AF9281D6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0C8F61-BABC-4B7E-B242-C0596E72B4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D0F4E-D4E4-4939-85CB-509EE53AB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B0158-3AA7-4851-8C00-7ECE9A50A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3F058-F2BD-43D2-8A55-D7C2C8139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F6152-9E2F-4547-A3A6-CA29A0B961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22033-BE2B-4F18-96C5-3DBAB6318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62828-E077-4EE3-9F47-FECC692DD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6A054-A057-4E0C-B758-F6B9CE10E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7897B-A60C-45D8-A425-0518E9C9A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24936-76D2-45FC-B6EC-81A52AB70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FB8A5-FB6C-4036-8E84-370BE00A5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583863-0348-4C59-A6CE-108E3F0AB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85DA-09C9-4743-8E33-E22E34819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9A8318-2D67-42BB-B36B-EAE8B3445B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52C04C-A2EC-427E-811B-8CCA3272D7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1EF91-337B-47A5-8909-C20DC58E7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18287E-B259-417A-9978-B48511A84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58E4F-6A7E-4B08-8C65-2D0E51F61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9AC861-F1D1-45FB-B2AD-A95163830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F41A3-7F5A-4B11-9B3C-ABFC9055B1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D6AFF-7402-4B18-95CD-217F0CFD2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FC4E1-2E72-4E14-B260-2D81ACC37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3513F-1669-4D4D-94B5-400C94C6E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C4F4-3323-4E2E-A2AF-DB4E8E4E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ABF20-87F8-4B66-A53A-842C5F3BE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9DB45A-1677-4CBA-818E-30B7261138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AAC539-EA2C-47FF-8F98-5D7185DBD7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E17E5B-7AAB-4616-A5B0-FAD872DFF5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8356AE-1449-4D6A-8E49-7415EED71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2A325-6FF1-4A11-8EE7-180C9B1B7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395ED-5B33-4B5B-A5CF-DBA389D9E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1D4A3-0A59-4080-B0E7-1FC4040204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EFE3F-BE83-40AD-BBE4-CB1BA7E36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81CD0-9BDD-4D95-ADDC-5F269F86F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8159-E06A-48A9-9A87-3EDED41E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04E90-0155-4EF5-8EAB-CF3EC4E0F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F7008-B652-45D3-B7AD-6A7DD9F1C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98AB58-CF31-4A53-A73A-A2D719149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536634-18A9-4B95-8A9B-D73D28ED3E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AF966-8DB8-4DFA-8216-E59A5DC0F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91BD83-0816-4000-8D09-09E0EFCA11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3421F-3E0C-4D3B-BD1B-32C9CFA3D1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948903-4C24-48C5-9FAE-A2F4724F57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4C04E-4E38-475F-B8DC-5035AFB16C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55428-7879-4E22-932F-95D49FB40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49DF-886F-4077-BDA4-24CB9249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540AE-23D6-4779-A871-390E605DA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2CE02-FBFF-4D23-A7C1-191B5D8EE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80E10-1BFE-4C7D-B33A-73F74B3CDB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120D2-3C60-4848-85F8-AAEBDE87B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886E1-8713-4453-8E0F-EC233898D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F275A-649E-4536-9A5E-2FE738EB85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E7C8B4-E19C-43E8-811C-5A5911C0D5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9ABCB-6F00-4752-B7F4-91A3C0DF9D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1F997D-5C94-447D-AFA1-4912CF736F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ABC71A-A3D4-4B0F-8791-D58508386B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7A11-D7C0-41BC-A7F6-5A8F9CC235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54A7-9442-4CE3-85EB-B7AC384627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F0A0-F177-46E9-82D1-4653B831A7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CB9B-AE15-4B88-BFAF-B0F6C3CD46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92FC-B867-46DB-8779-148E0D4B25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0582-5461-46F0-9F0F-CE9DFDD92C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C280-0448-4702-B5A9-4DBFFEB6BF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290A-8A18-4A48-A4A6-BDECB1FB85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55F3-B481-4586-BF50-B6A4FED015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B9FF-508F-4DE9-9B84-91E5613A39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E60A-57BD-43DD-A4E2-86830AA91E4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EC54-1504-4EF3-9D00-CC780EA663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D5C5-9EFE-4AE8-AA53-EF08CC0C73E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B201-FAE2-4602-A4A8-57769B6D8E1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DD1B-36F3-4EF3-92E5-DFCF99F1B24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FD92-4B4D-4ED6-AB59-15212FAC2DE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FDFE-B4FD-4AA8-A727-90BD3EFA29C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2CFE-0CEA-44E3-9203-0C7877273C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EA93-1D34-43BD-9598-4C63B5CA26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4448-8630-4D9E-A703-570661B509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E553-4891-4CA9-88F8-EEA3D806DB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F592-307C-4804-B06E-C3A771B760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D75A-F8C1-4EAD-947B-FE188A2B01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77A1-261E-4620-9504-DA76AA35C2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A3A6-123A-4F9E-BDCE-4EAF96DB15F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21B8-378F-42C8-92FE-15054050F6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48E-CC9F-4ECB-BF53-A57DAC5794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0E3D-3F26-4EE7-AE11-E163D56C20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A27E-7F9A-4D5F-BED4-1F61E76311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5FD3-7B6C-49AD-9231-84EC8A7CD700}"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14AB-4529-4A6A-8CD8-BC82FDA58EC9}"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C7BF-34A7-4B6B-8871-C5BF2350135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93A2-524C-4710-A165-BB33E09A917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96C1-0A40-4194-9050-1572F1FA1789}"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32B9-FCF3-40CE-AC91-8A4AFD4189D6}"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857E-7D6A-4FAA-9315-0C4EEED182EE}"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4B70-E0A6-44BB-849E-456C95FC7CC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prstGeom prst="pie">
              <a:avLst/>
            </a:prstGeom>
            <a:noFill/>
            <a:ln w="0">
              <a:solidFill>
                <a:srgbClr val="eeece1"/>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prstGeom prst="pie">
              <a:avLst/>
            </a:prstGeom>
            <a:noFill/>
            <a:ln w="0">
              <a:solidFill>
                <a:srgbClr val="eeece1"/>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84A3-E26F-476D-81A4-6158881D560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74A4-F5AF-41AF-B705-D85817B86DDE}"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73D4-C190-405F-AD6D-6C9E4B8FE302}"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0416-6F57-49DC-AB7B-FE7557A1514D}"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Trademark is the exclusive right to use a brand.</a:t>
            </a:r>
            <a:r>
              <a:rPr b="1" lang="en-US" sz="2400" spc="-1" strike="noStrike">
                <a:solidFill>
                  <a:srgbClr val="000000"/>
                </a:solidFill>
                <a:latin typeface="Arial Unicode MS"/>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4C90-3146-48B0-B48E-50304B832878}"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82D8-E2CF-4CE3-BA40-804E892EE8E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BEA8-24E8-430E-A940-6C8C34D41FAB}"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5F35-4173-4E39-9B3E-20882DD0F202}"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D537-1805-46E4-ACDF-06A253EB3395}"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27F6-E1D8-4942-8A28-34C846953930}"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ACEB-8FD8-442C-8847-5D806A6756AD}"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  </a:t>
              </a:r>
              <a:r>
                <a:rPr b="0" lang="en-US" sz="2200" spc="-1" strike="noStrike">
                  <a:solidFill>
                    <a:srgbClr val="000000"/>
                  </a:solidFill>
                  <a:latin typeface="Arial"/>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  </a:t>
              </a:r>
              <a:r>
                <a:rPr b="0" lang="en-US" sz="2200" spc="-1" strike="noStrike">
                  <a:solidFill>
                    <a:srgbClr val="000000"/>
                  </a:solidFill>
                  <a:latin typeface="Arial"/>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  </a:t>
              </a:r>
              <a:r>
                <a:rPr b="0" lang="en-US" sz="2200" spc="-1" strike="noStrike">
                  <a:solidFill>
                    <a:srgbClr val="000000"/>
                  </a:solidFill>
                  <a:latin typeface="Arial"/>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07F3-EF32-4C08-9C9E-06241B2FA3F9}"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prstGeom prst="pie">
              <a:avLst/>
            </a:pr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AA44-B973-4514-9BCE-695DEB70B1E7}"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FE53-B299-4A76-BAE3-0CD3E25DAD74}"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prstGeom prst="pie">
              <a:avLst/>
            </a:prstGeom>
            <a:noFill/>
            <a:ln cap="rnd" w="2844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prstGeom prst="pie">
              <a:avLst/>
            </a:prstGeom>
            <a:noFill/>
            <a:ln cap="rnd" w="2844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1:09Z</dcterms:modified>
  <cp:revision>635</cp:revision>
  <dc:subject>An Overview of Marketing</dc:subject>
  <dc:title>Chapter 1</dc:title>
</cp:coreProperties>
</file>