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3104-82B9-4374-834F-F8B57CD403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453F-9776-43C3-B64E-3E3E1C897D4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044B-1989-4690-B9F6-417457799BE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CB3C-2502-4D39-99E3-B3EC11DC52F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5979-8467-48A1-8BE9-B3204388381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5020-F445-4928-827B-8CA4DF15F30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E4A4-0ADE-4ECC-9465-5A7E61B886A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027E-B31E-4B8F-9733-CFE13504226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151B-7DBE-4E85-8FFA-A237B18455F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0BBC-B0BA-45A5-B3D4-E97749F059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D634-7283-4121-9B58-A77C92AEDB3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68F9-D2A1-4A8D-B536-500104C5EC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68E7-BBFB-446A-A66C-B206BB8BEB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8AB8-A349-472F-9F3A-8D8568F8AC5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E691-9940-4033-B6AA-0186AC68096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4B63-69EA-46F7-B49D-D16B08156A3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6E6D-A0DB-49DC-B28F-3A5812FF01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53E9-1FDC-4F89-842C-BB71E32582C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F94B-9BB6-401F-903C-1036A9E3099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10CC-ED77-47A6-8874-8EC2B4B538E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4DE1-0D68-43E0-AA9D-749DC5DD5B1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BBAF-9670-40DF-A5C3-70155A3C5DF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21BB-9EE0-467F-A12F-1EF1B53E4DF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254F-C68D-4D51-BE38-9F8D3D3E7F5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A6DD-B8E2-4A24-813F-2B117C4632B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CB1E-5AD0-409D-A3F3-4DB3ACA0AAE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8EB8-8C60-44EA-B532-CA0DAC9BA24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4745-E8ED-4718-A31C-F4A44E4E89D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E528-1BF1-48E1-9BB7-712ACF761A3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075F-A3F9-4331-B855-EAE01322D75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B2BE6-366D-4E4C-A499-3B847D943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E97E6-529D-452E-A65A-762E57841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A8C1E5-1994-4C4B-AAE6-E7CFEF4973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38B81F-C7FD-4434-A705-8F68FE247F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3B2CE7-73D0-41D1-A1E4-3B9AD31D3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541C6-0A70-4479-BCFA-A29DF51BA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EE09B-BE65-47D6-B108-0F873505A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0B106F-3063-457D-A470-923B99C40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52813-25ED-4A4D-A128-4BCBA6529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D676DA-3934-4EFB-BEFA-5BDC6F6CA2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E3CDCF-EE6D-4ADA-BBC2-3F25D4B86A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36BCAF-7DF0-4C48-AFBB-05E4D64790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B46B1-3048-4A35-B2F3-107177666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A86441-9795-43FD-ADB4-6A81FA85B6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15707D-8A72-4D47-9AEE-A59F0F7508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BCA789-7FA1-45AF-983E-6A78727D7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86540-67A8-4E40-9F49-E50FA47FE7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D0C88B-D0B8-485D-B789-5754A68167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30B649-BFA2-40AA-A301-48B7B5DED9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2CDBA9-E8BB-40CF-BB06-4164D35C13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BD44C7-E945-4EB5-897A-1C984F7B9A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BB9155-8047-45C6-BAA6-A3CFB7C1FD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AA51EE-A156-4F2F-A755-A82A118CAB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B2161-66C6-44AA-AFC4-FCB73DE43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C788A-3580-4593-853D-CB323ACFE9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51796A-BB8F-47A2-AE6F-3F05B15308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DD8867-3DCA-4E87-B389-EAFCA3E052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B68D28-4E44-41BF-81B1-761B2ABB3E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904596-A073-4F70-A1BB-FB0E0A4942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9DC74A-5F81-4A70-BBF9-D9F6BA87E0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2A9E8B-0CD8-4437-A6F7-66B274D7CD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254CA6-29CB-40A7-8263-1795856730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89C79-A07E-45AC-BD61-B2C1EA8DB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62C2FD-289C-4F9B-8432-33AE67A06B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40C52-0E3C-4522-81E2-4ABC2F359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7E0E6D-1659-4664-9859-D27DE19706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0AE0EA-E8F9-44D8-B09D-45402FC9BB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23D72D-862B-4528-B6CC-ED11B9561D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504C54-7DA4-4ED5-8D66-2601E6894C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D41F26-454F-4B8F-B6B2-B2D446DF10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76B9F7-D97D-44B4-A213-92C44968A6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35C9B3-E838-4E4F-9D38-5862DE306C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59D117B-DA6E-4A76-A01F-97DBB106CB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26AA0E-F89A-4455-8E99-5B80D88FF1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4E4FA2-1482-4A7E-8410-EDAEF2EF3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FACD0-958A-4539-851C-BE2AE20BA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6C4807-E1DE-4C6D-92AC-C597ACB3F6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1DF811-241E-4164-AD7D-7CA253AE61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E0E115-1347-4A0E-A537-78873A7F78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38DEE4-F83F-451E-A8B7-C79B5C104B1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504685-EA62-48C3-9A69-EE95963F43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A585AE-883B-4F25-9444-E810CE6D30E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6E3954-88C2-4765-9FD8-4F6636A7F3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337485-B4DF-4E5B-9261-2727FE7093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40A888-10D5-43F3-830E-3C5CAE5A93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8B1049-8B2B-4975-BAD0-032E2C4DD2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B9321-3910-40E4-AE12-22F13119A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D055DD-BBE9-4177-812E-C5A119917E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161E61-AE55-4F07-9133-37173C46AB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1A8BB4-F584-4AA2-BCAC-CCBB8A2D88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CFE4E7-2FEA-4F10-BC9F-899F6DB7B7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5A89E9-B348-4B62-A4A9-DE38CB9A51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78D82EB-682F-4817-95D5-71EFDCAD1A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09C782-E8A1-46F1-B818-95B131EFED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3773E4-7CF0-4DCF-8478-601BA2B70D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B408CC-2D03-464B-8DD1-9B3EFA575E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54F364-BB86-4DB6-BE94-B723EBC7BA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D3BB0-F951-43D9-8BA7-E8667D6D5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FAAC0B-17B1-4E29-9B36-BDFA0669AC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C60B8F-EE9B-4BB5-B5AC-6BB6D8671C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02CE6C-F74F-4D8B-B24B-C8E0B0BF55B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957EFB-B8E5-492C-BEE5-2E1B3028B6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4DD5F1-7431-42CB-BDE6-0265451E66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C78FA2-D760-4030-8DC1-3FBF9B0930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305178-BF9F-4D75-8B9B-EEB7B1FC53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485D59-F367-4238-8AA7-DBAE844E1DC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4666C6-A033-487C-AA9A-0B9CCBA647D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7EF3FEF-29EE-41D6-8F03-3D0C4DE479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D8212-D352-427A-8850-E0932D819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824542-44AA-4DA1-BE1B-3091237092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2FEC69-B487-4314-A981-A01CC23338E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F3E1A7-696D-4933-9AE8-6220C6B61D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B9B4E6-3CFA-42E2-828A-42BF50B31D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5216B2-CE5E-42C4-8C94-1E489B68FF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CF0266-D2E5-4C27-B745-C89F3C7242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4E3B36-F9FF-4A1F-8E45-54EC95996E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08B5D3-8228-48EF-847D-15D5404174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225CC0-EEA4-4387-905C-9ECE83D0DF0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EC0C467-55C9-4FBB-B5B9-9BC8998C72A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37B2C-3AB4-40EE-9FAB-A79F848BA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8FF1E0-BA09-4FA9-9263-70A1110D79C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7B06DE-55BE-4A0C-BE43-2A8FA4E19D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851CED-CC7C-4854-B5CC-ED808FE0D3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F9D93E9-FD4E-4F1E-A19F-D6BB5C9288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F96C5A-5FF0-4259-90E7-B035BECD3F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F39AD1-E5B8-4D5A-8552-6C6EADF74D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5B9BC8-D417-4297-8C0E-A7336A3985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A3BF4D-428A-45EA-AA9E-DBA8ECA1FC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7891FA-036B-4549-B6A6-B878864892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1C01F5-1851-4BCE-A0A1-11B53364FF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E651A-0982-4B9A-8DA1-839CD34F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938E40-9873-4D01-9E7F-8E6D5A1223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CCFD71-E93C-4732-95B7-2493D066CD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07AD0C-5AF5-4EA1-BF9F-20913E2510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E85F9C4-2408-476C-AB0B-64DC8CB627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9BE135-8B61-4586-9E7D-5C9B3E822B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D0073E0-596C-445B-9748-63D7EC52C7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DB3767-3085-4573-8606-1F6427E385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545BE2-CD34-46CD-BA47-814FC929BF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F1C654-0F1B-47C8-A0DE-44BB219C80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100528-6F6C-4732-BB5B-6CF1F8F3B4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97A0-0BB2-4AFD-A27D-72AB2C65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78A8F-3EEE-4E5F-BE0C-C9711A0E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F3BF35-A8EB-4094-83A3-37CAF5F223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306EDF-9809-4BE7-A625-F9D7067753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DAE18D-1ABB-4C55-86D8-5D72F31E19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7EC9D77-7DF3-4D9B-95C4-C517C43F59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3B7D503-CCA6-4007-8063-4A5D439A546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ADDEA5-70CB-42C2-987F-A92C845A0D8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D5545D-67D0-4858-9856-649BC135346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F4F2DD0-EF90-4629-A326-474F627E001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7EC4CE-3688-4978-B154-C1C2C7DF243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39E38F-FE8C-4CE9-9A17-B681AF63BD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B3C9C-24C7-4905-AAC1-A4ADE6508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4D74919-3068-46FC-B47C-979E1BFFDEF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7264B6-3FC7-49BE-B929-798F5C4D79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E02F05-4A8C-436A-8C7A-B112F73E3C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4CF28BE-42CA-4814-9A99-6E55730A56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C0DFF5F-8D26-4BC1-99C5-1B40DC5E4F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2153952-D8E4-4283-8376-F4D97683A6B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9E252D1-67BE-426F-9F94-02A8E3E3E05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043FBC9-E062-47EC-ACF5-C90721DA99A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B251E64-E571-4B2A-89B3-55111EAAD0C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6280120-A3DD-4ED2-9E38-2AFAFF31CE4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EA3BA-EE5B-4837-817D-81A7B9AE9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E8BDEE-90AB-4B4C-B65A-9E48C073FC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4F1AB77-9B44-4753-A0D1-A5102AF271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D7F3FF-755E-426A-B339-39E0531BD7A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A77F9E-8021-4262-B41E-E5D68A821BE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6AA2795-FB01-487B-93BC-89D3BFC4DF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42D7AE-AF43-41B0-BB56-2A0E2A5ED0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15EA567-C2E5-4742-A1D4-C00C30E65D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1DD5D65-AD85-4E28-A9C4-FF35B550C49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7CDB73C-79A3-4BDB-AF25-DFE1944FA5E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B62CA7E-AAAB-4D71-8DD4-D766CA06C11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74467-240D-4163-8EF2-95C521163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0FF607-D751-49E0-BFF2-8B64B8FA4D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6E64BA-B07A-4822-A8DA-4174243C1E9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0F8DD9-42E1-490B-9FAE-0C4F5B66E9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33C3FE-E65C-4846-884F-01987081D15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CDCD4A1-11A7-4616-BCDC-7C19856A1ED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60A131-94F7-4A40-BF61-0100DBBA9A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DA7701-7262-4769-98B4-5C72EF8089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2499B3-E0A2-4AAC-B743-179E92EDBC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1E16DF-423A-4D5E-82B9-441E2BCAAD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77B0A03-4CFA-415D-A0D1-F1F73A617D8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A2218-FAD2-4C34-A26D-D16689C55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81C1E93-3D5F-4A2C-A59C-DFE9222E2BD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7EDFBD7-CF40-4DA7-B86A-12C3DC9DFC8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1F66C6F-93DD-4D06-A771-E90DCA7AC89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9A79863-0925-4CAF-85E8-7F79F5F1EF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A6517DA-E055-4378-BCE3-9F0F24B199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61396F1-B8FF-4C7E-BF69-C9E0B69E37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651F47A-A52B-45DB-84F1-4C40A091FAB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6116A7-4F5E-42D3-855E-B51FA27C71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9ABCCB7-D7CD-4D57-BBE2-EEA63E4FCF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CC47EB-8D10-468D-A23F-B5C633FE79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566863-0AD4-46EA-A97C-DC4C21163B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96BD86E-2B21-4BE6-866F-AA672F430C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1361D55-7226-454A-A7D2-F2508B7D2B3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0C4B636-1095-489B-B561-D3AE64638AF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F19123E-6E3F-470B-B289-ED868C91C1A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186CF1A-623E-4785-9657-C35B860ED3D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0DC723A-D3C2-429B-B54F-518AB230CD7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19FA18-7D73-4E50-946C-7B0F11DD4E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17D6D6-8728-4BE2-8EF7-202A4C11C6E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7D71DD7-4E71-4EAE-A14D-AA6679A195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45AC49-CCDB-425C-B057-C95E01AEEC0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3D3AA-3620-4259-A90A-F5B423BF8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485AD03-5DF4-4612-BB96-5CFDB5E9A12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B13A6B6-43BF-4E63-B0A2-9A5FACAB2E8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429E17B-20F2-40E7-9548-3BEF6E3518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2AEEAE-9618-4CCE-B5E4-AA3F6EFC5CD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DC382B1-D6D5-48E8-95B8-D2CE23C5088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7D3B43C-4809-4612-B032-15BF8715DFE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A40CD6F-2E51-47DF-A175-9378177AB6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F52AB39-BBEA-4577-BB57-C752383EFFC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61801C-96B1-4CED-A741-D2CED30616C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9FE9935-DBE8-4701-AE4C-B6E735D7F52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0F580-6128-4EDE-9AFB-D6361553A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5F9F2D5-AC3A-433C-8802-6D7FFD8765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FDCEBF0-CA13-44CA-9175-9CBD3647AC1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EFAED05-CCDF-4B59-8D74-B8CA304E13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791ED2-774C-4489-8550-50B468C73E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9F574C-125B-4A89-926A-EF88AA38C8E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DAB7DAA-AD62-4876-9D8F-C6EDB2794E7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4D385E9-1B73-400F-89FC-F5EA791E216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1DBE175-E7D5-4CF4-9D32-6F893840425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D317BA4-45F9-454B-B79A-6ABFA1A56F2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A414760-B985-4BBB-9177-6FF9598B1CC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4F622-B65C-4D7F-9C20-C8572855C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5AEBF2C-F07E-4057-95D5-CDD0C171C9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B0EF5F1-2B6B-4E04-834C-F92E2D13C11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0D213A8-F2EB-4B26-B7B3-7711A025BA3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2CB00A0-CAE1-4652-A581-B548FADD864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FFD1589-9B37-4F42-9750-44DE2395668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96F6EAB-6896-44DC-9935-F3077157325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F543740-2E24-41F9-92AA-6BA8098F16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A311A47-A1C9-4177-8387-E0CEB0CD023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10F7E55-F64F-4DE7-B0A3-6BE12D70E25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127A821-DBDC-4DBF-9B23-86DA5CA4677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20277-8AAB-44A1-809D-4A790120B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83CBD70-B7FE-404D-997D-0CF2D0110FD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F5D622D-EF9C-4422-AD1A-A268429AF2F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54F84D1-C052-4F24-B886-109BF24C6F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C1FC121-D066-4C89-A5EF-47B59BB6859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2F7BE8C-DD79-404B-851C-E9437C66272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489C19-FE9A-47CF-8C94-A403198675E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903D669-A483-4C05-A158-13CA2AF8891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2ADA597-FE0D-435D-A8F8-960CF16E68D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457B964-6EBF-43A0-9B86-6BEF0CD9A44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2120C60-776B-49C8-A4E4-C6A137DE06C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D825-6A19-4924-B37D-1C92C2DA8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3D808-6DD8-4A6C-AFD6-1E38C294A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6C56A3A-A125-415D-87EB-680C806EC51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2A72686-F4DC-4EC5-9E83-779647068CD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F0957BB-4D16-4D67-81F0-66F7B3265F1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D0296BD-BD1C-4E76-BF22-665F7B7C782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A62009-8EB1-4EBF-AC83-4DAD1F60D6D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4893EAE-1AA6-4908-91EE-68B06798510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CF39152-0BD5-4633-915A-BBDAA2662AC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D4E64D1-7804-4F37-A360-E46587549DF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283E8D7-7B81-43AF-8BB1-112ABF67378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54447A-473A-4721-9B5F-B77990EE5EC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6D8EC-017D-467A-808D-0FABED59F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75B63C2-3A4B-4A21-8B86-89B921ED6F2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6DB4AA6-5016-48AD-89F4-81027BFC5B1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0772113-D16D-4DD8-AB0F-89CB84CAC3E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CDED3CE-4AEF-40D5-B8EB-24ACD59B614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B133558-3664-4E4D-8FB2-9B037C30789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615929B-01F3-49D0-ACD4-EF5BD608BA2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FF73B1D-210B-4D16-9A3C-C5F6EAB1B32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5D48D52-6D95-418E-931D-11EB64BE31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07937D8-1AAD-4196-9944-33DF8887BF0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798E190-2BDE-43FD-8B9E-5025BF9D710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7E76E-BF2F-4540-B355-9078171FB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E8BA01F-E956-4A24-BDB7-BCF23E6408E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010825A-F12A-46FB-AB04-7DA8B16B1C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A761962-074A-4615-9813-61A8E9F375D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5FF8D09-64BF-400B-B4BB-FD516EAA1AE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6201467-8641-43C5-804C-17D5FB11A5C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4EDBF0F-D2B3-47AC-ABA2-EB1A75F2595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7D0604-F648-43EA-9A55-40B552E1842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98872D7-4C2F-4203-81ED-88282A76CD4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D23085D-E5B6-41F1-8287-049E3E0B54E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5843996-A2F9-47AA-A411-39376C56B29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A7DEB-5A43-4599-9D19-51523DFAD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009D762-A50B-41ED-B763-22352689935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C7380C8-22FB-46D3-8742-3158994A864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4AD10B8-14A8-4762-B01A-207DEE41CF8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02123A-B4F9-4448-816A-9B2E039198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991AEA2-B85A-444B-BB58-F8B96DD0C0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D4414DF-6573-49FF-8A7E-A6CD8BB86BA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9530B14-8555-403E-9C68-685233DFDAF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C2D0315-9C2C-4951-BAA8-2CF3A46E900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15F715E-0F49-40DE-A423-DADD5D34339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037CDFE-C6E1-451C-951E-0ECDE9FDF3D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75AF7-0C53-455E-9567-F3856403C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CC42CAF-D636-4544-9859-8F3CDC8BE28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221E48-7825-4433-82F4-167BDEFD461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C29B435-4822-43C4-9474-40A8FF7A93E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2FE40C6-9A21-49B4-B011-10299371DC8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83FEC27-92B3-4F1F-9EEA-A7BD8022039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EA21B54-0A6A-4ECE-A572-F9CCE74168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9D24F3F-6680-47E8-8DA0-C4266E7175C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16A5BF5-7733-4797-B9BC-04CF0CE0DB0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A6B9CD0-51CB-4EBA-B17D-09A61FF9DF6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08266B-0ABE-4A7F-ABE4-24ACF6FF0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7131F-940D-4A0D-BEE5-CEB648B0C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691651-D8AD-49D1-A248-9F067BEA6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5E684-FE19-49D0-B3E9-2E749B18F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5C0F5-C37D-4919-89CA-43749B791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9798-32F9-4B8F-9CDC-7E73151A6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04953-4A89-4E80-9997-B1FBEC180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F70CF-675F-4BD6-A2BD-15300A083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77F58-D266-40F7-899D-41EC4B9BE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BA101-21ED-46AE-946E-8AFB95C53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B4F1D-01A3-40EE-AE74-A8046B5E1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981F0-DB14-4520-88AB-A8C7340FA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65935-640A-4C0B-B6C4-3BEA5E3F5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43272-88D0-4C66-8B3D-FE91E27FB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BB209-3C1E-43D5-B9C4-912343BA97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89AFAB-A13C-44B7-9F73-4D9D1C2AE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BAEF-8AFE-4D44-8A4D-1F98CAA4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5ACD4-9DA4-494B-BA16-C86B2F51E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1B002-07FC-4A89-B739-A2D1FDBFB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6B582-8077-4472-A5F4-DA6991FA0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A3C28A-DDAD-44B0-A27B-A7B05BED4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494E6-AE17-4285-AB69-23A1999C5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DA1E6-4BFD-4149-9AD5-971319330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B7E10-0576-4838-B70A-B75500DF1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2AA32-705E-4398-8411-A028BB2DF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02D6FA-2A22-43D8-BA34-497B576FC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686E67-1397-4441-945B-CEDCE2EB3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FD74-07C6-48CA-87B0-286D59F69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8FB5DB-01E2-4147-BD65-6D02E7BA9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D03263-C656-49E1-B9CC-24B799F239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3E2B8B-522B-4B8B-A12A-ADC1BD42D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CD981F-AE94-41C7-9330-2F4D713BBC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24EB8-CC35-4A70-A942-F63BAA0A3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19735-942A-4568-8AC8-E58A23DA6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0D0B7-04A0-4C2C-8B7D-F4EE57E677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DAE75-16BF-4905-8CA4-05278CED5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E0709-13A7-4E52-9F47-268B94B5A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378F9-182F-42B5-980E-5AA9A5D85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C2A3-CD0F-4705-A226-76EA81ED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6EA0A-D5E1-4EA0-847D-51D2C25BEF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7F473A-34F5-47F6-87FA-E8476C6942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08D56C-7688-49D9-B9AA-749449F485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5FED65-8426-4ABD-BD1D-F52CE7A445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346019-904F-4E2F-B4F3-2518EA79B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A2E49-8888-45B0-BDD0-1CA9F4145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BCF68-4A2E-4DF5-AB92-7C3C2780C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B73E9-A6F8-46C4-9FDE-2FEFF033F2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5D78C1-01B7-488E-8329-A30B251F4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DF6A8-64A8-47DC-A3E1-CA35CF42A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1EB74-B9DA-43A9-A1AD-85D26CE96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AA685-0A1C-4C9E-BAD8-75CA2ADBB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29593-7E79-45F4-A2E9-C8A2CD6E4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D859D-3CB6-49B5-8F2B-F2848945C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F2938E-4500-42B4-B4AD-19988E924E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6276D8-ECF0-49E2-8CCC-08F3B52B6F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F45B67-8605-452A-9E19-3BA115F3B0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3C384A-64B8-40EE-963C-8F1F31D5D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7EC01-20A8-4C50-A925-A972149DE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43ABDD-8041-421D-AD8C-5BDBDAE501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BFF85-50A9-40CE-B091-3488EB2C1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F78D-4D49-4FEC-A56C-D0814199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DBC020-74BB-4A0B-8E03-D251471883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E85B2-96DC-4A37-A0C4-F3BD31D6CB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1B18A-BB42-42B8-A65F-5813465EF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D10A0-8E57-41FC-9FF6-64241CC40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54EB0-C1CB-4A60-ABCF-05648F6D3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8B94B2-0C49-4181-9723-DE8A50B605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B5FE3-34D0-43AB-BA43-A8C8A281F2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915EF8-8272-42F8-B90F-9D08D61C31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B970F-457F-4BBC-96C1-BB82F972A9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D4870-CF82-42EB-97E0-AF1E31BBA2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4BE3-03BE-4F42-BA1C-F0A20BF38B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727E-3218-4ED5-8D24-54C675132E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AB46-3438-4682-80FA-29E9CE116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660F-8AA1-4ED7-94C9-3AA493DC9C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F7EA-2AEC-4FCE-8B0A-07CBD77E07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9FC2-A44B-421B-BD55-56272D0497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2589-6B05-47CC-AEE1-879CE76AA9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83D8-0E49-4F68-A700-3B5E4637C5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EDA6-28EE-4C5F-917C-CCDA5F47A5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4646-1A2B-401F-9CAD-3D5A53FF86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4BC8-6495-41D3-99E9-9E6C8A6FCF4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69E7-2DD7-4517-8B97-8C68F4B2BE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25EE-43B2-4D86-9EEA-73CB4076BBA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B8F2-8F30-4E6D-B57D-BC69ED8631A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2CC4-13FF-436D-9114-4CEB3A2E6EB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E351-2C19-42D3-86CD-9595AC6C5CB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03B5-F193-452A-99BD-37E58BEEA2D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A45F-BAAA-4948-9612-A0837DA3D1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52E8-E3DF-4C9B-A450-C05AD75AE3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6252-0E19-4FDC-BE05-30BB26F5DB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F1CE-A20F-48E0-BBDA-7D7F27E39A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C4BD-1FFE-40F6-870D-FE55CA66E4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D293-0C98-4F5D-A3F1-C56301820D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5D14-AEDA-468E-951A-BA83380DBE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5765-E6BA-4E29-B5CB-2903CBF7931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D6C0-4279-42BD-AAB1-00BC34F10B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682C-D669-467F-9CE3-E82A0862EF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02A4-9204-4247-B21B-C038169EB5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D922-1421-4047-A770-5A25775175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E7C8-F187-4B9B-9BDA-808D5C7F363D}"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A333-09C9-4854-80ED-3F15F1D6BE71}"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E4ED-E075-4F87-B501-C46181CCBFB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9951-81AF-4A99-AE93-0AF9E85923DB}"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4043-BD14-45FC-B66B-7F9DD6B3BBE0}"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5113-25B7-4E84-AA7E-C592F18E3C7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9EE9-E5F2-4AD3-B8AA-4DD62F144B4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962F-D25B-4D8C-BAF2-0957F5FC438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prstGeom prst="pie">
              <a:avLst/>
            </a:prstGeom>
            <a:noFill/>
            <a:ln w="0">
              <a:solidFill>
                <a:srgbClr val="eeece1"/>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prstGeom prst="pie">
              <a:avLst/>
            </a:prstGeom>
            <a:noFill/>
            <a:ln w="0">
              <a:solidFill>
                <a:srgbClr val="eeece1"/>
              </a:solid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C044-9370-4465-9997-EEE07BCC33E0}"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58C9-F7CA-4C9F-BDCA-EE75124991D3}"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DEB4-FB0D-452D-AC96-4C593B5216F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919F-FD9B-4786-8FB7-3E45F1C9B748}"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Trademark is the exclusive right to use a brand.</a:t>
            </a:r>
            <a:r>
              <a:rPr b="1" lang="en-US" sz="2400" spc="-1" strike="noStrike">
                <a:solidFill>
                  <a:srgbClr val="000000"/>
                </a:solidFill>
                <a:latin typeface="Arial Unicode MS"/>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19A3-E184-4ADD-B8E8-E360BE9A3E1C}"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DE74-BC33-484F-AD41-00FC97204BC8}"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EAED-A223-4586-A46C-B8CE9FA7F07C}"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2152-A624-408E-ACC0-FB28639E20E9}"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70E5-43EB-4B7D-B3AF-A8C637AD94CE}"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BEEA-2514-4884-8785-F71ECFD941F6}"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5BAD-0AF4-4B88-B826-404AC2590FC9}"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  </a:t>
              </a:r>
              <a:r>
                <a:rPr b="0" lang="en-US" sz="2200" spc="-1" strike="noStrike">
                  <a:solidFill>
                    <a:srgbClr val="000000"/>
                  </a:solidFill>
                  <a:latin typeface="Arial"/>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FE03-D0D2-4590-8EB4-8945A7C0BF6D}"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prstGeom prst="pie">
              <a:avLst/>
            </a:pr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2F13-CB72-4F11-AAC4-2351A0C4ABB4}"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D51C-9121-4BF5-A235-10A08D37F932}" type="slidenum">
              <a:rPr b="0" lang="en-US" sz="1200" spc="-1" strike="noStrike">
                <a:solidFill>
                  <a:srgbClr val="898989"/>
                </a:solidFill>
                <a:latin typeface="Calibri"/>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prstGeom prst="pie">
              <a:avLst/>
            </a:prstGeom>
            <a:noFill/>
            <a:ln cap="rnd" w="2844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prstGeom prst="pie">
              <a:avLst/>
            </a:prstGeom>
            <a:noFill/>
            <a:ln cap="rnd" w="2844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1:09Z</dcterms:modified>
  <cp:revision>635</cp:revision>
  <dc:subject>An Overview of Marketing</dc:subject>
  <dc:title>Chapter 1</dc:title>
</cp:coreProperties>
</file>