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2D75-3243-4187-B1A3-BB2715FE87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60A6-D196-428C-B0DB-AEB45AA569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BCA7-6851-4FDE-8B12-5D49E462EE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A18E-FF65-4738-B10D-3E4B2799ED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A476-7E23-4192-BDEC-A0646B6490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5769-5388-4C5C-A571-B1839454A3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1C22-280E-4DCE-B64F-8765E93C9A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B111-D68A-4C76-B5F7-E84BE94A86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9E36-3F9D-4B2E-B3A5-6B57B491AB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2E92-00EC-4B90-9FBB-9140BC1F70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1574-FC60-4F73-BE3E-289240A0E2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F14D-A1A6-400E-A844-9C3095BDD5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ACBE-0518-4A8A-A43C-CD8BB5092B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7A5D-3281-4519-9906-93C8FECF25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FE11-FC5D-45D9-89E2-209E697FBD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269C-CECB-452F-A75E-4FBCB02324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5EB1-DF69-4F62-A044-27F2F7C029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8A78-B912-48CD-9EEE-61E49EC831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BB10-A69D-4391-9D1E-E9B42A1EA3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A783-1E53-46DC-B9FE-89C1359CB1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3812-979B-4F23-9242-FA9C6D923E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F349-15B0-4C47-866A-3B18C285E3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C026-46F2-4955-B5ED-0BEC808A2C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D55B-4F64-492A-BF89-C887AC7DD1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77E5-4E47-4DDB-BE1B-9995DD88E3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4C4F-9410-4634-9ABF-EDEDDC4236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4407-A38B-4204-8BAB-3813EDC581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97A9-FBD1-4343-9B9A-76E7FB4822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B5C4-4A3E-4B7F-B900-E115305AD0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2AA1-2E46-4C6F-A5AE-29418EF3F9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BF19-C207-4DA4-8B47-3BD7AB5673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F0B0-F5FE-47A6-AC6D-0AEDC3F083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CE6B-19B1-43BA-B273-1CA1BC7E64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969-D5C7-48E9-B464-3D32C9022F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402D-68A2-412E-ABC4-1B8B2D2F9A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A32E-EFEE-41EF-BE6F-FA207110B5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EE2D-8BBD-4A78-A30A-C9F241D68C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A863-D8D1-4383-8B9A-8BE1A88C25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5268-088B-4EF0-A747-FB042A5073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3CC6-0BFE-4A54-9D83-CA80DB31BE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69CA-A878-4860-B0DE-5643444FAF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F8D6-091F-443F-905E-273339D121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BAFF-1630-4EA7-B67E-31A238C5AC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7029-5EC4-4983-B4EC-D85BE92E40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F929-8F96-4539-B9DF-B663A23B2C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4FEB-3694-4967-AC99-6633931D5B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1DDC-E836-4DF1-A4DE-E408926818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08D7-DE77-40A7-9A31-8E148EFFCA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B083-41A5-4F68-A3E3-939A64427A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927CB-163D-4396-9005-C918E7A75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FD843-D045-4BAC-A85B-726188A35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2AC163-F0C4-47E3-8982-FFB8A76187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C41A18-64F5-4D8F-9A66-527857FAF4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0C259-5FA9-4C28-BA28-DA506783E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D2ADED-9FB0-4F46-872E-7FF03FFB6B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B587A-F2AD-4026-AF90-D12760C88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8E6BC-2229-40BA-AB2A-8D6633E61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76BDA-F060-4C7C-BAB9-790B82A304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197213-698F-430C-9715-1A5DBD43BD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5662DC-B052-48F8-82E2-350EFCADB2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AA15EB-A604-4CEA-9A35-84407762F3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BC639-4549-43F6-A78F-96B7C47EA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96DA65-1DA8-48E2-AABE-2C22C093FD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F9751C-C5BD-4953-85F2-899BE9DC53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2591EF-4CE4-4451-BB46-BCA2BBE5B9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A5B3DE-DD7A-451E-8470-BEAE18D702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8AB101-5349-407B-A0DC-FDCC170C24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F3CF00-8F2B-4FA0-99BB-AAE2B66181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0ED002-E3DD-4B1F-949D-A5578E8582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157E98-9617-4A66-AB5E-A9A5371655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B5EF22-5FD9-4952-87D8-4CBE9C01AE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ADCB9F-8283-43D5-B372-9E75AAACE4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26CDD-4709-433C-A5A5-C410B8998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8FD2D8-6DE3-4614-9154-843224AE48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DE4839-323D-4B34-A52F-C28C2615D6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93CC4B-6E81-494D-A27D-2C9A835EE5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5E0C0B-BF15-4877-A13E-2E28EE55E0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2BE34C-4D1E-4481-ACAA-C0B9F0598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114E4B-A47E-46AD-BB4A-E894801321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A243C3-19E6-4DA3-AFBD-EE9376FBD4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7E6831-D81E-46CD-91C6-96CD66043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75EB36-DC4F-4862-A688-8CC6023B77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C7ECE8-3800-4ED7-8302-53147E420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C076B-4189-4815-9E8E-25D99E264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639986-0C50-4672-9E62-390BECCDDB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E93F27-F9A5-4830-A0D1-86F12F5BC9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00E634-8CEF-439C-BC86-894D717D96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25A952-F553-453E-A509-0B81D8E768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B3B31B-D923-4268-B2AE-6010F9B7FA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45D8DD-742A-49FF-9EA8-5D915A63C3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85E229-D017-4AAD-BD25-6B895D2685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F7CEEF-4737-4871-8C03-D07D94AF65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DA57A7-3ABE-4D32-AFAB-64B6F2B084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86C1FB-1967-422C-809A-3ADDA14C20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035CD-964E-41C4-A07B-10A9B1451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1806F5-B260-4981-A5DA-D8F2AD7A44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6159ED-DD7D-4D46-A231-9B78F560E6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45F2C4-B872-4A83-95C0-AA7A938C89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BDC7E7-0177-4020-9394-1C128C42F0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F33EE7-5414-4F70-8ACA-F16215436E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9B7EE9-F509-4588-8677-CEA42E4A04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B9FB02-6A25-46DB-AB27-256DCC7D11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D802ED-CD41-4F83-A83B-C6373C8FD4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DAEEB6-DC34-4FC9-AF78-99B35FB00D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D8713D-3107-4C36-9654-0AC2EF5281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C60CF-BA4B-4149-A3CF-DF88FE0AF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29F8D7-7197-49B9-8AA5-D792F543A4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7A2603-CC27-4FE9-A4D9-231CA4A08D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140759-3044-48E0-A7EF-1C0499611A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6E19C8-FDD3-4C50-B853-E3463186BB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E22E40-C24B-47DC-92F7-9C75CB26CC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2F7F71-C1CE-4107-BC63-9AAF0B2484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B1F735-C7D7-43F4-8D31-E08E52DD7F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A59477-91F5-4A3F-9BE5-0C0E48F427F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704F22-A967-4BE1-BBBB-54FB88D0DB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F4635B-BA40-4336-9E46-1CD163358B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57AD5-7E05-4137-BBEB-7A9EC1CAF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EC4E32-6066-4064-AA70-5BF2458FEF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6CB8C6-32A9-42D3-A557-DA131B06F5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30D5D3-38A2-4DF5-B0C8-F88CC1744D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408AE7-0761-48E0-B7E2-3D100FFABE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1BFF3C-5BDD-4A1E-8646-307564DAFD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B7E709-6D38-4A8D-A014-5F059A4E5F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B1B8E7-A390-4166-B734-6DE95C0D54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1B6309-ECEC-48F5-9018-1D6E6143B1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F32397-2602-4B93-B565-B2E18BA787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ED4D443-9B5E-4DED-A5C1-CE46FAA953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E8FC6-F528-436F-BC2E-F436E395D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F68A6A-4FF7-47F8-88E2-3CB91BB856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A65BE6-E8D1-49B0-96E9-AE874BC72D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E4EC5C-0D80-444E-8957-D007AAF6A6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4D084E-9087-4884-858C-3E15487F62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F62A31-72E1-4550-B40B-B3DBFA388F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03CD2E-B76E-459B-B050-469AB65619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31083D-07DB-49D3-8E40-263F7216AE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CC4EC4-AA89-4E66-BB10-585F0DE448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B606C5-C9FD-47AD-97E3-6C047DF195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E9D9379-9C2B-429A-81C2-06881CD5014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36DA-490D-4423-A53F-62826DC2D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6C0F14A-E2AA-4770-9DCC-509FC1F6EB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DC3E180-7E79-4791-9431-C44AB03A29B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EC771B-0806-4422-873B-60A2FFC2BC5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B82409-CD2A-4B7A-87EA-534A7CA8CB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C34299-6F07-4E07-82A6-F3FAE0E30D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8A20E8-AFCA-4903-827C-2A69A29C4D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867622-9369-4548-ABD6-2740672825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7B193B-A862-4A02-8700-96EF688466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A26921-A2A3-4E45-BB91-4D9EC490FD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EAF6A7-3F4F-4070-9DAB-AAA1BB0683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6CD24-C6AC-4A4E-83CB-E235497D4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7AF69D-461F-43CA-9F32-0453D8FA6E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74DEC47-4D93-4C5A-ADB7-41358B1EFD3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6F2F865-A658-4FD8-85C4-C7080620D8D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77E7514-7BE7-4DD4-A92D-D565F2968EF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B5A435-C26E-4597-8E3C-4B9611AF15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BFF4FB-E965-4368-92EF-F4982B246A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E6812C-3873-4843-8424-93C4A1EFFB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D69033-6E30-4A25-8571-351A17BB5C7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F64198-287F-47A4-ADF9-79D6DD22BBB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D78021-011C-4179-ADAE-C8AD549548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3AE3B-E9AD-4812-9AEF-820C9ABD9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184B-4B61-4091-BB57-10AD5938A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2D6B41-72A3-4CA8-9E71-1E655DC348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6D4183-1BAE-49BC-A768-053AC8726C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10D657-8D91-4CED-BFF4-E8B6C581354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93B0A5B-F75B-4116-BE26-EE311E3E6A4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BFD4104-9C03-4589-9603-1554FD69F3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293E340-B68E-4AB2-B3F5-031688493E8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5C24E2-DFC9-41F3-B5E8-19E3A1CBD87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801EA29-7EC2-4D2C-8E22-B0F2C6AB5E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34AF661-715B-4E51-A91B-78ACF0614A3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7175B7F-19B8-4A65-AD0F-BD9C26C9B0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8FD0-C701-44D9-9EB9-C43047981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0FBC0D-3346-4A24-A3DE-8708352CEBA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5C14FC-878F-4E31-8234-37FD901288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D74631-44C8-4F64-83DC-EB01991EED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E482A0-938D-4E3E-BC21-B49EA51000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8A6419C-4721-419E-960F-B534EA3173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4D8C8B-2762-4132-9F11-A8871C72C70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452B7D2-9903-4BA2-9F58-E09E4F683DF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85DF9AD-8C02-4D37-8C81-B655DF2C875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9FDD1F-274A-4ED9-B696-9E0BAFF3F0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D0B4FF2-E7BD-4134-B47D-D1D5852654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5214F-C661-474F-8B1E-2BCCDF4A6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561ADC-0EF4-4382-8E57-C20C257444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4684F61-A78D-4E65-A486-1D3ABC91F5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9FE841-FED3-4B77-9030-02DB13511E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8296340-CA19-4BC3-AA35-76CCFAE7EF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9A7B1D-90BE-4892-B58F-C54A547F8B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E33183-A43A-4A06-A550-57FC03754D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BC75F5A-13D4-4975-A93F-EDFCD43ACF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B6179C9-D880-4AF4-8EC5-537427D4B59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4836DB9-0F23-4372-949B-13F91832170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B2E1A2E-96DD-40A6-B11E-ADAACC7D6C7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224DE-88CB-41D9-9A96-DC694C939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D70510-D967-4254-94A7-5A681104CAE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B34125-FC07-4994-9ED7-B6345B0BF8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7B35A3A-B197-4DFD-9DE8-8E8EB3E5F0E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A9CA133-1179-44D3-BDBD-3D81CAF1501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D53E10-ADE8-4CBC-933D-847B60FE628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FE544E-8584-44EC-A86E-88200A13EF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2E33EEC-F4C6-45B7-95D1-B342C08F29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B37ABD-6E43-4FD5-A606-3D1F84CC03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17AA70B-EB86-4042-8A51-CAAFF5EFA8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86BA2E5-EFE0-4BAC-8A49-5E6F3DB8688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F4D54-F276-41F2-B731-694D7E827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B2EDA83-5536-4404-8E12-D5D9474B8ED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CC76290-7FD2-462B-92CB-48D6C6C0362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6AED5B2-F8D3-4A70-B67A-C540F8387B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433C8BA-008B-4CC6-B37A-8558EF055B3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0F8E854-033B-437E-9A50-C9067DB5AEF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E62B160-ED70-428A-9E04-8CC8943A03C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B7176F4-F601-4D10-BB8A-134918A7453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E41E617-FBF0-47B1-BC4C-43480CF455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A315BD-72C7-42AB-B1FC-BBF4590743A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0FE218-E03E-488F-9F74-8095EF79EA4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13F366-0346-4D2C-9ECB-25B387B4C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709C03D-7F3B-4C0C-9A91-3D65C923693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B805D37-3D4F-4B35-B15A-CB388DFDDD3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7AD8772-F9E7-479F-8625-BF084E07209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F43E5-84C2-48FD-8901-A28AD02DB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5E2BD3-2234-4A10-BBAA-2F05AF334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0BE5A-E9FD-4BDC-8D6C-0D839A808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6812B-3949-4F2A-A6B4-7D96E2118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53B0-3893-4069-8A3E-A10F6832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96CBE-5FA7-43B9-9BD2-8D5052595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49D73-F49C-46D5-8420-2F3ACB951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986B0-6EA5-43C9-89CA-CE1F0B4DE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C913D-2BA6-4A3D-A6FB-EDB17DF4F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50896-DC6A-4C37-AF84-4139660D6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9CD7D-A90B-4006-B935-FFBD82905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CEAF4D-243E-40D2-8ACB-D7CC749028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057F9-289F-4ACA-A88A-E10C7BB2F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0B7FE-EFC5-457F-B886-A0B3F1271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3ABD8-05EB-4CC1-B541-FFA1BB772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E6CB6-E7DB-4A53-A3F8-4CA7D8F1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662AA-A767-47E2-9654-EBD443972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4A832-4984-450E-8F43-60328C0B8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6D817-621A-4CEC-869C-739FC715B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919E1-AFE5-4246-8BB7-E842CDFB5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0C0FC-BECC-4D37-9953-549CD3FDE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5CA2B-9753-4D6A-B565-C1824755B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09A79-142C-4653-8157-F8764CC8B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E01F32-F51E-4653-9E4B-77287F125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7D6639-7587-436D-9CBB-CF59DF111C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D935DA-BF9D-4AFB-9D65-36A8168A6C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C778D-B0D3-432A-A183-C3083E01C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6CCCE-9E8B-47CE-8A75-3178C0DB2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7A17FF-6EB3-420B-8713-5AD33917A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7A27B-C165-4B01-81DA-48C22BB01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88882-F608-43D8-9B24-7528930E4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EA3C9-F30E-4623-8E27-7296393B5D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F7C37-A4F6-4BCF-9EB7-E0B59AD0D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C45F8-989F-4EBD-8F6E-E2B28AC2D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F137D-B239-42FB-A43A-CEFB47107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4B5889-117C-4BE9-8399-A6CAD011DE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BACB41-33BF-4FC1-89AA-67141CD26B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B754-56A7-44C5-B773-5759D5804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7555F4-86CC-4DBF-A686-87E564A5DA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D26FD2-66FC-4218-A590-76AC2DB9D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54195-C891-4719-B414-4FA98D802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E51052-F107-4379-BF46-6672A0ADE3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89D939-0482-427C-9B61-0DF56886F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E19C7-B4A5-4CE5-A162-85BFA8BC5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EFA4E-621A-4C07-A6A9-A3A2F8EB2F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A450DC-8EBC-42C2-A4FF-8A4736F62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BA1A4-86D3-40E7-AC3B-13090E425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661F9-B84D-4415-A408-8E5F7FB0A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4CF0-43E7-43D3-AE86-9BA20520D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7B7A9-6CB3-4644-8375-2CE2ED0BF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281A25-C71C-4F61-8D83-BE32109AF9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7B0EFC-3CB2-49D9-8562-1827024B8E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FE47EF-82B0-4EB3-9AD0-0C80C24B48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24993-CA3C-4F6D-8BB9-BA2049D71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8F5A4-F3D3-4E63-A144-3CF97B85F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3B233-B62D-4CB4-80F9-5AFD39357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F6FB00-39A4-4E5A-8BCD-061CCD4B8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EC808C-6A0F-4FB9-84F0-45267880F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79C269-B495-42D4-9217-036CA2079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7C12-07B2-49D6-87AA-8F072811A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48344-EACC-4081-BEEA-FCCC1FCF1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60CFA-E6A4-4DB2-990B-9471C8E8B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3B965-8240-4753-8BEF-5686CF2F2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A5BFC-5B5A-4E7B-B1CF-4E21DCF0EC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2F51ED-947B-416F-BAB1-22F640C9C4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085F83-A544-4571-9BEF-0D08E74F22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6EBF6-A61F-46F7-B8A4-E86AEAF8DE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663E30-FAC1-4834-9C15-790CDCB19A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7A42A-73B2-48CF-ADE0-F8A61F95A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B26C8-688B-4832-87DE-F799D423C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81270-EDDE-49F2-A2C5-C8066CBC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07AEE-4CC2-4F27-A252-3558E3330C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FD374-C7F8-45D1-9E33-F5EC08FFE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E1474-A719-4672-A0CF-9209E5099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EA887-86AA-43E5-9AFF-150451435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CCC184-8AFC-4DBD-BADE-8A84E8164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B04B6E-77B1-48AE-8D70-4BB650DB77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DB890F-44CE-42FF-8797-36BC9921CA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BE5EE0-4F76-4A82-B892-30DCE1FD8B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7EAE92-33D0-4825-88A1-874A0BA3EF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51090B-5DB9-41DB-B55E-C24DE7656F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F8EC-A3A2-4602-87D2-38A5CECB0C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CE26-0179-4FAD-9274-0C6BA6A95A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7008-9C08-4BDE-B528-C3E64F3B96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946D-91D9-4A91-8B83-F399E86BC4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845F-071A-47A0-BDF8-DB3839117EB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F531-DD33-4FC6-9484-3B6102FB80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F34E-BD93-44B4-BB92-6800005A60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3568-7EF1-4358-B424-773A343896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62F5-6F13-42B0-B25F-270C4EC970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5A1D-BBE4-4EEA-9222-8F58155B2A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9C5C-28C9-49A3-A56C-9D3DFA0F9A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87A4-53E2-47C0-B3AA-F2DE013ECC2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5657-5A95-42FD-AA05-23E94611F02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87E4-8B12-4E59-AB07-5D48CEC719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A73D-94D0-4819-8A3A-7FAE9114BD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42A0-90AF-4036-93FC-3D025CCD34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EB9A-063A-4649-BEC6-196301E97B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F5E4-FA1F-466F-83BC-90E82B8A71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7D9F-3709-4B7D-A6FD-7C704C9C84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E01A-1F43-4405-927A-B905A434E31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F772-86A5-42C8-8468-059758F378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3A5F-4F42-465D-9C61-4F55D81753A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4B79-6057-4363-BB06-A7925E39F7E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1EDF-DBC0-4770-955B-1A073741973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29B4-F5F2-47A3-A093-9F5C6DF5752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0560-289E-4C1A-B15B-5F9483E9C93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CA26-27E9-4788-8881-ADEA6709D85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3A41-34E1-4E78-9480-14585A16FCC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7036-17E6-473B-903C-D583B815CEB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3E75-96AF-4C37-9813-9B50C876E1D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1 </a:t>
            </a:r>
            <a:r>
              <a:rPr b="0" lang="en-US" sz="2800" spc="-1" strike="noStrike">
                <a:solidFill>
                  <a:srgbClr val="000000"/>
                </a:solidFill>
                <a:latin typeface="Arial"/>
              </a:rPr>
              <a:t>Define the terms </a:t>
            </a:r>
            <a:r>
              <a:rPr b="0" i="1" lang="en-US" sz="2800" spc="-1" strike="noStrike">
                <a:solidFill>
                  <a:srgbClr val="000000"/>
                </a:solidFill>
                <a:latin typeface="Arial"/>
              </a:rPr>
              <a:t>supply chain </a:t>
            </a:r>
            <a:r>
              <a:rPr b="0" lang="en-US" sz="2800" spc="-1" strike="noStrike">
                <a:solidFill>
                  <a:srgbClr val="000000"/>
                </a:solidFill>
                <a:latin typeface="Arial"/>
              </a:rPr>
              <a:t>and</a:t>
            </a:r>
            <a:r>
              <a:rPr b="0" i="1" lang="en-US" sz="2800" spc="-1" strike="noStrike">
                <a:solidFill>
                  <a:srgbClr val="000000"/>
                </a:solidFill>
                <a:latin typeface="Arial"/>
              </a:rPr>
              <a:t> supply chain management, </a:t>
            </a:r>
            <a:r>
              <a:rPr b="0" lang="en-US" sz="2800" spc="-1" strike="noStrike">
                <a:solidFill>
                  <a:srgbClr val="000000"/>
                </a:solidFill>
                <a:latin typeface="Arial"/>
              </a:rPr>
              <a:t>and discuss the benefits of supply chain management </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2 </a:t>
            </a:r>
            <a:r>
              <a:rPr b="0" lang="en-US" sz="2800" spc="-1" strike="noStrike">
                <a:solidFill>
                  <a:srgbClr val="000000"/>
                </a:solidFill>
                <a:latin typeface="Arial"/>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3 </a:t>
            </a:r>
            <a:r>
              <a:rPr b="0" lang="en-US" sz="2800" spc="-1" strike="noStrike">
                <a:solidFill>
                  <a:srgbClr val="000000"/>
                </a:solidFill>
                <a:latin typeface="Arial"/>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47AF-04AF-417F-9201-A16B431B77D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1773-AECB-4D92-AD47-F542B1C0DFD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42DE-EEEB-4A7C-827A-C4871EEDB79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9A02-1482-4844-9B9D-5B95C6B30AA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683A-73A0-44A1-91F7-93DD2C530C9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7E13-80BD-4FCF-8E07-A283B2061DD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FB85-5931-459F-A5CF-B2E178FB863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3B1E-3DA4-4E8D-A83B-CC4ED721E2B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615D-910D-434E-AABE-9356C7B48B1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channel alliances</a:t>
              </a:r>
              <a:r>
                <a:rPr b="1" lang="en-US" sz="2400" spc="-1" strike="noStrike">
                  <a:solidFill>
                    <a:srgbClr val="000000"/>
                  </a:solidFill>
                  <a:latin typeface="Eras Bold ITC"/>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1569-C69D-4816-9C56-C37E016B634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4 </a:t>
            </a:r>
            <a:r>
              <a:rPr b="0" lang="en-US" sz="2800" spc="-1" strike="noStrike">
                <a:solidFill>
                  <a:srgbClr val="000000"/>
                </a:solidFill>
                <a:latin typeface="Arial"/>
              </a:rPr>
              <a:t>Understand the importance of sustainable supply chain management to modern business oper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5 </a:t>
            </a:r>
            <a:r>
              <a:rPr b="0" lang="en-US" sz="2800" spc="-1" strike="noStrike">
                <a:solidFill>
                  <a:srgbClr val="000000"/>
                </a:solidFill>
                <a:latin typeface="Arial"/>
              </a:rPr>
              <a:t>Discuss how new technology and emerging trends are impacting the process of supply chain management</a:t>
            </a: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6</a:t>
            </a:r>
            <a:r>
              <a:rPr b="0" lang="en-US" sz="2800" spc="-1" strike="noStrike">
                <a:solidFill>
                  <a:srgbClr val="9fb828"/>
                </a:solidFill>
                <a:latin typeface="Eras Bold ITC"/>
              </a:rPr>
              <a:t> </a:t>
            </a:r>
            <a:r>
              <a:rPr b="0" lang="en-US" sz="2800" spc="-1" strike="noStrike">
                <a:solidFill>
                  <a:srgbClr val="000000"/>
                </a:solidFill>
                <a:latin typeface="Arial"/>
              </a:rPr>
              <a:t>Explain what marketing channels and channel intermediaries are and describe their functions and activitie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B282-3CCF-4DB2-8E72-3BF25C1DE33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946B-D485-404E-BC1E-76BDA143712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A8B6-2488-4C50-A3B7-E1636A97BB7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781E-884D-4CE2-A8D6-2947714D1C4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2637-7D61-4F92-90D2-B6B943BE0D0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C6D9-3868-48A1-BCA5-C2E0CCDE460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06CE-039F-4E75-987E-AE1928F4C7F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7 </a:t>
            </a:r>
            <a:r>
              <a:rPr b="0" lang="en-US" sz="2800" spc="-1" strike="noStrike">
                <a:solidFill>
                  <a:srgbClr val="000000"/>
                </a:solidFill>
                <a:latin typeface="Arial"/>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8 </a:t>
            </a:r>
            <a:r>
              <a:rPr b="0" lang="en-US" sz="2800" spc="-1" strike="noStrike">
                <a:solidFill>
                  <a:srgbClr val="000000"/>
                </a:solidFill>
                <a:latin typeface="Arial"/>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47A1-D5B9-4391-B1C1-3A2D50E2880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F92B-007D-425E-ABB3-8827A586F35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CA58-69E0-4833-B76E-4AB9B213B7E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06D6-7F1E-49A0-BF4D-9F6F875410D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25T19:38:51Z</dcterms:modified>
  <cp:revision>613</cp:revision>
  <dc:subject>An Overview of Marketing</dc:subject>
  <dc:title>Chapter 1</dc:title>
</cp:coreProperties>
</file>