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88CD-B59D-4B0E-90C6-00EAD67B8D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E5FD-B6E4-4E16-811C-A85D97474A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9AE2-BDA1-4A40-B31F-ABF2FF826E2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9CC0-EB0C-4A61-99D8-E186E242AD3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FF45-908B-41F1-856E-AAD9D3CD77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9EAF-36F3-41A6-85BA-206E046B32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85B5-84D2-419C-9C86-27DF95B040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F792-1904-4E51-A62D-DDE4240537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0FD9-1B7E-49AF-8F2E-9063CB03DB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4B7E-FF40-4620-88B8-6D9C20E322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957A-75BF-4B1E-9108-2D703AB2D10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07AF-D67C-4A6D-8DF9-E277C11A735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EDD7-F015-4C4D-8283-BBD4A756CD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BE8C-C39E-42B5-8768-5CD704BEF19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0E59-E72E-4B47-B5D7-D89BFCAB4D6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4E0B-A9DB-4346-9D3A-61CFE586C2D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1BEE-E49A-41F4-8072-871659772F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ECB7-C6C6-4DC2-8C9F-A95CE6CDF9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5C98-BB9D-4EBC-985E-30778E38A2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FF7C-8B73-4721-A4EA-1E5D319F4A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9048-D6F4-4573-A06D-1F995CDEAE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67E0-6CE3-49D5-85FB-2771156EDF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DBE7-2C8B-49D7-AF78-FC883EA2AB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AA2B-9DDD-427F-83D4-607683055D1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4A41-59BB-4E23-88C0-C62848A11AC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197B-DAAC-4C87-A279-3CAC6D5FD4D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6A6C-B3E8-4389-BA4D-4A091115168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27DC7-6C7F-4AC3-AE40-8082FA8F039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5F9A-94B0-4FE4-B5B2-9353120E39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B9A9-5CEE-485A-9E65-5C92AF014E0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842C-9EC1-44FE-B53A-F69D696A9D4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997D-85D3-4D54-A698-2B9A44CE26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240FC-AE78-49DC-836E-A917E2FE13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B080-141A-4988-8246-F34F6F62E88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4280-E6FC-427A-816D-7BF2485D57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5D01-7798-4C02-81E1-FEBC09DC3BB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AD30-2FEE-45C6-AA8B-3B424C1A35B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DBA9-BF6F-4AD1-B36B-494A15F715E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F5E1-8C99-4CE6-96EB-8FE2D8CFD8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E245-6A2F-42C2-B8E7-44A104ACEB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1BBB-068D-4C3F-A75A-77C7D87C75C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3E00-9E77-4F31-9967-1E9BDA806E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91D0-A290-49F1-A771-308D67A48E3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49F0-2175-4713-8366-774018BE83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34C3-3296-4FAF-990E-A49699AA0EC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8A9B-8633-4865-919D-84D5DD2518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AAFB-78F2-4F30-9B8B-05180368097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C85D-F3A5-4295-92E3-D160D738997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1AE5-44D7-4C9A-BAEA-BD65A6C202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29905-8F7B-4E2A-AFE5-AB6B74045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21F61-EC16-4D40-A4C7-3C20F25D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F3DBC-2CA5-4A0E-98CB-730C052954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F47659-86A0-435F-BB0D-5F2E1AEFF4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2F1CC-7745-4DB8-B570-5E7457BB16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91ECAC-D17A-4F2B-8F08-72E95D7079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1DBDC-512F-470E-B38B-CD50FF4DD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847C31-7F12-474D-8CED-F7B2D3C42D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1B469-CBFC-4F9E-A345-F5386B1BAE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88D005-0F09-4104-8918-D3BCC91BDB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C7CE39-48D8-49C2-B89F-21629E7B4F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6FC5C8-465C-41FE-9648-5EA05753A3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86190-8ED3-4929-8DE5-1FCFA35B1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7E378D-73D1-4DDA-80BF-70F55271A1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9042ED-D414-461D-845F-1F88A8092C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8DEFBA-2AE2-4824-8E14-A599BC588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6F2FE7-D862-43A0-8CB5-F0E607FD59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228590-210A-42FD-A0D3-65B18FE79F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355BFA-7E05-4BB8-AE12-24B505361E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F2D2F3-D1D6-4DBA-8F61-CCC9439DCA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7132AF-860F-47F0-9BF0-40F30D1A6F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E59F6D-0080-46F7-9638-8E59D4A877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8DD995-5C30-4D82-80FD-06E2FF1ACE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47A92-023F-45EE-A2F8-BFDC0171A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8FC719-388F-4D04-BBB3-7CABF3BA8F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56BDF7-3F26-45DF-B6D5-1D981D28AA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659396-8C52-45DE-8A16-7FA9658FAB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3C0EA5-6D03-4679-8AC9-E1C4422CFB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C9D6AA-D333-4C45-AED3-BF3E7B3AED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4F2D29-FF8E-4FE6-B561-E82F195CDD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E2778F-08DD-4B00-96F1-58683F94DD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8770FB-ACAC-442A-87D6-465FC2FF6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713BF9-345F-4B80-B404-2E55A474F5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7D0F0-B4BC-4311-9E23-BC05870F39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01E2C-ABD7-4A07-ACC4-1A16E32F8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30FBF2-9A47-40A9-94A4-B00DD09E37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C68000-6CA3-44B4-A007-98797BBBD9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4DC799-2C7F-4987-A18A-A484BE83EC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4D3C57-489C-4062-8035-C0A5A09022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CA2A6F-5EF9-4655-B2EF-970BF6E17C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DEF973-F481-4AF5-B5E2-649BC27F1A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53614F-9E67-49DC-9E9A-BD2747EC65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E4AC3AD-9DEB-4E37-8B15-805CA01297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AFCF25-1576-4F4F-8D23-DFD5173E99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A17AC6-9E79-444A-9211-A8500E7A90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4812E-30AA-4D90-89AB-7A8325C2D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3A1762-43E9-4FE7-8DAC-6A9BFB34BA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77AB05-A528-43EC-93BE-838A36B026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3AA3C2-53F3-4DB4-89EC-2578697D2F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3CCB73-4540-4859-859A-F145ADBDE9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C12088C-264B-42C9-963D-5BDE44CE29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ABEDCCC-17C5-400E-878A-813C1E7834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C16BA13-3CAB-4443-B19E-B50D82E84C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7AB1E7-1F48-4A7F-AB60-DF224F2130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7C3360-55DE-44BC-9B83-A1007ED1A0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1F4DD8-E99B-4749-BBA2-03A96805DE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9432B-0F5C-42BD-A679-4B6EB3CF5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63F423-368D-4CCE-B74F-D1343C7539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C4E9A4-424B-4289-8728-BB6A9F9C2F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E4766A-4A86-40BD-A9FE-AFFA353951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3C4773-9919-419D-8061-370F9384BE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B777B8-B525-4092-AAB6-BF62C6A3F9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A262E2D-B8DF-4082-9420-1442B661913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5C4EAC3-9CD9-43D8-B8FE-E2240B05CC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3D2ACE2-9939-454E-84E5-6236825EE5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136DF2-3E96-4DB9-AB52-AF2B290B17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EBCA90-566E-4B55-A9D8-6E0C9A15DB6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F340D-B178-4C00-AC50-E6C8FC25A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B20E020-C70C-4BE7-AC07-32D313A7687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6793260-1763-4FA4-8914-F0B92D7111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896888-3FFC-4A48-B052-FF9478FAC9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5F6551-877A-4982-932E-DF18ED297D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23B47D-4CEB-42CF-9F91-241823E688D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1806F1-ED55-4CA1-B258-205E2C0F24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424450-5AAF-413E-B936-699BE89235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0533B9-3B70-49F7-8F3D-33EAFFC12B6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F7A6C7-9CA0-4E05-BDF0-DBEB1AF50D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3249F6F-6FD4-4B0C-B066-EAFC3F56BBC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9A794-830B-415B-AF79-66F8678C5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4630A7-9B9F-411D-BEDE-331DC7FA5B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0BB5D4-8F8E-42D4-8117-5E704F123B4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9B3098-E442-4941-9FDC-4C7846ADB4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8EDC39-355B-480A-9A0F-C691390DDEE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AF85170-EF54-4754-B6AF-9A6B524C32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03165EC-6B16-4C40-ADDC-FE31FAE5C0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C3B88C-9D91-4249-92A0-34BE938B30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1F48EA-7BBD-47F1-B3F3-BF8DB9EB3B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101E5F8-7989-4C01-ABA5-7F84913EAA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A8DC373-A6EB-45EA-B6C2-D31C14135BF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0842A-2F54-4827-9A64-4FDA53C47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B485D2D-A2BB-48EE-B6C0-B33E920402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C93184B-4977-40CF-92BD-2BBCF6F7C96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5ACE01-268B-4BF4-A056-8321C493E9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FC239E-BB44-4BFD-BC41-0DC7B47A0F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635CB3-5EA2-4665-A576-8E2B6D54271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D7AE2A-341D-4B8E-97FA-D1669E825B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1A6FE5-8403-47CB-8B3A-ACAA634EA10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331C04-941A-4B63-9397-965AEA0BA33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9C47DA-9D15-47E8-87BB-DB810717E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254C25-4964-4299-9CCC-4A8EE86AE8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3B93-A682-450E-990C-254E06E53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4786593-F61D-4894-B57D-209D8DE818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ECEEDA-6E1E-446B-B53E-B7E63CF437D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95EBC50-1A37-432F-AA2F-6C98A8559C6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2ECFD2A-D29F-4379-85B8-D6BEB99D0EF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CEAD4E-E3FC-4FA8-8F71-A4F2F0B298B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3295322-CEDF-4AD0-9CB5-3C325F8308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7281D2-8747-4027-A312-1FFC6D7EB3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A01EA64-3041-4023-9A92-DE062C2D03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0946B5-84D6-452B-BDC4-65D6DD2FCE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8D0D862-72C7-49CA-BE0B-1524419E134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5242-725A-44CE-BC84-92840C428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B869-7618-4E6F-9221-D9276CAA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006AE9-9E58-43A9-AADA-798DB79E4C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A88A65-7A89-4CC6-A86B-27FF541A975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5EFFDD-A2DA-48FE-91F0-DEC513898A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7E2E9F5-D5D0-4D98-B468-06BBEB5008E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1EF44EC-27F2-4FC2-94A1-4414F89E6E2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6D9BE79-3CF2-4C59-8541-DC6198381E9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61BE82-ACC2-40FB-9354-BB8F358138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2D5591E-CFAE-4122-88F3-B9C4EFE797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84C5F61-5A23-4FA0-BA6D-B04EB15AFE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5399027-F1D8-4121-9082-BB5F8F1CB6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82EE5-A5AC-47C4-B15F-2EB52E274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3EE40A1-06F3-4B9B-87D6-A047EA7D994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D4C363E-4B68-49FC-A4BA-6C1745FF05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754BC74-1EDC-41B9-8216-996104AE6BD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9D205C-BCC8-4EF7-B150-F115C3C6D0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DE69488-58A4-4FE6-8D6E-C4AE3EAC81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EE7E7B6-2A36-4593-BE29-B875F57D596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2D8086-57C7-46CB-985C-E96C35A3030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228836A-DFB5-477F-BB07-CB972641286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AF017D-EA3C-474E-967D-1F408DE40E1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5E6E7C-C5AA-47DC-B726-AECF6A374AE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5ED40-39D5-46DB-B3E5-1E745CD38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8D5AA4-2FDB-4835-A80A-7678B319DE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563C432-0726-471E-9EF6-86CF7DD3E47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79C47AD-76B8-4D01-A662-FF229BC9BE1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C88BE80-3EAF-4B70-BBAD-C3D3322C73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D8946B-A324-4BE9-9991-0968AEEB3B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E47B0FA-A728-49FD-B403-E327AE040A8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175648E-A082-4D66-9ED1-A864B1213FE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98459D5-804F-4C3A-975A-3AACF54E563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4FC44D3-0C96-4F27-AF87-9E59B44D15B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85067EB-1911-4D90-8300-00C885252BC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C3281-BB98-4F3A-B32A-4D09EB2837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446578B-C158-4914-8E57-9656ACC7C53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4474C32-B3A6-453D-8AF8-31A6C8E9610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7EDD70-9F46-4C5E-9E04-523ABCFFC2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601F2A-4DAC-48FA-806F-A2776F2FC72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6EF03B-01C9-4455-9DA9-6E85E5BC8AA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743AAF-AD61-4D84-B9B0-AC682FCCA9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B3E1C7-E4D1-42B9-8546-B59776FCF1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9ED3B91-A904-467C-A882-E80F3FB9240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ADBA499-BF38-4087-85C6-36167A9E83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B3C1C1E-7C60-480F-970B-AD2DE92BDDD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D2841-B042-436E-AD97-76003BD40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84511AC-ADB9-4337-8767-FD601B8004D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0F1D3CF-58D7-413F-99AC-8814C60F486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27E2CCD-78F7-47B4-B87A-C39961662EC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2975BEF-6DE1-42F6-A780-BCC8C82C0F9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2997CBF-4EE0-4605-97B5-8E15D27610B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A2ECB6D-7ED5-46D6-9C4D-2C7CDEDD0F5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AF82F81-1716-41A0-BA36-2A1B3074BF1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4139BA-F02F-422A-B58D-EB65C9376A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1980674-BCE0-4EAD-B47B-B4C222158D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D643A1-DE1F-41C0-969E-13A2738674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6174F5-D825-46DF-837F-973A874962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BD96705-830C-4B7D-8B65-C780045731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6C55691-D414-477C-AEAC-24B07DF5BA8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4CCF0EC-FCDC-4296-8A54-F2BCBDF12B8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1D5B05-A702-4DEA-9BA4-E9DABA1D7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B668B-51A5-472D-A13F-A8D517469A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455A0-FF28-4307-80A9-91F85CACB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053D71-5DA0-457D-B749-D4E5DF5C2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92DFE-8011-4179-84D5-4D669A103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01DC8D-98A6-4346-BA81-6E56A9C2F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60C80-D62B-4403-9C17-8D5D4DA1C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B6AEA-D474-4170-906E-D62ACCF9BF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4A03B-35C6-4C6F-A65E-EF8F2CF29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7F1EB-D483-4822-89E2-166CE0CE84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9D265-1682-4E1F-9473-D4E2FFBF9A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175446-6B90-4F2C-9366-6CF6DD881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372E1-DB62-45AC-8138-76FBCCC033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03C829-E93D-4679-9AE2-95894DD5D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2D01B-5303-48B5-9555-65BA993FA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36E78-6D3E-448F-8764-8AAB72B73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1918E-FCC3-4319-8D48-3A02E09E0B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52C0B-2FBB-4DBD-A973-61FCF85471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CBCC3-0B2E-420F-92E3-763AB2FC9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878BE-C9DE-4A2A-9EFE-753A5C870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87457-9E1A-4C20-8E6B-5D4666C81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8C7150-BE8E-43D7-B329-1ACF72239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E96D9-A14F-4E22-8CC9-17C02AAEC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516AC6-709D-4B91-AD46-803EC27BF1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1116D-1BE2-4966-9A71-2EF1B0AFD1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88F917-CEB9-405B-8B0B-4132158AC5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BC87-83E9-43CA-9224-835ED2FD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8784E6-3A2C-4468-9993-CEBE190071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996EF8-2D3D-45ED-930C-979EA76783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9C951-EE34-47D8-B141-6307B7046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D9ED8A-C58B-4352-832C-9C83DD27E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CD2C5-3671-42EC-AEB6-7907501DF4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C7A05-43DA-42FB-9711-6588FA28A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A7161-238D-413F-BFF3-16902B41F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A5CBF-E385-4D0A-B06C-73C7BDB71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98A5DD-7210-49D3-9812-EB850AC5AE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FE9553-8F96-43E0-A0EB-42657C272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CD081-4BA6-48D2-B4E4-ACBA9C83C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07C5F8-A60E-49E3-A038-419A34410C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C07E36-8122-4DC5-8CFA-1F9F29B97F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8EC44-C8CD-4244-BA9F-2146D79D3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28B420-3FE5-4118-8021-547F7F79C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A56A95-556A-48AD-B3D4-7B7685B97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1B342D-DB11-4D90-9CFB-46188803E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5608F-1EB3-49DD-95C1-77A230A24F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1F8989-4284-4135-90A1-0A89D07A9E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E0444-5993-4DA5-816C-D738960747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D43B8-68BD-4C5D-A961-FBA03A9C3F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E71E-B037-4101-8A57-1FB98E4A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86445E-E7AA-47BF-A21A-C240FD930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FBE07D-9231-45DB-B895-49E904E9B6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B5063F-BF61-4298-8493-FAFA7D5C16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64C668-8F3A-4B6A-A19D-D00BA7157B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AAE8CB-EF79-4F3D-BDEF-F1FF2C9C7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23576-2A06-47F1-8558-98A59CC7C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350A4-C40D-4085-85DA-490CF02092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BC079-064A-42FB-BAEB-55071239F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7FE34-697B-4904-A905-3895B0DF5A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BCF636-E4E8-4F9A-8E34-9BCD664BF1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B1EF-8347-4C7C-ACCC-CB4E0FFE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2D94B-8D5B-4D45-AD50-FD9127ED1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8716A-0637-4377-83C2-2D4B3D804E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BE7A1-2825-4A0D-9CC4-8C3C0C5146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64BC83-D231-4038-A006-CAF9AAC410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8D84DC-A55A-4C0E-BFCF-8DFBA80423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5FAC88-42E5-4BC4-81C1-A4DA48BB93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4E4553-0478-4CF6-8C4A-544EB1667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EF8164-81D9-4079-AF40-088DE84130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84D09-5342-4BEE-888B-E85D1EFBC7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848D89-2F50-4862-A5A1-C2F981A8B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9FD4-5C6D-4988-B5D9-6A0495BA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246E8-7282-406A-A61C-E265DDABF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B6E55-1AB9-41FE-9A62-6308067E8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E895EB-72F9-4533-B77F-5C7F4B0249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C1E3D2-3FCC-4693-A45D-CB9B9CF02B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6CD89-DE92-4ED8-B634-45BBFD73D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33667C-AB10-4EB8-A1B1-5363F4E889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9A60F9-A550-4C30-890C-57E8037461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F99B3D-13DD-4D4E-ACC3-54CF5D1C9D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B7879C-73D4-4C1F-B73C-30CC078CC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859E91-4937-46AE-AD8A-38FD7883198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6B22E-CE0B-417D-9293-D31C7559C2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F23A-BBE0-4D60-9996-870C2E11781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1B0E-E3BB-4D7D-9A6F-0011C98D59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0D75-D035-4C85-BB18-2158CB43E8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A304-7DB6-4AD0-80F0-14406CDF5F8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A9DC-01C0-44D5-B735-CFE294CCC8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C920-FE4E-4831-A1E9-FE74DAEA85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C41B-8127-4DBD-9003-2D8CFB6A6D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56EC-E645-4D9F-88D9-5D3D184CCF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45CE-2CDC-4DE2-A272-8C6ADC126D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0123-D2AC-4641-959C-2B6621BA06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22CF-1136-4E6D-B688-DBC837AA7C4C}"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1CF2-9869-4FDD-8FE5-84EC5456C52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08C1-194C-4E2D-856E-6D22C991E0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763C-98C8-440A-B802-A91591652E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39E4-1099-4A82-BB3C-BE6946145B3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4A20-3867-4A8B-8294-44F4D71CD85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5C6F-63BA-44E7-A518-2AA5C71B57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3449-6D00-45D8-A873-E9DF23CE9A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8154-7024-43B9-9AA3-0907419FDA2D}"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7F82-3240-48C6-B393-F2061D68C9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b, Hair, and McDaniel</a:t>
            </a:r>
            <a:r>
              <a:rPr b="1" lang="en-US" sz="2800" spc="-1" strike="noStrike">
                <a:solidFill>
                  <a:srgbClr val="000000"/>
                </a:solidFill>
                <a:latin typeface="Informal Roman"/>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B0A7-451C-47AD-95EA-A68E4C9D4B0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C719-87DC-4D17-A1B6-15014E12ADA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6AF8-6B27-4A04-8DF8-4872BBB488B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32E3-E463-4EF7-B1CF-AD7A9300C6B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AD4A3-3564-4ADB-A03E-76EE9C7AD62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A2EC-75D7-4298-B982-F708EEF9EFEC}"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8638-E53B-4111-B692-445FEA3E06E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FF1B-43A0-43CD-9BB7-9F5916128E1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4D37-33B0-48DA-A63F-5A42186B2C4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1 </a:t>
            </a:r>
            <a:r>
              <a:rPr b="0" lang="en-US" sz="2800" spc="-1" strike="noStrike">
                <a:solidFill>
                  <a:srgbClr val="000000"/>
                </a:solidFill>
                <a:latin typeface="Arial"/>
              </a:rPr>
              <a:t>Define the terms </a:t>
            </a:r>
            <a:r>
              <a:rPr b="0" i="1" lang="en-US" sz="2800" spc="-1" strike="noStrike">
                <a:solidFill>
                  <a:srgbClr val="000000"/>
                </a:solidFill>
                <a:latin typeface="Arial"/>
              </a:rPr>
              <a:t>supply chain </a:t>
            </a:r>
            <a:r>
              <a:rPr b="0" lang="en-US" sz="2800" spc="-1" strike="noStrike">
                <a:solidFill>
                  <a:srgbClr val="000000"/>
                </a:solidFill>
                <a:latin typeface="Arial"/>
              </a:rPr>
              <a:t>and</a:t>
            </a:r>
            <a:r>
              <a:rPr b="0" i="1" lang="en-US" sz="2800" spc="-1" strike="noStrike">
                <a:solidFill>
                  <a:srgbClr val="000000"/>
                </a:solidFill>
                <a:latin typeface="Arial"/>
              </a:rPr>
              <a:t> supply chain management, </a:t>
            </a:r>
            <a:r>
              <a:rPr b="0" lang="en-US" sz="2800" spc="-1" strike="noStrike">
                <a:solidFill>
                  <a:srgbClr val="000000"/>
                </a:solidFill>
                <a:latin typeface="Arial"/>
              </a:rPr>
              <a:t>and discuss the benefits of supply chain management </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2 </a:t>
            </a:r>
            <a:r>
              <a:rPr b="0" lang="en-US" sz="2800" spc="-1" strike="noStrike">
                <a:solidFill>
                  <a:srgbClr val="000000"/>
                </a:solidFill>
                <a:latin typeface="Arial"/>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3 </a:t>
            </a:r>
            <a:r>
              <a:rPr b="0" lang="en-US" sz="2800" spc="-1" strike="noStrike">
                <a:solidFill>
                  <a:srgbClr val="000000"/>
                </a:solidFill>
                <a:latin typeface="Arial"/>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4FD9-1074-4CB3-9EA2-A2F3A65266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8DFA-6B61-4D4C-AD59-E818630DFA18}"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3FE-9957-4395-8A50-69CDE871AA8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15C6-61F8-412E-AF86-CE3DBCC1327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E61F-EE3E-480A-BAB6-37960E5F9ED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9342-BF75-453C-B2FC-C13987708E1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B6D5-4087-4E59-BC7A-FF2035E38B45}"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44C8-F2DF-4818-A58C-14558298558A}"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031D-497A-4A75-BA2F-CD81BC782C6E}"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channel alliances</a:t>
              </a:r>
              <a:r>
                <a:rPr b="1" lang="en-US" sz="2400" spc="-1" strike="noStrike">
                  <a:solidFill>
                    <a:srgbClr val="000000"/>
                  </a:solidFill>
                  <a:latin typeface="Eras Bold ITC"/>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D309-F4D6-4D30-A535-122AC601FB3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4 </a:t>
            </a:r>
            <a:r>
              <a:rPr b="0" lang="en-US" sz="2800" spc="-1" strike="noStrike">
                <a:solidFill>
                  <a:srgbClr val="000000"/>
                </a:solidFill>
                <a:latin typeface="Arial"/>
              </a:rPr>
              <a:t>Understand the importance of sustainable supply chain management to modern business oper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5 </a:t>
            </a:r>
            <a:r>
              <a:rPr b="0" lang="en-US" sz="2800" spc="-1" strike="noStrike">
                <a:solidFill>
                  <a:srgbClr val="000000"/>
                </a:solidFill>
                <a:latin typeface="Arial"/>
              </a:rPr>
              <a:t>Discuss how new technology and emerging trends are impacting the process of supply chain management</a:t>
            </a: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6</a:t>
            </a:r>
            <a:r>
              <a:rPr b="0" lang="en-US" sz="2800" spc="-1" strike="noStrike">
                <a:solidFill>
                  <a:srgbClr val="9fb828"/>
                </a:solidFill>
                <a:latin typeface="Eras Bold ITC"/>
              </a:rPr>
              <a:t> </a:t>
            </a:r>
            <a:r>
              <a:rPr b="0" lang="en-US" sz="2800" spc="-1" strike="noStrike">
                <a:solidFill>
                  <a:srgbClr val="000000"/>
                </a:solidFill>
                <a:latin typeface="Arial"/>
              </a:rPr>
              <a:t>Explain what marketing channels and channel intermediaries are and describe their functions and activitie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0553C-666C-47EB-949D-EFA092767D0D}"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4073-7FAD-4227-815B-EC5A0D33F267}"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6868-4A40-4807-8E5C-648261CFBC11}"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B8C1-BE28-4EBC-99C2-90358ECF8962}"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26C8-5579-4EA1-95D0-EAF23F6BEF6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34D62-FACD-49AD-9E2F-C31C203301D6}"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B320-CC2A-4F21-B2FD-24FA0428844F}"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7 </a:t>
            </a:r>
            <a:r>
              <a:rPr b="0" lang="en-US" sz="2800" spc="-1" strike="noStrike">
                <a:solidFill>
                  <a:srgbClr val="000000"/>
                </a:solidFill>
                <a:latin typeface="Arial"/>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rPr>
              <a:t>13-8 </a:t>
            </a:r>
            <a:r>
              <a:rPr b="0" lang="en-US" sz="2800" spc="-1" strike="noStrike">
                <a:solidFill>
                  <a:srgbClr val="000000"/>
                </a:solidFill>
                <a:latin typeface="Arial"/>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677D-134E-4A69-8BB1-1E0CB70173DB}"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FFD2-EB9E-4EBD-B2FF-AF9838E6E830}"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5E79-418A-4721-88D8-958F408D4ED3}"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4AED-7911-45A3-B3E1-6EDAC2104879}"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25T19:38:51Z</dcterms:modified>
  <cp:revision>613</cp:revision>
  <dc:subject>An Overview of Marketing</dc:subject>
  <dc:title>Chapter 1</dc:title>
</cp:coreProperties>
</file>