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8231-E3C5-43C8-BFE3-C420ABD7B1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5CD7-9748-4F75-B3D5-6856FA1369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2E6D-F277-4063-BDD9-D111BAD765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12FA-9A62-4875-96AC-BA63389BFD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19AB-2783-4EC9-B535-100C5220A9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C06C-0631-48BB-9F85-94450A5A1C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A2B2-D480-4540-9066-41A4D1285AD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54FD-D8B4-400C-9D27-736363099A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4AEF-F350-4261-8A56-41794BA201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C818-4BC5-4171-B65F-80C03CD38E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0AD9-4A83-4153-A529-16830F75FD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EA86-7B53-402A-8DF4-5ADD3FB37D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D9F2-C540-4147-81D5-A35F042682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6301-0D97-4908-ABEC-7ECBB78036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083E-EBF7-42F4-A637-81F54A5374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9137-7CA9-49B9-A248-0DA92C0AB6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B6F9-1873-4A41-8080-355510CE41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FDF4-C963-4C8A-8245-601CEBDB347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A8BB-7A2B-4EE0-B94F-BBC294F72B6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A7BD-5358-421B-A9D7-DAAC2491AF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7AAE-5145-4406-811E-9FC4B0251A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5BD9-68B1-4C98-93B6-51384DE44C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5765-6763-4C57-8528-CB8A1F079A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8F7E-E209-4D59-919E-67CC15B3B1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62C2-45CE-48DC-BEE3-2C259E4679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AAFB-3FAE-4AA8-BE0D-8E3141AE04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92BA-F7B0-4CA5-848E-39EB84AE82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A8EE-0FBE-4905-9E0D-9A8767406D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6A39-9C2E-441A-9BFE-0ECD804CF7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0E81-C327-4DF1-8231-74DC51BEB7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BBAD-FEFE-43DE-9145-036E97C7B0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E22E-FABB-4A08-A3B5-A1D6A5D5B4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46A0-4EBA-4366-B8B8-2A47A3B05A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F90B-EA05-4E9E-9B23-B3ACAF5AB6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60A7-FC3A-4F7B-823F-876A951C74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8CD5-0F6C-4E8F-AD98-7A5A47E2C9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DFE7-7925-4BDA-8872-31B6338753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04A3-BB22-45D9-9FAB-5EF8E87889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507F-6716-4620-8FC7-56B40BF3C4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4299-32DE-4D9F-A4AE-C2D4F8C899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402D-A71E-4858-9099-F47CF5B686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5236-FE94-4101-AA8D-EAC94CF1F5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B467-8619-46BF-B44F-C4FA76CF6B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6138-EBC2-4144-A02E-EA22244EEE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F107-F381-4F81-B16C-A4BA05CC26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177F-59E0-4BA0-AAAE-2D8A79BE4C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F46C-C031-4092-B838-456603D180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9B67-C645-4A74-BC8B-EB60C76DBA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CAF2-86FB-4BB5-9DA1-7A8F4F04FB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ED8C4-4D51-4BC3-9076-940E9FDF0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EA03D-A51E-4B80-AC6C-DEE1E31BF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A61CC3-447F-4BA9-ABB3-AE97F141AB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FAAC39-8FCC-4A2C-9822-A03FCE074D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B1F3F0-C16C-41DB-9EA9-ABEE61F940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DC286-ABF9-40B0-A25F-B23DFFE4E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52E15A-4FFD-4236-8C24-389AA4327C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4C6934-680A-4732-B0B3-5AD67568AC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471C74-5EDB-440C-8111-294A4FD534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15411C-E618-4A8F-82D5-EAC74906FD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9FDDA6-46B3-4C2E-B2A9-F4398B14B8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136D68-7071-4FAB-BB1B-0541B127E1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377AE-CF2C-4724-99A1-062D55BD0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90AE01-0055-4093-926B-ED69E2E406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0091F6-F0C5-4FF9-8EAD-E5987B13F9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60B48A-5C37-4650-93CB-E323C42E17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22AE00-68EB-40F4-A559-0A9C37B508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DFE286-8556-46DF-B4AD-4349D7F456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4F5863-6DBA-45EE-9E94-01CBB2D499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D63534-5B86-4150-92AE-2565F20D0E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339854-1F92-48D1-835B-491F718A6F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71DA9E-B1A8-4653-B7A5-E6547D2C82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B1E0E1-4D27-48A0-A619-AE07E89830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5404B-CC2B-4A7E-8E27-3882BDB50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9B2248-93DE-43C8-92F1-0CB2555007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30E93F-8FC9-456F-8F76-0BA7D9B930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24859F-407B-45A2-BEC3-E9FB80D2D9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333755-96CD-4F7F-9F07-3BD192214E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E34C58-CBD8-43D6-A776-4C47AAD049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2E30D6-D467-4C69-91FC-8F336FAA10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2C1224-30BD-4933-B68C-DA23061291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F43C17-180E-410C-873B-66CCD75F53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2B9AE2-B0F8-404A-9CAF-23D23C87AA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A66E30-9622-4641-A63A-54916A88AC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19BB7-20EC-4717-81FF-0734D80CF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FD5BD1-EDE6-4DBA-BDD9-1B3D3BBB7D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015409-A67D-4F5C-90D4-BFF8E84AF7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4618D2-F779-4A40-9B6B-49DEF46496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573BFC-895E-4ADE-82C2-38839A5940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5E5106-BE64-4DFB-AD43-6B5C21C75D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A534EC-4517-46F3-AEC8-38D6EE30D7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5198C4-5CF1-4F28-85BC-4A823E54BD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35BC79-A0F3-4973-848C-24EDFF0A7D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F34FA7-951C-4513-A251-BBE0250409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443A0D-5EAB-4442-BBD0-D4DCC3E131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45F93-341F-4911-A29C-6C34E04EF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11A835-B376-4619-BB68-095B5A58A7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11E7C4-3C97-4C9B-8B24-5317097DF3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A6DBF8-5D7D-477A-BA9B-A0785890F8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C8C0D25-91F4-46DC-BD87-E90F3042C5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47527D-D422-427E-85B6-9676DC16D6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9EB9699-D82C-4D27-9212-7B9F5F4B51B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FB734E-314D-495A-94B0-A034CEE1ED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3F2E01-CCFB-4715-AD91-1F1F1856F1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EE3611-ABC6-4B46-A4E7-6A28C0278E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6E4F36-B51A-471E-A0BE-FAC66F91B2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CAADA-EF25-41DA-BD2F-A403ABDDE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3A8271-2618-4B3A-ACC7-AF74F5600F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97CBC2-38DF-4565-BE6B-6716664032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6565E4-86CE-48BD-80CA-844E446A71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C464E6-F526-4B39-84B1-03B78CAA9F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1CDBE0-3FB3-4C9F-B6F7-1DE67AE959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CA339A7-5449-481D-AB79-9E85A5B503B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1128FC-5554-4B01-B06B-BA8E744D5D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847AF1-5EEA-4937-A90C-3E14135328C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0A3C5B-6B93-46E7-AECA-A13D158EBD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4A4D28-E166-4392-A856-67C8B471E8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F30C6-0ED6-4F5D-8BED-A10C429B6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654406-64AA-4B28-9D43-8BC109E833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27E6F7-C480-4908-8DC7-21ABEDD5BD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1D886FD-B6A8-49DC-A97D-FF08D9B1D55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BD9DB0-A9E1-4734-8B4E-FA74F1BCFC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5078E3-194C-4E73-ADCD-D9671F70FE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34C702-AB43-4B7A-B23C-59FECAD267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9D226F-61F9-4AA2-AA75-7AE5197E9B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835BE38-5780-4D82-B341-CC37E96CD0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BBD8E6A-3898-45FE-A06A-A3CC04D060F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978CEA1-6F06-4D44-BDCC-83CB61E6974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EB072-3802-4766-86A1-83E353FF9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FE948DA-77B0-49CA-A727-97BFA4ECF9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06A193-AF57-4CD1-B835-F5DA7491FA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5FB8B2E-BA6B-467C-8B4B-DEE3D0483A9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C69215-6267-4106-9C54-9D388A6AF2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BEDD507-5A14-4343-9CF7-F1BCC71E48C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15988E-05C4-4C5F-9F79-FEE065F3C4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E60C61-F3A1-43E5-8D0A-78EF70B0DB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31FC99-FF8D-4821-B3AA-5E30D98A6E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1E94510-6040-491E-9E78-DEB7009247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9F7689F-37FF-4183-A26D-8F3B37D8D52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8C34A-17F1-4DCF-B97B-7E6697776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C810858-52B0-454D-A0EC-97223A03393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D92331-B4E4-4469-A21C-9E3EDED6383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E2655E0-69C2-4BC0-853D-6F807ABC8A5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3B88E32-B2E7-4761-A7DA-2CF57312ACC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5A2E2C9-BC9B-422B-BC6C-A7CCF4D907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4B664C-EB8B-4EDE-B4D2-971840BD1AD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09193FE-6164-4CBA-A505-5AF42ED689D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C2D2F0-3EEB-4E00-812D-4D7A9E8CB0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21A8F9-CDAD-449E-915C-05C220663AF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F46382-63E2-49B9-A1AF-950835B954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A284E-DBEA-4F1E-8AFE-C7BF9760F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1521CBE-5975-49E8-BA07-9006DFA14EF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7D27E65-B54D-4502-8241-A6A6C03595A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B630815-6D70-4483-AAF9-400F6BAF262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F5F22C4-85F2-437F-B2A3-81751D5EDC5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B24A85-8EEE-42C1-B671-3774881368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974952A-1DFE-43A3-A5B8-2DFA7307CC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4681BA1-0EBE-460B-86C6-8165B87B42B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01AD2E-8E8B-4373-B6C8-94D96AE2E7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84EC115-FCCE-4570-9773-0CFE3A22223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82F677-4038-4D34-8325-724A4990ED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62314-4DE8-48C2-BCD5-3F25C8011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A0FE9-84FC-4DC7-B2D7-30473FF1D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77498A1-76DC-4AA3-9302-0C81A0CF31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9F014C-C495-48A3-8ECB-0BD770D674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E26DB20-B72C-4047-9A29-08FB9976564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3FD66EB-9360-4DFF-87FB-B15E83A5DB4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684340F-8E63-443F-AB02-FABD80DEF92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1333AA7-0ED5-4A60-BA72-C57A3078290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AAF3CC-5004-491D-9044-2519D4177D8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33D5CEB-8796-4D21-B7D5-FA79E421DC3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C3AB8A5-8D0A-4171-BC28-B9BE79C99FA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CB823EA-3694-45B4-8210-5D09209C46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5E7A0-C117-4391-9764-852FC6BBD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8005074-593E-4AD5-987B-49C04C75AA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12FEFE-2CCA-4F4F-847E-D0E62FE3CA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331ED65-6DCE-4A37-A801-88DD6511F4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498B75-BB41-480B-BA71-1031EC71F24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AB87D6D-913A-490B-B84A-361F96BF879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FAA6504-4296-417C-B816-8CEE915966A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BBDD013-260A-4998-A3E6-136E4444499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05B87B5-74FD-40CA-9A9C-2189B868253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59FDB18-03AF-4920-9637-96CAD7F95D9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6FAAA8E-A0DB-429D-810B-FF00B859F71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8384A-DCC1-4062-ABB9-93723B5A2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9B085CF-D048-4CEC-8EF0-D02E4A17BE9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C8FF832-E10A-44F0-93E2-646223121B3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6922E7E-439F-4317-BD1A-AB606615F4B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08B83A9-F6F5-4F2F-AE64-859CD638C26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905A945-6FE9-455E-9E6E-47FDD65CE5A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BF8DFA-36D7-46F3-B9C4-95EA7ED965D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B9CCF5E-F806-490A-8221-FBC34A411DA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7DBF55D-C1AC-4DAB-AB6F-E46A0A3537D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7B3A15F-87AA-48B2-8868-DF603C2A9F2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E97442C-B06A-4061-BA97-E6102E56815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1AC97-1A93-4DB2-85E0-DD566B351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960238-A130-4194-A463-25AD0FF989C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5EBBD8-BA91-48CB-820D-47154E1D8C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654AE80-BDA7-4B65-9B2A-44B28F9123C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AF5D0E1-CC5C-4B2C-ADE3-2B5E1BC923A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52D5D6B-BE4F-4F48-94E2-D8EA244CC83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865540-8321-470D-9B2C-0FCCC57EC66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44DD1A1-0FB3-4CD3-9AA2-326EF578513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861D318-6D7A-4684-AE06-C3873EA0FAC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2021FED-E50F-4A64-B197-B23A0B0246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479FFDB-D7A8-42FC-9126-6E44C121036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5E8AE-62B6-4427-8DE5-6E68D96A1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C705748-91E1-4F03-8366-D98977A8270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5ED3CEA-5F83-4DC3-85AE-48817976677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8D9C1F7-62DD-45F0-9BB2-9F17D17D73C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040F52F-5D65-49F1-BBB1-4A496224937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F7D14F4-3289-4A07-9700-A4F8D8B795A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1F64A01-BCA3-4587-B2BB-4B21EA16013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083AFAB-9377-450A-BDD9-FE2B19CC50B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73C0D11-FD9E-4A15-8D18-822E3F595ED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440D6E3-171F-4D6E-B18B-3103AFEDF3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3F4057-7B30-47AB-82B4-DBADF058F03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BED06-E056-482D-9616-F9BA4448CF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449D2FC-D7CD-459D-8AE5-48ED618DFF2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AA5759B-FA11-444F-92B6-6216B38F042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B9CA715-8762-4150-B634-793516F9CC7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D6D74-9176-47EA-A778-367B26808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3189C-5E0E-4695-B084-41D67E15A8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25287-FB63-4F53-8C2F-729396E0C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5BD90-1D2E-409B-9273-391F31A17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3BEA8-D17A-4A7C-B112-9931F7DF4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0BBBA-B050-43B1-BF6C-DA849F422B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4BDBF-5084-405B-BD5A-2EDD21F0D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62765-E5A8-4ADF-89C3-696AF9ECA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8416E-1652-41BE-8563-9E63EC49E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EF5F9-89BE-4906-8F18-6CEBAEB6A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91169C-835B-414C-94E5-B267B13B79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C79D3-1494-4AF0-99D2-44B4144E98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DC1D2C-A923-48DC-B567-231FEEF0C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46715-8409-4814-823D-31956EDBA5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2D7356-352C-4FC6-840A-8878CB36E9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A0E88-F5C3-44A8-BCC6-BE1229935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AF523-C5AB-439A-8530-040C673DCB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8F73A-A62B-46A1-BC20-C1A15A9E9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1B63E5-4A42-4603-A682-025A07B50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399318-ED67-47FE-8F58-9B374F8F4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F9A23-22E3-49F8-AF95-9A9857CD6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128C7-FB51-4972-8D81-F8C0A10A8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BD44A6-F399-4266-B75D-651B3F0858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435E48-0A03-4DA4-8AEA-4A0E581FBA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CC69BE-43D4-4B65-B2EB-9D8D32ECBB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1ECB3B-E5DA-41B2-905D-665D49AD4B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13067-DA27-4562-A279-C3D2A153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0F1380-9FD6-4076-A17B-2E831710E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B42AF4-ECB9-4598-9E1F-6B86D996D3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A9EBE6-B7E0-41B8-9850-325BA34001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B9BDBF-D63A-48E3-B529-BD0954F8D4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B98ED3-2AC5-455B-B5EA-2DA0208299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4FE13-01FF-43CD-B6F6-C54DDFAD3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C25B2-6E4C-4BC4-87E6-B6710AC2A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8C17C-2E65-48D6-80EE-F0D578A70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8EBCFD-B4FD-417B-AA0E-54B3DB8004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6EF748-B98A-47D5-B9EF-4A7E349A2A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10630-70C9-461D-8C33-3E7229B9F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3D1459-4C07-4548-B0AA-CB9B0EE208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EE904D-0C43-4492-AC9D-1E018D2CD2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910CE-A6F9-4BCE-A10D-7B3B33ACCE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AF5A5-E205-48B4-A38C-6AAE10936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E71FCA-B5A1-4791-A71B-37227848FD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8A3BE-EC9C-48C5-A0E5-0D53634EBB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FC8EB-69DB-40E3-9F3F-ACD5BCD1AF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1A7F5-0F85-4B2D-98A0-C0E3E8C86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BF32C8-C019-445C-A4D9-71E27EBC8E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737D8-9CB4-440F-B5EF-C78405087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95B4-3057-4595-A1E3-11C70E459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D5D68F-DCD3-4A1F-BD22-B71BA2C5F9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C116CC-BE1F-4AF6-B017-9F1029C5F0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A1E173-9F06-452E-8328-DCAB686098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86C084-F87C-4D75-9E7A-C2A0A5182A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893D5C-9268-47CA-9F3F-F8D8EBE34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945B66-0F3E-433A-84A3-73866EAB7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74EEF-E566-4BA5-8F5D-1D79DD500E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353EE-6111-4BC7-B859-B58240737E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D5E401-5887-41B3-AB4F-0C5A916704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83711-9BF8-4D68-9B4A-1E38A9420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451E-CBD3-409E-8D3B-90E2A4CC4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CC869E-7ED5-40A4-9F9D-43247A4CE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832D2-1D45-4E0A-A8DD-9FBAE2F19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8A0D6-BA34-4098-ADC8-6CF5F52AEF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EDCF69-A4C7-412A-86AF-F11D76A645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28E065-315E-44B8-9C7F-7196078204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61348A-2D8D-4640-9AE8-D5FD511093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590115-B986-4467-A52D-A2CFC97EAE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E6EEC6-BE26-43E7-83E9-39A38A18E2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66C83B-E8E2-4FF6-9F5A-C0E9170924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5F7C3A-FCF8-4499-AC27-C6AD014F38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5E9D-0933-46E5-A125-0DFEC1E0F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BF6C23-F7E3-4C44-832A-899013DB9C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4FC23-B125-490C-BA3E-F4B9ABC69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29B4A0-F38F-4ED9-A853-EA757B05F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DBE8A4-C03C-419A-A2BC-237C9BD14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68E5A2-EB0E-4358-ADC9-78234E27C9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8E1665-1BE2-45AC-B338-2CBEE98C34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020919-A2CB-469C-8495-76A54DAE14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F61FDE-13E5-467F-A6FC-04A140B798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CC5C48-8396-4E50-B100-749E8867BF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93F28F-1B0A-472C-A6C7-D4ED17ADBC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B3A7-BEF1-4790-830F-4CC0D8BCB8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C10B-242C-4BCC-B981-EFD651A5BF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A560-904D-48F3-897F-385E07FACF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2AAA-4311-45C1-8D2E-F44C560A9C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E52D-9A84-4665-ADD3-36CA119306D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46BD-88A6-4A47-B3B6-31C2F825AA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379A-F701-4C8A-9060-7E7911CF14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EC90-308E-4651-8B28-B9BE620901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0A46-7ECA-4407-B044-C7E2909F14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840D-09A2-4EDD-9509-81495A434C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67EF-35F6-4018-B850-63D49F5D32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AFA7-6C3F-4EF6-9D73-5736EFD31D7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1288-6CFF-4F2E-A98A-9C76C6C6430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49F1-EDEF-4CE7-987C-034A6DB811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E954-0DD6-48CB-A7C4-CB4720647F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8CE8-C59A-4C91-BDEC-B871B9A6B0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B9C6-AD3C-495F-BC5A-AB406B6AC7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4452-EAE3-47FB-BA32-ECDF276D3A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725E-01D9-458C-8EC7-07E4C70CCC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58BD-74B0-441B-9957-8E59390226B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D293-E66A-43EC-8C3A-3E9C43B43A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C866-1318-4872-9169-F69651E8D73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0253-3300-4402-8AB6-EAF52974036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5203-8CF7-401E-B96A-D38CB7FA139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57EE-8A13-4DB3-ADA8-DF888F4C9F5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CAFF-41B3-4EA7-9C71-8FA4797F230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91AF-BFF6-4C24-87B6-935E821D3AD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20A2-5BEB-4AE9-A83E-EC318F0A2AC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DF8F-3007-4E56-9170-7B682C2348B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0ABE-921D-4B5B-A5C3-D6D8836D878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1 </a:t>
            </a:r>
            <a:r>
              <a:rPr b="0" lang="en-US" sz="2800" spc="-1" strike="noStrike">
                <a:solidFill>
                  <a:srgbClr val="000000"/>
                </a:solidFill>
                <a:latin typeface="Arial"/>
              </a:rPr>
              <a:t>Define the terms </a:t>
            </a:r>
            <a:r>
              <a:rPr b="0" i="1" lang="en-US" sz="2800" spc="-1" strike="noStrike">
                <a:solidFill>
                  <a:srgbClr val="000000"/>
                </a:solidFill>
                <a:latin typeface="Arial"/>
              </a:rPr>
              <a:t>supply chain </a:t>
            </a:r>
            <a:r>
              <a:rPr b="0" lang="en-US" sz="2800" spc="-1" strike="noStrike">
                <a:solidFill>
                  <a:srgbClr val="000000"/>
                </a:solidFill>
                <a:latin typeface="Arial"/>
              </a:rPr>
              <a:t>and</a:t>
            </a:r>
            <a:r>
              <a:rPr b="0" i="1" lang="en-US" sz="2800" spc="-1" strike="noStrike">
                <a:solidFill>
                  <a:srgbClr val="000000"/>
                </a:solidFill>
                <a:latin typeface="Arial"/>
              </a:rPr>
              <a:t> supply chain management, </a:t>
            </a:r>
            <a:r>
              <a:rPr b="0" lang="en-US" sz="2800" spc="-1" strike="noStrike">
                <a:solidFill>
                  <a:srgbClr val="000000"/>
                </a:solidFill>
                <a:latin typeface="Arial"/>
              </a:rPr>
              <a:t>and discuss the benefits of supply chain management </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2 </a:t>
            </a:r>
            <a:r>
              <a:rPr b="0" lang="en-US" sz="2800" spc="-1" strike="noStrike">
                <a:solidFill>
                  <a:srgbClr val="000000"/>
                </a:solidFill>
                <a:latin typeface="Arial"/>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3 </a:t>
            </a:r>
            <a:r>
              <a:rPr b="0" lang="en-US" sz="2800" spc="-1" strike="noStrike">
                <a:solidFill>
                  <a:srgbClr val="000000"/>
                </a:solidFill>
                <a:latin typeface="Arial"/>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178E-F209-42D1-B6C1-E6E75D59E6A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36E1-1D5F-4B9D-9D96-F6F62602A78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D48A-E73B-4E5C-9781-CAAAA5BAFB4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FE00-828C-4490-AF04-5546D704C07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9989-AF3C-4CD9-BF85-8270F232C04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DE21-FC70-41C4-91CA-8107BDD0D4B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B77C-E40B-4384-8B85-71BC106AD0D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C7D9-A48D-45AE-930C-ED0E6FA8CB4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091F-952D-431F-B7EE-28555247AB4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channel alliances</a:t>
              </a:r>
              <a:r>
                <a:rPr b="1" lang="en-US" sz="2400" spc="-1" strike="noStrike">
                  <a:solidFill>
                    <a:srgbClr val="000000"/>
                  </a:solidFill>
                  <a:latin typeface="Eras Bold ITC"/>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7BCB-96D9-44CA-BC15-9656F86DEE1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4 </a:t>
            </a:r>
            <a:r>
              <a:rPr b="0" lang="en-US" sz="2800" spc="-1" strike="noStrike">
                <a:solidFill>
                  <a:srgbClr val="000000"/>
                </a:solidFill>
                <a:latin typeface="Arial"/>
              </a:rPr>
              <a:t>Understand the importance of sustainable supply chain management to modern business oper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5 </a:t>
            </a:r>
            <a:r>
              <a:rPr b="0" lang="en-US" sz="2800" spc="-1" strike="noStrike">
                <a:solidFill>
                  <a:srgbClr val="000000"/>
                </a:solidFill>
                <a:latin typeface="Arial"/>
              </a:rPr>
              <a:t>Discuss how new technology and emerging trends are impacting the process of supply chain management</a:t>
            </a: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6</a:t>
            </a:r>
            <a:r>
              <a:rPr b="0" lang="en-US" sz="2800" spc="-1" strike="noStrike">
                <a:solidFill>
                  <a:srgbClr val="9fb828"/>
                </a:solidFill>
                <a:latin typeface="Eras Bold ITC"/>
              </a:rPr>
              <a:t> </a:t>
            </a:r>
            <a:r>
              <a:rPr b="0" lang="en-US" sz="2800" spc="-1" strike="noStrike">
                <a:solidFill>
                  <a:srgbClr val="000000"/>
                </a:solidFill>
                <a:latin typeface="Arial"/>
              </a:rPr>
              <a:t>Explain what marketing channels and channel intermediaries are and describe their functions and activitie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D759-8C5B-4CD9-984E-35BFEC1BC4A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411F-0719-4C1A-B577-F1BD5775117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C205-2BD1-4587-9794-743C939D4E5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2214-1E74-44D3-B1D6-ED9EEF3FDA4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4923-8B6F-42DD-9659-C66EE1F1ED9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B9C4-1FC1-4FD5-AAC4-B06F72C1E7A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6B59-A903-46E2-8F31-851A01152B7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7 </a:t>
            </a:r>
            <a:r>
              <a:rPr b="0" lang="en-US" sz="2800" spc="-1" strike="noStrike">
                <a:solidFill>
                  <a:srgbClr val="000000"/>
                </a:solidFill>
                <a:latin typeface="Arial"/>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8 </a:t>
            </a:r>
            <a:r>
              <a:rPr b="0" lang="en-US" sz="2800" spc="-1" strike="noStrike">
                <a:solidFill>
                  <a:srgbClr val="000000"/>
                </a:solidFill>
                <a:latin typeface="Arial"/>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4B43-FD2E-473F-AE55-385AC3E90E2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283E-003C-486A-B3B8-3988FE5E1B4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7C41-C6D8-4321-930C-5C8CFF755DD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7F08-1FA1-40A4-94B4-8598BB800EC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25T19:38:51Z</dcterms:modified>
  <cp:revision>613</cp:revision>
  <dc:subject>An Overview of Marketing</dc:subject>
  <dc:title>Chapter 1</dc:title>
</cp:coreProperties>
</file>