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3348-FD68-4DA5-8A61-E67ADA9A9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356A-CA5F-4185-A0CE-3631A74211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2592-F8FA-4815-9B38-C532E9DD8B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C16C-B817-416D-A789-5DFE00C325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AF70-FC16-4FA3-9A5A-FADDF37C49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3378-59A4-4BCD-9BB1-746FF99579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E752-C0FD-45AE-983C-9889BEABB0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FB34-E7B2-4771-8CD2-6BD33F3D22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10F1-E44F-4EC3-8AA1-3BC567FD14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B2A9-9224-4B47-99E3-CF5249E644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D48F-165C-4102-B3EE-794948F077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7D62-53F2-4FEE-868A-E4254C3AD3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F7C7-111E-4E4B-9C16-12B0A6BEB5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379B-DC91-4C6A-B526-C2D9CA92EF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8637-28B5-4478-90B1-6838A4B9B1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DD3A-57F6-4479-9329-26DC5653EC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7AC8-EB62-4606-AC0F-A78E229B4A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DB13-E49B-465B-A6D5-4093DEF418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BB47-E939-4A56-A62E-59A27F0DED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6D1B-C7E2-4A49-96BE-806775FE58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5DC1-600C-4DF8-B321-3585E39566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C609-6DAE-4DAC-8557-B879219CE2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636F-74B2-42FA-B0A7-B239B0997B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37CF-177A-4DF2-A3B3-7CEBA283B1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3E73-870A-4DD6-AEB8-CF1658912F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A6C4-0F78-4678-AF14-AA7874FBEE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A849-8E59-4B37-8904-03F32AE83F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E441-B7FF-4EC4-9DC2-5AD4C89FF6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397F-4169-4180-97F8-68B6B2FE41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0ED5-69A0-4C0B-B0C8-8EDEC9C952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2020-923F-4F65-B130-0CB0224262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1C9A-0DCB-4FA7-919C-AFE7DD3382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5F90-F9D3-44A8-98F6-7B2DA5FB7E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8D73-18F0-4813-8CD6-DD96682D22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F1A7-359E-4BC6-88A5-55FE658512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CBEC-2E34-423E-8EB4-97338A652C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586F-A691-41AF-B72B-FC355395BB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57DC-5423-4A33-8CF5-0D2C47A85C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D5E6-2008-4444-856B-48A0A9E531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AED7-80D4-473C-BD2C-D1012E8DA7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2A998-A02E-4B4B-AC7B-96330C90C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15FE6-21CE-405E-A118-D333058E0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A9A73-5FC7-4A37-8141-C84D6809E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E2119-D93C-48A8-914D-2CBCBCE8F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A343B-2660-4062-B715-856557ADA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4D6ED-0937-4BF0-84A1-4DD74319B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5D2DD-972B-4649-B81A-54F368EB4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183DF-352E-4DF2-9045-C7C3F927A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0C160-24CC-492B-9AF0-5344B2507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35E90-7158-468B-AA86-8A176B87E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A1264-2EBF-40B9-8E14-C0D21EA75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4A53-7290-4DB6-988E-33CC9E30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DCCFB-0BDB-4632-87B9-3303046F0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41ACC-B83E-4306-BD56-36C1588D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D7253-08CA-4D06-B45E-3B01F061B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754DC-8D1F-4FDF-A867-433AF77BA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FB970-FE24-4D22-8985-99672B1C4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567179-639A-4E7C-8907-2F79A64B44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F2124-C97A-412B-9640-67CE1C484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E0BF1E-9870-4B70-ACAD-1A93DF40E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A5D4E-6BDF-45EF-A60C-384ADCB0C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3149E-21CB-469F-B5B0-47060DFC0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F4B51-98B5-45C9-8D4D-BFE9FD9E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97F5F-DB8B-43B1-AA05-A02566485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6BCE5-97D0-45F3-B472-1CEB6B21F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14604-3D03-411D-BF86-5470EFA2C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19FCB-EBE7-4C78-9241-471967F7A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61D82-97A1-47E9-81BE-4FE2BAD3C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DE289-E52F-4307-9759-27A32E7BB1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71E5A-FE09-41C9-AD2D-933ACE364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E3513E-2ED6-4644-A335-67B28B721E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C15F2-C7D1-45CF-8104-DA052DF36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A3BB4-14D7-44CB-B9A4-C5F379789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28026-1F20-4F85-93BF-C6CC69B5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A2220-6F0F-4057-A916-216F911B97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020F09-C332-494A-A6AF-7A0771C78E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8D49A-98D5-4DF6-A5C7-63C8BCAE3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65E62-5660-44F5-A146-9467D7C03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061B8-BE27-4B7E-A558-B58636344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035D3-6BD9-44B2-B1D5-84571C0D1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8639F-61FD-4932-8503-905A5BAA9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431B5-2B30-44B3-B1DB-AF803C1DC4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6C61B-48F9-4315-A08A-DE9701196F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B20274-F671-4B62-B008-AAB5E32CAE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521B-C4F4-4005-BFA6-E9BDA94D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FAE9D-5A60-4280-9DDD-3E6317A87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FDA8E-6A72-45EA-B67D-905BC27A1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F00BB-4875-46B8-AFE4-FBF1E861C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FCD7A-802B-4775-8D79-42E8A08FE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A29C1-336B-4511-99A1-04C310BC9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AF6534-0B20-45F6-993F-A8331EE68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63082-D794-462E-996A-B8D41A7151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95F12-5B47-468F-827E-03E699CBF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DBD3B-2898-4ECA-84E6-6BCE59644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A0BA52-B2C3-49A2-A16E-56E6AC7BD5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5760-5586-4ABE-9CE4-F747F764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10336E-2704-4BE6-805F-FC739D2D9D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35775-8C15-436F-936B-07665DD71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47300-D1F0-4835-BC7A-437DCE4052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913A6-F75F-4B96-B064-2B546EB89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481BB0-B5D9-4163-B9D1-3B47F565B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5F734-FAEF-438C-8D2D-5C0D6596E5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0F7BD-C48D-44B1-8E27-40A67DB0A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39D7C-8FBF-4F44-A6FF-9CA5672A9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3CABC-103B-47BB-91C1-75FEA29C4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2417A-0364-45C3-9030-7DEBB7C80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C7299-FBDD-4701-9E43-39024162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DCF31-5068-47A9-A9C6-8A7FE7FE9C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819F47-0DD6-4476-8D82-374EDCECB3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5A3A5-303F-468D-8B7B-B187E3631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85454F-DDFC-4D21-9184-3BBDDA6AA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5F241-0688-40B4-B0D7-226D5F91C5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3C842-CB59-410B-8D64-BE7B74C3B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3EA71-6359-40B2-A14A-635D33BB27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4775B3-9A12-4FBD-BDB0-2A7501066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3C10C-4F5D-4FFE-98C6-57E91C184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796AA-38DE-45EC-8127-918B6B6C2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3ED3-45A9-4CF6-9F5D-FE6F18D8B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55BE8-BB8C-4C74-A73F-AF05DB28E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F5B7B-7869-48E3-8E99-AA7574B52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894F96-89BF-4895-ABAF-ED78C9C0A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861876-D3D2-44A0-A4C7-4F10216FFE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4B28B2-8304-4D0C-B778-9757AD57B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F7B7-9F36-43A2-BCFB-FF937FA52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F229-2728-41AF-B84E-2AC0EE1C4AB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FC93-DF09-4FF5-91F5-D83D20B22C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58E8-DA41-4DC7-B4C3-0C7D58202B5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FA36-E41F-44D2-855B-E8C7D4EE76B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CB73-6391-4732-A22E-2A3721DACBF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8FA2-2A6F-4BCC-83BB-3AFB93F9CD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8775-C7DB-4456-9698-AF3349790DC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48BC-D411-4BF4-97E8-CE6F93DD06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68A9-E033-4619-A3E6-F40571558C4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52D6-6988-487C-8E56-F1D3F8AE8C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4424-C2E6-4618-BEC5-378A5294A1E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DD1D-115D-4902-9976-2C3F2BA380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1B83-ECE3-410D-802B-65592093BDB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AB16-041A-4B2A-9C52-63FFD22998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EE7F-3F74-4283-AA4B-0142B1745B5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A6A2-8292-4540-B761-2DEA45E5F91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9998-5388-4F74-B62F-48D65206C1E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88C2-AF2D-44E7-9F77-3F6EC8A82C6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F305-0989-4C5B-B250-B74ACF8AD92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3" name="Freeform 30"/>
              <p:cNvSpPr/>
              <p:nvPr/>
            </p:nvSpPr>
            <p:spPr>
              <a:xfrm>
                <a:off x="3701520" y="2979000"/>
                <a:ext cx="285840" cy="24372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4" name="Freeform 31"/>
              <p:cNvSpPr/>
              <p:nvPr/>
            </p:nvSpPr>
            <p:spPr>
              <a:xfrm>
                <a:off x="3813120" y="2678040"/>
                <a:ext cx="173160" cy="29268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5" name="Freeform 32"/>
              <p:cNvSpPr/>
              <p:nvPr/>
            </p:nvSpPr>
            <p:spPr>
              <a:xfrm>
                <a:off x="3366000" y="2390760"/>
                <a:ext cx="552240" cy="831960"/>
              </a:xfrm>
              <a:prstGeom prst="pie">
                <a:avLst/>
              </a:prstGeom>
              <a:solidFill>
                <a:srgbClr val="3d588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8" name="Freeform 35"/>
              <p:cNvSpPr/>
              <p:nvPr/>
            </p:nvSpPr>
            <p:spPr>
              <a:xfrm>
                <a:off x="4522320" y="4138560"/>
                <a:ext cx="319680" cy="19548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9" name="Freeform 36"/>
              <p:cNvSpPr/>
              <p:nvPr/>
            </p:nvSpPr>
            <p:spPr>
              <a:xfrm>
                <a:off x="4294080" y="4143600"/>
                <a:ext cx="245160" cy="26784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0" name="Freeform 37"/>
              <p:cNvSpPr/>
              <p:nvPr/>
            </p:nvSpPr>
            <p:spPr>
              <a:xfrm>
                <a:off x="4202640" y="4208040"/>
                <a:ext cx="641880" cy="732600"/>
              </a:xfrm>
              <a:prstGeom prst="pie">
                <a:avLst/>
              </a:prstGeom>
              <a:solidFill>
                <a:srgbClr val="3d588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3" name="Freeform 40"/>
              <p:cNvSpPr/>
              <p:nvPr/>
            </p:nvSpPr>
            <p:spPr>
              <a:xfrm>
                <a:off x="5144040" y="2899800"/>
                <a:ext cx="285840" cy="24408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4" name="Freeform 41"/>
              <p:cNvSpPr/>
              <p:nvPr/>
            </p:nvSpPr>
            <p:spPr>
              <a:xfrm>
                <a:off x="5145120" y="2598840"/>
                <a:ext cx="173160" cy="29124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5" name="Freeform 42"/>
              <p:cNvSpPr/>
              <p:nvPr/>
            </p:nvSpPr>
            <p:spPr>
              <a:xfrm>
                <a:off x="5213520" y="2311200"/>
                <a:ext cx="551520" cy="833040"/>
              </a:xfrm>
              <a:prstGeom prst="pie">
                <a:avLst/>
              </a:prstGeom>
              <a:solidFill>
                <a:srgbClr val="3d588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0774-EC79-4907-824D-316B60F96DC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B1D9-078C-4AE8-964C-7B644F2FF7B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21E5-B196-4A4C-A2FD-654621A6A00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017C-B7BD-48CE-AD45-3DE6BA2488D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ind customers that product </a:t>
              </a:r>
              <a:br>
                <a:rPr sz="2400"/>
              </a:br>
              <a:r>
                <a:rPr b="1" lang="en-US" sz="2400" spc="-1" strike="noStrike">
                  <a:solidFill>
                    <a:srgbClr val="000000"/>
                  </a:solidFill>
                  <a:latin typeface="Arial"/>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ind customers where </a:t>
              </a:r>
              <a:br>
                <a:rPr sz="2400"/>
              </a:br>
              <a:r>
                <a:rPr b="1" lang="en-US" sz="2400" spc="-1" strike="noStrike">
                  <a:solidFill>
                    <a:srgbClr val="000000"/>
                  </a:solidFill>
                  <a:latin typeface="Arial"/>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A3E0-D87C-4775-9D9D-66228AA107F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1 </a:t>
            </a:r>
            <a:r>
              <a:rPr b="0" lang="en-US" sz="2800" spc="-1" strike="noStrike">
                <a:solidFill>
                  <a:srgbClr val="000000"/>
                </a:solidFill>
                <a:latin typeface="Arial"/>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2 </a:t>
            </a:r>
            <a:r>
              <a:rPr b="0" lang="en-US" sz="2800" spc="-1" strike="noStrike">
                <a:solidFill>
                  <a:srgbClr val="000000"/>
                </a:solidFill>
                <a:latin typeface="Arial"/>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3 </a:t>
            </a:r>
            <a:r>
              <a:rPr b="0" lang="en-US" sz="2800" spc="-1" strike="noStrike">
                <a:solidFill>
                  <a:srgbClr val="000000"/>
                </a:solidFill>
                <a:latin typeface="Arial"/>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4 </a:t>
            </a:r>
            <a:r>
              <a:rPr b="0" lang="en-US" sz="2800" spc="-1" strike="noStrike">
                <a:solidFill>
                  <a:srgbClr val="000000"/>
                </a:solidFill>
                <a:latin typeface="Arial"/>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61F9-03DF-415A-90ED-FFCF3D5489F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59BB-0B05-47C0-9A42-FA4CBE1CED8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44680" y="1444680"/>
            <a:ext cx="6261120" cy="458460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A82E-49FD-40B1-A094-B1BFEBECF0D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83C8-BF8E-4634-834A-B24A9F0BF01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E1AF-540F-402D-96EB-6EA6FB2C82F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110A-8F44-4319-800A-02D319F664C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5695-4715-4EE3-BBE8-147D0ECFC00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8F5E-8189-4743-9D4C-BC42791E1BB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ales promotion is a </a:t>
            </a:r>
            <a:r>
              <a:rPr b="1" i="1" lang="en-US" sz="2800" spc="-1" strike="noStrike">
                <a:solidFill>
                  <a:srgbClr val="c00000"/>
                </a:solidFill>
                <a:latin typeface="Arial"/>
              </a:rPr>
              <a:t>short run</a:t>
            </a:r>
            <a:r>
              <a:rPr b="0" lang="en-US" sz="2800" spc="-1" strike="noStrike">
                <a:solidFill>
                  <a:srgbClr val="000000"/>
                </a:solidFill>
                <a:latin typeface="Arial"/>
              </a:rPr>
              <a:t> tool to </a:t>
            </a:r>
            <a:r>
              <a:rPr b="1" i="1" lang="en-US" sz="2800" spc="-1" strike="noStrike">
                <a:solidFill>
                  <a:srgbClr val="c00000"/>
                </a:solidFill>
                <a:latin typeface="Arial"/>
              </a:rPr>
              <a:t>stimulate</a:t>
            </a:r>
            <a:r>
              <a:rPr b="0" lang="en-US" sz="2800" spc="-1" strike="noStrike">
                <a:solidFill>
                  <a:srgbClr val="000000"/>
                </a:solidFill>
                <a:latin typeface="Arial"/>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712D-CD33-4D23-A834-67128FE1689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C402-C7BD-4FAE-856A-2E0B576CE85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5 </a:t>
            </a:r>
            <a:r>
              <a:rPr b="0" lang="en-US" sz="2800" spc="-1" strike="noStrike">
                <a:solidFill>
                  <a:srgbClr val="000000"/>
                </a:solidFill>
                <a:latin typeface="Arial"/>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6 </a:t>
            </a:r>
            <a:r>
              <a:rPr b="0" lang="en-US" sz="2800" spc="-1" strike="noStrike">
                <a:solidFill>
                  <a:srgbClr val="000000"/>
                </a:solidFill>
                <a:latin typeface="Arial"/>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7</a:t>
            </a:r>
            <a:r>
              <a:rPr b="0" lang="en-US" sz="2800" spc="-1" strike="noStrike">
                <a:solidFill>
                  <a:srgbClr val="6fc6b3"/>
                </a:solidFill>
                <a:latin typeface="Eras Bold ITC"/>
              </a:rPr>
              <a:t> </a:t>
            </a:r>
            <a:r>
              <a:rPr b="0" lang="en-US" sz="2800" spc="-1" strike="noStrike">
                <a:solidFill>
                  <a:srgbClr val="000000"/>
                </a:solidFill>
                <a:latin typeface="Arial"/>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63B2-EEB7-4A6E-AA9D-A05592E7E65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D46B-917F-415E-812E-59711068E46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AA70-2CD0-4753-BE15-1EE68E94125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0734-CE94-4AAC-B9D3-19909A42ADA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7011-A27A-4B1F-B1A2-2183E5B2814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427E-B4ED-4DB4-8CE2-95808EDCB56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rPr>
              <a:t>For…</a:t>
            </a:r>
            <a:endParaRPr b="0" lang="en-US" sz="3100" spc="-1" strike="noStrike">
              <a:solidFill>
                <a:srgbClr val="000000"/>
              </a:solidFill>
              <a:latin typeface="Eras Bold ITC"/>
            </a:endParaRPr>
          </a:p>
          <a:p>
            <a:pPr marL="571680" indent="-57168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Widely scattered market</a:t>
            </a:r>
            <a:endParaRPr b="0" lang="en-US" sz="2400" spc="-1" strike="noStrike">
              <a:solidFill>
                <a:srgbClr val="000000"/>
              </a:solidFill>
              <a:latin typeface="Eras Bold ITC"/>
            </a:endParaRPr>
          </a:p>
          <a:p>
            <a:pPr marL="571680" indent="-57168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Highly informed buyers</a:t>
            </a:r>
            <a:endParaRPr b="0" lang="en-US" sz="2400" spc="-1" strike="noStrike">
              <a:solidFill>
                <a:srgbClr val="000000"/>
              </a:solidFill>
              <a:latin typeface="Eras Bold ITC"/>
            </a:endParaRPr>
          </a:p>
          <a:p>
            <a:pPr marL="571680" indent="-57168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F57F-6966-40CF-9207-3572237EB6F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C119-C106-4D44-9CCB-9FF1BB0ECFC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E920-D4C3-441A-A99F-6137B65C719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35200" y="2736720"/>
            <a:ext cx="7016400" cy="3591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E389-3AF2-4508-888D-4E5DB67BE97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67B8-64B3-4C6E-8338-E6B749BF04E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ot new </a:t>
              </a:r>
              <a:br>
                <a:rPr sz="2200"/>
              </a:br>
              <a:r>
                <a:rPr b="1" lang="en-US" sz="2200" spc="-1" strike="noStrike">
                  <a:solidFill>
                    <a:srgbClr val="000000"/>
                  </a:solidFill>
                  <a:latin typeface="Arial"/>
                </a:rPr>
                <a:t>communication </a:t>
              </a:r>
              <a:br>
                <a:rPr sz="2200"/>
              </a:br>
              <a:r>
                <a:rPr b="1" lang="en-US" sz="2200" spc="-1" strike="noStrike">
                  <a:solidFill>
                    <a:srgbClr val="000000"/>
                  </a:solidFill>
                  <a:latin typeface="Arial"/>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1E04-7889-4BFB-8F8E-DCE6518342A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5:08Z</dcterms:modified>
  <cp:revision>627</cp:revision>
  <dc:subject>An Overview of Marketing</dc:subject>
  <dc:title>Chapter 1</dc:title>
</cp:coreProperties>
</file>