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110C-AD23-4AD1-BC61-41DD720C9B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8DB6-C19D-4E03-90D1-1F79CBEA4E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0899-0D03-4DF9-A3EF-0A7802DD50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DC99-7B56-46F4-BE73-70345238D7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15E3-70FC-499B-8AE6-49372A9845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CF01-0CAD-481C-AA82-CEA3D42496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8C00-CC31-4951-ADE2-DDC946DD1F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47C9-2C71-4473-A1F3-DAA0F62E0A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A8DC-2311-41D8-AB3D-BEDC2CBE80E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01B9-354E-4539-88B5-E2C896B8A1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B0A9-7762-44F4-9052-C4F6916FED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895B-2225-4D86-937F-6E24694B2F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209F-E7BC-4CFC-BF10-427989C354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AEF1-642D-41E1-AF2A-9AC2DA58D0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CE27-611F-49E1-8FEA-E1C0409280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8C28-BF2B-47DE-A461-10F740147F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B91A-AD2E-4A80-BF5C-7E727D65B2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BA7F-9B33-47A8-9108-AF92D62AC2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DAD5-8D03-4483-8194-526584B209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6B80-7E5F-48FB-9E43-F55F91B7B3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F3A5-4B9E-4997-B7F0-2CC552AA51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A866-2241-49B8-A0F2-85BEE88232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1955-AC99-4FF3-95EE-8A30F992E0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071C-0F11-4989-9C0E-65130E6A60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6259-F94F-4AD6-B2C2-8598D65598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EE57-E527-43E1-88B4-9113A9CB85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0BB5-2148-4569-B525-0E5A8077BC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54F3-62FD-4622-A200-59DB035EA0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04A0-73A2-4744-9C4C-682400DCCA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C7DC-D336-4D37-AA3D-FE3E6CD47C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33B5-2DD8-4F16-9E03-11F096D7B5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6C27-CFE2-4972-AA2E-5A8BC7085E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DF1A-AC5C-4640-91DF-62635C172F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F31A-78C0-4AB8-89AD-AE3E551C7E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2512-7954-4F1D-BFFE-59494ACB68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F687-992A-480E-952C-73F1A6CF5D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0B5C-C584-4D44-8DCD-71CE1AEB99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E7D4-CE7F-4790-89AB-9685894CEB1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0168-0987-44C8-8FC1-C6E824C60F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B1B5-4C05-4B3E-B8A5-321F57E2E5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C56DC-5E35-4E14-A257-056F66D80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99156-0329-452A-97FC-BEC1FBC92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3BAF6-33D3-43E2-B42E-7F3C3FB0E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83B78-71B8-4933-9C15-D23FE2637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1E2F9-CEC0-4A97-8AD1-40B905F27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93347-B6E8-4702-9260-61D303040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957A9-124C-4003-9BF6-65830B835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ABD2B-E1AF-4070-9131-93BB217E5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E044A-588F-430C-BA09-1B5B680EC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3DC7F-980F-41DA-8C4F-BC33CC0C9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66322-0AC3-41C0-8051-CBC260C45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BC330-6130-48CB-B6EB-D902B0CD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4D99A-C017-4995-9D32-40DAAD217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B07E7-6B5C-458B-9647-073E7E472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E68F3-CF25-4F9E-B65E-B829A4FEB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F842D-C166-4075-8EE6-70F9FAD50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AEF5E-DCC2-47E8-9BEC-CD06265B3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93E9E0-97A5-453D-8DD4-0B5E7ED224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774EA-1B5A-4FEA-9227-02A847A473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A9267-6981-4BE8-A2CA-54A8DC21D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880BD8-AAD3-4C9F-9EF1-4F2D7991C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C4732-2324-41F8-ABFB-82B586407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1AC9E-4D0B-4A74-ADB3-CB594C30D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919222-575E-49AE-A9CC-ED5AB0474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FA60C-5692-407D-B018-0B500A75D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5F079-7758-4C13-BA64-7C65EACEA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C5BDB-C84E-453A-BE89-4348D479C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04284-A548-4146-8B4E-93CB9A007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619A09-C009-44BE-A368-2B9ED935EF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FEB84E-0D9F-4227-A8E8-F9293AB32E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A92227-D01F-4215-BB4E-5EBD3878B3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3A664-6923-4CB8-BF2D-6BA8F5119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E9A09-5666-4BA4-954A-E61240487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DA5BE-6146-4A7E-8B03-24373ADC8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AE635-CE8E-4459-BC09-2F15923F96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09B6B-F684-4D29-BC01-5F073C6CA1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741676-7BA2-4E0B-BE51-507642C57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E6D84-9A7E-401D-B4C0-024B46643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45336-90A1-4293-A266-773AC5961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A7612-D55D-47EB-9593-76EB5E966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3D478-EAF8-4358-87DA-1A0CE0AAB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C1760D-1A29-4A3A-9872-64550462E1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ABE20C-1AF3-4985-A7D0-C2E8901AB2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23AA37-21DB-45B6-B5AC-95F9CC7E8E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D9581-2C81-4706-8F5E-CB7A011E3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CF2724-DC8D-411A-A02A-5FD6047270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44C8BD-70E5-457A-8065-E5707246E4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34620A-798F-4512-BC88-13E58B183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FFE3A0-660F-42C0-8874-6545D028D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0BB7C-C1D2-4819-BFC1-B4BD58913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B08D6-82A0-4132-9B31-B71C7346E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F7F91-7826-452C-911D-6F5EB47D2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67607-61F2-46F3-80BC-80F126DD0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F9AA15-3056-41C2-AE68-54ADC8D22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518E9A-1D73-43AA-8C1F-14F928D3BE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8B1FA-3D58-4E83-92B4-E3841A768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B54648-0088-4913-916D-08C3ED7D8E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9C02DB-769C-42DE-8467-0DB513996A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706437-40DC-4F1F-B6A9-DD5A457A05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43AD2-DD22-4138-A383-5CB49ABA9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13F839-FAA4-40BB-A82C-9E1FA820C3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1BF36E-F190-42B1-8181-70C2DB962A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D51186-ED41-4A59-A7E4-D69A3F47F3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6D6AF-DB09-47A7-8797-3A03B4AB1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E91A65-2FCA-4495-AB8B-9C85988FC4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41723-69BF-4A71-974D-4C6700737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59324-E2A5-4D1C-A3D9-13ECA3544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F5954B-352D-43CF-80B7-DF69BABCA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5EE19D-9F13-4978-8F22-38A8434FB5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DDC2FD-D4B9-426F-8B58-7E5F91F005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634D53-7A83-431D-A31D-6D66968154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ABFC35-BA3A-4618-971F-6E32357FE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58FFD7-BCEB-4003-82F2-8C5F5D819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2C2177-F255-4854-992C-A12EE0C4D4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D25B7C-65B1-4811-A079-4C8A1C565A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0FE36A-BE0E-4A8F-83EE-CEBD9721E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5C620-2CDA-40FB-8C41-7AAC3276D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3E33-A81E-46C8-85FF-159AB410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A1EB08-DEC2-438C-89AD-D0E48888C2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EBC2F-DD50-4C35-857E-5EEEEDAD01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E5AFB3-4397-4809-B8C6-FF380B332B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C88BC1-04A1-4FB6-BC86-C877E2FFE9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74EB8E-81F0-4BB2-9372-390F4CC2B3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C3C9-E81D-4449-9014-4169E4D99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4835-02A8-4175-995A-D0FEBECE4F89}"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621B-AE0E-4065-A8AF-776641A4ED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9638-1287-4CD8-BE4A-C8807DE65F52}"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2841-E672-4DF7-926A-E68858A9214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3581-2214-4AF7-AC75-05C07F8495FE}"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B9D0-22C2-45D1-92F5-FFFE95FE98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3178-79D0-4633-9FF8-3087F334245F}"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1A45-0712-4D8C-A026-EDA66D13AF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85CB-A629-44DE-9380-F5D164745D4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4CC3-7E5E-4930-BA83-68FA58361E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E5FC-5E72-47E7-965E-DBB00CEB4265}"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2333-F772-468B-9B54-8C3E52CEE8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D06B-CD47-4624-9C18-8E6242DB451D}" type="datetime">
              <a:rPr b="0" lang="en-US" sz="1200" spc="-1" strike="noStrike">
                <a:solidFill>
                  <a:srgbClr val="898989"/>
                </a:solidFill>
                <a:latin typeface="Calibri"/>
              </a:rPr>
              <a:t>07/31/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93B9-5336-481E-A122-B2D0C64AA6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747F-B262-414D-B8DC-71CC89E48F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00D2-25F2-4ABE-828A-FEF28F7E93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BC80-B4FD-499F-A42F-C2B3AB7F24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1DBC-DFBA-42B3-8EEF-94D78BE031D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0EE4-A960-4E59-8958-52F03B035C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3B03-05DD-4DB5-A679-548A9A0DA9C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305D-0839-4406-AF9D-1AA4B18AF1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DB51-926B-4F28-AAD8-F6C05B2CAA4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7F8C-4054-45AE-8771-A99353BCC0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AE22-62CB-485B-922C-ABB3E27C57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4BDF-DB29-4815-A961-BDDC84148BF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D36C-040B-413E-A039-CE2B6BEEEF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718F-1DC1-45FD-9B76-9624FEA6EC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C400-DF29-4C80-BC75-8EB5092183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BBE3-975D-44BA-9286-46322BFB3C1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E995-20CF-4F86-A959-46921A69C8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1866-5011-4C14-B67F-6DC636A132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6F73-296A-435F-A304-6FD74E861D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8436-8273-4FA1-BCEF-B455ECD7B6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49B6-E725-4C96-8A21-757B939BECD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4780-42B9-4D09-AAFD-6E8580B82B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C63F-B3BB-4DA0-B856-CFFA6B03A7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98F9-A50F-4974-BB33-0A9797F7FC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4F34-A946-4C78-B8C2-2EAD0B464F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52E5-003F-4381-A36D-1CC3102249B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B9B6-DE54-47AD-A3DC-7E46870F55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B8E7-BF65-4D7A-B53F-66214D8B8FD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9F05-1EFD-447B-B9E7-960DCE6C39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E166-6754-49A8-ABAE-76F70D9E68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335F-DB3C-49CC-9EB7-433C12449D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315B-0D7B-4F1F-B39C-E30560F850B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B0A2-23C4-41C0-91E7-C269E123E3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