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48BA-C6F4-40DC-9203-6CFCB9917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0A95-6D5D-4CFD-9E03-D30067FB0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A355-557B-4672-85CA-39AD71D26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90E77-2EA8-4BE0-AD3D-1E7CD72E5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6C81-E7D3-45A2-BB20-C0DC70A24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DB4B-C886-4CC7-809D-A752D1FFF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3587-E427-47E2-A948-DC6D25369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2CC7-4225-404D-99E3-20F619909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89AC-0703-42D0-B358-5215D1A46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03AD-9449-40B7-AA6B-3B20FC72D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CDDE-B2B1-488E-8577-EB7DB60C7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A2DE3-1A39-488E-A46A-DEDC3B569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2365-F3D9-4FE8-AB83-0800160F5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ED43-BF18-438D-B7DC-DFF59AD11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F34F-B03F-4D75-9379-DC1C606DD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BB17-37B0-4F0B-BFC5-F4B836ED6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D8A1B-597B-4A80-8FB4-05DA1A891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1502-ACBE-4A4D-AE90-B9A52D793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93EC-C417-4F68-B403-9A1430098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9048-61D0-410D-B57D-A053D1295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8C0B-C716-4CDE-9566-FD40AF9BA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3B82-1CCA-443E-BA54-6D493517E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38FB-2F32-4015-AB42-78EF4C1F1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01D61-7B98-42A6-8B54-1E291C449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24AF-5869-4034-AF9D-B3C6C36F3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113C-57CB-4DBA-9A1F-B69D51C23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E584-C445-4911-8522-15FF07E02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F724-1CB9-4407-9CEE-C222026EA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2407E-ABE9-45E2-8D41-CC5CC722B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44B02-6896-4905-B41E-3496626EA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5EFF1-51A3-4519-929D-CD1E91386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0E60A-29CE-4ED9-8175-2D87493AF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D82F1-C59F-46AC-ACB8-71215F0A9C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83ED3-9EA9-4BAF-827D-6AEFA0840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A58F0-12BA-4B73-AA96-67236B3F9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E1F04-4DD1-4382-834C-B6325FB86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E14C0-DAA3-4A35-8E91-8F68520BF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E0533-87FE-45C3-9513-299460235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8D768-1436-473D-9743-448060F1B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A1D38-A6AA-4040-9E29-1D82F0C17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B5BFB-1926-4888-8401-3A83D79D1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9E0D7-70CF-4DC6-8973-609C0FDE0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AC0F8-3244-46C7-B21B-8754C6236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7C728-C93D-447C-8DBA-0FF970890A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1D92CE-D58A-46C3-9D9E-80E4B6F93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AD8E12-50E6-4E19-99B9-934259E0B6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6F9E2A-F40C-4C42-99A5-2607C9AA04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999957-2CD3-4751-BC34-901C548F99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04FA52-6653-4411-9B21-510BBD3EA7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2840C7-1554-4189-B0F4-723AAEABA6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E6D81-4681-4DAF-AB3B-FE1DF782F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B68CCD-1229-4484-9CA0-7F2B0B0F18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4ACD94-D74A-4BDB-B31F-FB61C3F7DA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0283CA-4E1A-4423-81CE-1789B60B9E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6D241B-CB7C-4E23-9603-92EC081AF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CA1350-EEEB-4328-9F1F-AF3AA5980E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4349AB-5911-4537-9D76-CE8F6AE413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DD73B1-9102-4322-8DB3-0EC31F0EB3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CDEA6C-DAEC-4BA2-BBDB-897DDDBA2A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86DDD0-B8DB-4236-8902-B908163A50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01A163-B72F-44D8-B3CD-DCA2C9D9F1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C83A4-7E6F-4A2C-A09C-C1C48BD33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4CB631-FFC7-441B-A95F-02A15A85A3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1F71E4-462C-49EC-911D-11EB7C6677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43859A-1963-4123-9E2C-000DD540E2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CF0DE4-2A27-42C5-8B37-9F27C2ABDE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E20560-88B2-41BD-B048-7269010C67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EE924-9771-483E-A47A-45AA40A35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1F48AB-B717-4CF1-8EC6-AAB6A3BAF6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296375-E023-401D-96DC-0C49694846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93AF39-62C6-4CB4-96C2-1BADB86097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EF95EC-A047-42B2-9F42-7FECFF9733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FB449-9E51-41A5-B217-38C492FA5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A79D7F-5F7B-49C6-8143-47CDE3BC1C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3A92A6-A5D8-4602-BBDD-CA7901B3AE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B5BD0E-FACB-43BF-9D7B-BF55C3338F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1EF04C-4009-4939-93CC-EE0E01DF92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E4DB00-107A-40E3-B1DC-FFCD2FBD53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56A78-D0E4-4DE4-9805-F209852DD1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4F74FA-3101-42C7-9D10-04BF032876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857FA1-1D22-4FAC-852B-0CA1300B68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6F3241-B880-4FFB-B92E-0CA6418D60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251D27-636B-46D0-AD33-655FB4CA73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C5E85-CEAC-411B-AB04-927FFA4CE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4603C5-8E69-465C-9BC0-ECB9CEA010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7FE095-641E-44EF-A2B0-5F2C4C3B3D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3CFD15-0C85-4F0C-A568-6284A8113F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5A6D57-D477-489B-A81F-2105E263C9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FA408C-D163-44AB-A234-2CA7D3A27D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9F037D-6630-4AD4-B737-E960A1F2BA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80E1F7-8569-4CE5-8AC4-994F680BEF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AF0587-969A-4A4A-8E1B-E2C7A7E18E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54E39C-9341-4867-B5F1-3F26E8A3A9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5ECDC9-D979-47B5-B59F-B52F677C51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FC4EC-3740-4857-9D7B-C8B28A821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7C1BF0-BED6-484C-963E-01009A8C5D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A1F54D-8DE4-411E-BF01-E12F9E1F46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B28235-BFE7-4B61-9C00-8DB812F2C0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DB8E35-BE79-4E44-BBC2-9657202041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9632AE-5B8B-4AD9-8FB6-A235FAF6F0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7CF1D5-2F23-43D3-8143-AE497689AD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652197-9777-439C-BF16-908E5320F1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E08D7B-D6FC-483E-A6F5-7EC51ED226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67C3B2-887C-4EAD-AE2B-1CA5E160B2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8953DD-C443-4FC5-9417-B3C78BE4EC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2B5E6-B031-4AA0-8A42-F4C1DE362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02AF52-2C92-4595-8AF0-63908079C0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C02251-9DC0-44F7-803F-1E1D549132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9C177D-5CF3-47A6-9A8D-B2D5AC26C1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F0C9B0-1D8A-411D-97A4-E7B2F14214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E6567B-2B5A-4BDD-8647-19575D397C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C99AF-115A-48F2-9B99-88E0A0B4B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3886-82D1-43EF-AEAC-05399E616C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B9BC-4608-4981-B5F1-BA80BB8E80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2E01-F1C2-4100-84C7-DDB8B7AEC23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0CB5-3AA8-46AC-A15C-46DC3D3A0D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2AD4-6C59-45D9-8121-352B004944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C0FB-2F64-4933-B4B8-9B369201B3F6}"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6517-E989-49B0-94C3-9814F2FEBF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BDFD-AE29-44B4-8695-1C2CD32CD1E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989F-5149-4C3A-B04D-F90B83D4AEC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first action a marketing team should take when initiating a social media campaign is simple:</a:t>
            </a:r>
            <a:endParaRPr b="0" lang="en-US" sz="2800" spc="-1" strike="noStrike">
              <a:solidFill>
                <a:srgbClr val="000000"/>
              </a:solidFill>
              <a:latin typeface="Arial"/>
            </a:endParaRPr>
          </a:p>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4840" indent="-29484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ＭＳ Ｐゴシック"/>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BCE6-DA6C-437B-B13E-6BE62E91862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E4DC-E92A-4AE0-AE11-3E26D6F330A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EEED-7843-4485-811B-13E159A1226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2A7D2-ED3D-402F-8001-5DEFAC1F7FA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7C70-51B8-4242-BAC5-C5050BB2A93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croblogs are blogs that entail shorter posts than traditional blog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37F9-1C06-4EBC-AFF0-1CD70602203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al networking sites allow individuals to connect—or network—with friends, peers, and business associat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Goals for Social Networking Sit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ing awarenes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rgeting audienc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moting produc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ging relationship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ing expertise and leadership</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tracting event participan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ing research</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F9D4-EF23-4B92-BBB6-068CB37A585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1 </a:t>
            </a:r>
            <a:r>
              <a:rPr b="0" lang="en-US" sz="2800" spc="-1" strike="noStrike">
                <a:solidFill>
                  <a:srgbClr val="000000"/>
                </a:solidFill>
                <a:latin typeface="Arial"/>
                <a:ea typeface="ＭＳ Ｐゴシック"/>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2 </a:t>
            </a:r>
            <a:r>
              <a:rPr b="0" lang="en-US" sz="2800" spc="-1" strike="noStrike">
                <a:solidFill>
                  <a:srgbClr val="000000"/>
                </a:solidFill>
                <a:latin typeface="Arial"/>
                <a:ea typeface="ＭＳ Ｐゴシック"/>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3 </a:t>
            </a:r>
            <a:r>
              <a:rPr b="0" lang="en-US" sz="2800" spc="-1" strike="noStrike">
                <a:solidFill>
                  <a:srgbClr val="000000"/>
                </a:solidFill>
                <a:latin typeface="Arial"/>
                <a:ea typeface="ＭＳ Ｐゴシック"/>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4 </a:t>
            </a:r>
            <a:r>
              <a:rPr b="0" lang="en-US" sz="2800" spc="-1" strike="noStrike">
                <a:solidFill>
                  <a:srgbClr val="000000"/>
                </a:solidFill>
                <a:latin typeface="Arial"/>
                <a:ea typeface="ＭＳ Ｐゴシック"/>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3E42-954B-4325-AE97-704B7B692F5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2B167-8719-47D8-AB96-A9F665F37CE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4C23-4522-478F-BA70-79288B12FF8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0CFC-2AC2-4B2A-81EF-C439385142A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rmAutofit fontScale="68000"/>
          </a:bodyPr>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orldwide, there are more than 6 billion mobile phones in use, 17 percent of which are smartphones.</a:t>
            </a:r>
            <a:endParaRPr b="0" lang="en-US" sz="2800" spc="-1" strike="noStrike">
              <a:solidFill>
                <a:srgbClr val="000000"/>
              </a:solidFill>
              <a:latin typeface="Arial"/>
            </a:endParaRPr>
          </a:p>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EE864-62CD-4813-A33D-85312C09F78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6F57-CE51-49DA-B799-3DC3302F1C5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E835-0820-4CC6-8367-E5CF9A5216C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rmAutofit fontScale="94000"/>
          </a:bodyPr>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5 </a:t>
            </a:r>
            <a:r>
              <a:rPr b="0" lang="en-US" sz="2800" spc="-1" strike="noStrike">
                <a:solidFill>
                  <a:srgbClr val="000000"/>
                </a:solidFill>
                <a:latin typeface="Arial"/>
                <a:ea typeface="ＭＳ Ｐゴシック"/>
              </a:rPr>
              <a:t>Describe the social media tools in a marketer’s toolbox and how they are useful</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6 </a:t>
            </a:r>
            <a:r>
              <a:rPr b="0" lang="en-US" sz="2800" spc="-1" strike="noStrike">
                <a:solidFill>
                  <a:srgbClr val="000000"/>
                </a:solidFill>
                <a:latin typeface="Arial"/>
                <a:ea typeface="ＭＳ Ｐゴシック"/>
              </a:rPr>
              <a:t>Describe the impact of mobile technology on social media</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7 </a:t>
            </a:r>
            <a:r>
              <a:rPr b="0" lang="en-US" sz="2800" spc="-1" strike="noStrike">
                <a:solidFill>
                  <a:srgbClr val="000000"/>
                </a:solidFill>
                <a:latin typeface="Arial"/>
                <a:ea typeface="ＭＳ Ｐゴシック"/>
              </a:rPr>
              <a:t>Understand the aspects of developing a social media plan</a:t>
            </a:r>
            <a:br>
              <a:rPr sz="2800"/>
            </a:b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DCCD-1C67-43C1-94AE-CF75915E5A1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061C-BEA0-482C-963A-EB72570CB71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5431-9102-4DE0-855C-FC599F59B74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7CCF-B822-4484-A9A0-4523DEDDB1B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up to the marketer to </a:t>
            </a:r>
            <a:r>
              <a:rPr b="0" lang="en-US" sz="2800" spc="-1" strike="noStrike">
                <a:solidFill>
                  <a:srgbClr val="00b0f0"/>
                </a:solidFill>
                <a:latin typeface="Arial"/>
                <a:ea typeface="ＭＳ Ｐゴシック"/>
              </a:rPr>
              <a:t>decide</a:t>
            </a:r>
            <a:r>
              <a:rPr b="0" lang="en-US" sz="2800" spc="-1" strike="noStrike">
                <a:solidFill>
                  <a:srgbClr val="000000"/>
                </a:solidFill>
                <a:latin typeface="Arial"/>
                <a:ea typeface="ＭＳ Ｐゴシック"/>
              </a:rPr>
              <a:t> if </a:t>
            </a:r>
            <a:r>
              <a:rPr b="0" lang="en-US" sz="2800" spc="-1" strike="noStrike">
                <a:solidFill>
                  <a:srgbClr val="ffc000"/>
                </a:solidFill>
                <a:latin typeface="Arial"/>
                <a:ea typeface="ＭＳ Ｐゴシック"/>
              </a:rPr>
              <a:t>engaging </a:t>
            </a:r>
            <a:r>
              <a:rPr b="0" lang="en-US" sz="2800" spc="-1" strike="noStrike">
                <a:solidFill>
                  <a:srgbClr val="000000"/>
                </a:solidFill>
                <a:latin typeface="Arial"/>
                <a:ea typeface="ＭＳ Ｐゴシック"/>
              </a:rPr>
              <a:t>in those conversations will be </a:t>
            </a:r>
            <a:r>
              <a:rPr b="0" lang="en-US" sz="2800" spc="-1" strike="noStrike">
                <a:solidFill>
                  <a:srgbClr val="82c332"/>
                </a:solidFill>
                <a:latin typeface="Arial"/>
                <a:ea typeface="ＭＳ Ｐゴシック"/>
              </a:rPr>
              <a:t>profitable </a:t>
            </a:r>
            <a:r>
              <a:rPr b="0" lang="en-US" sz="2800" spc="-1" strike="noStrike">
                <a:solidFill>
                  <a:srgbClr val="000000"/>
                </a:solidFill>
                <a:latin typeface="Arial"/>
                <a:ea typeface="ＭＳ Ｐゴシック"/>
              </a:rPr>
              <a:t>and to find the most effective method of </a:t>
            </a:r>
            <a:r>
              <a:rPr b="0" lang="en-US" sz="2800" spc="-1" strike="noStrike">
                <a:solidFill>
                  <a:srgbClr val="7030a0"/>
                </a:solidFill>
                <a:latin typeface="Arial"/>
                <a:ea typeface="ＭＳ Ｐゴシック"/>
              </a:rPr>
              <a:t>entering </a:t>
            </a:r>
            <a:r>
              <a:rPr b="0" lang="en-US" sz="2800" spc="-1" strike="noStrike">
                <a:solidFill>
                  <a:srgbClr val="000000"/>
                </a:solidFill>
                <a:latin typeface="Arial"/>
                <a:ea typeface="ＭＳ Ｐゴシック"/>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3B7E-567D-49A8-892B-CD2007D2B22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1:24:39Z</dcterms:modified>
  <cp:revision>697</cp:revision>
  <dc:subject>An Overview of Marketing</dc:subject>
  <dc:title>Chapter 1</dc:title>
</cp:coreProperties>
</file>