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41EC-0C6C-480C-8F14-0AB5FD8790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90DA-D89D-4422-831A-089AAD5F821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DFDE-9AAE-4D17-928F-861E9DD5E76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7937E-4194-4487-8634-82B23E3D6E1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09FA-92CD-4C45-BCA5-BF95CC2101C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F700-40F0-4E0E-8911-3C880657B96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2212-40AB-48C1-B861-AABDB134768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19C5-D11D-494C-A864-878AD87E579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D3FD-06DE-4E23-AC6E-FFB978FA511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040A-239D-4C82-8560-FE31363DF73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D5C4-5351-4810-9409-E125D93CB2C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33517-06A7-4CB0-8B93-5650CBD439B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EDDA-1A7B-48E7-813E-F5D7603D2AD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28BB-F6BB-4DDE-8376-AEA8E478E1C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BF05-5C8F-480F-820D-AE57D7F711B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AF5D-8E25-46CA-92C2-556AE83026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FB77-0595-4303-A026-202349D1919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49C3D-047C-4E90-B513-6281DAEC6D0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B7E8-EB83-4D4D-BD41-86B09081AC4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95EC-BBFF-4C09-9E12-42B4C416C6A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C374-5991-4353-A3CA-5A844199FE5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C0084-103F-4D1D-BF68-50C0F0253F2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AE4F-2570-4EC9-B8CF-E0FF43842D6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81D78-6C6E-4992-B043-9B0EDFB399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7715-F267-4C0F-B553-827C364AC9A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858B3-C1FC-4A60-B0A5-2E178BA180F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2CE5-AFB0-47E9-B089-E905FACD604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40AD-18DA-4441-9256-484B42F5A9A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E8F6-1A16-4669-B0CC-72F5D2B9CCF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170B-CB0E-45B9-83B5-005FD56E0D1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849A1-E535-4A38-B72A-26C35A60154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2E2A-8FA7-4575-BFC3-D55BBF6E2B0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41368-A12D-456F-A196-94FADFD829F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B24B-9F51-41CE-9B43-3DEA0E0F70E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639B9-FBE9-4EA5-94D1-246D6585363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62279-407F-4DE0-85BA-B86D9821A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B0E7C-92D3-4BB3-B98B-7F345CE2C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63B82-5A08-49FC-BA96-C5490D348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676A4-5572-4731-BF92-7E47E356D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B2B00-E865-4318-B716-2ED1CD507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F4BAB-4C5A-4972-A00E-9EC17C9B2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E73F6-DE7C-43FB-8992-47109FE22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C2A57-D800-4B87-AF8F-E6C5CAE0C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9B212-0634-4E41-B77F-9ABD115B2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FD225-DDFB-4B47-916E-FA6D7A48E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E2807-B0EC-47E1-B39F-87443B6C6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98847-C4A9-40FD-9D89-05195F3DD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133FA-8BFC-4982-A8B8-3645E2C59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E5204-27BD-49F9-8DC9-9DA7F2BFE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43F69-E190-4172-BA4C-8E6FA5173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9E0D5-D486-40B1-AF9A-2AECC373AE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116C67-219B-4816-807B-271915241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27A1ED-5484-4D6E-9BF0-41F138567F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016ED2-8172-4FB7-9FCA-B918076B78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6E3181-FAB2-4B80-9C68-93AF348093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CC6958-6E59-408B-AC76-1AC2172443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CDDAF2-EEED-4347-962C-C2FF9E82D2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1DF29-2CD1-47AB-BF4D-F5E46DF9B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517EA2-156A-4B72-86E3-821855369C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1D762A-858D-4C39-80B8-82D88EE642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CC64F-2F40-4AE4-A740-C34F872152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4C2883-15ED-4566-96BE-0D29D4066D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FC5E10-BF73-4BE4-BD66-BC36B38742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FFF2B7-6216-4903-B4DF-3BCF3539C2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17797D-6635-4960-BF62-81D38D3FB4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4198DC-6372-4463-9D64-62B32E110D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4A57A0-5C3C-4668-87CA-C46C1004FE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56D6D5-D8F4-4119-990A-98970AC07F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973DE-69D9-4319-B55B-3D63ECD39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D1DF5F-D858-4905-A883-2AD8B38937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4D3EBD-F8FC-4A09-BFAC-C90CF4352A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3C7BEC-2CC8-4FC4-95C7-37C59E83E1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8B21D8-0A6F-4B37-80FD-D1D2C9A4A0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659478-FF79-4D41-AAB8-FB609BFAE1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1F2805-1E63-4916-BA01-DB1A4F8F08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8156A3-79FA-4A99-843A-865682D47B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4449BA-951A-48F8-8CAB-DAA4FA2563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FA8BEA-D459-49B9-8D05-3450B9F2EC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8465A8-B940-4D5C-AB5F-8876D29F7B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C07EF-DC22-4847-BB47-9C4B9232B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29D408-E7BE-408A-94B7-0886FD99CD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2025DE-9DA9-4C5A-9C18-BC1B4A1B4B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DFEA66-2EC8-4F08-BA74-C1DA419F9B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FFCBB0-2C0C-464B-B132-343E65FAE1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A52BFD-9D05-4FCE-9D9D-FFD1EC0D64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B969DE-FB96-422A-9213-1E8B1D1783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5A8C5-0A8A-4BE7-92A2-D62ACAF010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0F8F66-D4BC-4574-A6A3-96F434E860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5CC50B-06A7-4C90-9623-203DE503B2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C02F16-C929-46C6-B1A1-CCC7B7D971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03B10-7CDA-4E5B-AE54-41070F846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8E5078-0B89-49D0-B2D1-A113B167B5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F14018-C771-4FE0-9B19-CC01FD92CF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5A8D4E-DD2F-463E-9B25-C46934431C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194640-3065-4EC5-9683-C8CC444048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9C12AF-051D-4EB5-8B79-04032A9AE6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85CD48-E499-41C6-836B-5575CCD2C2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663CCD-17A0-4573-A9F4-0FEA480B14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3CD149-5327-4F69-A053-A478F1A84F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E184D9-F9AA-4A9F-8566-992536134A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A173FC-BB1D-42C6-9559-F14AEDA4B3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8E0F9-A478-462A-8584-AFB0E348A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447120-FA27-40A8-8225-30CF50C9B7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6C1C79-F766-4734-A63A-84E182B3FA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EC2D16-0C6B-4BC6-9D04-73DAE7FD25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8CA591-D5A6-4E8A-A683-B1B72C7975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E1792A-9FE0-45AE-BCAB-418630D5EB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30C32F-5EED-4892-BAB2-7CD1ABA707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34868C-1DD3-4073-8F20-D290378BD0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9CBA45-A793-4058-8C7C-2FE0D2B1F5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CB9672-6461-482D-9750-A697C50B8E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361F07-A83C-43D1-944B-BBE03941C8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4ADC5-DD1D-4AEB-900F-C1A362D9D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C0CCB9-52AF-427A-AF4E-7CD062AD6B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CBF4D5-9D94-495B-BE09-8E73C606E4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1AB7EE-D746-4BDD-919E-BD4004CEFE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C5A9E5-3572-48E0-9B0F-6FE520E8BF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10E5B9-C762-46B2-971D-0BD085C718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D96A7-705D-41B6-B391-15FCD46CC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16D0-396B-4BF9-B10A-5D406076779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7E8B-6BA6-4F0A-A5CB-FD70548667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E7353-051D-4D0C-B998-A97D93B0E3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D3A5-6888-480E-948B-46C1583C86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8030-2096-40BB-9484-A4F1E487A1C6}"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CF44-5E3E-4D76-8A5D-58ACDDB3CDA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D0C5-4200-4F7B-8C65-3F3DA8A29C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FCBB-E8DF-4198-9C8F-1076AB293A4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4EC0-A12D-4EB4-88D3-E5C07F428EC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FE14-05A4-4A18-8ECA-3236D72E1FF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ea typeface="ＭＳ Ｐゴシック"/>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DA4D-6BD2-4B98-8510-56CDEC062C6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A75B-B320-4A56-A031-2980F358C7E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4ED2-0FB4-4FBC-9C24-156E63AFC0B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0C527-BE7F-4BD1-AE41-407D28E5FF9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4477-C12B-4C4C-A3FE-1517C8A6303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sumers buy more or less</a:t>
            </a:r>
            <a:br>
              <a:rPr sz="2200"/>
            </a:br>
            <a:r>
              <a:rPr b="0" lang="en-US" sz="2200" spc="-1" strike="noStrike">
                <a:solidFill>
                  <a:srgbClr val="000000"/>
                </a:solidFill>
                <a:latin typeface="Arial"/>
                <a:ea typeface="ＭＳ Ｐゴシック"/>
              </a:rPr>
              <a:t>of a product when the </a:t>
            </a:r>
            <a:br>
              <a:rPr sz="2200"/>
            </a:br>
            <a:r>
              <a:rPr b="0" lang="en-US" sz="2200" spc="-1" strike="noStrike">
                <a:solidFill>
                  <a:srgbClr val="000000"/>
                </a:solidFill>
                <a:latin typeface="Arial"/>
                <a:ea typeface="ＭＳ Ｐゴシック"/>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n increase or a decrease in </a:t>
            </a:r>
            <a:br>
              <a:rPr sz="2200"/>
            </a:br>
            <a:r>
              <a:rPr b="0" lang="en-US" sz="2200" spc="-1" strike="noStrike">
                <a:solidFill>
                  <a:srgbClr val="000000"/>
                </a:solidFill>
                <a:latin typeface="Arial"/>
                <a:ea typeface="ＭＳ Ｐゴシック"/>
              </a:rPr>
              <a:t>price will not significantly </a:t>
            </a:r>
            <a:br>
              <a:rPr sz="2200"/>
            </a:br>
            <a:r>
              <a:rPr b="0" lang="en-US" sz="2200" spc="-1" strike="noStrike">
                <a:solidFill>
                  <a:srgbClr val="000000"/>
                </a:solidFill>
                <a:latin typeface="Arial"/>
                <a:ea typeface="ＭＳ Ｐゴシック"/>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1673-4414-4BFC-B7C8-114B0E0C2C0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1 </a:t>
            </a:r>
            <a:r>
              <a:rPr b="0" lang="en-US" sz="2800" spc="-1" strike="noStrike">
                <a:solidFill>
                  <a:srgbClr val="000000"/>
                </a:solidFill>
                <a:latin typeface="Arial"/>
                <a:ea typeface="ＭＳ Ｐゴシック"/>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2 </a:t>
            </a:r>
            <a:r>
              <a:rPr b="0" lang="en-US" sz="2800" spc="-1" strike="noStrike">
                <a:solidFill>
                  <a:srgbClr val="000000"/>
                </a:solidFill>
                <a:latin typeface="Arial"/>
                <a:ea typeface="ＭＳ Ｐゴシック"/>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3 </a:t>
            </a:r>
            <a:r>
              <a:rPr b="0"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59E40-38B6-49AE-AAFC-4F41CB24EB1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0DDA-DB6C-4CC7-95DA-B66382A2E0E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C930-1104-42AB-AB31-8E0AADE6E1F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81B7B-92B3-421D-BF22-39C6AE0953F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Describe cost-oriented </a:t>
            </a:r>
            <a:br>
              <a:rPr sz="3000"/>
            </a:br>
            <a:r>
              <a:rPr b="1" lang="en-US" sz="3000" spc="-1" strike="noStrike">
                <a:solidFill>
                  <a:srgbClr val="000000"/>
                </a:solidFill>
                <a:latin typeface="Arial"/>
                <a:ea typeface="ＭＳ Ｐゴシック"/>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ＭＳ Ｐゴシック"/>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5060-DB6D-4478-998F-AB3B67311BB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84200" y="2017800"/>
            <a:ext cx="6291360" cy="312084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D594-96E2-42D4-9361-CA680932343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5D069-D826-4A49-AF41-C6264BEECD2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301DB-7992-4583-B39B-BD2CF6D39EE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4 </a:t>
            </a:r>
            <a:r>
              <a:rPr b="0" lang="en-US" sz="2800" spc="-1" strike="noStrike">
                <a:solidFill>
                  <a:srgbClr val="000000"/>
                </a:solidFill>
                <a:latin typeface="Arial"/>
                <a:ea typeface="ＭＳ Ｐゴシック"/>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5 </a:t>
            </a:r>
            <a:r>
              <a:rPr b="0" lang="en-US" sz="2800" spc="-1" strike="noStrike">
                <a:solidFill>
                  <a:srgbClr val="000000"/>
                </a:solidFill>
                <a:latin typeface="Arial"/>
                <a:ea typeface="ＭＳ Ｐゴシック"/>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6 </a:t>
            </a:r>
            <a:r>
              <a:rPr b="0" lang="en-US" sz="28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75A7-5B6A-4933-8904-D2178C7EBEB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73A00-7E93-46E8-85E4-73198340123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4E14-4AE0-4258-9D80-83B4A21627B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custGeom>
              <a:avLst/>
              <a:gdLst/>
              <a:ahLst/>
              <a:rect l="l" t="t" r="r" b="b"/>
              <a:pathLst>
                <a:path w="3908" h="670">
                  <a:moveTo>
                    <a:pt x="0" y="79"/>
                  </a:moveTo>
                  <a:lnTo>
                    <a:pt x="2815" y="79"/>
                  </a:lnTo>
                  <a:lnTo>
                    <a:pt x="2815" y="0"/>
                  </a:lnTo>
                  <a:lnTo>
                    <a:pt x="3908" y="328"/>
                  </a:lnTo>
                  <a:lnTo>
                    <a:pt x="2815" y="670"/>
                  </a:lnTo>
                  <a:lnTo>
                    <a:pt x="2815" y="579"/>
                  </a:lnTo>
                  <a:lnTo>
                    <a:pt x="0" y="579"/>
                  </a:lnTo>
                  <a:lnTo>
                    <a:pt x="0" y="79"/>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3D6EA-AA82-423D-8EBC-0DB74DD4B75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9260-1171-47E2-ABB9-724E34D0EEC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7E2F-4C6D-4AA3-BB4B-82BA674A0A9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7 </a:t>
            </a:r>
            <a:r>
              <a:rPr b="0" lang="en-US" sz="2800" spc="-1" strike="noStrike">
                <a:solidFill>
                  <a:srgbClr val="000000"/>
                </a:solidFill>
                <a:latin typeface="Arial"/>
                <a:ea typeface="ＭＳ Ｐゴシック"/>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8 </a:t>
            </a:r>
            <a:r>
              <a:rPr b="0" lang="en-US" sz="2800" spc="-1" strike="noStrike">
                <a:solidFill>
                  <a:srgbClr val="000000"/>
                </a:solidFill>
                <a:latin typeface="Arial"/>
                <a:ea typeface="ＭＳ Ｐゴシック"/>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9 </a:t>
            </a:r>
            <a:r>
              <a:rPr b="0" lang="en-US" sz="2800" spc="-1" strike="noStrike">
                <a:solidFill>
                  <a:srgbClr val="000000"/>
                </a:solidFill>
                <a:latin typeface="Arial"/>
                <a:ea typeface="ＭＳ Ｐゴシック"/>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2664-33EF-49E2-85AE-BF23F8A4F1C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69B90-FC7E-4A79-BC04-5C42717413F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7EBA-8BB6-46EE-91F3-E500D16FEE3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E2101-0970-42E3-B31F-421B96E0909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2:38:28Z</dcterms:modified>
  <cp:revision>657</cp:revision>
  <dc:subject>An Overview of Marketing</dc:subject>
  <dc:title>Chapter 1</dc:title>
</cp:coreProperties>
</file>