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1969-CCE7-4766-BD41-D5AC64690A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5E45-EA7A-4082-A66F-E3158B796A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708E-B63B-4443-B9B6-42C082E4FF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B4DC-6866-4E9A-B67B-37A8D7D439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F44D-C56D-489B-89E4-FE40E29A05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6344-2A93-43FC-B887-6DD8DFB6C5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A38B-D1F8-4689-BF89-7D8175CA41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8460-F52D-4D87-91D7-62C3FE0DAC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5791-B7C1-4236-AEBE-67F174A074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5DE9-F907-486E-BCD3-128C3D765D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B947-D1C2-4E90-85FF-39BF46CEEA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645A-1EE0-4E56-9D2B-772B24AF09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FF54-E866-4AE5-84E9-CA73229C69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E19B-17AD-4131-BFF2-B622B1E750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5B57-ED0E-4AEB-ABA0-C8154A4E1A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3670-83EE-43C6-A1CA-F7A903399A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C421-4457-4F6C-BB42-B93387623D5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3AB1-B3D5-4AC0-B546-7E8E94B5BC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5F18-8449-48E0-9AEA-886D079120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7F45-75FF-4AA4-88F8-289AC3F72D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633C-315E-437F-B339-53A93D97EA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B215-1E8D-4A7F-A47C-46927861A8D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4389-CF9D-45AA-A898-C391655096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DB83-F0EF-404D-838A-78D358079A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6884-2C84-4453-8F51-1433105D44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1CD6-1831-4E0D-B78F-665B218F83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E12E-142F-41FF-910B-9E150DA869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7F72-F94D-48D2-9F6D-6488F13804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6470-7BB9-4B48-97D4-92BEB46530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1E4A-A29E-42C0-8D77-AE8BD47A73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96A5-2F72-4BE0-A46D-93A8509F77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609D-4655-46EA-8B93-04306610B1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2DA8-0997-472D-9020-389728DCEC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CE24-6C59-4ECD-92EF-0295B03AE3C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9C6B-2AEE-428F-B207-8686BFAA46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F6680-591B-4E18-9F4E-3CC1832DF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BCD9D-3B53-43C1-AD4E-715170ADC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6C0CA-1DDB-40EB-BC9B-6D137FB87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09E5F-E759-47BA-A81E-FD532639A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7F00F-4F36-4ADB-9156-DE04F6764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84138-EAF4-45AC-BFAC-F04626684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4BBFA-FEA6-40E0-8CBA-164BBB3B2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7C793-C46E-4181-879B-C5B14EA53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0E12E-2BD5-42D8-9002-8F9B06A79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85ED4-2048-4F7B-A29A-323C5B167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AED0D-23BD-4B32-8074-7B7C557E2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1B122-F5D0-4B3A-BA18-A2F0222C3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8C1C6-0F89-43B5-93A6-83428011F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9BF3C-8CBC-4C13-997B-FFB3E5213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E0432-C41C-4DA0-BA93-127F419DA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E24B5-B5B0-4534-9A62-5D9C24E43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F7B2F-1553-4FE7-A403-3DD5F19A8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B77126-CA2F-418D-ABCD-52AAE4B847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7DD390-0E5E-4F17-B212-6BE4531D8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1AA2D-13F3-43B0-9D81-72E349651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8FD3E-3B96-4AB5-A08B-B5778A035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28C9D-222C-4887-94E9-3CC73C4FA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95020-A6FB-4B59-B53B-59FA803EF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E1A23-3BC4-4FD8-B84A-B9E4DF1FE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13F4F-BC90-4B22-B270-05C8AF04F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8B1BA-7A7B-49ED-B513-723A4747D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AEC9C-0F50-4DB9-8D5E-E06682821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D2D17-22B9-4777-86EC-00F4F1230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7F8FB0-2726-4764-BDB5-9AF9EAF525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3ECAB1-B787-4CE5-85D4-44F16B6392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AB6301-C2FD-479B-9AB9-EEDFA9ED3F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8F21F0-0D59-4C72-A2DE-5952A984D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7A5F9-73ED-4855-AF6D-7BC9702EC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8707-06DE-432C-82AD-B62AFB0E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8E9DF-97A6-41A9-AACD-37DE14C16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D038BB-3541-4C1E-B034-3B6D56166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413ED7-3480-4A6C-BA0D-B6623914C2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08015-7D08-4A5B-BAAB-B708D5AAA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143BA-E8AE-4D76-8313-DF4F4CF77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BCF9A-5266-41E6-B54E-8987F264B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BA35A-1762-4B04-B781-66F3B7D5B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EA01B-D016-4A0B-A44E-EE6DC5A9B8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51DA59-F34B-41FC-994B-39A0140BD2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51BADF-BCB8-435D-B313-606DB2A8FB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D1C1A-3DF7-4EAF-A353-A90A9CDD3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11A21E-1C5F-4382-B305-47CF509E4E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74BD85-1042-42D9-9181-8C5608247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2BBD92-8374-4B74-B430-8C274412F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41CCA6-892B-48C9-B52A-48D6A4D5A5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EB174-C0EF-426F-917C-1818B7B25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4F1049-B912-47E3-9B68-4DA65FACC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A94BE-1DFA-4ED1-9A6F-C08DFA0F2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89F65-65A9-462C-A156-7079638B6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1616E-49D0-4330-896B-37BCCCCBD9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F75F20-8BB0-4F7E-A815-30BA919CD5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ABE4F-6F48-462D-A568-44FAFA034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0B50E7-F927-4158-9543-91F4B3ED1C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68F4E3-996E-4CE0-B85E-79CFBDE85D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EF4671-79D3-41CD-BF1F-829CE18C5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45334F-BCB2-4461-9D38-0D750E3259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68027B-3FB7-4DA2-9E6F-DF5057B7D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F8A3A4-9CB1-4EAF-B84D-4AD831761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436DC6-2839-4748-B7A3-43BD6C4EE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C45E0-E2D1-4A16-8E96-9DCF2F774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5EBEB-22B6-4A1A-A89F-9DF55BD53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AC4998-03FA-450E-BD6C-62DA16A74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C99F-1321-433E-834C-DB3651CB5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AC9BFE-A0E1-4704-82AD-7FB9039F16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BEDCAE-CDB0-4EF6-8A00-22097C5C4B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1CD695-7A5D-4962-9E53-845EC8F8D7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51002D-83D0-4C2E-8272-0634185978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1BC8BC-D5F3-4870-86AE-29FB823B4F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F6554E-3B3B-47C3-AEC0-728B50B31D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43C94-EAF7-4534-98D3-7BE71AC85F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7EE2A-1097-406A-8EA3-139758004D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B354CE-58BD-4E37-AF2C-61B3789A1A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5ED7B-2879-4524-A0DD-3254BE570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BD541-C1DB-4DE5-9A27-BF920A7BA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3D1F7-BD3D-4B84-8DCC-324081BCA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368AC-28DC-4284-AE73-2E5A13A6A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0D685D-A101-4566-97FE-A283961A3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1F3143-A309-4EB1-9FBF-A2A4AFF844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8686E1-A034-4705-8142-BB9C2117E4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8504-ED39-4CFE-8A17-898A47440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CFBE-5AFC-4F42-AF3C-24EF5D13BC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83F0-2649-4923-ACCC-FBAB19A839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F6B4-75D9-43DD-B6F1-DAD6476988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AB15-B972-4D4B-80F6-B26E658113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25CB-3367-4F69-930C-39EBEED05D4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4EDD-2FFA-44B2-BC8D-F8224DC371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BDB2-1D2A-4956-A0DD-BE2E72D929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814F-7B91-4DD0-9B9C-7417ECD2A11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15C3-BD35-4105-8847-808F4A7FBE5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49BD-B463-40F4-8400-3E0E488AE58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1C40-E35F-46C5-8FA3-DCFA5DFDA7D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096B-D822-435C-8062-E4E5BA2B853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50C7-B53D-4269-ABC6-503AB206200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7203-2998-4561-B31D-22CB1B477C0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6683-94F9-4223-B1D5-F6F32AACB36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buy more or less</a:t>
            </a:r>
            <a:br>
              <a:rPr sz="2200"/>
            </a:br>
            <a:r>
              <a:rPr b="0" lang="en-US" sz="2200" spc="-1" strike="noStrike">
                <a:solidFill>
                  <a:srgbClr val="000000"/>
                </a:solidFill>
                <a:latin typeface="Arial"/>
              </a:rPr>
              <a:t>of a product when the </a:t>
            </a:r>
            <a:br>
              <a:rPr sz="2200"/>
            </a:br>
            <a:r>
              <a:rPr b="0" lang="en-US" sz="2200" spc="-1" strike="noStrike">
                <a:solidFill>
                  <a:srgbClr val="000000"/>
                </a:solidFill>
                <a:latin typeface="Arial"/>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crease or a decrease in </a:t>
            </a:r>
            <a:br>
              <a:rPr sz="2200"/>
            </a:br>
            <a:r>
              <a:rPr b="0" lang="en-US" sz="2200" spc="-1" strike="noStrike">
                <a:solidFill>
                  <a:srgbClr val="000000"/>
                </a:solidFill>
                <a:latin typeface="Arial"/>
              </a:rPr>
              <a:t>price will not significantly </a:t>
            </a:r>
            <a:br>
              <a:rPr sz="2200"/>
            </a:br>
            <a:r>
              <a:rPr b="0" lang="en-US" sz="2200" spc="-1" strike="noStrike">
                <a:solidFill>
                  <a:srgbClr val="000000"/>
                </a:solidFill>
                <a:latin typeface="Arial"/>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E95E-7D72-4114-98B1-94A57BB190A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1 </a:t>
            </a:r>
            <a:r>
              <a:rPr b="0" lang="en-US" sz="2800" spc="-1" strike="noStrike">
                <a:solidFill>
                  <a:srgbClr val="000000"/>
                </a:solidFill>
                <a:latin typeface="Arial"/>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2 </a:t>
            </a:r>
            <a:r>
              <a:rPr b="0" lang="en-US" sz="2800" spc="-1" strike="noStrike">
                <a:solidFill>
                  <a:srgbClr val="000000"/>
                </a:solidFill>
                <a:latin typeface="Arial"/>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3 </a:t>
            </a:r>
            <a:r>
              <a:rPr b="0" lang="en-US" sz="2800" spc="-1" strike="noStrike">
                <a:solidFill>
                  <a:srgbClr val="000000"/>
                </a:solidFill>
                <a:latin typeface="Arial"/>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D813-65FF-4DDA-A322-DA1FC58A955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877C-9D30-47BB-89FA-22DCFAB8385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5C28-6281-480A-B24C-597FD6B64F3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58E7-98C7-4CBB-A5BC-1A429D0A647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scribe cost-oriented </a:t>
            </a:r>
            <a:br>
              <a:rPr sz="3000"/>
            </a:br>
            <a:r>
              <a:rPr b="1" lang="en-US" sz="3000" spc="-1" strike="noStrike">
                <a:solidFill>
                  <a:srgbClr val="000000"/>
                </a:solidFill>
                <a:latin typeface="Arial"/>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C9E1-4653-4CCA-B33A-F946CD29D34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78080" y="2011320"/>
            <a:ext cx="6297480" cy="303696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87E5-8A37-452F-B92A-CD5053F8274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5998-AE74-4AAC-A559-F46DFA2FE8D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347E-2217-4FA3-9206-5A2E43CE146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4 </a:t>
            </a:r>
            <a:r>
              <a:rPr b="0" lang="en-US" sz="2800" spc="-1" strike="noStrike">
                <a:solidFill>
                  <a:srgbClr val="000000"/>
                </a:solidFill>
                <a:latin typeface="Arial"/>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5 </a:t>
            </a:r>
            <a:r>
              <a:rPr b="0" lang="en-US" sz="2800" spc="-1" strike="noStrike">
                <a:solidFill>
                  <a:srgbClr val="000000"/>
                </a:solidFill>
                <a:latin typeface="Arial"/>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6 </a:t>
            </a:r>
            <a:r>
              <a:rPr b="0" lang="en-US" sz="2800" spc="-1" strike="noStrike">
                <a:solidFill>
                  <a:srgbClr val="000000"/>
                </a:solidFill>
                <a:latin typeface="Arial"/>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875A-C127-4CAA-8125-C096497008D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AFEB-D7D0-4C4B-B861-FABA95AEA598}"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3D38-C3C7-48D1-95E7-1D0B33CB0C80}"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prstGeom prst="pie">
              <a:avLst/>
            </a:prstGeom>
            <a:solidFill>
              <a:srgbClr val="d9d9d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prstGeom prst="pie">
              <a:avLst/>
            </a:prstGeom>
            <a:solidFill>
              <a:srgbClr val="b7dee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prstGeom prst="pie">
              <a:avLst/>
            </a:prstGeom>
            <a:solidFill>
              <a:srgbClr val="b7dee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prstGeom prst="pie">
              <a:avLst/>
            </a:prstGeom>
            <a:solidFill>
              <a:srgbClr val="d9d9d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prstGeom prst="pie">
              <a:avLst/>
            </a:prstGeom>
            <a:solidFill>
              <a:srgbClr val="b7dee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C5C3-1674-46F6-AF0F-00F184423100}"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C1B7-9D30-4BB3-A3D6-08E20FF3A4EA}"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6E48-2ADE-4312-903C-CA09F32E3F6A}"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7 </a:t>
            </a:r>
            <a:r>
              <a:rPr b="0" lang="en-US" sz="2800" spc="-1" strike="noStrike">
                <a:solidFill>
                  <a:srgbClr val="000000"/>
                </a:solidFill>
                <a:latin typeface="Arial"/>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8 </a:t>
            </a:r>
            <a:r>
              <a:rPr b="0" lang="en-US" sz="2800" spc="-1" strike="noStrike">
                <a:solidFill>
                  <a:srgbClr val="000000"/>
                </a:solidFill>
                <a:latin typeface="Arial"/>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9 </a:t>
            </a:r>
            <a:r>
              <a:rPr b="0" lang="en-US" sz="2800" spc="-1" strike="noStrike">
                <a:solidFill>
                  <a:srgbClr val="000000"/>
                </a:solidFill>
                <a:latin typeface="Arial"/>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E954-19CD-44FE-9AB3-00DE11EF69D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603A-50FC-425D-A4DC-E70F1BBB862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DF95-434A-4CFC-A3C0-C445951810C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0718-9492-4DF1-82F9-1AA6FEFC5D6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9:52Z</dcterms:modified>
  <cp:revision>657</cp:revision>
  <dc:subject>An Overview of Marketing</dc:subject>
  <dc:title>Chapter 1</dc:title>
</cp:coreProperties>
</file>