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25B-6705-4ED3-B903-0FE05AC7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318-E215-4E78-9C24-D6A6CFDE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3F9-A99E-43D9-A21A-186FA37F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D26-195C-468B-BC22-5330AF8B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7CE-A819-424D-86F1-6560FBF2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224-6D30-4689-8619-36002E42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88F-03C2-4268-8E8F-746B346B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960-9537-4FBD-8CFE-43B4815E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2F1-6A30-4ADE-A102-57DAD0FF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614-0CED-4571-9F71-D3F33B1A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EC0-54D9-4714-80F4-232EFB78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DCC-209F-451A-AF5A-9FEE14E7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7817-A01D-45F0-9FA1-2D9E9AEBA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844640"/>
            <a:ext cx="5112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344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حدق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ميكروبيولوجيا المياه</a:t>
            </a: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و الصرف الصح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49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Khalid Art bold"/>
              </a:rPr>
              <a:t>ا. الجوهرة العب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Mudir MT"/>
              </a:rPr>
              <a:t>alalabbad@ksu.edu.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ثالث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خطوات عمل التج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68360" y="907920"/>
            <a:ext cx="826272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حت ظروف التعقيم يتم تلقيح بيئة مرق التربتوفان بلاقحة من الأنابيب التي أعطت نتيجة موجبة من الاختبار السابق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م تلقيح أنبوبة واحدة ببكتيريا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ككنتر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حضن الأنابيب عند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لمدة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ساع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ضف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نقاط من كاشف كوفا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فحص النتائ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رابع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نتـــــــ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45744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47640" y="765000"/>
            <a:ext cx="6266160" cy="50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5113440" cy="410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468360" y="476280"/>
            <a:ext cx="8262720" cy="63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كون كاشف كوفاك م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methyl aminobenzaldehyd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amyl or Isobutyl alcoho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ated HC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كون الحلقة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حمراء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دليل على تحرر الأندول من مركب التربتوفان بواسطة انزيم 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تربتوفينيز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الموجود في البيئة, ويستدل على تحرر الأندول بتفاعله مع دليل الألدهايد الموجود في الكاش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2492280"/>
            <a:ext cx="446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  <a:cs typeface="Hacen Tehran"/>
              </a:rPr>
              <a:t>نهاية المعمل</a:t>
            </a:r>
            <a:br>
              <a:rPr sz="4800"/>
            </a:br>
            <a:r>
              <a:rPr b="0" lang="ar-SA" sz="4800" spc="-1" strike="noStrike">
                <a:solidFill>
                  <a:srgbClr val="ff0000"/>
                </a:solidFill>
                <a:latin typeface="Arial"/>
                <a:ea typeface="Hacen Tehran"/>
              </a:rPr>
              <a:t> الساد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Community_Support_hug_by_PunkyB"/>
          <p:cNvPicPr/>
          <p:nvPr/>
        </p:nvPicPr>
        <p:blipFill>
          <a:blip r:embed="rId2"/>
          <a:stretch/>
        </p:blipFill>
        <p:spPr>
          <a:xfrm>
            <a:off x="3635280" y="4508640"/>
            <a:ext cx="189396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0" y="537336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المعمل الساد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5950080"/>
            <a:ext cx="76964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اختبارات التفرقة بين مجموعة القولون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      </a:t>
            </a:r>
            <a:r>
              <a:rPr b="0" lang="ar-SA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IM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بدون-عنوان-2.png"/>
          <p:cNvPicPr/>
          <p:nvPr/>
        </p:nvPicPr>
        <p:blipFill>
          <a:blip r:embed="rId2"/>
          <a:stretch/>
        </p:blipFill>
        <p:spPr>
          <a:xfrm>
            <a:off x="2843280" y="148428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324000" y="549360"/>
            <a:ext cx="826272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بعد ظهور نتائج الاختبارات السابقة و التحقق من وجود مجموعة ميكروبات القولون يتم عمل الاختبارات التالية لها وذلك للتفرقة بينها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 انتاج الأند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 أحمر الميثاي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 فوجس بروسك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 تمثيل الستر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904000" y="5373720"/>
            <a:ext cx="3240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الاختبار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560" y="5950080"/>
            <a:ext cx="763452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نتــــاج الأنـــدو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Khalid Art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Indole produc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أول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أساس العلمي للتج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979640" y="692280"/>
            <a:ext cx="696744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بعض أنواع البكتيريا لها القدرة على تحليل الحمض الأميني (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تربتوفا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و تحرير مركب الأندول و حمض البيروفي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ستدل عليه باستخدام دليل كوفاك  حيث تتكون حلقة أو طبقة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مراء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وق البيئ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4581360"/>
            <a:ext cx="3619440" cy="17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11280" y="692280"/>
            <a:ext cx="8335800" cy="61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بعض أنواع البكتيريا لها القدرة على تحليل الحمض الأميني (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تربتوفا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و تحرير مركب الأندول و حمض البيروفي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ستدل عليه باستخدام دليل كوفاك  حيث تتكون حلقة أو طبقة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مراء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وق البيئ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نلاحظ أن </a:t>
            </a:r>
            <a:r>
              <a:rPr b="0" i="1" lang="en-US" sz="3200" spc="-1" strike="noStrike">
                <a:solidFill>
                  <a:srgbClr val="ffffff"/>
                </a:solidFill>
                <a:latin typeface="Imprint MT Shadow"/>
                <a:ea typeface="Times New Roman"/>
              </a:rPr>
              <a:t>E.coli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عطي نتيجة ( + ) بينما </a:t>
            </a:r>
            <a:r>
              <a:rPr b="0" i="1" lang="en-US" sz="3200" spc="-1" strike="noStrike">
                <a:solidFill>
                  <a:srgbClr val="ffffff"/>
                </a:solidFill>
                <a:latin typeface="Imprint MT Shadow"/>
                <a:ea typeface="Times New Roman"/>
              </a:rPr>
              <a:t>Aerobact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Imprint MT Shadow"/>
                <a:ea typeface="Times New Roman"/>
              </a:rPr>
              <a:t>aerogenes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عطي نتيجة ( -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5661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Tryptophan</a:t>
            </a:r>
            <a:r>
              <a:rPr b="0" lang="ar-SA" sz="2400" spc="-1" strike="noStrike">
                <a:solidFill>
                  <a:srgbClr val="ffffff"/>
                </a:solidFill>
                <a:latin typeface="Imprint MT Shad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+ H</a:t>
            </a:r>
            <a:r>
              <a:rPr b="0" lang="en-US" sz="1200" spc="-1" strike="noStrike">
                <a:solidFill>
                  <a:srgbClr val="ffffff"/>
                </a:solidFill>
                <a:latin typeface="Imprint MT Shad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           Indole </a:t>
            </a:r>
            <a:r>
              <a:rPr b="0" lang="en-US" sz="2400" spc="-1" strike="noStrike">
                <a:solidFill>
                  <a:srgbClr val="ff0000"/>
                </a:solidFill>
                <a:latin typeface="Imprint MT Shadow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 pyroph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5445000"/>
            <a:ext cx="2303280" cy="1079640"/>
          </a:xfrm>
          <a:prstGeom prst="rightArrow">
            <a:avLst>
              <a:gd name="adj1" fmla="val 50000"/>
              <a:gd name="adj2" fmla="val 5333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Imprint MT Shadow"/>
              </a:rPr>
              <a:t>E.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Imprint MT Shadow"/>
              </a:rPr>
              <a:t>Kovac’s reagent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ثانيا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أدوات و المواد اللاز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بدون-عنوان-4.png"/>
          <p:cNvPicPr/>
          <p:nvPr/>
        </p:nvPicPr>
        <p:blipFill>
          <a:blip r:embed="rId2"/>
          <a:stretch/>
        </p:blipFill>
        <p:spPr>
          <a:xfrm>
            <a:off x="2795760" y="1484280"/>
            <a:ext cx="355248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24000" y="1341360"/>
            <a:ext cx="826272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بيب من بيئة مرق التربتوفا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ابيب التي أعطت نتيجة من الاختبار التكمي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ليل كوفاك  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Times New Roman"/>
              </a:rPr>
              <a:t>Kovac’s reagent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بر تلقيح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0000"/>
                </a:solidFill>
                <a:uFillTx/>
                <a:latin typeface="Hacen Tehran"/>
                <a:cs typeface="Khalid Art bold"/>
              </a:rPr>
              <a:t>الأدوات و المواد اللاز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55640" y="3933720"/>
            <a:ext cx="309564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5:58:29Z</dcterms:created>
  <dc:creator>jbroOot</dc:creator>
  <dc:description/>
  <dc:language>en-US</dc:language>
  <cp:lastModifiedBy>jbroOot</cp:lastModifiedBy>
  <dcterms:modified xsi:type="dcterms:W3CDTF">2011-03-29T18:34:29Z</dcterms:modified>
  <cp:revision>36</cp:revision>
  <dc:subject/>
  <dc:title>كائنات ممرضة  للنبات</dc:title>
</cp:coreProperties>
</file>