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A3A-82D5-47AC-A458-6265F7BD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F90-DDA9-4F61-9E13-DFE280D2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27DC-1262-4F2F-B0AE-B7302FE6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78C-E61C-42B5-A88D-83DC33FE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E2D-984B-4D47-BE7E-B0A532B7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AA3-5FDA-4046-BFE4-6F3ECE51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4507-A822-429B-A7A0-DDC0254C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E51-E92B-4D36-8223-1A7DDD67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15A-A405-469C-B070-43002594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5A5-F248-41FD-A64E-F03DC6A5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B5B-3001-49E9-B90A-F1A3FDEF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935-15C9-46A2-B962-BB1CB638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D1B7-1C11-4467-87AB-96ACEE612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844640"/>
            <a:ext cx="5112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344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حدق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ميكروبيولوجيا المياه</a:t>
            </a:r>
            <a:br>
              <a:rPr sz="3200"/>
            </a:b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و الصرف الصح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14936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Khalid Art bold"/>
              </a:rPr>
              <a:t>ا. الجوهرة العب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Mudir MT"/>
              </a:rPr>
              <a:t>alalabbad@ksu.edu.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468360" y="549360"/>
            <a:ext cx="8262720" cy="69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حت ظروف التعقيم يتم تلقيح بيئة مرق الجلوكوز بلاقحة من الأنابيب التي أعطت نتيجة موجبة من الاختبار السابق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تم تلقيح أنبوبة واحدة ببكتيريا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 coli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تم ابقاء الأنبوبة الثالثة بدون تلقيح كـ كنترو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حضن الأنابيب عند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لمدة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يا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ضف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نقط من دليل أحمر الميثايل مع الرج الخفيف لمدة م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دقيق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فحص النتائج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رابعاً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لنتـــــــائ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136000" cy="619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7620120" cy="517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8"/>
          <p:cNvSpPr/>
          <p:nvPr/>
        </p:nvSpPr>
        <p:spPr>
          <a:xfrm>
            <a:off x="468360" y="476280"/>
            <a:ext cx="8262720" cy="63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تكون كاشف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hyl Re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hyl red indica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hyl alcohol 95%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. Wat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ندما تخمر البكتيريا سكر الجولوكوز أو اللاكتوز فإن أول ناتج عمليات التخمر هو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yruvic aci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كناتج أساسي لجميع البكتيرات, ثم تختلف بعدها مسارات التخمر حسب احتياج البكتيريا الهوائ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3"/>
          <p:cNvSpPr/>
          <p:nvPr/>
        </p:nvSpPr>
        <p:spPr>
          <a:xfrm>
            <a:off x="2987640" y="476280"/>
            <a:ext cx="3168720" cy="792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Khalid Art bold"/>
              </a:rPr>
              <a:t>النتائج حسب التخمر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Khalid Ar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Khalid Art bold"/>
              </a:rPr>
              <a:t>لما بعد حمض البيروفي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1403280" y="1989000"/>
            <a:ext cx="1295640" cy="865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6516720" y="1989000"/>
            <a:ext cx="1224000" cy="8636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11"/>
          <p:cNvCxnSpPr>
            <a:stCxn id="77" idx="0"/>
            <a:endCxn id="76" idx="1"/>
          </p:cNvCxnSpPr>
          <p:nvPr/>
        </p:nvCxnSpPr>
        <p:spPr>
          <a:xfrm flipV="1">
            <a:off x="2050920" y="872280"/>
            <a:ext cx="928080" cy="1088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80" name="AutoShape 12"/>
          <p:cNvCxnSpPr/>
          <p:nvPr/>
        </p:nvCxnSpPr>
        <p:spPr>
          <a:xfrm>
            <a:off x="6156000" y="907560"/>
            <a:ext cx="964440" cy="1088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81" name="AutoShape 6"/>
          <p:cNvSpPr/>
          <p:nvPr/>
        </p:nvSpPr>
        <p:spPr>
          <a:xfrm>
            <a:off x="5435640" y="4292640"/>
            <a:ext cx="3384360" cy="1800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بكتريا تخمر الجلوكو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منتجة نواتج حامض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مثل الـ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Format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الـ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Acetate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و تخفض بذلك قيمة 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pH</a:t>
            </a:r>
            <a:r>
              <a:rPr b="0" lang="ar-SA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12"/>
          <p:cNvCxnSpPr>
            <a:endCxn id="81" idx="0"/>
          </p:cNvCxnSpPr>
          <p:nvPr/>
        </p:nvCxnSpPr>
        <p:spPr>
          <a:xfrm flipH="1">
            <a:off x="7127640" y="2852280"/>
            <a:ext cx="2160" cy="1412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83" name="AutoShape 6"/>
          <p:cNvSpPr/>
          <p:nvPr/>
        </p:nvSpPr>
        <p:spPr>
          <a:xfrm>
            <a:off x="324000" y="4292640"/>
            <a:ext cx="3527280" cy="1800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بكتريا تخمر الجلوكو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منتجة نواتج ذات 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pH</a:t>
            </a:r>
            <a:r>
              <a:rPr b="0" lang="ar-SA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متعادل تقريبا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مثل الـ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Acetoin</a:t>
            </a:r>
            <a:r>
              <a:rPr b="0" lang="ar-SA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و الـ 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Butanidol</a:t>
            </a:r>
            <a:r>
              <a:rPr b="0" lang="ar-SA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و بالتالي تنخفض قيمة 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pH</a:t>
            </a:r>
            <a:r>
              <a:rPr b="0" lang="ar-SA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بصو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قليلة جدا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12"/>
          <p:cNvCxnSpPr>
            <a:stCxn id="77" idx="2"/>
            <a:endCxn id="83" idx="0"/>
          </p:cNvCxnSpPr>
          <p:nvPr/>
        </p:nvCxnSpPr>
        <p:spPr>
          <a:xfrm>
            <a:off x="2050920" y="2882520"/>
            <a:ext cx="37440" cy="13820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40000" y="2492280"/>
            <a:ext cx="4465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  <a:cs typeface="Hacen Tehran"/>
              </a:rPr>
              <a:t>نهاية المعمل</a:t>
            </a:r>
            <a:br>
              <a:rPr sz="4800"/>
            </a:br>
            <a:r>
              <a:rPr b="0" lang="ar-SA" sz="4800" spc="-1" strike="noStrike">
                <a:solidFill>
                  <a:srgbClr val="ff0000"/>
                </a:solidFill>
                <a:latin typeface="Arial"/>
                <a:ea typeface="Hacen Tehran"/>
              </a:rPr>
              <a:t> الساب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Community_Support_hug_by_PunkyB"/>
          <p:cNvPicPr/>
          <p:nvPr/>
        </p:nvPicPr>
        <p:blipFill>
          <a:blip r:embed="rId2"/>
          <a:stretch/>
        </p:blipFill>
        <p:spPr>
          <a:xfrm>
            <a:off x="3635280" y="4508640"/>
            <a:ext cx="1893960" cy="56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4000" y="537336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المعمل الساب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9640" y="5950080"/>
            <a:ext cx="799308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تابع اختبارات التفرقة بين مجموعة القولون</a:t>
            </a:r>
            <a:r>
              <a:rPr b="0" lang="en-US" sz="28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      </a:t>
            </a:r>
            <a:r>
              <a:rPr b="0" lang="ar-SA" sz="28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IM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بدون-عنوان-2.png"/>
          <p:cNvPicPr/>
          <p:nvPr/>
        </p:nvPicPr>
        <p:blipFill>
          <a:blip r:embed="rId2"/>
          <a:stretch/>
        </p:blipFill>
        <p:spPr>
          <a:xfrm>
            <a:off x="2843280" y="148428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5904000" y="5373720"/>
            <a:ext cx="3240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الاختبار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042560" y="5950080"/>
            <a:ext cx="763452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ختبار أحمر الميثاي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Khalid Art bol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Methyl red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أولاً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لأساس العلمي للتجر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684360" y="1197000"/>
            <a:ext cx="811980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بعض أنواع بكتيريا مجموعة القولون لها القدرة على تخمر الكربوهيدرات ( السكريات كالجلوكوز ) منتجة أحماض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هذا الاختبار يقوم بتمييز الأنواع الميكروبية المنتجة  للأحماض بكميات كبيرة عن التي لا تنتج إلا كميات قليل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95280" y="404640"/>
            <a:ext cx="8335800" cy="90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ستدل على قدرة البكتيريا على تخمر السكريات الموجودة في البيئة باستخدام دليل أحمر الميثاي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hyl Red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ختلف درجة اللون الناتج باختلاف كمية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أحماض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المنتجة في الوسط البيئي فكلما كانت الكمية 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كبيرة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حول لون الدليل إلى اللون الأحمر ( أي أن كمية الحمض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كافية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لتغيير اللون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حين أن الأنواع التي أنتجت كمية 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قليلة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ن الأحماض فيظل لون الدليل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صفر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وذلك لعدم وجود كمية كافية من الحمض لتغيير لون الدلي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ثانيا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لأدوات و المواد اللاز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بدون-عنوان-4.png"/>
          <p:cNvPicPr/>
          <p:nvPr/>
        </p:nvPicPr>
        <p:blipFill>
          <a:blip r:embed="rId2"/>
          <a:stretch/>
        </p:blipFill>
        <p:spPr>
          <a:xfrm>
            <a:off x="2795760" y="1484280"/>
            <a:ext cx="355248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324000" y="1341360"/>
            <a:ext cx="826272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ابيب من بيئة مرق الجلوكوز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cose broth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ابيب التي أعطت نتيجة من الاختبار التكميل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زارع نقية من بكتيريا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. c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ليل أحمر الميثايل  </a:t>
            </a:r>
            <a:r>
              <a:rPr b="0" lang="en-US" sz="2800" spc="-1" strike="noStrike">
                <a:solidFill>
                  <a:srgbClr val="ffffff"/>
                </a:solidFill>
                <a:latin typeface="Imprint MT Shadow"/>
                <a:ea typeface="Times New Roman"/>
              </a:rPr>
              <a:t>Methyl Red reagent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بر تلقيح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0000"/>
                </a:solidFill>
                <a:uFillTx/>
                <a:latin typeface="Hacen Tehran"/>
                <a:cs typeface="Khalid Art bold"/>
              </a:rPr>
              <a:t>الأدوات و المواد اللازم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2257200" cy="29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ثالثاً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خطوات عمل التجر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5:58:29Z</dcterms:created>
  <dc:creator>jbroOot</dc:creator>
  <dc:description/>
  <dc:language>en-US</dc:language>
  <cp:lastModifiedBy>jbroOot</cp:lastModifiedBy>
  <dcterms:modified xsi:type="dcterms:W3CDTF">2011-04-19T17:20:59Z</dcterms:modified>
  <cp:revision>40</cp:revision>
  <dc:subject/>
  <dc:title>كائنات ممرضة  للنبات</dc:title>
</cp:coreProperties>
</file>