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667E-EA1B-44AE-A17C-876C483B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9E1-8D22-4576-AA3F-4775E484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01D-E332-460F-AB39-D3537C8B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C89-7293-4AC1-8C6C-1414AB89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56B-FF13-4578-8227-4D804DE0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987-08E5-4CF9-B357-65425E01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FAC-0336-45AF-863F-B056B814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A366-2E05-4268-82DD-171B8DAD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108-1C35-43B6-8C4C-CD7172D9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A9F-0C2C-4F69-817E-08B4AEE8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60A-E315-4844-BF13-7E511759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FA1D-BD8C-4C9B-99EC-DEE9F141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D38E-8D53-4B72-ACDF-02A520835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1844640"/>
            <a:ext cx="5112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344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حدق</a:t>
            </a:r>
            <a:br>
              <a:rPr sz="3200"/>
            </a:b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ميكروبيولوجيا المياه</a:t>
            </a:r>
            <a:br>
              <a:rPr sz="3200"/>
            </a:b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و الصرف الصح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149360"/>
            <a:ext cx="64008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  <a:cs typeface="Khalid Art bold"/>
              </a:rPr>
              <a:t>ا. الجوهرة العب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Mudir MT"/>
              </a:rPr>
              <a:t>alalabbad@ksu.edu.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68360" y="549360"/>
            <a:ext cx="8262720" cy="69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حت ظروف التعقيم يتم تلقيح بيئة مرق الجلوكوز بلاقحة من الأنابيب التي أعطت نتيجة موجبة من الاختبار السابق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م تلقيح أنبوبة واحدة ببكتيريا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 coli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م ابقاء الأنبوبة الثالثة بدون تلقيح كـ كنتر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حضن الأنابيب عند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7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لمدة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يا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أضف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نقط من دليل أحمر الميثايل مع الرج الخفيف لمدة م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دقيق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فحص النتائ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رابع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نتـــــــ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8136000" cy="619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7620120" cy="517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8"/>
          <p:cNvSpPr/>
          <p:nvPr/>
        </p:nvSpPr>
        <p:spPr>
          <a:xfrm>
            <a:off x="468360" y="476280"/>
            <a:ext cx="8262720" cy="63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تكون كاشف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yl Re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ن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thyl red 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hyl alcohol 95%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.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5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عندما تخمر البكتيريا سكر الجولوكوز أو اللاكتوز فإن أول ناتج عمليات التخمر هو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yruvic aci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كناتج أساسي لجميع البكتيرات, ثم تختلف بعدها مسارات التخمر حسب احتياج البكتيريا الهوائ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3"/>
          <p:cNvSpPr/>
          <p:nvPr/>
        </p:nvSpPr>
        <p:spPr>
          <a:xfrm>
            <a:off x="2987640" y="476280"/>
            <a:ext cx="3168720" cy="792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Khalid Art bold"/>
              </a:rPr>
              <a:t>النتائج حسب التخمر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Khalid Ar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Khalid Art bold"/>
              </a:rPr>
              <a:t>لما بعد حمض البيروفي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403280" y="1989000"/>
            <a:ext cx="1295640" cy="865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6516720" y="1989000"/>
            <a:ext cx="1224000" cy="863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11"/>
          <p:cNvCxnSpPr>
            <a:stCxn id="77" idx="0"/>
            <a:endCxn id="76" idx="1"/>
          </p:cNvCxnSpPr>
          <p:nvPr/>
        </p:nvCxnSpPr>
        <p:spPr>
          <a:xfrm flipV="1">
            <a:off x="2050920" y="872280"/>
            <a:ext cx="928080" cy="1088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cxnSp>
        <p:nvCxnSpPr>
          <p:cNvPr id="80" name="AutoShape 12"/>
          <p:cNvCxnSpPr/>
          <p:nvPr/>
        </p:nvCxnSpPr>
        <p:spPr>
          <a:xfrm>
            <a:off x="6156000" y="907560"/>
            <a:ext cx="964440" cy="1088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81" name="AutoShape 6"/>
          <p:cNvSpPr/>
          <p:nvPr/>
        </p:nvSpPr>
        <p:spPr>
          <a:xfrm>
            <a:off x="5435640" y="4292640"/>
            <a:ext cx="3384360" cy="1800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بكتريا تخمر الجلوكو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منتجة نواتج حامض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مثل الـ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Format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و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الـ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Acetate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و تخفض بذلك قيمة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pH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AutoShape 12"/>
          <p:cNvCxnSpPr>
            <a:endCxn id="81" idx="0"/>
          </p:cNvCxnSpPr>
          <p:nvPr/>
        </p:nvCxnSpPr>
        <p:spPr>
          <a:xfrm flipH="1">
            <a:off x="7127640" y="2852280"/>
            <a:ext cx="2160" cy="141228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  <p:sp>
        <p:nvSpPr>
          <p:cNvPr id="83" name="AutoShape 6"/>
          <p:cNvSpPr/>
          <p:nvPr/>
        </p:nvSpPr>
        <p:spPr>
          <a:xfrm>
            <a:off x="324000" y="4292640"/>
            <a:ext cx="3527280" cy="18003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بكتريا تخمر الجلوكو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منتجة نواتج ذات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pH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متعادل تقريب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مثل الـ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Acetoin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و الـ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Butanidol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و بالتالي تنخفض قيمة </a:t>
            </a:r>
            <a:r>
              <a:rPr b="0" lang="en-US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pH</a:t>
            </a:r>
            <a:r>
              <a:rPr b="0" lang="ar-SA" sz="20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بصو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قليلة جدا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12"/>
          <p:cNvCxnSpPr>
            <a:stCxn id="77" idx="2"/>
            <a:endCxn id="83" idx="0"/>
          </p:cNvCxnSpPr>
          <p:nvPr/>
        </p:nvCxnSpPr>
        <p:spPr>
          <a:xfrm>
            <a:off x="2050920" y="2882520"/>
            <a:ext cx="37440" cy="1382040"/>
          </a:xfrm>
          <a:prstGeom prst="straightConnector1">
            <a:avLst/>
          </a:prstGeom>
          <a:ln w="19080">
            <a:solidFill>
              <a:srgbClr val="ffffff"/>
            </a:solidFill>
            <a:miter/>
          </a:ln>
        </p:spPr>
      </p:cxn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40000" y="2492280"/>
            <a:ext cx="446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Arial"/>
                <a:cs typeface="Hacen Tehran"/>
              </a:rPr>
              <a:t>نهاية المعمل</a:t>
            </a:r>
            <a:br>
              <a:rPr sz="4800"/>
            </a:br>
            <a:r>
              <a:rPr b="0" lang="ar-SA" sz="4800" spc="-1" strike="noStrike">
                <a:solidFill>
                  <a:srgbClr val="ff0000"/>
                </a:solidFill>
                <a:latin typeface="Arial"/>
                <a:ea typeface="Hacen Tehran"/>
              </a:rPr>
              <a:t> الساب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ommunity_Support_hug_by_PunkyB"/>
          <p:cNvPicPr/>
          <p:nvPr/>
        </p:nvPicPr>
        <p:blipFill>
          <a:blip r:embed="rId2"/>
          <a:stretch/>
        </p:blipFill>
        <p:spPr>
          <a:xfrm>
            <a:off x="3635280" y="4508640"/>
            <a:ext cx="1893960" cy="56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904000" y="537336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المعمل الساب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5950080"/>
            <a:ext cx="7993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Imprint MT Shadow"/>
                <a:cs typeface="Khalid Art bold"/>
              </a:rPr>
              <a:t>تابع اختبارات التفرقة بين مجموعة القولون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      </a:t>
            </a:r>
            <a:r>
              <a:rPr b="0" lang="ar-SA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IMV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بدون-عنوان-2.png"/>
          <p:cNvPicPr/>
          <p:nvPr/>
        </p:nvPicPr>
        <p:blipFill>
          <a:blip r:embed="rId2"/>
          <a:stretch/>
        </p:blipFill>
        <p:spPr>
          <a:xfrm>
            <a:off x="2843280" y="1484280"/>
            <a:ext cx="352908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5904000" y="5373720"/>
            <a:ext cx="3240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الاختبار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042560" y="5950080"/>
            <a:ext cx="763452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ختبار أحمر الميثايل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Khalid Art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Imprint MT Shadow"/>
                <a:ea typeface="Khalid Art bold"/>
              </a:rPr>
              <a:t>Methyl red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أول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أساس العلمي للتج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84360" y="1197000"/>
            <a:ext cx="811980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بعض أنواع بكتيريا مجموعة القولون لها القدرة على تخمر الكربوهيدرات ( السكريات كالجلوكوز ) منتجة أحماض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هذا الاختبار يقوم بتمييز الأنواع الميكروبية المنتجة  للأحماض بكميات كبيرة عن التي لا تنتج إلا كميات قلي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95280" y="404640"/>
            <a:ext cx="8335800" cy="90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يستدل على قدرة البكتيريا على تخمر السكريات الموجودة في البيئة باستخدام دليل أحمر الميثاي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hyl Red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ختلف درجة اللون الناتج باختلاف كمية 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الأحماض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المنتجة في الوسط البيئي فكلما كانت الكمية 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كبير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تحول لون الدليل إلى اللون الأحمر ( أي أن كمية الحمض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كافي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لتغيير اللو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في حين أن الأنواع التي أنتجت كمية 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cs typeface="Times New Roman"/>
              </a:rPr>
              <a:t>قليلة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من الأحماض فيظل لون الدليل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أصفر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وذلك لعدم وجود كمية كافية من الحمض لتغيير لون الدلي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ثانيا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الأدوات و المواد اللاز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بدون-عنوان-4.png"/>
          <p:cNvPicPr/>
          <p:nvPr/>
        </p:nvPicPr>
        <p:blipFill>
          <a:blip r:embed="rId2"/>
          <a:stretch/>
        </p:blipFill>
        <p:spPr>
          <a:xfrm>
            <a:off x="2795760" y="1484280"/>
            <a:ext cx="355248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324000" y="260280"/>
            <a:ext cx="8569080" cy="633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324000" y="1341360"/>
            <a:ext cx="82627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نابيب من بيئة مرق الجلوكوز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ucose broth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ابيب التي أعطت نتيجة من الاختبار التكميلي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مزارع نقية من بكتيريا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. c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دليل أحمر الميثايل  </a:t>
            </a:r>
            <a:r>
              <a:rPr b="0" lang="en-US" sz="2800" spc="-1" strike="noStrike">
                <a:solidFill>
                  <a:srgbClr val="ffffff"/>
                </a:solidFill>
                <a:latin typeface="Imprint MT Shadow"/>
                <a:ea typeface="Times New Roman"/>
              </a:rPr>
              <a:t>Methyl Red reagent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بر تلقيح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0000"/>
                </a:solidFill>
                <a:uFillTx/>
                <a:latin typeface="Hacen Tehran"/>
                <a:cs typeface="Khalid Art bold"/>
              </a:rPr>
              <a:t>الأدوات و المواد اللازم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2257200" cy="29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16720" y="5444640"/>
            <a:ext cx="32400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Hacen Tehran"/>
              </a:rPr>
              <a:t>ثالثاً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Arial"/>
                <a:ea typeface="Hacen Tehr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411280" y="5877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Khalid Art bold"/>
              </a:rPr>
              <a:t>خطوات عمل التجر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843280" y="1484280"/>
            <a:ext cx="345744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5:58:29Z</dcterms:created>
  <dc:creator>jbroOot</dc:creator>
  <dc:description/>
  <dc:language>en-US</dc:language>
  <cp:lastModifiedBy>jbroOot</cp:lastModifiedBy>
  <dcterms:modified xsi:type="dcterms:W3CDTF">2011-04-19T17:20:59Z</dcterms:modified>
  <cp:revision>40</cp:revision>
  <dc:subject/>
  <dc:title>كائنات ممرضة  للنبات</dc:title>
</cp:coreProperties>
</file>