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gif" ContentType="image/gif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E1E1-E4E0-46CF-B528-69BD76F3F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AC31-30F5-438C-9331-D9061AB3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6FB5-BBDC-4884-B47B-B7E94FCD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859D-75D0-4649-A430-8612BD06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42E2-947E-47DA-AEB3-E19349F4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F6F4-ACC6-4FC5-BCD5-5E3ED4DE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FA70-6FA9-41D8-9588-F10C166C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CD72-8BC6-451A-AC34-C9E2ED36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E032-FF5D-492C-A91B-7F607BE5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AA90-048E-4305-B834-A7D3751B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FE52-A931-4A70-9DB6-FE929B95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58FA-98F8-4AE8-B55D-15582995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04A4-277C-4E43-878F-CFD6F76A5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1844640"/>
            <a:ext cx="51120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344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حدق</a:t>
            </a:r>
            <a:br>
              <a:rPr sz="3200"/>
            </a:br>
            <a:br>
              <a:rPr sz="3200"/>
            </a:b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ميكروبيولوجيا المياه</a:t>
            </a:r>
            <a:br>
              <a:rPr sz="3200"/>
            </a:b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و الصرف الصح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149360"/>
            <a:ext cx="64008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Khalid Art bold"/>
              </a:rPr>
              <a:t>ا. الجوهرة العب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rint MT Shadow"/>
                <a:ea typeface="Mudir MT"/>
              </a:rPr>
              <a:t>alalabbad@ksu.edu.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16720" y="5444640"/>
            <a:ext cx="32400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رابعاً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411280" y="587700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Khalid Art bold"/>
              </a:rPr>
              <a:t>النتـــــــائ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بدون-عنوان-1"/>
          <p:cNvPicPr/>
          <p:nvPr/>
        </p:nvPicPr>
        <p:blipFill>
          <a:blip r:embed="rId2"/>
          <a:stretch/>
        </p:blipFill>
        <p:spPr>
          <a:xfrm>
            <a:off x="2843280" y="1484280"/>
            <a:ext cx="345744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7" descr="Citrates+-"/>
          <p:cNvPicPr/>
          <p:nvPr/>
        </p:nvPicPr>
        <p:blipFill>
          <a:blip r:embed="rId2"/>
          <a:stretch/>
        </p:blipFill>
        <p:spPr>
          <a:xfrm>
            <a:off x="2268360" y="1052640"/>
            <a:ext cx="4619880" cy="454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lgcit"/>
          <p:cNvPicPr/>
          <p:nvPr/>
        </p:nvPicPr>
        <p:blipFill>
          <a:blip r:embed="rId2"/>
          <a:stretch/>
        </p:blipFill>
        <p:spPr>
          <a:xfrm>
            <a:off x="1979640" y="692280"/>
            <a:ext cx="5113440" cy="51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untitled"/>
          <p:cNvPicPr/>
          <p:nvPr/>
        </p:nvPicPr>
        <p:blipFill>
          <a:blip r:embed="rId2"/>
          <a:stretch/>
        </p:blipFill>
        <p:spPr>
          <a:xfrm>
            <a:off x="1042920" y="981000"/>
            <a:ext cx="2605320" cy="4608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Citrate"/>
          <p:cNvPicPr/>
          <p:nvPr/>
        </p:nvPicPr>
        <p:blipFill>
          <a:blip r:embed="rId3"/>
          <a:stretch/>
        </p:blipFill>
        <p:spPr>
          <a:xfrm>
            <a:off x="5580000" y="907920"/>
            <a:ext cx="2381400" cy="47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Cit"/>
          <p:cNvPicPr/>
          <p:nvPr/>
        </p:nvPicPr>
        <p:blipFill>
          <a:blip r:embed="rId2"/>
          <a:stretch/>
        </p:blipFill>
        <p:spPr>
          <a:xfrm>
            <a:off x="1403280" y="907920"/>
            <a:ext cx="6120000" cy="482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8"/>
          <p:cNvSpPr/>
          <p:nvPr/>
        </p:nvSpPr>
        <p:spPr>
          <a:xfrm>
            <a:off x="468360" y="333360"/>
            <a:ext cx="8262720" cy="58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تتكون بيئة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Simmon cetrate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م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monium Dihydrogen Phosphat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otassium Phosphat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dium Chlorid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dium Citrate (C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gnesium Sulfat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a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romthymol Blu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08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468360" y="333360"/>
            <a:ext cx="8262720" cy="20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عندما تستهلك البكتيريا السترات تعطي نواتج ترفع من </a:t>
            </a:r>
            <a:r>
              <a:rPr b="1" lang="ar-SA" sz="28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قاعدية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الوسط مما يؤدي إلى تحول لون الكاشف إلى اللون </a:t>
            </a:r>
            <a:r>
              <a:rPr b="1" lang="ar-SA" sz="28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أزرق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28-05-32-07-31-48e-PM"/>
          <p:cNvPicPr/>
          <p:nvPr/>
        </p:nvPicPr>
        <p:blipFill>
          <a:blip r:embed="rId2"/>
          <a:stretch/>
        </p:blipFill>
        <p:spPr>
          <a:xfrm>
            <a:off x="2843280" y="1844640"/>
            <a:ext cx="3638520" cy="456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40000" y="2492280"/>
            <a:ext cx="44654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ial"/>
                <a:cs typeface="Hacen Tehran"/>
              </a:rPr>
              <a:t>نهاية المعمل</a:t>
            </a:r>
            <a:br>
              <a:rPr sz="4800"/>
            </a:br>
            <a:r>
              <a:rPr b="0" lang="ar-SA" sz="4800" spc="-1" strike="noStrike">
                <a:solidFill>
                  <a:srgbClr val="ff0000"/>
                </a:solidFill>
                <a:latin typeface="Arial"/>
                <a:ea typeface="Hacen Tehran"/>
              </a:rPr>
              <a:t> التاس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Community_Support_hug_by_PunkyB"/>
          <p:cNvPicPr/>
          <p:nvPr/>
        </p:nvPicPr>
        <p:blipFill>
          <a:blip r:embed="rId2"/>
          <a:stretch/>
        </p:blipFill>
        <p:spPr>
          <a:xfrm>
            <a:off x="3635280" y="4508640"/>
            <a:ext cx="1893960" cy="56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904000" y="5373360"/>
            <a:ext cx="32400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المعمل الثام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99640" y="5950080"/>
            <a:ext cx="799308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Imprint MT Shadow"/>
                <a:cs typeface="Khalid Art bold"/>
              </a:rPr>
              <a:t>تابع اختبارات التفرقة بين مجموعة القولون</a:t>
            </a:r>
            <a:r>
              <a:rPr b="0" lang="en-US" sz="28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       </a:t>
            </a:r>
            <a:r>
              <a:rPr b="0" lang="ar-SA" sz="28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IMV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بدون-عنوان-2.png"/>
          <p:cNvPicPr/>
          <p:nvPr/>
        </p:nvPicPr>
        <p:blipFill>
          <a:blip r:embed="rId2"/>
          <a:stretch/>
        </p:blipFill>
        <p:spPr>
          <a:xfrm>
            <a:off x="2843280" y="1484280"/>
            <a:ext cx="352908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5904000" y="5373720"/>
            <a:ext cx="32400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الاختبار الراب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10920" y="5950080"/>
            <a:ext cx="82818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Khalid Art bold"/>
              </a:rPr>
              <a:t>اختبار تمثيل السترات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Khalid Art bol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Citrate utilization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بدون-عنوان-1"/>
          <p:cNvPicPr/>
          <p:nvPr/>
        </p:nvPicPr>
        <p:blipFill>
          <a:blip r:embed="rId2"/>
          <a:stretch/>
        </p:blipFill>
        <p:spPr>
          <a:xfrm>
            <a:off x="2843280" y="1557360"/>
            <a:ext cx="3457440" cy="38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16720" y="5444640"/>
            <a:ext cx="32400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أولاً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11280" y="587700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Khalid Art bold"/>
              </a:rPr>
              <a:t>الأساس العلمي للتجر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بدون-عنوان-3"/>
          <p:cNvPicPr/>
          <p:nvPr/>
        </p:nvPicPr>
        <p:blipFill>
          <a:blip r:embed="rId2"/>
          <a:stretch/>
        </p:blipFill>
        <p:spPr>
          <a:xfrm>
            <a:off x="2843280" y="1484280"/>
            <a:ext cx="345744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684360" y="476280"/>
            <a:ext cx="8119800" cy="63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يعرف هذا الاختبار باسم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er’s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تعتمد فكرة الاختبار على استخدام بيئة مكونة من أملاح معدنية فقط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تستهلك البكتيرات الموجبة لهذا الاختبار سيترات الصوديوم كمصدر الكربون الوحيد في البيئ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تكون :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</a:t>
            </a:r>
            <a:r>
              <a:rPr b="1" i="1" lang="en-US" sz="3200" spc="-1" strike="noStrike" u="sng">
                <a:solidFill>
                  <a:srgbClr val="00cc00"/>
                </a:solidFill>
                <a:uFillTx/>
                <a:latin typeface="Times New Roman"/>
                <a:ea typeface="Times New Roman"/>
              </a:rPr>
              <a:t>E.coli</a:t>
            </a:r>
            <a:r>
              <a:rPr b="1" i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سالبة لهذا الاختبا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</a:t>
            </a:r>
            <a:r>
              <a:rPr b="1" i="1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A. aerogenes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موجبة للاختبا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16720" y="5444640"/>
            <a:ext cx="32400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ثانيا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411280" y="587700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Khalid Art bold"/>
              </a:rPr>
              <a:t>الأدوات و المواد اللاز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بدون-عنوان-4.png"/>
          <p:cNvPicPr/>
          <p:nvPr/>
        </p:nvPicPr>
        <p:blipFill>
          <a:blip r:embed="rId2"/>
          <a:stretch/>
        </p:blipFill>
        <p:spPr>
          <a:xfrm>
            <a:off x="2795760" y="1484280"/>
            <a:ext cx="355248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24000" y="1628640"/>
            <a:ext cx="8262720" cy="42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ابيب من بيئة السترات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mons ctrate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أنابيب التي أعطت نتيجة من الاختبار التكميل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زارع نقية من بكتيريا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. Coli</a:t>
            </a:r>
            <a:r>
              <a:rPr b="1" i="1" lang="ar-SA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مره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ساع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زارع نقية من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. aerogenes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عمره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ساع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بر تلقيح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0000"/>
                </a:solidFill>
                <a:uFillTx/>
                <a:latin typeface="Hacen Tehran"/>
                <a:cs typeface="Khalid Art bold"/>
              </a:rPr>
              <a:t>الأدوات و المواد اللازم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16720" y="5444640"/>
            <a:ext cx="32400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ثالثاً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411280" y="587700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Khalid Art bold"/>
              </a:rPr>
              <a:t>خطوات عمل التجر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بدون-عنوان-5"/>
          <p:cNvPicPr/>
          <p:nvPr/>
        </p:nvPicPr>
        <p:blipFill>
          <a:blip r:embed="rId2"/>
          <a:stretch/>
        </p:blipFill>
        <p:spPr>
          <a:xfrm>
            <a:off x="2843280" y="1484280"/>
            <a:ext cx="345744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539640" y="1413000"/>
            <a:ext cx="8263080" cy="55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تحت ظروف التعقيم يتم تلقيح بيئة السترات بلاقحة من الأنابيب التي أعطت نتيجة موجبة من الاختبار السابق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يتم تلقيح أنبوبة واحدة ببكتيريا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 coli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يتم ابقاء الأنبوبة الثالثة بدون تلقيح كـ كنترول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حضن الأنابيب عند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º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لمدة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أيا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فحص النتائج من حيث تواجد النمو أو عدم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6T15:58:29Z</dcterms:created>
  <dc:creator>jbroOot</dc:creator>
  <dc:description/>
  <dc:language>en-US</dc:language>
  <cp:lastModifiedBy>user</cp:lastModifiedBy>
  <dcterms:modified xsi:type="dcterms:W3CDTF">2013-04-07T15:28:36Z</dcterms:modified>
  <cp:revision>48</cp:revision>
  <dc:subject/>
  <dc:title>كائنات ممرضة  للنبات</dc:title>
</cp:coreProperties>
</file>