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CBA-D9C7-480E-9072-440EB702A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CF1A-621C-4269-860C-4C5E87B0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CCAF-16D7-4E0F-A08E-5E7736A6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0A9-580C-4547-B4CB-F6E36AF2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C78-E662-4ECC-9300-6B9C4BF8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C69-B0F9-4BCC-AF59-3599A251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9C39-4C4D-401C-A4FF-2051CAB7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A53F-3320-422A-BC6E-92E6732B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C91-42A1-4FAD-B431-173D5ABE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DD2-8948-4CB1-B258-3D54B99C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DB7-28BA-4404-84E4-058A1860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1B1D-7A4E-4542-B7A9-F7CF6955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9DC9-CC95-4196-A8A7-DE0E9B7B8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844640"/>
            <a:ext cx="5112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344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حدق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ميكروبيولوجيا المياه</a:t>
            </a: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و الصرف الصح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Khalid Art bold"/>
              </a:rPr>
              <a:t>ا. الجوهرة العب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Mudir MT"/>
              </a:rPr>
              <a:t>alalabbad@ksu.edu.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رابع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نتـــــــ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بدون-عنوان-1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Citrates+-"/>
          <p:cNvPicPr/>
          <p:nvPr/>
        </p:nvPicPr>
        <p:blipFill>
          <a:blip r:embed="rId2"/>
          <a:stretch/>
        </p:blipFill>
        <p:spPr>
          <a:xfrm>
            <a:off x="2268360" y="1052640"/>
            <a:ext cx="4619880" cy="454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lgcit"/>
          <p:cNvPicPr/>
          <p:nvPr/>
        </p:nvPicPr>
        <p:blipFill>
          <a:blip r:embed="rId2"/>
          <a:stretch/>
        </p:blipFill>
        <p:spPr>
          <a:xfrm>
            <a:off x="1979640" y="692280"/>
            <a:ext cx="5113440" cy="51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untitled"/>
          <p:cNvPicPr/>
          <p:nvPr/>
        </p:nvPicPr>
        <p:blipFill>
          <a:blip r:embed="rId2"/>
          <a:stretch/>
        </p:blipFill>
        <p:spPr>
          <a:xfrm>
            <a:off x="1042920" y="981000"/>
            <a:ext cx="2605320" cy="4608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itrate"/>
          <p:cNvPicPr/>
          <p:nvPr/>
        </p:nvPicPr>
        <p:blipFill>
          <a:blip r:embed="rId3"/>
          <a:stretch/>
        </p:blipFill>
        <p:spPr>
          <a:xfrm>
            <a:off x="5580000" y="907920"/>
            <a:ext cx="238140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it"/>
          <p:cNvPicPr/>
          <p:nvPr/>
        </p:nvPicPr>
        <p:blipFill>
          <a:blip r:embed="rId2"/>
          <a:stretch/>
        </p:blipFill>
        <p:spPr>
          <a:xfrm>
            <a:off x="1403280" y="907920"/>
            <a:ext cx="612000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468360" y="333360"/>
            <a:ext cx="8262720" cy="58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تكون بيئة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Simmon cetrate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monium Dihydrogen Phosphat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otassium Phospha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dium Chlorid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dium Citrate (C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esium Sulfa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a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mthymol Blu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0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68360" y="333360"/>
            <a:ext cx="826272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عندما تستهلك البكتيريا السترات تعطي نواتج ترفع من 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قاعدية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الوسط مما يؤدي إلى تحول لون الكاشف إلى اللون 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أزرق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28-05-32-07-31-48e-PM"/>
          <p:cNvPicPr/>
          <p:nvPr/>
        </p:nvPicPr>
        <p:blipFill>
          <a:blip r:embed="rId2"/>
          <a:stretch/>
        </p:blipFill>
        <p:spPr>
          <a:xfrm>
            <a:off x="2843280" y="1844640"/>
            <a:ext cx="3638520" cy="45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40000" y="2492280"/>
            <a:ext cx="446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  <a:cs typeface="Hacen Tehran"/>
              </a:rPr>
              <a:t>نهاية المعمل</a:t>
            </a:r>
            <a:br>
              <a:rPr sz="4800"/>
            </a:br>
            <a:r>
              <a:rPr b="0" lang="ar-SA" sz="4800" spc="-1" strike="noStrike">
                <a:solidFill>
                  <a:srgbClr val="ff0000"/>
                </a:solidFill>
                <a:latin typeface="Arial"/>
                <a:ea typeface="Hacen Tehran"/>
              </a:rPr>
              <a:t> التاس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Community_Support_hug_by_PunkyB"/>
          <p:cNvPicPr/>
          <p:nvPr/>
        </p:nvPicPr>
        <p:blipFill>
          <a:blip r:embed="rId2"/>
          <a:stretch/>
        </p:blipFill>
        <p:spPr>
          <a:xfrm>
            <a:off x="3635280" y="4508640"/>
            <a:ext cx="189396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0" y="537336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المعمل الثام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5950080"/>
            <a:ext cx="7993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تابع اختبارات التفرقة بين مجموعة القولون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      </a:t>
            </a:r>
            <a:r>
              <a:rPr b="0" lang="ar-SA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IM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بدون-عنوان-2.png"/>
          <p:cNvPicPr/>
          <p:nvPr/>
        </p:nvPicPr>
        <p:blipFill>
          <a:blip r:embed="rId2"/>
          <a:stretch/>
        </p:blipFill>
        <p:spPr>
          <a:xfrm>
            <a:off x="2843280" y="148428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5904000" y="5373720"/>
            <a:ext cx="3240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الاختبار الراب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10920" y="5950080"/>
            <a:ext cx="8281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ختبار تمثيل السترات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Khalid Art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Citrate utiliza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بدون-عنوان-1"/>
          <p:cNvPicPr/>
          <p:nvPr/>
        </p:nvPicPr>
        <p:blipFill>
          <a:blip r:embed="rId2"/>
          <a:stretch/>
        </p:blipFill>
        <p:spPr>
          <a:xfrm>
            <a:off x="2843280" y="1557360"/>
            <a:ext cx="345744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أول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أساس العلمي للتج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بدون-عنوان-3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84360" y="476280"/>
            <a:ext cx="8119800" cy="63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عرف هذا الاختبار باسم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er’s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عتمد فكرة الاختبار على استخدام بيئة مكونة من أملاح معدنية فقط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ستهلك البكتيرات الموجبة لهذا الاختبار سيترات الصوديوم كمصدر الكربون الوحيد في البيئ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كون :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1" i="1" lang="en-US" sz="3200" spc="-1" strike="noStrike" u="sng">
                <a:solidFill>
                  <a:srgbClr val="00cc00"/>
                </a:solidFill>
                <a:uFillTx/>
                <a:latin typeface="Times New Roman"/>
                <a:ea typeface="Times New Roman"/>
              </a:rPr>
              <a:t>E.coli</a:t>
            </a:r>
            <a:r>
              <a:rPr b="1" i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سالبة لهذا الاختبا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</a:t>
            </a: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A. aerogenes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وجبة للاختب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ثانيا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أدوات و المواد اللاز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بدون-عنوان-4.png"/>
          <p:cNvPicPr/>
          <p:nvPr/>
        </p:nvPicPr>
        <p:blipFill>
          <a:blip r:embed="rId2"/>
          <a:stretch/>
        </p:blipFill>
        <p:spPr>
          <a:xfrm>
            <a:off x="2795760" y="1484280"/>
            <a:ext cx="355248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24000" y="1628640"/>
            <a:ext cx="82627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بيب من بيئة السترات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mons ctrate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ابيب التي أعطت نتيجة من الاختبار التكمي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زارع نقية من بكتيريا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. Coli</a:t>
            </a:r>
            <a:r>
              <a:rPr b="1" i="1" lang="ar-SA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مره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ساع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زارع نقية من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. aerogenes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عمره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ساع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بر تلقيح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0000"/>
                </a:solidFill>
                <a:uFillTx/>
                <a:latin typeface="Hacen Tehran"/>
                <a:cs typeface="Khalid Art bold"/>
              </a:rPr>
              <a:t>الأدوات و المواد اللاز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ثالث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خطوات عمل التج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بدون-عنوان-5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539640" y="1413000"/>
            <a:ext cx="826308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حت ظروف التعقيم يتم تلقيح بيئة السترات بلاقحة من الأنابيب التي أعطت نتيجة موجبة من الاختبار السابق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م تلقيح أنبوبة واحدة ببكتيريا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م ابقاء الأنبوبة الثالثة بدون تلقيح كـ كنتر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ضن الأنابيب عند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لمدة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يا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فحص النتائج من حيث تواجد النمو أو عدم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5:58:29Z</dcterms:created>
  <dc:creator>jbroOot</dc:creator>
  <dc:description/>
  <dc:language>en-US</dc:language>
  <cp:lastModifiedBy>user</cp:lastModifiedBy>
  <dcterms:modified xsi:type="dcterms:W3CDTF">2013-04-07T15:28:36Z</dcterms:modified>
  <cp:revision>48</cp:revision>
  <dc:subject/>
  <dc:title>كائنات ممرضة  للنبات</dc:title>
</cp:coreProperties>
</file>