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72F22-F61A-40C4-B43D-1C18B5CDB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6CCFC-65C2-4ABD-BC49-F2448919C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9E928-13DE-46A3-90AC-23ECF77C2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BEEAD-D23A-41E0-9AE7-5BC063BF9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CB318-9FBB-452D-98A3-A8BA3955F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F8E1F-FF1B-4C5D-AFE9-586364C45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F223F-C8EF-42E5-AC7A-C767D8479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C2173-2645-4798-838F-F9634D6A8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4AC93-9C04-44A7-86D2-7EEB2CF94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8CBA7-01A6-4266-A24F-A069BFBBB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7090D-7361-4528-807E-2804FD390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E1DFF-135E-42BA-B50B-3BEB1129E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B2B85-8676-4E82-A081-C319C9A14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2E134-1669-4972-A166-405499B58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D525B-E665-470B-8712-1523BA7E0D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4665DA-CE7C-4130-9F0A-854325EB38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F62C9-335F-4BEE-AEDE-AD607E782C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59F33-0A45-45D6-94D2-E3C821C62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B7B9B-DD5C-4C77-9B02-36AA3C354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4C09-6EB2-4391-9431-542F49A1A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E98A5-E45D-4DD7-8AF5-B1ABF4D63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43551-A879-4C28-A3BE-70E8F4665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29F3C-A419-4630-822B-35C2717DD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9A17-F292-42B9-905F-1B900FB07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644A-F6A5-4CAA-8AC7-70B6429A8671}"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7BCD-9D4B-46B4-9DA8-4162CC57984E}" type="slidenum">
              <a:rPr b="0" lang="ar-S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3348000" y="1058040"/>
            <a:ext cx="2448000" cy="137160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عرض تقديمي بعنوان</a:t>
            </a:r>
            <a:endParaRPr b="0" lang="en-US" sz="2800" spc="-1" strike="noStrike">
              <a:solidFill>
                <a:srgbClr val="ffffff"/>
              </a:solidFill>
              <a:latin typeface="Arial"/>
            </a:endParaRPr>
          </a:p>
        </p:txBody>
      </p:sp>
      <p:sp>
        <p:nvSpPr>
          <p:cNvPr id="99" name="WordArt 6"/>
          <p:cNvSpPr txBox="1"/>
          <p:nvPr/>
        </p:nvSpPr>
        <p:spPr>
          <a:xfrm>
            <a:off x="900000" y="2349360"/>
            <a:ext cx="7417080" cy="1150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38160">
                  <a:solidFill>
                    <a:srgbClr val="ffff00"/>
                  </a:solidFill>
                  <a:miter/>
                </a:ln>
                <a:solidFill>
                  <a:srgbClr val="ffff00"/>
                </a:solidFill>
                <a:latin typeface="Traditional Arabic"/>
              </a:rPr>
              <a:t>أمن المؤتمرات والفعاليات السياحية</a:t>
            </a:r>
            <a:endParaRPr b="0" lang="en-US" sz="1800" spc="1" strike="noStrike">
              <a:ln w="38160">
                <a:solidFill>
                  <a:srgbClr val="ffff00"/>
                </a:solidFill>
                <a:miter/>
              </a:ln>
              <a:solidFill>
                <a:srgbClr val="ffff00"/>
              </a:solidFill>
              <a:latin typeface="Traditional Arabic"/>
              <a:ea typeface="Traditional Arabic"/>
            </a:endParaRPr>
          </a:p>
        </p:txBody>
      </p:sp>
      <p:sp>
        <p:nvSpPr>
          <p:cNvPr id="100" name="Text Box 8"/>
          <p:cNvSpPr/>
          <p:nvPr/>
        </p:nvSpPr>
        <p:spPr>
          <a:xfrm>
            <a:off x="5580000" y="260280"/>
            <a:ext cx="3314880" cy="2073960"/>
          </a:xfrm>
          <a:prstGeom prst="rect">
            <a:avLst/>
          </a:prstGeom>
          <a:noFill/>
          <a:ln w="0">
            <a:noFill/>
          </a:ln>
        </p:spPr>
        <p:style>
          <a:lnRef idx="0"/>
          <a:fillRef idx="0"/>
          <a:effectRef idx="0"/>
          <a:fontRef idx="minor"/>
        </p:style>
        <p:txBody>
          <a:bodyPr lIns="90000" rIns="90000" tIns="46800" bIns="46800" anchor="t">
            <a:spAutoFit/>
          </a:bodyPr>
          <a:p>
            <a:pPr algn="ctr" rtl="1">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raditional Arabic"/>
              </a:rPr>
              <a:t>المملكة العربية السعودية</a:t>
            </a:r>
            <a:endParaRPr b="0" lang="en-US" sz="2800" spc="-1" strike="noStrike">
              <a:solidFill>
                <a:srgbClr val="ffffff"/>
              </a:solidFill>
              <a:latin typeface="Arial"/>
            </a:endParaRPr>
          </a:p>
          <a:p>
            <a:pPr algn="ctr" rtl="1">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raditional Arabic"/>
              </a:rPr>
              <a:t>جامعة الملك سعود</a:t>
            </a:r>
            <a:endParaRPr b="0" lang="en-US" sz="2800" spc="-1" strike="noStrike">
              <a:solidFill>
                <a:srgbClr val="ffffff"/>
              </a:solidFill>
              <a:latin typeface="Arial"/>
            </a:endParaRPr>
          </a:p>
          <a:p>
            <a:pPr algn="ctr" rtl="1">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raditional Arabic"/>
                <a:cs typeface="Traditional Arabic"/>
              </a:rPr>
              <a:t>كلية السياحة والآثار</a:t>
            </a:r>
            <a:endParaRPr b="0" lang="en-US" sz="2800" spc="-1" strike="noStrike">
              <a:solidFill>
                <a:srgbClr val="ffffff"/>
              </a:solidFill>
              <a:latin typeface="Arial"/>
            </a:endParaRPr>
          </a:p>
        </p:txBody>
      </p:sp>
      <p:pic>
        <p:nvPicPr>
          <p:cNvPr id="101" name="Picture 9" descr="شعار-جامعة-الملك-سعود-دقة-متوسطة"/>
          <p:cNvPicPr/>
          <p:nvPr/>
        </p:nvPicPr>
        <p:blipFill>
          <a:blip r:embed="rId1"/>
          <a:stretch/>
        </p:blipFill>
        <p:spPr>
          <a:xfrm>
            <a:off x="324000" y="330120"/>
            <a:ext cx="1368360" cy="1368360"/>
          </a:xfrm>
          <a:prstGeom prst="rect">
            <a:avLst/>
          </a:prstGeom>
          <a:ln w="0">
            <a:noFill/>
          </a:ln>
        </p:spPr>
      </p:pic>
      <p:grpSp>
        <p:nvGrpSpPr>
          <p:cNvPr id="102" name="Group 12"/>
          <p:cNvGrpSpPr/>
          <p:nvPr/>
        </p:nvGrpSpPr>
        <p:grpSpPr>
          <a:xfrm>
            <a:off x="179280" y="4149720"/>
            <a:ext cx="8712360" cy="2519280"/>
            <a:chOff x="179280" y="4149720"/>
            <a:chExt cx="8712360" cy="2519280"/>
          </a:xfrm>
        </p:grpSpPr>
        <p:sp>
          <p:nvSpPr>
            <p:cNvPr id="103" name="Oval 10"/>
            <p:cNvSpPr/>
            <p:nvPr/>
          </p:nvSpPr>
          <p:spPr>
            <a:xfrm>
              <a:off x="6372360" y="4149720"/>
              <a:ext cx="2519280" cy="2519280"/>
            </a:xfrm>
            <a:prstGeom prst="ellipse">
              <a:avLst/>
            </a:prstGeom>
            <a:blipFill rotWithShape="0">
              <a:blip r:embed="rId2"/>
              <a:srcRect/>
              <a:stretch/>
            </a:blip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1"/>
            <p:cNvSpPr/>
            <p:nvPr/>
          </p:nvSpPr>
          <p:spPr>
            <a:xfrm>
              <a:off x="179280" y="4149720"/>
              <a:ext cx="2519640" cy="2519280"/>
            </a:xfrm>
            <a:prstGeom prst="ellipse">
              <a:avLst/>
            </a:prstGeom>
            <a:blipFill rotWithShape="0">
              <a:blip r:embed="rId3"/>
              <a:srcRect/>
              <a:stretch/>
            </a:blip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24000" y="-646200"/>
            <a:ext cx="8530920" cy="8544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مفهوم الأمن السياحي :</a:t>
            </a:r>
            <a:endParaRPr b="0" lang="en-US" sz="3000" spc="-1" strike="noStrike">
              <a:solidFill>
                <a:srgbClr val="ffffff"/>
              </a:solidFill>
              <a:latin typeface="Arial"/>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cs typeface="Traditional Arabic"/>
              </a:rPr>
              <a:t>يتكون مفهوم الأمن السياحي من اصطلاحين هما الأمن والسياحة لكل منهما دلالة ومعنى مختلف عن الأخر، ويشكلان معا وحدة اصطلاحية يطلق عليها الأمن السياحي، وحتى نتمكن من التعرف على ماهية الأمن السياحي لا بد من الاستدلال ببعض التعريفات التي عرفت الأمن السياحي بأنه " توفير الظروف الملائمة للسائح خلال زيارته أو إقامته بالبلد المضيف"  فقد ربط مفهوم الأمن السياحي بالسائح وخلص إلى أن امن السائح .." توفير عنصر الأمن والطمأنينة له منذ وصوله إلى البلاد وحتى مغادرته لها وذلك في نفسه وماله وعرضه وكل متعلقاته وأمتعته وحمايته من أية مضايقات أو جرائم قد تقع عليه".</a:t>
            </a:r>
            <a:endParaRPr b="0" lang="en-US" sz="3000" spc="-1" strike="noStrike">
              <a:solidFill>
                <a:srgbClr val="ffffff"/>
              </a:solidFill>
              <a:latin typeface="Arial"/>
            </a:endParaRPr>
          </a:p>
        </p:txBody>
      </p:sp>
      <p:sp>
        <p:nvSpPr>
          <p:cNvPr id="106" name="Rectangle 5"/>
          <p:cNvSpPr/>
          <p:nvPr/>
        </p:nvSpPr>
        <p:spPr>
          <a:xfrm>
            <a:off x="2773440" y="-84960"/>
            <a:ext cx="3527280" cy="118908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مفهوم الأمن السياحي</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179280" y="-1446120"/>
            <a:ext cx="8713800" cy="106012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أولاً:</a:t>
            </a:r>
            <a:r>
              <a:rPr b="1" lang="ar-SA" sz="3000" spc="-1" strike="noStrike">
                <a:solidFill>
                  <a:srgbClr val="ffffff"/>
                </a:solidFill>
                <a:latin typeface="Traditional Arabic"/>
                <a:ea typeface="Traditional Arabic"/>
              </a:rPr>
              <a:t> مخاطر البيئة البشرية والمحيطة بالمؤتمر السياحي، مثل السرقات والنشل، والاعتداء والاغتصاب والصراعات والقلاقل الداخلية والحروب.</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ثانياً</a:t>
            </a:r>
            <a:r>
              <a:rPr b="1" lang="ar-SA" sz="3000" spc="-1" strike="noStrike">
                <a:solidFill>
                  <a:srgbClr val="ffffff"/>
                </a:solidFill>
                <a:latin typeface="Traditional Arabic"/>
                <a:ea typeface="Traditional Arabic"/>
              </a:rPr>
              <a:t>: مخاطر من داخل المؤتمر أو الفعالية والقطاعات ذات العلاقة، مثل قطاعات النقل والرياضة والتجارة وغيرها ومن أهم هذه المخاطر انخفاض تطبيق معايير السلامة في المنشآت والمؤسسات السياحية.</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ثالثاً</a:t>
            </a:r>
            <a:r>
              <a:rPr b="1" lang="ar-SA" sz="3000" spc="-1" strike="noStrike">
                <a:solidFill>
                  <a:srgbClr val="ffffff"/>
                </a:solidFill>
                <a:latin typeface="Traditional Arabic"/>
                <a:ea typeface="Traditional Arabic"/>
              </a:rPr>
              <a:t>: المخاطر التي قد يتسبب فيها السواح والمسافرون لأنفسهم أو لغيرهم، مثل التجاوز في بعض الممارسات الرياضية والترفيهية وفي قيادة السيارات والطعام والشراب، والمخاطر الصحية للسواح والمسافرين المرضى.</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رابعاً:</a:t>
            </a:r>
            <a:r>
              <a:rPr b="1" lang="ar-SA" sz="3000" spc="-1" strike="noStrike">
                <a:solidFill>
                  <a:srgbClr val="ffffff"/>
                </a:solidFill>
                <a:latin typeface="Traditional Arabic"/>
                <a:cs typeface="Traditional Arabic"/>
              </a:rPr>
              <a:t>المخاطر الطبيعية والبيئية والصحية، مثل عدم المعرفة بالطبيعة المناخية وتضاريس المقاصد السياحية وآثارها، خصوصاً على الحياة الفطرية وعدم أخذ التلقيحات المطلوبة لمقصد سياحي معين وضعف الاحتياط والحذر في عادات الأكل والنظافة، فضلاً عن التعرض للمخاطر الطبيعية مثل الفيضانات والزلازل والكوارث الطبيعية وانتشار الأوبئة.</a:t>
            </a:r>
            <a:endParaRPr b="0" lang="en-US" sz="3000" spc="-1" strike="noStrike">
              <a:solidFill>
                <a:srgbClr val="ffffff"/>
              </a:solidFill>
              <a:latin typeface="Arial"/>
            </a:endParaRPr>
          </a:p>
        </p:txBody>
      </p:sp>
      <p:sp>
        <p:nvSpPr>
          <p:cNvPr id="108" name="Rectangle 5"/>
          <p:cNvSpPr/>
          <p:nvPr/>
        </p:nvSpPr>
        <p:spPr>
          <a:xfrm>
            <a:off x="2195640" y="-84960"/>
            <a:ext cx="4680000" cy="118908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مخاطر الأمن السياحي ومصادرها</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250920" y="-675000"/>
            <a:ext cx="8642160" cy="9230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ea typeface="Traditional Arabic"/>
              </a:rPr>
              <a:t>1</a:t>
            </a:r>
            <a:r>
              <a:rPr b="1" lang="ar-SA" sz="3000" spc="-1" strike="noStrike" u="sng">
                <a:solidFill>
                  <a:srgbClr val="ffff00"/>
                </a:solidFill>
                <a:uFillTx/>
                <a:latin typeface="Traditional Arabic"/>
                <a:ea typeface="Traditional Arabic"/>
              </a:rPr>
              <a:t>-الإرهاب:</a:t>
            </a:r>
            <a:r>
              <a:rPr b="1" lang="ar-SA" sz="3000" spc="-1" strike="noStrike">
                <a:solidFill>
                  <a:srgbClr val="ffffff"/>
                </a:solidFill>
                <a:latin typeface="Traditional Arabic"/>
                <a:ea typeface="Traditional Arabic"/>
              </a:rPr>
              <a:t> أحد أهم الأخطار التي تواجهها المؤتمرات وله صور مختلف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اقتحام مقار المؤتمرات واحتجاز الرهائن من المؤتمرين وأحياناً خسائر فى الارواح.</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غتيال بعض الشخصيات الهامة داخل مقار المؤتمرات</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حصار مقر المؤتمر وترويع من بداخله.</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ea typeface="Traditional Arabic"/>
              </a:rPr>
              <a:t>2</a:t>
            </a:r>
            <a:r>
              <a:rPr b="1" lang="ar-SA" sz="3000" spc="-1" strike="noStrike" u="sng">
                <a:solidFill>
                  <a:srgbClr val="ffff00"/>
                </a:solidFill>
                <a:uFillTx/>
                <a:latin typeface="Traditional Arabic"/>
                <a:ea typeface="Traditional Arabic"/>
              </a:rPr>
              <a:t>-التجسس:</a:t>
            </a:r>
            <a:r>
              <a:rPr b="1" lang="ar-SA" sz="3000" spc="-1" strike="noStrike">
                <a:solidFill>
                  <a:srgbClr val="ffffff"/>
                </a:solidFill>
                <a:latin typeface="Traditional Arabic"/>
                <a:ea typeface="Traditional Arabic"/>
              </a:rPr>
              <a:t> وتسعى إلى الحصول على المعلومات التى تتضمن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مناقشات وقرارات المؤتمر العلنية والسرية ومواقف المشاركين فيه واتجاهاتهم واتصالاتهم داخل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خطط الحالية والمستقبلية للمشاركين وللمؤتمر وللمؤسسة التى ينعقد فى إطارها أو على أرضها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شخصيات المشاركين وتحركاتهم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نظم الأمن المتبعة فى تأمين المؤتمرات من الداخل ومن الخارج , وذلك من خلال :تجسس العملاء – تجسس الأجهزة والمعدات – تحليل المعلومات المتاحة والمنشورة</a:t>
            </a:r>
            <a:r>
              <a:rPr b="0" lang="ar-SA" sz="1800" spc="-1" strike="noStrike">
                <a:solidFill>
                  <a:srgbClr val="ffffff"/>
                </a:solidFill>
                <a:latin typeface="Arial"/>
              </a:rPr>
              <a:t> . </a:t>
            </a:r>
            <a:endParaRPr b="0" lang="en-US" sz="1800" spc="-1" strike="noStrike">
              <a:solidFill>
                <a:srgbClr val="ffffff"/>
              </a:solidFill>
              <a:latin typeface="Arial"/>
            </a:endParaRPr>
          </a:p>
        </p:txBody>
      </p:sp>
      <p:sp>
        <p:nvSpPr>
          <p:cNvPr id="110" name="Rectangle 5"/>
          <p:cNvSpPr/>
          <p:nvPr/>
        </p:nvSpPr>
        <p:spPr>
          <a:xfrm>
            <a:off x="1403280" y="-13320"/>
            <a:ext cx="6699240" cy="118908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الأخطار التي تهدد المؤتمرات والفعاليات السياحي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139680" y="-1871640"/>
            <a:ext cx="8864640" cy="106012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3</a:t>
            </a:r>
            <a:r>
              <a:rPr b="1" lang="ar-SA" sz="3000" spc="-1" strike="noStrike">
                <a:solidFill>
                  <a:srgbClr val="ffffff"/>
                </a:solidFill>
                <a:latin typeface="Traditional Arabic"/>
                <a:ea typeface="Traditional Arabic"/>
              </a:rPr>
              <a:t>- النشاط الداخلى الهدام:ومن صوره (المظاهرات- الإعتصامات- الإشاعات).</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4</a:t>
            </a:r>
            <a:r>
              <a:rPr b="1" lang="ar-SA" sz="3000" spc="-1" strike="noStrike">
                <a:solidFill>
                  <a:srgbClr val="ffffff"/>
                </a:solidFill>
                <a:latin typeface="Traditional Arabic"/>
                <a:ea typeface="Traditional Arabic"/>
              </a:rPr>
              <a:t>- النشاط الفردى غير المشروع :مثل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تعدى بعض العاملين على زملاءهم أو رؤساءهم أو المشاركين فى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تعدى على أجهزة المؤتمر وأدوات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إفشاء معلومات عن أنشطة المؤتمر والمشاركين فيه بقصد الإضرا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حاولة سرقة مستندات المؤتمر أو تبديدها.</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5</a:t>
            </a:r>
            <a:r>
              <a:rPr b="1" lang="ar-SA" sz="3000" spc="-1" strike="noStrike">
                <a:solidFill>
                  <a:srgbClr val="ffffff"/>
                </a:solidFill>
                <a:latin typeface="Traditional Arabic"/>
                <a:ea typeface="Traditional Arabic"/>
              </a:rPr>
              <a:t>- أخطار الحريق : العمدى أو بإهمال وعدم احتياط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6</a:t>
            </a:r>
            <a:r>
              <a:rPr b="1" lang="ar-SA" sz="3000" spc="-1" strike="noStrike">
                <a:solidFill>
                  <a:srgbClr val="ffffff"/>
                </a:solidFill>
                <a:latin typeface="Traditional Arabic"/>
                <a:ea typeface="Traditional Arabic"/>
              </a:rPr>
              <a:t>-أخطار المفرقعات: قد يتم استخدام المفرقعات تمهيدا لعملية إرهابية وإحداث نوع من المفاجأة العنيفة,والتسلل تمهيداً لعملية اختطاف أو اغتيال أو احتجاز رهائن</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وقد يكون استخدام المتفجرات هدف فى حد ذاته للعملية الإرهابية بقصد نسف مقر المؤتمر أو تدميره أو اغتيال بعض الشخصيات أو الحيلولة دون انعقاد المؤتمر من خلال : العمليات الانتحارية لمنفذ العملية بواسطة السيارات الملغوم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زرع عبوات متفجرة موقوتة داخل الهدف أو فى مناطق الاقتراب منه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252360" y="-519840"/>
            <a:ext cx="8639280" cy="8773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ea typeface="Traditional Arabic"/>
              </a:rPr>
              <a:t>1</a:t>
            </a:r>
            <a:r>
              <a:rPr b="1" lang="ar-SA" sz="3000" spc="-1" strike="noStrike" u="sng">
                <a:solidFill>
                  <a:srgbClr val="ffff00"/>
                </a:solidFill>
                <a:uFillTx/>
                <a:latin typeface="Traditional Arabic"/>
                <a:ea typeface="Traditional Arabic"/>
              </a:rPr>
              <a:t>- المعلومات اللازمة عن المؤتمرات والفعاليات السياح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cs typeface="Traditional Arabic"/>
              </a:rPr>
              <a:t>يجب أن يتوافر للقائمين بعملية التخطيط لأمن المؤتمر ات المعلومات الآت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ا-نظام المؤتمر :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هدف من عقد المؤتمر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موضوعات التى سوف يبحثها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برامج المؤتمر الزمانية والمكان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وضع السياسى والأمنى السائد فى دولة المقر أثناء انعقاد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قائمون على إعداد المؤتمر والجهات المعاونة وأجهزة خدمات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أعضاء المشاركون فى المؤتمر وأهميتهم السياسية والأمن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نظام الإدارى للمؤتمر والقائمون عليه والمسؤلون عن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حفلات واللقاءات التى سوف يقيمها المؤتمر أو التى سوف يدعى إليها وأماكنها والمدعوون إليها .</a:t>
            </a:r>
            <a:endParaRPr b="0" lang="en-US" sz="3000" spc="-1" strike="noStrike">
              <a:solidFill>
                <a:srgbClr val="ffffff"/>
              </a:solidFill>
              <a:latin typeface="Arial"/>
            </a:endParaRPr>
          </a:p>
        </p:txBody>
      </p:sp>
      <p:sp>
        <p:nvSpPr>
          <p:cNvPr id="113" name="Rectangle 5"/>
          <p:cNvSpPr/>
          <p:nvPr/>
        </p:nvSpPr>
        <p:spPr>
          <a:xfrm>
            <a:off x="611280" y="-78480"/>
            <a:ext cx="7845480" cy="1189080"/>
          </a:xfrm>
          <a:prstGeom prst="rect">
            <a:avLst/>
          </a:prstGeom>
          <a:solidFill>
            <a:srgbClr val="ffff00">
              <a:alpha val="44000"/>
            </a:srgbClr>
          </a:soli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Traditional Arabic"/>
              </a:rPr>
              <a:t>العناصر الرئيسية لخطط تأمين المؤتمرات والفعاليات السياحي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214200" y="-1296000"/>
            <a:ext cx="8713800" cy="9443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ب-بيانات عن مقار المؤتمرات والفعاليات السياح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وقع المكان والطرق الرئيسية إليه والطرق البديل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قرب مراكز الخدمات وطرق الوصول إليها ومنها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طبيعة المكان الداخلية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المداخل والمخارج والأسوا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صادر التيار الكهربائى الرئيسية والبديل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صادر المياه الرئيسية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التقسيم الداخلى للمكان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مبانى المطلة وطبيعة إشغالها</a:t>
            </a:r>
            <a:r>
              <a:rPr b="0" lang="ar-SA" sz="1800" spc="-1" strike="noStrike">
                <a:solidFill>
                  <a:srgbClr val="ffffff"/>
                </a:solidFill>
                <a:latin typeface="Arial"/>
              </a:rPr>
              <a:t> .</a:t>
            </a:r>
            <a:r>
              <a:rPr b="0" lang="ar-SA" sz="1800" spc="-1" strike="noStrike">
                <a:solidFill>
                  <a:srgbClr val="ffffff"/>
                </a:solidFill>
                <a:latin typeface="Arial"/>
              </a:rPr>
              <a:t>	</a:t>
            </a:r>
            <a:r>
              <a:rPr b="0" lang="ar-SA" sz="1800" spc="-1" strike="noStrike">
                <a:solidFill>
                  <a:srgbClr val="ffffff"/>
                </a:solidFill>
                <a:latin typeface="Arial"/>
              </a:rPr>
              <a:t>	</a:t>
            </a:r>
            <a:r>
              <a:rPr b="1" lang="ar-SA" sz="3000" spc="-1" strike="noStrike">
                <a:solidFill>
                  <a:srgbClr val="ffffff"/>
                </a:solidFill>
                <a:latin typeface="Traditional Arabic"/>
                <a:ea typeface="Traditional Arabic"/>
              </a:rPr>
              <a:t>-مراكز الخدمات والمسارات الداخلية</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راكز الاتصالات الرئيس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صادر الخطورة داخل المكان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واقع انتظار السيارا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طبيعة النشاط الممارس داخل المكان وحجم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عاملون بالمكان. - صالونات الانتظار . - قاعات الطعام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395280" y="-945360"/>
            <a:ext cx="8497800" cy="8773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cs typeface="Traditional Arabic"/>
              </a:rPr>
              <a:t>ت – الأجهزة والمعدات المستخدمة لتأمين المؤتمرات والفعاليات الساحلية :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تسليح المناسب لمراكز التأمين وفقاً لنوع الخطر وحجمه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اتصال الداخلى والخارجى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كشف عن المفرقعا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كشف عن الأسلح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إنذار والرقابة على الأسوار والمداخل والقاعا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إعداد بطاقات تحقيق الشخص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إسعافات الأول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إنذار بغرفة المستندات والوثائق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الإنذار والمكافحة للحرائق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جهزة مقاومة الشغب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أجهزة منع التصن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وسائل النقل .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وسائل نقل القوات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سيارات إحتياطى للطوارئ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a:t>
            </a:r>
            <a:r>
              <a:rPr b="1" lang="ar-SA" sz="3000" spc="-1" strike="noStrike">
                <a:solidFill>
                  <a:srgbClr val="ffffff"/>
                </a:solidFill>
                <a:latin typeface="Traditional Arabic"/>
                <a:ea typeface="Traditional Arabic"/>
              </a:rPr>
              <a:t>- سيارات الحراسة المجهزة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252360" y="-2099880"/>
            <a:ext cx="8639280" cy="11058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ff00"/>
                </a:solidFill>
                <a:uFillTx/>
                <a:latin typeface="Traditional Arabic"/>
                <a:ea typeface="Traditional Arabic"/>
              </a:rPr>
              <a:t>2</a:t>
            </a:r>
            <a:r>
              <a:rPr b="1" lang="ar-SA" sz="3000" spc="-1" strike="noStrike" u="sng">
                <a:solidFill>
                  <a:srgbClr val="ffff00"/>
                </a:solidFill>
                <a:uFillTx/>
                <a:latin typeface="Traditional Arabic"/>
                <a:ea typeface="Traditional Arabic"/>
              </a:rPr>
              <a:t>- تنسيق التعاون بين الأجهزة المعنية:-</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cs typeface="Traditional Arabic"/>
              </a:rPr>
              <a:t>يعتبر تنسيق التعاون بين الأجهزة الأمنية المشاركة فى خطة التأمين من أهم ركائز الخطط الأمنية بصفة عامة, وامن المؤتمرات بصفة خاصة, حيث تشارك جميع الجهات الأمنية المنوط بها حماية مقر المؤتمر والمشاركين فيه فى وضع خطة التأمين, وتوزيع المهام التفصيلية لكل جهة ويتم إثبات لك فيما يسمى محضر تنسيق التعاون  ويشمل محضر تنسيق التعاون جميع البيانات الخاصة بالمؤتمر ومنها :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سماء ممثلى الجهات الأمنية.</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أسماء ممثلى مقر المؤتمر.</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مقر المؤتمر من حيث الموقع والوصف وطبيعة النشاط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معلومات الأمنية والتهديدات المتوقعة للمقر والمشاركين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تحديد الدوائر الأمنية الخاصة بتأمين المؤتمر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تحديد الاختصاصات والمسؤوليات لكل دائرة أمني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تسليح والتجهيز للقوات فى كل دائرة .</a:t>
            </a:r>
            <a:endParaRPr b="0" lang="en-US" sz="3000" spc="-1" strike="noStrike">
              <a:solidFill>
                <a:srgbClr val="ffffff"/>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raditional Arabic"/>
                <a:ea typeface="Traditional Arabic"/>
              </a:rPr>
              <a:t>- الإحتياطى الخاص بالدفاع عن الموقع أو مكافحة الحرائق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5T20:56:52Z</dcterms:created>
  <dc:creator>dell</dc:creator>
  <dc:description/>
  <dc:language>en-US</dc:language>
  <cp:lastModifiedBy>User</cp:lastModifiedBy>
  <dcterms:modified xsi:type="dcterms:W3CDTF">2015-05-12T09:42:19Z</dcterms:modified>
  <cp:revision>16</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72EB632A-89AB-4017-97E9-2536E00964BC</vt:lpwstr>
  </property>
  <property fmtid="{D5CDD505-2E9C-101B-9397-08002B2CF9AE}" pid="3" name="ArticulatePath">
    <vt:lpwstr>أمن المؤتمرات والفعاليات السياحية</vt:lpwstr>
  </property>
</Properties>
</file>