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3EF-DB8D-4991-8F91-EEB42C0F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DC7B-1C33-4A26-9471-BD3DFBBB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9E2-0650-47EE-8C5C-5873E2D5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9073-E5C1-4246-904D-CB51D420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333-616A-4230-8103-48C1B70D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F4B-AEB3-4039-907A-2B7D16A3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EB6-0784-4126-9F84-638D37A5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F56-F5EE-47D9-BA44-8D52C60F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3EB-F7F0-4222-927E-651E9BCC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F9D-B8A6-4FBF-BD05-F2BAC1CC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3E9-94B2-4C2D-8785-1B0411F9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C5A-8EE8-4EA5-86D0-4B9DFA2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E554-1815-47F1-B1EE-45543EFF7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ulation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796104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14280" y="357120"/>
            <a:ext cx="695808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4786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709596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9628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4628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1662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46120" y="714240"/>
            <a:ext cx="7769160" cy="52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82692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57160" y="285840"/>
            <a:ext cx="76057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81975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4549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857160" y="571680"/>
            <a:ext cx="76802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23428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87480" y="928800"/>
            <a:ext cx="88167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83664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785880" y="642960"/>
            <a:ext cx="7670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42976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35336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1680" y="357120"/>
            <a:ext cx="774540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14280" y="1000080"/>
            <a:ext cx="7201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000080" y="714240"/>
            <a:ext cx="72820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4200" y="682560"/>
            <a:ext cx="86011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14240" y="500040"/>
            <a:ext cx="78724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77691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071720" y="357120"/>
            <a:ext cx="7186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728208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214280" y="857160"/>
            <a:ext cx="75837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79279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717732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77706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21:44:30Z</dcterms:created>
  <dc:creator> </dc:creator>
  <dc:description/>
  <dc:language>en-US</dc:language>
  <cp:lastModifiedBy> </cp:lastModifiedBy>
  <dcterms:modified xsi:type="dcterms:W3CDTF">2008-03-07T15:14:24Z</dcterms:modified>
  <cp:revision>3</cp:revision>
  <dc:subject/>
  <dc:title>Slide 1</dc:title>
</cp:coreProperties>
</file>