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B05-47A7-42FE-91B1-BAF8029F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FA4-F6A9-4A2B-9429-31B878D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52C-B421-4227-93F5-C983D85C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BDF-44F8-4712-A819-BE69644B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BA9-9AA6-41FB-A101-5BCCCD5A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B7E-7CE6-4B7D-80DE-08D3E84D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E40-6368-484D-9364-8280796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057-C174-444E-B56B-64A22A8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437-5295-4316-9087-1E26C29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0AC-AF7A-431C-91B2-AD15247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929-FBCD-4CA3-85C2-63D58DD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204-304E-41D8-A9C4-09EFFB1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1CF-0643-476F-B4D7-2B8E933F2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79610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95808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4786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7095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9628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462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166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46120" y="714240"/>
            <a:ext cx="776916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69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57160" y="285840"/>
            <a:ext cx="7605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197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4549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6802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2342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7480" y="928800"/>
            <a:ext cx="8816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3664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670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353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745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7201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7282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200" y="682560"/>
            <a:ext cx="86011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872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7691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71720" y="357120"/>
            <a:ext cx="7186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282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75837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7927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71773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7770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44:30Z</dcterms:created>
  <dc:creator> </dc:creator>
  <dc:description/>
  <dc:language>en-US</dc:language>
  <cp:lastModifiedBy> </cp:lastModifiedBy>
  <dcterms:modified xsi:type="dcterms:W3CDTF">2008-03-07T15:14:24Z</dcterms:modified>
  <cp:revision>3</cp:revision>
  <dc:subject/>
  <dc:title>Slide 1</dc:title>
</cp:coreProperties>
</file>