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9E0-4CA6-44CA-B0FD-4A0AC3FA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EE5E-B116-4E24-B19D-8F19CFAE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9697-D750-45F9-B504-F609898D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E7E0-B6B9-4BE4-9577-F2E024A8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8C5-F65E-4E48-A8CD-4CC13CA5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375-6982-4A09-AC14-501AB28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DD8-8DE8-4E7F-AA01-DC994F2D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6FD-3D46-4973-8758-2E81DD4E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2F2-D33F-4714-85ED-7CB87753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35F-2ED6-45DA-8165-9B4C14BF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9D7-F6B9-452B-BC58-3C3E585A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41B-8515-403A-8D59-43BEE6A0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18C8-3B51-41F3-A14D-8AC306CB0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ing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3772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782172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57120" y="571680"/>
            <a:ext cx="84790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77976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85298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5009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0040"/>
            <a:ext cx="777708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85840" y="1000080"/>
            <a:ext cx="84502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69724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143000" y="714240"/>
            <a:ext cx="691056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252440" y="1228680"/>
            <a:ext cx="6639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456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62012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76564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5471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7451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4801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868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33896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071720" y="714240"/>
            <a:ext cx="7643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759600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811512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57160" y="571680"/>
            <a:ext cx="776124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824688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6:04:33Z</dcterms:created>
  <dc:creator> </dc:creator>
  <dc:description/>
  <dc:language>en-US</dc:language>
  <cp:lastModifiedBy> </cp:lastModifiedBy>
  <dcterms:modified xsi:type="dcterms:W3CDTF">2008-05-13T06:18:36Z</dcterms:modified>
  <cp:revision>1</cp:revision>
  <dc:subject/>
  <dc:title>Queuing Models</dc:title>
</cp:coreProperties>
</file>