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2247-4D98-4802-B665-49FC8321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7F8-D237-442F-8997-2683E3CF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B9E0-D09A-4ACE-B3DE-9F309020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2F49-B320-4552-AC25-D7051F22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9E12-9A98-42D7-A3E1-D5B132F8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2465-73A5-4828-8405-2854DE2B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9A1D-5D81-4AB2-AC61-11FA467F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A8C5-7DCF-4A12-952A-00164A53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5DCB-F950-4A7D-BCE8-56246800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CFC3-C8E6-463D-BE77-E6654CC3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8987-C254-4ECD-AA9C-1DC2698A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9083-3795-4156-B04B-DECDA4E7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C7A9-3BAC-4D97-89A1-D349B2689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uing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83772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782172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57120" y="571680"/>
            <a:ext cx="8479080" cy="51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28760" y="928800"/>
            <a:ext cx="77976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14200" y="928800"/>
            <a:ext cx="852984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857160" y="571680"/>
            <a:ext cx="750096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42960" y="500040"/>
            <a:ext cx="777708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85840" y="1000080"/>
            <a:ext cx="845028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000080" y="500040"/>
            <a:ext cx="697248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143000" y="714240"/>
            <a:ext cx="6910560" cy="53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252440" y="1228680"/>
            <a:ext cx="663912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456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42960" y="928800"/>
            <a:ext cx="762012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714240" y="1000080"/>
            <a:ext cx="765648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14200" y="1071720"/>
            <a:ext cx="85471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000080" y="1071720"/>
            <a:ext cx="7451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848016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82868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33896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071720" y="714240"/>
            <a:ext cx="76435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571680" y="928800"/>
            <a:ext cx="759600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42960" y="1071720"/>
            <a:ext cx="811512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857160" y="571680"/>
            <a:ext cx="776124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642960" y="928800"/>
            <a:ext cx="824688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6:04:33Z</dcterms:created>
  <dc:creator> </dc:creator>
  <dc:description/>
  <dc:language>en-US</dc:language>
  <cp:lastModifiedBy> </cp:lastModifiedBy>
  <dcterms:modified xsi:type="dcterms:W3CDTF">2008-05-13T06:18:36Z</dcterms:modified>
  <cp:revision>1</cp:revision>
  <dc:subject/>
  <dc:title>Queuing Models</dc:title>
</cp:coreProperties>
</file>