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015-D3AE-4F33-B992-FA3531DA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CC8-D347-4CB6-99B3-3ED62F27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CAC-4860-4A7B-9C67-D597015C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951-21C8-4515-8839-23E6D9ED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2FD6-C2D6-46D9-B93E-C3A22BF3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8EC-5A83-428A-968B-7039550F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CCF9-A949-4962-9777-E74BDF23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47AE-2C7C-4599-B2E2-680240CF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79A-5354-4365-B300-C0812D1C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7AFA-A9B6-444F-A7F3-E5745E89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0984-E927-452A-A068-A507C777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255-52B0-4211-991D-576E8F7A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B6C1-EED2-4542-AF4B-2B490AA01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ndom-Variat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735300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714240" y="785880"/>
            <a:ext cx="800100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0040" y="642960"/>
            <a:ext cx="820116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857160" y="1714680"/>
            <a:ext cx="73011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71680" y="500040"/>
            <a:ext cx="797400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571680" y="1071720"/>
            <a:ext cx="802620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14240" y="928800"/>
            <a:ext cx="809172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811224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5360" y="1071720"/>
            <a:ext cx="89186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00080" y="1214280"/>
            <a:ext cx="78739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75103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05:21:08Z</dcterms:created>
  <dc:creator> </dc:creator>
  <dc:description/>
  <dc:language>en-US</dc:language>
  <cp:lastModifiedBy> </cp:lastModifiedBy>
  <dcterms:modified xsi:type="dcterms:W3CDTF">2008-05-16T05:35:50Z</dcterms:modified>
  <cp:revision>2</cp:revision>
  <dc:subject/>
  <dc:title>Random-Variate Generation</dc:title>
</cp:coreProperties>
</file>