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4A9-2187-4515-967A-B8ACBA36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FB1-3222-4A94-823F-DA0946EE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0F0-9427-48EA-94E3-9FD8F7A2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AE9-C346-4C82-BF64-F047FE85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248-4FEC-40FE-9194-90ECF400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B58-24E7-4819-B421-2BBE1E0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C0F-D448-45EE-9DD6-23E2DDA0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224-B3BA-45B1-B37A-74372C9E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4FC-5998-4332-83A5-75C18731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C78-FAEC-49B7-A6A9-F30000CA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7C4-764C-4AD0-8ACD-68C22EC3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EEA-6D49-40A1-8268-3FDF126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A0D4-8EC2-49CB-8D22-B3241202A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dom-Variat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35300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800100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82011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7301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71680" y="500040"/>
            <a:ext cx="79740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80262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14240" y="928800"/>
            <a:ext cx="80917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1122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5360" y="1071720"/>
            <a:ext cx="89186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78739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5103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5:21:08Z</dcterms:created>
  <dc:creator> </dc:creator>
  <dc:description/>
  <dc:language>en-US</dc:language>
  <cp:lastModifiedBy> </cp:lastModifiedBy>
  <dcterms:modified xsi:type="dcterms:W3CDTF">2008-05-16T05:35:50Z</dcterms:modified>
  <cp:revision>2</cp:revision>
  <dc:subject/>
  <dc:title>Random-Variate Generation</dc:title>
</cp:coreProperties>
</file>