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937800" y="748800"/>
            <a:ext cx="5000760" cy="375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AC3A-FA18-4965-9886-5F43CD573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1015087-7D21-4788-8101-C33A4855B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FC7BB3-FED1-4F9D-B198-AF5A8F3EA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279836D-2E04-421E-9A23-C8BA48F86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39517D5-5A65-47D0-AEC4-9EF8EEE5D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E8A8E3-19CD-4524-805D-67ECE2782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E60E66-A648-4A74-A0D3-67B8F1D777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D3FFA6-58F5-41B7-9321-01D61F68B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BD06129-1B88-482E-8251-400BD8298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A49780B-C4E7-4370-ADAA-AB5A16298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CB4DB6-4C0F-4E2F-9C0D-5ED262512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C1AF7D-B5D3-471E-8FA9-D4C441327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6DAD4A4-4457-4BF7-805A-93E6D9207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E18CE4C-BEA6-490D-B17A-89352560F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4C313E-B157-4D16-B91C-2237E3ED7D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F70C7CA-44B3-442A-8876-5918C9E08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A186DF3-15D8-4B56-9600-BC540F889A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97360" y="9501120"/>
            <a:ext cx="2979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8452EE5-4ED4-4A73-834F-108C8BC7EF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01600" y="871560"/>
            <a:ext cx="4673880" cy="35053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50760" y="4741920"/>
            <a:ext cx="498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04C-FD4A-4CFD-9499-BF030B81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857-923B-4D3C-BB02-F0581A83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2DC-B179-4C96-B985-409B43AB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45C-9B8D-4DEC-B986-CF1832AFE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6F2A-82A2-4D47-954D-350345F7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6D59-79A2-4123-A1DB-860EBF9C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D0EA-5091-4342-8E75-0834A9C2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EB20-B33E-4781-B473-78ED6B30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8627-438A-488A-8EAF-DDB2B2F7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7013-38F1-4ED8-A563-BE126F69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15EF-2742-46E1-8B11-BF412AD4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0DD-6BA3-4E98-915A-66DDE301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4296-F521-466D-A063-8A8BFD5D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CAC2-16C3-4417-8B2B-65B48CFE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61DB-6200-47C3-8C94-F16E93F1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8429-9B62-4D18-B7E5-9814C479B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42EE-C46F-43E0-9120-5CA1B7DCF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3196F-5D5C-4D33-B735-5D1062B2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8CE9-C457-4FE8-87FF-20BAE831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6448-E58A-417E-90B9-C4A680D2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C6F9A-5E98-47DC-ADE7-146CAC52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4EEF6-C8A7-4552-9FA2-5E46038A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6F1-B12A-4556-8E2C-EEE8E56D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F059-1CAD-44EF-A7DC-25D789E5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1C1A7-A665-4543-A3BF-1A90E15B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5E68-FC9B-4222-BBBA-6FB72AF8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909C-FADD-4930-A93D-71ACB68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59784-13AC-4B82-9D9B-6BF11018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2D80-157B-4567-AF97-D328FF11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7EE3-4505-42C3-9C90-BA89538D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0761E-7CE0-4050-83ED-F8028CE7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5283-0B98-4FE1-BB09-FB6CC4D2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F415D-2B8A-44F1-B258-0EE3A75B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D32-3357-4813-A866-A7803C02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26C8-CD3B-49D3-A2CD-BFCD63B8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8E85E-D272-4C9F-97C7-A0E29914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361A-3BF8-485F-8987-85EF9C22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65EF-77C8-4142-AFD8-1C384C86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B97B6-12F3-4A08-8CB9-65776C9F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CF1FE-15A9-487C-A064-04E1C15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2385E-DBEF-44AE-8FAF-0A91B615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27012-FD08-4CD3-92D9-3BA76AF7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F4E8-523E-4CFB-957D-E46BBBBD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A26B3-4C6C-4FB0-8A6B-CCEBFB9D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921-6119-4411-8E8D-F19BCA6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9A74D-0672-46FB-862F-79337CAE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AB56C-2F34-4C1D-B2C5-D8DDC51F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37637-F423-44D1-9E36-A2CDF667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83D4-A61B-4D56-9A5B-F5022AD1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0A3F5-6E40-408A-9582-CFB07737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4081-BDA4-4F68-92EC-BD31D3A5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77E92-5D7B-4555-B6CE-3DEBBF9A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3EBF1-8879-41D7-8A71-BF9DAD8A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A55A5-3DE3-4BB0-A584-C9DE41A7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0E1F6-4F0C-47A3-A61D-7CB88DB94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7B9-7D90-4466-8061-9E7C17A6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B6F3-5026-45A1-83A3-00FBE040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71B75-B982-4AF2-A999-ABA62B86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05289-527F-4EB1-8D9E-1C748EF7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0C5C1-486B-41C1-8E2C-A5E84F59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EC100-A452-466C-9443-CDBB3724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7CB5D-45A4-4A8F-B59A-B9CBD290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7913C-1B46-4542-AD0B-6D022BB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73ABA-B474-40C8-ADEA-7EABB497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0A879-70C6-4FEB-B836-5AD002BC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A0177-3750-4952-ABBA-7E682D3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39B-2012-4357-B68B-5A77A77C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90BFA-6415-48BC-889D-52964450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1A709-26A2-444F-B48C-7DE13FE3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C033E-8975-4712-AE0A-DA03A959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3EDC0-1B83-4927-B82E-FC4B1444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65939-63D1-4B6D-8B3C-B1C5085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67FE-1254-432A-AB5B-CB21C99E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7F1EB-AA1D-41F0-8D44-FC1E9AA5D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3400C-FA97-44BB-9DBC-81B23FE2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25958-7085-4756-B4FF-91722944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C954C-E9D0-4FE3-823D-39ED76A5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9C9-E417-43C0-A878-EE33EA4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1E813-E6C1-40F6-B695-4B07BF4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16F47-E24D-4994-8F09-2BABBA9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F7E4-0578-42F0-9B11-9D4A444F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A5BB8-9920-403E-AE3E-01EFAD80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A715B-6BDE-4CED-A6AC-606A55213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4FC84-CEA5-4ECD-9AC6-3B3DED79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F5B04-4394-44B8-9BD0-AAD471F6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A53F0F-2007-4762-9B44-B5F5F301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EBCCC-8C72-499C-9232-5AF791F4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98B4C-2815-4E32-9B87-5076020C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86C-397B-4615-95AA-2A9ED797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6C183-98B3-479E-957B-2CBAAB2F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12A80-BBE1-40C2-A6FC-0B6A692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41D98-49D4-4BFA-A0E8-F36D927E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BF7CF-B3B6-4BBC-AB78-398C467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D6E8B-3282-46B5-86CF-DA32648B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44080-4576-46B2-BF95-F3AEA722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721E0-33E2-490B-9FCC-CB67011B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25F9-4D80-4CC6-B604-B1F2EC2C6544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5B9F-E1B8-4437-A6DA-C6F86A53198A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3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>
              <a:gd name="textAreaLeft" fmla="*/ 57600 w 8686800"/>
              <a:gd name="textAreaRight" fmla="*/ 8629200 w 8686800"/>
              <a:gd name="textAreaTop" fmla="*/ 57960 h 1828800"/>
              <a:gd name="textAreaBottom" fmla="*/ 1829520 h 1828800"/>
            </a:gdLst>
            <a:ahLst/>
            <a:rect l="textAreaLeft" t="textAreaTop" r="textAreaRight" b="textAreaBottom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lnTo>
                  <a:pt x="8489582" y="0"/>
                </a:lnTo>
                <a:arcTo wR="197218" hR="197218" stAng="-5400000" swAng="5400000"/>
                <a:lnTo>
                  <a:pt x="8686800" y="1828800"/>
                </a:lnTo>
                <a:lnTo>
                  <a:pt x="0" y="1828800"/>
                </a:lnTo>
                <a:lnTo>
                  <a:pt x="0" y="197218"/>
                </a:lnTo>
                <a:lnTo>
                  <a:pt x="0" y="197218"/>
                </a:lnTo>
                <a:arcTo wR="197218" hR="197218" stAng="10800000" swAng="5400000"/>
                <a:close/>
              </a:path>
            </a:pathLst>
          </a:custGeom>
          <a:solidFill>
            <a:srgbClr val="5d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 Same Side Corner Rectangle 4"/>
          <p:cNvSpPr/>
          <p:nvPr/>
        </p:nvSpPr>
        <p:spPr>
          <a:xfrm>
            <a:off x="228600" y="228600"/>
            <a:ext cx="8686800" cy="4419720"/>
          </a:xfrm>
          <a:custGeom>
            <a:avLst/>
            <a:gdLst>
              <a:gd name="textAreaLeft" fmla="*/ 36360 w 8686800"/>
              <a:gd name="textAreaRight" fmla="*/ 8650440 w 8686800"/>
              <a:gd name="textAreaTop" fmla="*/ 36360 h 4419720"/>
              <a:gd name="textAreaBottom" fmla="*/ 4420080 h 4419720"/>
            </a:gdLst>
            <a:ahLst/>
            <a:rect l="textAreaLeft" t="textAreaTop" r="textAreaRight" b="textAreaBottom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lnTo>
                  <a:pt x="8562123" y="0"/>
                </a:lnTo>
                <a:arcTo wR="124677" hR="124677" stAng="-5400000" swAng="5400000"/>
                <a:lnTo>
                  <a:pt x="8686800" y="4419600"/>
                </a:lnTo>
                <a:lnTo>
                  <a:pt x="0" y="4419600"/>
                </a:lnTo>
                <a:lnTo>
                  <a:pt x="0" y="124677"/>
                </a:lnTo>
                <a:lnTo>
                  <a:pt x="0" y="124677"/>
                </a:lnTo>
                <a:arcTo wR="124677" hR="124677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47BD-C2B4-4E40-A236-7C33841AE76A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C6F4-DCDD-49A3-B42F-B6A89637FA3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3"/>
          <p:cNvSpPr/>
          <p:nvPr/>
        </p:nvSpPr>
        <p:spPr>
          <a:xfrm>
            <a:off x="228600" y="228600"/>
            <a:ext cx="8686800" cy="49528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4952880"/>
              <a:gd name="textAreaBottom" fmla="*/ 4953240 h 4952880"/>
            </a:gdLst>
            <a:ahLst/>
            <a:rect l="textAreaLeft" t="textAreaTop" r="textAreaRight" b="textAreaBottom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lnTo>
                  <a:pt x="8547076" y="0"/>
                </a:lnTo>
                <a:arcTo wR="139724" hR="139724" stAng="-5400000" swAng="5400000"/>
                <a:lnTo>
                  <a:pt x="8686800" y="4953000"/>
                </a:lnTo>
                <a:lnTo>
                  <a:pt x="0" y="4953000"/>
                </a:lnTo>
                <a:lnTo>
                  <a:pt x="0" y="139724"/>
                </a:lnTo>
                <a:lnTo>
                  <a:pt x="0" y="139724"/>
                </a:lnTo>
                <a:arcTo wR="139724" hR="139724" stAng="10800000" swAng="5400000"/>
                <a:close/>
              </a:path>
            </a:pathLst>
          </a:custGeom>
          <a:solidFill>
            <a:srgbClr val="5d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ound Same Side Corner Rectangle 4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>
              <a:gd name="textAreaLeft" fmla="*/ 40680 w 8686800"/>
              <a:gd name="textAreaRight" fmla="*/ 8646120 w 8686800"/>
              <a:gd name="textAreaTop" fmla="*/ 40680 h 1295280"/>
              <a:gd name="textAreaBottom" fmla="*/ 1295640 h 1295280"/>
            </a:gdLst>
            <a:ahLst/>
            <a:rect l="textAreaLeft" t="textAreaTop" r="textAreaRight" b="textAreaBottom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lnTo>
                  <a:pt x="8547104" y="0"/>
                </a:lnTo>
                <a:arcTo wR="139696" hR="139696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139696"/>
                </a:lnTo>
                <a:lnTo>
                  <a:pt x="0" y="139696"/>
                </a:lnTo>
                <a:arcTo wR="139696" hR="139696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D539-7317-4AE9-A7FD-9592DE90BA8D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8B06-066C-4C91-98A6-D4B5756A78A0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896B-4C0A-4615-9DA7-EE91242026F9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2DAC-1462-4C29-8A16-702E36C48EC5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4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traight Connector 5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5d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1F84-4580-42A6-BBA9-7150561BD065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DCCC-2550-439A-8647-38F11E888CBD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4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5d5c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traight Connector 7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B206-E5D5-48CB-AE29-1A752E45B0DA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D451-F9C7-436E-9F5F-876D5A186472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3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>
              <a:gd name="textAreaLeft" fmla="*/ 27720 w 6095880"/>
              <a:gd name="textAreaRight" fmla="*/ 6068160 w 6095880"/>
              <a:gd name="textAreaTop" fmla="*/ 27720 h 1952640"/>
              <a:gd name="textAreaBottom" fmla="*/ 1953000 h 1952640"/>
            </a:gdLst>
            <a:ahLst/>
            <a:rect l="textAreaLeft" t="textAreaTop" r="textAreaRight" b="textAreaBottom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lnTo>
                  <a:pt x="6000282" y="0"/>
                </a:lnTo>
                <a:arcTo wR="95718" hR="95718" stAng="-5400000" swAng="5400000"/>
                <a:lnTo>
                  <a:pt x="6096000" y="1952625"/>
                </a:lnTo>
                <a:lnTo>
                  <a:pt x="0" y="1952625"/>
                </a:lnTo>
                <a:lnTo>
                  <a:pt x="0" y="95718"/>
                </a:lnTo>
                <a:lnTo>
                  <a:pt x="0" y="95718"/>
                </a:lnTo>
                <a:arcTo wR="95718" hR="95718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4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A676-0D63-4505-902B-5000B38CF9E3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CF0E-4E30-46F9-8D1D-08B5AC9FE07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>
              <a:gd name="textAreaLeft" fmla="*/ 18360 w 8686800"/>
              <a:gd name="textAreaRight" fmla="*/ 8668440 w 8686800"/>
              <a:gd name="textAreaTop" fmla="*/ 18360 h 1295640"/>
              <a:gd name="textAreaBottom" fmla="*/ 1296000 h 1295640"/>
            </a:gdLst>
            <a:ahLst/>
            <a:rect l="textAreaLeft" t="textAreaTop" r="textAreaRight" b="textAreaBottom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lnTo>
                  <a:pt x="8623299" y="0"/>
                </a:lnTo>
                <a:arcTo wR="63501" hR="63501" stAng="-5400000" swAng="5400000"/>
                <a:lnTo>
                  <a:pt x="8686800" y="1295400"/>
                </a:lnTo>
                <a:lnTo>
                  <a:pt x="0" y="1295400"/>
                </a:lnTo>
                <a:lnTo>
                  <a:pt x="0" y="63501"/>
                </a:lnTo>
                <a:lnTo>
                  <a:pt x="0" y="63501"/>
                </a:lnTo>
                <a:arcTo wR="63501" hR="63501" stAng="10800000" swAng="5400000"/>
                <a:close/>
              </a:path>
            </a:pathLst>
          </a:cu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5d5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663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439-E938-4296-B085-E35589310F69}" type="datetime">
              <a:rPr b="0" lang="en-US" sz="1200" spc="-1" strike="noStrike">
                <a:solidFill>
                  <a:srgbClr val="5d5c64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5d5c64"/>
                </a:solidFill>
                <a:latin typeface="Arial"/>
              </a:rPr>
              <a:t>PL/SQ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d5c64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A469-92D2-4CAE-B1EC-EBFF7C1CB63E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30492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Modelling Method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838080" y="4734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16, 17, 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B8AF-E480-45B4-B080-CEF60EA8D5DA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3  Identify and associate attributes with entity or relationship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identify and associate attributes with the appropriate entity or relationship types and document the details of each attribu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4  Determine attribute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determine domains for the attributes in the data model and document the details of each dom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84C2-439F-4AE5-A7F8-E2B3DAF6CFC1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7"/>
          <p:cNvSpPr/>
          <p:nvPr/>
        </p:nvSpPr>
        <p:spPr>
          <a:xfrm>
            <a:off x="152280" y="2819520"/>
            <a:ext cx="861084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52280" y="2819520"/>
            <a:ext cx="8596440" cy="26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5"/>
          <p:cNvSpPr/>
          <p:nvPr/>
        </p:nvSpPr>
        <p:spPr>
          <a:xfrm>
            <a:off x="152280" y="327672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6"/>
          <p:cNvSpPr/>
          <p:nvPr/>
        </p:nvSpPr>
        <p:spPr>
          <a:xfrm>
            <a:off x="755640" y="2819520"/>
            <a:ext cx="0" cy="26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76040" y="2828880"/>
            <a:ext cx="864396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Entity  Attribute       Description                                Data     Length  Nulls 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Multi-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   Default  Range    PK    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Name                                                                          Type                            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Valued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  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152280" y="3338640"/>
            <a:ext cx="859644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ff    StaffN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Uniquely identifies a staff member  varchar     5         No        No                                        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Nam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name of Staff                           varchar     15        No       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am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name of Staf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rchar     15        No       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title of member of staf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varchar     10        No        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x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der of member of staff              character   1         Yes       No             M         F, 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of Birth of member of staff     Date                     Yes       No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0-199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154764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16"/>
          <p:cNvSpPr/>
          <p:nvPr/>
        </p:nvSpPr>
        <p:spPr>
          <a:xfrm>
            <a:off x="406728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6"/>
          <p:cNvSpPr/>
          <p:nvPr/>
        </p:nvSpPr>
        <p:spPr>
          <a:xfrm>
            <a:off x="478800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536400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94036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6"/>
          <p:cNvSpPr/>
          <p:nvPr/>
        </p:nvSpPr>
        <p:spPr>
          <a:xfrm>
            <a:off x="651672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716436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6"/>
          <p:cNvSpPr/>
          <p:nvPr/>
        </p:nvSpPr>
        <p:spPr>
          <a:xfrm>
            <a:off x="788508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6"/>
          <p:cNvSpPr/>
          <p:nvPr/>
        </p:nvSpPr>
        <p:spPr>
          <a:xfrm>
            <a:off x="8317080" y="28400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1116000" y="2131920"/>
            <a:ext cx="6264360" cy="576360"/>
          </a:xfrm>
          <a:prstGeom prst="rect">
            <a:avLst/>
          </a:pr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ata Dictionary for Staff View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how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cription of 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68C1-5A4D-4BBB-BFB8-834A0AB914A8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5  Determine candidate and primary key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identify the candidate key(s) for each entity and if there is more than one candidate key, to choose one to be the primary 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2AFF-2460-4D52-8253-E77EE96C10F3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RD for Staff View of </a:t>
            </a:r>
            <a:r>
              <a:rPr b="1" i="1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 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with PK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6" name="Picture 8" descr="C15NF05"/>
          <p:cNvPicPr/>
          <p:nvPr/>
        </p:nvPicPr>
        <p:blipFill>
          <a:blip r:embed="rId1"/>
          <a:srcRect l="282" t="0" r="0" b="4899"/>
          <a:stretch/>
        </p:blipFill>
        <p:spPr>
          <a:xfrm>
            <a:off x="684360" y="1557360"/>
            <a:ext cx="755964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413C-8481-4218-8D33-584357AB274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6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use of enhanced modeling concep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consider the use of enhanced modeling concepts, such as specialization / generalization, aggregation, and composition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B61E-2EBF-4240-8FF5-F53E312CF47D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RD for Staff View of 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with specialization / general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4" name="Picture 8" descr="C15NF06"/>
          <p:cNvPicPr/>
          <p:nvPr/>
        </p:nvPicPr>
        <p:blipFill>
          <a:blip r:embed="rId1"/>
          <a:srcRect l="-59" t="0" r="0" b="4900"/>
          <a:stretch/>
        </p:blipFill>
        <p:spPr>
          <a:xfrm>
            <a:off x="1042920" y="1484280"/>
            <a:ext cx="65534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E5B9-4F1A-4542-8F92-67D37F57029D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7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model for redundanc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check for the presence of any redundancy in the mode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 Re-examine 1:1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 Remove redundant relationshi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1.8  Validate conceptual model against user transactions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ensure that the conceptual model supports the transactions required by the view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6480" algn="just">
              <a:lnSpc>
                <a:spcPct val="11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cribe the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6480" algn="just">
              <a:lnSpc>
                <a:spcPct val="11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ransaction pathways: diagrammatically represent the pathway taken by each transaction on the E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5F27-B85A-40F0-A014-836F10CB7A48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Using transaction</a:t>
            </a:r>
            <a:r>
              <a:rPr b="1" lang="ja-JP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’</a:t>
            </a: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 Pathways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2" name="Picture 8" descr="C15NF09"/>
          <p:cNvPicPr/>
          <p:nvPr/>
        </p:nvPicPr>
        <p:blipFill>
          <a:blip r:embed="rId1"/>
          <a:srcRect l="0" t="0" r="-865" b="4900"/>
          <a:stretch/>
        </p:blipFill>
        <p:spPr>
          <a:xfrm>
            <a:off x="684360" y="1500120"/>
            <a:ext cx="655164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3304-B714-4F78-8B48-CDBA31AEDB1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1.9   Review conceptual data model with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review the conceptual data model with the user to ensure that the model is a ‘true’ representation of the user’s view of the enterpr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61F5-B291-4234-8D18-563B70464F1A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18892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4267080" y="491184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4267080" y="346392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7"/>
          <p:cNvSpPr/>
          <p:nvPr/>
        </p:nvSpPr>
        <p:spPr>
          <a:xfrm>
            <a:off x="4952880" y="414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4267080" y="17874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9"/>
          <p:cNvSpPr/>
          <p:nvPr/>
        </p:nvSpPr>
        <p:spPr>
          <a:xfrm>
            <a:off x="5029200" y="247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911880" y="488160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889560" y="33876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889560" y="17874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2"/>
          <p:cNvSpPr/>
          <p:nvPr/>
        </p:nvSpPr>
        <p:spPr>
          <a:xfrm>
            <a:off x="611280" y="4221000"/>
            <a:ext cx="6121440" cy="16560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684360" y="1773360"/>
            <a:ext cx="6121080" cy="165564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4F6B-F8CF-4553-A05B-0B5AAD14CF3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18892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4267080" y="491184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4267080" y="346392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7"/>
          <p:cNvSpPr/>
          <p:nvPr/>
        </p:nvSpPr>
        <p:spPr>
          <a:xfrm>
            <a:off x="4952880" y="414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8"/>
          <p:cNvSpPr/>
          <p:nvPr/>
        </p:nvSpPr>
        <p:spPr>
          <a:xfrm>
            <a:off x="4267080" y="17874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9"/>
          <p:cNvSpPr/>
          <p:nvPr/>
        </p:nvSpPr>
        <p:spPr>
          <a:xfrm>
            <a:off x="5029200" y="247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911880" y="488160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"/>
          <p:cNvSpPr/>
          <p:nvPr/>
        </p:nvSpPr>
        <p:spPr>
          <a:xfrm>
            <a:off x="889560" y="33876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2"/>
          <p:cNvSpPr/>
          <p:nvPr/>
        </p:nvSpPr>
        <p:spPr>
          <a:xfrm>
            <a:off x="889560" y="17874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3592-0902-454B-9B68-4A7299F073B1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Logical DB Design Objectiv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ap the conceptual model into re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lidate these relations using the technique of normalization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lidate a logical data model to ensure it supports required user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rge local logical data models based on specific views into a global logical data model of the enterpris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1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sure that resultant global model is a true and accurate representation of enterpris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2884-4ACA-4BE8-8DC2-23C3C3B84A30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 Black"/>
              </a:rPr>
              <a:t>Step 2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 Build and Validate Logical Data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1  Derive relations for logical data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2  Validate relations using 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3  Validate relations against user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4  Define integrity constra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5  Review logical data model with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6 Merge logical data models into global model (optional st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-196560">
              <a:lnSpc>
                <a:spcPct val="230000"/>
              </a:lnSpc>
              <a:spcBef>
                <a:spcPts val="349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ep 2.6.1  Merge local logical data models into global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-196560">
              <a:lnSpc>
                <a:spcPct val="230000"/>
              </a:lnSpc>
              <a:spcBef>
                <a:spcPts val="349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ep 2.6.2  Validate global logical data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-196560">
              <a:lnSpc>
                <a:spcPct val="230000"/>
              </a:lnSpc>
              <a:spcBef>
                <a:spcPts val="349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ep 2.6.3  Review global logical data model with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7  Check for future 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70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436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FCB0-3566-4B29-8473-187D19ABB717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 Black"/>
              </a:rPr>
              <a:t>Step 2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 Build and Validate Logical Data Model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1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ive relations for logical data model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reate relations for the logical data model to represent the entities, relationships, and attributes that have been identifie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Covered before in this cour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2  Validate relations using norm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validate the relations in the logical data model using normaliz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2.3 Validate relations against user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ensure that the relations in the logical data model support the required transaction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2D74-B07B-4A03-985C-37E71126521A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 Black"/>
              </a:rPr>
              <a:t>Step 2.4</a:t>
            </a:r>
            <a:r>
              <a:rPr b="1" lang="en-GB" sz="1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Define integrity constrain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ep 2.4  Define integrit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 constraints protects DB from being in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of integrity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d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 domain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 integ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tial integ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Bef>
                <a:spcPts val="451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l constrai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19EF-197A-44B1-9156-5728C679D88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tial Integrity Constraints for Rel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0" name="Picture 1032" descr="C16NF04"/>
          <p:cNvPicPr/>
          <p:nvPr/>
        </p:nvPicPr>
        <p:blipFill>
          <a:blip r:embed="rId1"/>
          <a:srcRect l="0" t="580" r="17450" b="0"/>
          <a:stretch/>
        </p:blipFill>
        <p:spPr>
          <a:xfrm>
            <a:off x="1450800" y="1500120"/>
            <a:ext cx="6264360" cy="49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9D9A-1BF6-434E-8508-45E33D2DC42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B0DE-F55F-4DB2-A560-D909A36BA0C1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 Black"/>
                <a:ea typeface="Arial"/>
              </a:rPr>
              <a:t>Step 2.5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  <a:ea typeface="Arial"/>
              </a:rPr>
              <a:t>  Review logical data model with user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7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view the logical data model with the users to ensure that they consider the model to be a true representation of the data requirements of the enterpri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4F98-88D7-41D4-A184-963B338CF0A4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23C4-14E8-47D1-836E-27AA7AE9FACA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 Black"/>
              </a:rPr>
              <a:t>Step 2.6</a:t>
            </a:r>
            <a:r>
              <a:rPr b="1" lang="en-GB" sz="2800" spc="-1" strike="noStrike">
                <a:solidFill>
                  <a:srgbClr val="ffffff"/>
                </a:solidFill>
                <a:latin typeface="Arial Black"/>
              </a:rPr>
              <a:t> Merge logical data models into global model (optional step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6320" y="2063880"/>
            <a:ext cx="8915400" cy="27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erge logical data models into a single global logical data model that represents the enterpri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 indent="468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 indent="468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Step 2.6.1  Merge local logical data models into globa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 indent="468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Step 2.6.2  Validate global logical data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 indent="4680"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PGothic"/>
              </a:rPr>
              <a:t>Step 2.6.3  Review global logical data model with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1801-89E9-484A-8639-3917ECC407CD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7862-7ECE-4E69-959A-CC923D240AD2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 Black"/>
              </a:rPr>
              <a:t>Step 2.6.1</a:t>
            </a:r>
            <a:r>
              <a:rPr b="1" lang="en-GB" sz="2800" spc="-1" strike="noStrike">
                <a:solidFill>
                  <a:srgbClr val="ffffff"/>
                </a:solidFill>
                <a:latin typeface="Arial Black"/>
              </a:rPr>
              <a:t> Merge logical data models into global model (optional step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152280" y="1828800"/>
            <a:ext cx="8915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Review the names &amp; contents of entities/relations and their 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Review the names &amp; contents of relationships/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Merge entities/relations from the local data mod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Include (without merging) entities/relations unique to each local data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. Merge relationships/FK from the local data mod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. Include (without merging) relationships/FKs unique to each local data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. Check the missing entities/relations and relationships/F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. Check F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. Check integrity constrai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. Draw the global ER/relation dia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6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. Update the docu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9466-E392-4ED7-9205-2E3DD1566BF7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1. Review the names &amp; contents of entities/relations and their C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11280" y="1700280"/>
            <a:ext cx="800100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03360" y="2565360"/>
            <a:ext cx="8001000" cy="367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913320" y="1762200"/>
            <a:ext cx="32090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ranch 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Type              CK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776520" y="2427120"/>
            <a:ext cx="37332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                     Branch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phone               Tel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ff                        Staff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                  Staff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Owner          Own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Owner       B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                     Client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ForRent     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se                      Leas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t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No, Rent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4821840" y="1739880"/>
            <a:ext cx="32090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taff 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ty Type              CK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4677480" y="2405160"/>
            <a:ext cx="38811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ff                        Staff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eOwner         Own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Owner      B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                     Client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ForRent     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g                   ClientNo, Property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11BA-5B89-4FD6-A1FF-E538FAC4BBB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2. Review the names &amp; contents of relationships/F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152280" y="1600200"/>
            <a:ext cx="88837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152280" y="2133720"/>
            <a:ext cx="8883720" cy="388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647360" y="1568520"/>
            <a:ext cx="3821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ranch 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K                          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1559160" y="2201760"/>
            <a:ext cx="36903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rStaffNo -&gt; Manager(StaffNo)             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N -&gt; Branch(branchNo)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visorStaffNo -&gt; Staff(staffNo)          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No -&gt; Branch(branch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No -&gt; Staff(Staff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No -&gt; PrivateOwner(ownerNo)        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No -&gt;                                               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Owner(owner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No -&gt; Staff(StaffNo)                            Overs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No  -&gt; Branch(BranchNo)               Of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5826600" y="1546200"/>
            <a:ext cx="3225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ff Vie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K                             Relation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154800" y="1568520"/>
            <a:ext cx="8694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162000" y="2166840"/>
            <a:ext cx="151452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ch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teOwner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Own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Fo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5360040" y="2209680"/>
            <a:ext cx="363420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visorStaffNo -&gt; Staff(staffNo)         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No -&gt; Staff(StaffNo)                         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No -&gt; PrivateOwner(ownerNo)      P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No -&gt;                                             B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Owner(ownerN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No -&gt; Staff(StaffNo)                          Man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3"/>
          <p:cNvSpPr/>
          <p:nvPr/>
        </p:nvSpPr>
        <p:spPr>
          <a:xfrm>
            <a:off x="1476360" y="1628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5292720" y="16286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5E98-1934-4B4F-9B23-050FBBC8A41A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1316-50DB-490E-AED0-0DE4712F3A59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74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Success Factors in 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Text Box 3076"/>
          <p:cNvSpPr/>
          <p:nvPr/>
        </p:nvSpPr>
        <p:spPr>
          <a:xfrm>
            <a:off x="228600" y="1897200"/>
            <a:ext cx="8763120" cy="44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interactively with users as much as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llow a structured methodology throughout the data modelling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ploy a data-driven approa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orporate structural and integrity considerations into the data mod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bine conceptualization, normalization, and transaction validation techniques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to the data modelling methodolog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diagrams to represent as much of the data models as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a data dictionary to supplement the data model dia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willing to repeat ste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9DEA-DD22-4942-A054-A945A9BEA23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3. Merge entities/relations from the local data mode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-1522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Merge entities/relations with the same name &amp; the same P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Branch View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Staff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IVATE 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name, address)      PRIVATE 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fname, lname, addr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Glob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IVATE 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fname, lname, addr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5"/>
          <p:cNvSpPr/>
          <p:nvPr/>
        </p:nvSpPr>
        <p:spPr>
          <a:xfrm flipH="1">
            <a:off x="4495680" y="3429000"/>
            <a:ext cx="2286000" cy="762120"/>
          </a:xfrm>
          <a:prstGeom prst="line">
            <a:avLst/>
          </a:prstGeom>
          <a:ln w="9360">
            <a:solidFill>
              <a:srgbClr val="e663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>
            <a:off x="2057400" y="3429000"/>
            <a:ext cx="1981080" cy="762120"/>
          </a:xfrm>
          <a:prstGeom prst="line">
            <a:avLst/>
          </a:prstGeom>
          <a:ln w="9360">
            <a:solidFill>
              <a:srgbClr val="e663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26EF-5D14-43F2-A0F4-2C63EAF475D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3. Merge entities/relations from the local data model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-7128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Merge entities/relations with the same name but different P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Branch View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Staff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B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b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bType, address,telNO)         B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bName, bType, address,tel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K tel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AK bName, tel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MS PGothic"/>
              </a:rPr>
              <a:t>Glob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BOWNER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On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, bName, bType, addr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AK bName, tel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7560" indent="-228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4"/>
          <p:cNvSpPr/>
          <p:nvPr/>
        </p:nvSpPr>
        <p:spPr>
          <a:xfrm flipH="1">
            <a:off x="5033520" y="3048120"/>
            <a:ext cx="2514600" cy="990360"/>
          </a:xfrm>
          <a:prstGeom prst="line">
            <a:avLst/>
          </a:prstGeom>
          <a:ln w="9360">
            <a:solidFill>
              <a:srgbClr val="e663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2290680" y="2971800"/>
            <a:ext cx="1828800" cy="1066680"/>
          </a:xfrm>
          <a:prstGeom prst="line">
            <a:avLst/>
          </a:prstGeom>
          <a:ln w="9360">
            <a:solidFill>
              <a:srgbClr val="e663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DDB2-F9BD-4E5D-BD63-E22218D9670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B198-EE8B-4B45-BC32-01C68214F2D4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2.6.2</a:t>
            </a: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Validate global logical data mod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728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alidate the relations created from the global logical data model using the technique of normalization and to ensure they support the required transactions, if necessary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2221-85F4-4B54-9846-29613B49383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181A-9CFB-4FC4-87CA-B3C17BE3E60B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2.6.3</a:t>
            </a: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view global logical data model with users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review the global logical data model with the users to ensure that they consider the model to be a true representation of the data requirements of an enterpr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E9CD-C02C-474C-A594-98630C02F79A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 for the Branch user views of </a:t>
            </a:r>
            <a:r>
              <a:rPr b="1" i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5" name="Picture 8" descr="C16NF05"/>
          <p:cNvPicPr/>
          <p:nvPr/>
        </p:nvPicPr>
        <p:blipFill>
          <a:blip r:embed="rId1"/>
          <a:srcRect l="0" t="0" r="-237" b="3162"/>
          <a:stretch/>
        </p:blipFill>
        <p:spPr>
          <a:xfrm>
            <a:off x="684360" y="1413000"/>
            <a:ext cx="6335640" cy="54133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9"/>
          <p:cNvSpPr/>
          <p:nvPr/>
        </p:nvSpPr>
        <p:spPr>
          <a:xfrm>
            <a:off x="7086600" y="64008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DA96-B6B5-4D4B-B3BF-9C193DE96007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Relations that represent the global logical data model for </a:t>
            </a:r>
            <a:r>
              <a:rPr b="1" i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9" name="Picture 8" descr="C16NF08"/>
          <p:cNvPicPr/>
          <p:nvPr/>
        </p:nvPicPr>
        <p:blipFill>
          <a:blip r:embed="rId1"/>
          <a:srcRect l="0" t="0" r="-812" b="3163"/>
          <a:stretch/>
        </p:blipFill>
        <p:spPr>
          <a:xfrm>
            <a:off x="1187280" y="1413000"/>
            <a:ext cx="5364360" cy="54450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9"/>
          <p:cNvSpPr/>
          <p:nvPr/>
        </p:nvSpPr>
        <p:spPr>
          <a:xfrm>
            <a:off x="6553080" y="64008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113-33B1-426B-B507-C30B0CAF3811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Global relation diagram for </a:t>
            </a:r>
            <a:r>
              <a:rPr b="1" i="1" lang="en-US" sz="34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93" name="Picture 8" descr="C16NF09"/>
          <p:cNvPicPr/>
          <p:nvPr/>
        </p:nvPicPr>
        <p:blipFill>
          <a:blip r:embed="rId1"/>
          <a:srcRect l="1101" t="0" r="0" b="3164"/>
          <a:stretch/>
        </p:blipFill>
        <p:spPr>
          <a:xfrm>
            <a:off x="1187280" y="1341360"/>
            <a:ext cx="4343400" cy="55166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9"/>
          <p:cNvSpPr/>
          <p:nvPr/>
        </p:nvSpPr>
        <p:spPr>
          <a:xfrm>
            <a:off x="5562720" y="64008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6C87-7A91-41A0-AF60-A8AE82E5EF0F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Step 2.7 Check for future growth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Objective: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o determine whether there are any significant changes likely in the foreseeable future and to assess whether the global logical data model can accommodate these chan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A2AD-6330-4766-8579-0718DEF9A80A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8892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4267080" y="491184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4267080" y="346392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7"/>
          <p:cNvSpPr/>
          <p:nvPr/>
        </p:nvSpPr>
        <p:spPr>
          <a:xfrm>
            <a:off x="4952880" y="414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8"/>
          <p:cNvSpPr/>
          <p:nvPr/>
        </p:nvSpPr>
        <p:spPr>
          <a:xfrm>
            <a:off x="4267080" y="17874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9"/>
          <p:cNvSpPr/>
          <p:nvPr/>
        </p:nvSpPr>
        <p:spPr>
          <a:xfrm>
            <a:off x="5029200" y="247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0"/>
          <p:cNvSpPr/>
          <p:nvPr/>
        </p:nvSpPr>
        <p:spPr>
          <a:xfrm>
            <a:off x="911880" y="488160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1"/>
          <p:cNvSpPr/>
          <p:nvPr/>
        </p:nvSpPr>
        <p:spPr>
          <a:xfrm>
            <a:off x="889560" y="33876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2"/>
          <p:cNvSpPr/>
          <p:nvPr/>
        </p:nvSpPr>
        <p:spPr>
          <a:xfrm>
            <a:off x="889560" y="17874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684360" y="1773360"/>
            <a:ext cx="6121080" cy="309564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DB8D-72C7-457F-8162-91C4EC2B84F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DC18-4979-4F9F-B7AB-557A0157A45F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arison of Logical and Physical Database Design</a:t>
            </a: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76360" y="1778040"/>
            <a:ext cx="7112160" cy="20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Logical database design is concerned with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ha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hysical database design is concerned with the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ho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380880" y="3581280"/>
            <a:ext cx="8382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of producing a description of the implementation of the database on secondary storage; it describes the base relations, file organizations, and indexes used to achieve efficient access to the data, and any associated integrity constraints and security measure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Date Placeholder 7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Physical DB Design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A8DB-A107-4627-99B4-54D46F677477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CA01-8A06-4E72-8D98-9C358BFB6DDE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1889280" y="42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 Black"/>
              </a:rPr>
              <a:t>Design Methodology Overview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304920" y="1717560"/>
            <a:ext cx="891540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ep 1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conceptual data 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and validate logical data mode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anslate logical data model for target DB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4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file organizations and index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user vie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6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security mechanisms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7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the introduction of controlled redundanc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8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 and tune the operational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324000" y="1844640"/>
            <a:ext cx="6553080" cy="432000"/>
          </a:xfrm>
          <a:prstGeom prst="rect">
            <a:avLst/>
          </a:prstGeom>
          <a:noFill/>
          <a:ln w="38160">
            <a:solidFill>
              <a:srgbClr val="e0b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8"/>
          <p:cNvSpPr/>
          <p:nvPr/>
        </p:nvSpPr>
        <p:spPr>
          <a:xfrm>
            <a:off x="7164360" y="170028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24000" y="2349360"/>
            <a:ext cx="6696000" cy="863640"/>
          </a:xfrm>
          <a:prstGeom prst="rect">
            <a:avLst/>
          </a:prstGeom>
          <a:noFill/>
          <a:ln w="38160">
            <a:solidFill>
              <a:srgbClr val="e0b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7093080" y="1628640"/>
            <a:ext cx="1582560" cy="792360"/>
          </a:xfrm>
          <a:prstGeom prst="rect">
            <a:avLst/>
          </a:prstGeom>
          <a:solidFill>
            <a:srgbClr val="ffff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6"/>
          <p:cNvSpPr/>
          <p:nvPr/>
        </p:nvSpPr>
        <p:spPr>
          <a:xfrm>
            <a:off x="7164360" y="249228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324000" y="3284640"/>
            <a:ext cx="6696000" cy="2881080"/>
          </a:xfrm>
          <a:prstGeom prst="rect">
            <a:avLst/>
          </a:prstGeom>
          <a:noFill/>
          <a:ln w="38160">
            <a:solidFill>
              <a:srgbClr val="e0b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7164360" y="44370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7093080" y="2421000"/>
            <a:ext cx="1582560" cy="792000"/>
          </a:xfrm>
          <a:prstGeom prst="rect">
            <a:avLst/>
          </a:prstGeom>
          <a:solidFill>
            <a:srgbClr val="ffff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9CDD-D81F-4190-A249-5F2576615214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Black"/>
              </a:rPr>
              <a:t>Overview of Physical Database Design Methodolog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560" y="1557000"/>
            <a:ext cx="85662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36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3  Translate logical data model for target DB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3.1  Design base re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3.2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representation of derived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ep 3.3  Design general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  Design  physical re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.1  Analyz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.2  Choose file 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.3  Choose ind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ep 4.4  Estimate disk space requi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tep 5  Design user vie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tep 6  Design security mech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p 7  Consider the introduction of controlled redundan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3680" indent="0">
              <a:lnSpc>
                <a:spcPct val="1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p 8  Monitor and tune the operational syste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3B93-E193-4056-9A34-263F5C82F9D6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3977-405B-4EEB-9DD6-3CBB3EFC31E8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Black"/>
                <a:ea typeface="Times New Roman"/>
              </a:rPr>
              <a:t>Step 3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 Translate Logical Data Model for Target DBM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produce a relational database schema that can be implemented in the target DBMS from the global logical data mode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ed to know functionality of target DBMS such as how to create base relations and whether the system supports the definition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Ks, FKs, and AK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quired data (NOT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mai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tional integrity constrai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terprise constraint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d5c64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C661-6074-43D5-B438-E7C1948109E3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ep 3.1  Design Base Rel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decide how to represent base relations identified in logical model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For each relation, need to def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4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14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name of the rel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14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list of simple attributes in bracke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14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PK and, where appropriate, AKs and F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140000"/>
              </a:lnSpc>
              <a:spcBef>
                <a:spcPts val="4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erential integrity constraints for any FKs ident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For each attribute, need to def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8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s domain, consisting of a data type, length, and any constraints on the domai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8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 optional default value for the attribu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8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ther the attribute can hold nu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09520" algn="just">
              <a:lnSpc>
                <a:spcPct val="8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ther it is derived, and if so, how it should be compu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AD7E-795A-456D-8CEC-E094A000D11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F196-D4C0-464C-A615-9E3B361F1E9A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ForRent Relation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6" name="Picture 4" descr="DS3-Figure 16-01"/>
          <p:cNvPicPr/>
          <p:nvPr/>
        </p:nvPicPr>
        <p:blipFill>
          <a:blip r:embed="rId1"/>
          <a:stretch/>
        </p:blipFill>
        <p:spPr>
          <a:xfrm>
            <a:off x="1571760" y="1468440"/>
            <a:ext cx="580536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5783-9A64-4971-9301-85CD8BC8CFCC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ep 3.2  Design Representation of Derived Dat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4920" y="1484280"/>
            <a:ext cx="853416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decide how to represent any derived data present in the global logical data model in the target DB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rived attribute can be stored in database or calculated every time it is needed. Option selected is based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>
              <a:lnSpc>
                <a:spcPct val="9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ditional cost to store the derived data and keep it consistent with operational data from which it is deriv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79720" algn="just">
              <a:lnSpc>
                <a:spcPct val="90000"/>
              </a:lnSpc>
              <a:spcBef>
                <a:spcPts val="1800"/>
              </a:spcBef>
              <a:buClr>
                <a:srgbClr val="e663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st to calculate it each time it is requi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3"/>
          <p:cNvSpPr/>
          <p:nvPr/>
        </p:nvSpPr>
        <p:spPr>
          <a:xfrm>
            <a:off x="22860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23C5-0722-4D19-85A1-71290BD5ED1D}" type="slidenum">
              <a:rPr b="0" lang="en-GB" sz="1200" spc="-1" strike="noStrike">
                <a:solidFill>
                  <a:srgbClr val="5d5c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ropertyforR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tion a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taf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lation with Derived Attribut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noOfProperties</a:t>
            </a:r>
            <a:r>
              <a:rPr b="0" lang="en-GB" sz="3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43" name="Picture 4" descr="DS3-Figure 16-02"/>
          <p:cNvPicPr/>
          <p:nvPr/>
        </p:nvPicPr>
        <p:blipFill>
          <a:blip r:embed="rId1"/>
          <a:stretch/>
        </p:blipFill>
        <p:spPr>
          <a:xfrm>
            <a:off x="539640" y="1484280"/>
            <a:ext cx="7920000" cy="479736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E830-CD09-434A-A05D-C86608A8121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A6D8-D8E7-4CE3-91A3-C8496B1F04DF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tep 3.3  Design Enterprise Constrain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design the general constraints for the target DBM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me DBMS provide more facilities than others for defining enterprise constraint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STRAINT StaffNotHandlingTooM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ECK (NOT EXISTS (SELECT staff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OM PropertyFo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UP BY staff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ING COUNT(*) &gt; 100)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81D8-293F-4934-A90D-002FC52E1EE9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18892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atabase Desig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4267080" y="491184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4267080" y="346392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7"/>
          <p:cNvSpPr/>
          <p:nvPr/>
        </p:nvSpPr>
        <p:spPr>
          <a:xfrm>
            <a:off x="4952880" y="414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4267080" y="1787400"/>
            <a:ext cx="1447920" cy="685800"/>
          </a:xfrm>
          <a:prstGeom prst="flowChartProcess">
            <a:avLst/>
          </a:prstGeom>
          <a:solidFill>
            <a:srgbClr val="7e75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9"/>
          <p:cNvSpPr/>
          <p:nvPr/>
        </p:nvSpPr>
        <p:spPr>
          <a:xfrm>
            <a:off x="5029200" y="247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911880" y="488160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889560" y="33876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2"/>
          <p:cNvSpPr/>
          <p:nvPr/>
        </p:nvSpPr>
        <p:spPr>
          <a:xfrm>
            <a:off x="889560" y="1787400"/>
            <a:ext cx="27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611280" y="2492280"/>
            <a:ext cx="6121440" cy="338472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CA8E-32C8-4D4B-9072-8F8B881D690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34160" cy="172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uild a conceptual data model of an enterprise for each specific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1  Identify entity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43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identify the main entity types that are required by the view;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432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cument entity types in data diction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250920" y="4200480"/>
            <a:ext cx="8569080" cy="210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6"/>
          <p:cNvSpPr/>
          <p:nvPr/>
        </p:nvSpPr>
        <p:spPr>
          <a:xfrm>
            <a:off x="866880" y="465768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250920" y="4210200"/>
            <a:ext cx="849780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Entity Name           Description                               Aliases        Occurr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179280" y="4653000"/>
            <a:ext cx="871380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ff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ral term describing all staff     Employee    Each member of staff works at one particular 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d by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rmHome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roperty has a single owner &amp; is available 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ForRen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term describing all            Property      one specific branch, where the property is manag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for ren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by 1 member of staff. A property is viewed 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lients and rented by a single client at a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250920" y="508464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3"/>
          <p:cNvSpPr/>
          <p:nvPr/>
        </p:nvSpPr>
        <p:spPr>
          <a:xfrm flipH="1">
            <a:off x="3995640" y="4221000"/>
            <a:ext cx="158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3"/>
          <p:cNvSpPr/>
          <p:nvPr/>
        </p:nvSpPr>
        <p:spPr>
          <a:xfrm flipH="1">
            <a:off x="4916520" y="4221000"/>
            <a:ext cx="158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 flipH="1">
            <a:off x="1531800" y="4221000"/>
            <a:ext cx="1584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95280" y="3645000"/>
            <a:ext cx="8209080" cy="431640"/>
          </a:xfrm>
          <a:prstGeom prst="rect">
            <a:avLst/>
          </a:pr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ata Dictionary for Staff View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how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cription of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8"/>
          <p:cNvSpPr/>
          <p:nvPr/>
        </p:nvSpPr>
        <p:spPr>
          <a:xfrm>
            <a:off x="250920" y="4653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E97B-054B-4C94-9B25-03E60A681FD2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ep 1.2  Identify relationship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jectiv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identify the important relationships that exist between the entity types that have been identified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5347-2262-4ADA-BA17-2F9F51FA44AF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ERD for Staff View of 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reamHom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2" name="Picture 8" descr="C15NF02"/>
          <p:cNvPicPr/>
          <p:nvPr/>
        </p:nvPicPr>
        <p:blipFill>
          <a:blip r:embed="rId1"/>
          <a:srcRect l="457" t="0" r="0" b="6674"/>
          <a:stretch/>
        </p:blipFill>
        <p:spPr>
          <a:xfrm>
            <a:off x="1332000" y="1844640"/>
            <a:ext cx="6624720" cy="38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2"/>
          <p:cNvSpPr/>
          <p:nvPr/>
        </p:nvSpPr>
        <p:spPr>
          <a:xfrm>
            <a:off x="289548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d5c64"/>
                </a:solidFill>
                <a:latin typeface="Arial"/>
                <a:ea typeface="Arial"/>
              </a:rPr>
              <a:t>Modeling Method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678168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4C8D-9FC4-41D3-9FAD-65B7020C521B}" type="slidenum">
              <a:rPr b="0" lang="ar-SA" sz="1200" spc="-1" strike="noStrike">
                <a:solidFill>
                  <a:srgbClr val="5d5c64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10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 Black"/>
              </a:rPr>
              <a:t>Step 1</a:t>
            </a:r>
            <a:r>
              <a:rPr b="1" lang="en-GB" sz="3200" spc="-1" strike="noStrike">
                <a:solidFill>
                  <a:srgbClr val="ffffff"/>
                </a:solidFill>
                <a:latin typeface="Arial Black"/>
              </a:rPr>
              <a:t> Build Conceptual Data Model for Each View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866880" y="2511360"/>
            <a:ext cx="6829200" cy="17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866880" y="2968560"/>
            <a:ext cx="68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855720" y="2492280"/>
            <a:ext cx="68850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Entity Name           Multiplicity           Relationship            Entity Name        Multipli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868680" y="3046320"/>
            <a:ext cx="63860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ff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.1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ag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ertyForRen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0..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.1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pervi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0.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opertyForRent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.1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ssociatedWit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a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0..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2"/>
          <p:cNvSpPr/>
          <p:nvPr/>
        </p:nvSpPr>
        <p:spPr>
          <a:xfrm>
            <a:off x="866880" y="3730680"/>
            <a:ext cx="6829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5"/>
          <p:cNvSpPr/>
          <p:nvPr/>
        </p:nvSpPr>
        <p:spPr>
          <a:xfrm flipH="1">
            <a:off x="3492360" y="2511360"/>
            <a:ext cx="1296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6"/>
          <p:cNvSpPr/>
          <p:nvPr/>
        </p:nvSpPr>
        <p:spPr>
          <a:xfrm flipH="1">
            <a:off x="2268000" y="2511360"/>
            <a:ext cx="1764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1116000" y="1844640"/>
            <a:ext cx="6264360" cy="576360"/>
          </a:xfrm>
          <a:prstGeom prst="rect">
            <a:avLst/>
          </a:prstGeom>
          <a:solidFill>
            <a:srgbClr val="e0b6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ata Dictionary for Staff View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Showing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Description of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5"/>
          <p:cNvSpPr/>
          <p:nvPr/>
        </p:nvSpPr>
        <p:spPr>
          <a:xfrm flipH="1">
            <a:off x="5063760" y="2492280"/>
            <a:ext cx="12600" cy="17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5"/>
          <p:cNvSpPr/>
          <p:nvPr/>
        </p:nvSpPr>
        <p:spPr>
          <a:xfrm flipH="1">
            <a:off x="6575040" y="2492280"/>
            <a:ext cx="12600" cy="171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1T17:10:43Z</dcterms:created>
  <dc:creator>Nora</dc:creator>
  <dc:description/>
  <dc:language>en-US</dc:language>
  <cp:lastModifiedBy>sara</cp:lastModifiedBy>
  <dcterms:modified xsi:type="dcterms:W3CDTF">2014-02-22T21:21:51Z</dcterms:modified>
  <cp:revision>459</cp:revision>
  <dc:subject/>
  <dc:title>PL/SQL</dc:title>
</cp:coreProperties>
</file>