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937800" y="748800"/>
            <a:ext cx="500076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19F1-7792-4199-8AB1-E31148738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893011B-6096-4D19-9993-2B32BD9AE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2DE3358-EE62-4243-910E-D6B6DD5DA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0C9D5AC-7D3E-4739-93A6-3E8B9F905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3237F24-451F-40D5-B6E2-4B20C9AF7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9DA771-512F-4007-BD0F-3CE73472F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3827730-B145-4609-A7EC-09E733AD1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F5244F-E86B-4271-A7F7-5E5A176E1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384126-9385-4BCB-9BAE-E192EF8D7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C98CFC0-EC9C-49F6-9D4D-2DE4D9C83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61CF19A-6F24-477F-BA74-6E57AD359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57A7E6-CB02-4F40-9A76-30BD24794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94CB6E5-DBF8-41D5-AE59-0A52592F0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375E57D-E071-4B7A-9596-A23484225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177C420-85B6-4855-9E60-9DD89F127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40119E7-E452-4243-AFEC-5DA07C566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880A7D-305A-46E4-B0F1-C26CACC90D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95AFC3-2ADF-49B2-A724-54436B998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252-99A3-4C6A-B2D1-4B870915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840-6981-4D89-A97A-BAB70D8D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567-322D-4022-B493-B53560C5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C5C-9D46-422A-8E5F-8EE2B62E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1D32-7D6E-499B-984F-19986673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6EEE-FFEA-4DCB-8EA9-319356AB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FB70-4FAF-4CF5-8539-44145029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F995-F552-4EC2-BFED-2B4FF9FE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4835-8EAD-4F6B-9BEB-43F7F967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5C53-944E-4695-9AA0-2FADE9B7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9C65-9FAB-4295-8077-27A2D53D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A24-7DEA-4231-9229-4D82F50E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8D67-2850-4B1C-B6CC-6190586C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B064-9CE8-48E0-966B-3AAAA31C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B7C0-1A6C-4F2D-B693-703D247E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A766-AE6B-45B4-A7AC-D5E15FDF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20F4-7C63-461E-96DE-F54DFD3C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E06E-1D27-4F3D-B950-205F8054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9389-B52C-4165-A6B7-3C8EDC95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1DC2-6130-4E9E-9AA0-2D4D8246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9088-64E0-40A4-99E0-DAA9C727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77F50-D954-45B5-8EAA-7363503D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9E3-CCED-44D2-B96C-367A0D32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75E0-7077-44E5-A511-3020F68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E372-C2E7-4AA1-8B60-E443A0D7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B08B7-B145-4EE2-AC35-B2180197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CC551-9416-4642-81CF-C2408362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E25E1-D779-4CDB-B2A8-A853088E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F04A-04B0-40DA-B82F-0B9EADC0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36DA-5BB0-4763-8F77-6D043856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1DAC-CA56-42EF-9C46-5595331E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C15C-7FF1-466F-8142-AA2DD877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306C2-5BA6-423C-A693-ED5770DE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775-8F81-4A04-8151-76FBD3D5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34B15-E7C5-4D33-AE0E-E60DE792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4A72-D969-48A9-8B95-609D05D0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B007C-4E18-412B-BE8B-9B970E21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71B5D-73DD-42BF-BAE2-AB89B58E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F63E5-70C4-459A-BAA9-6E7AD560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900F-3A35-46A8-A157-BC64555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B8E7E-2A42-4F46-AE13-FCDBCA89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6A467-6F0F-41D6-B41B-82D5BCAF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0E600-2F5D-428F-93BA-296A43DA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A7623-3BE3-4838-BE87-93D501FE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DAE-F564-4530-9B21-693E639F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6D019-CDE6-4B75-8496-3FB38A6A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E5C57-37AF-48CD-81AB-F40D246D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33D2C-8705-40E1-81E1-1B53DA24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8495F-BAA2-4A58-8078-54FBCA2C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DC940-1542-4C10-BAAA-47EF88F0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17FE2-F976-4C77-881D-0FC3A715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ED3F6-BB77-422E-8D8E-1299B97F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AECC5-B247-4839-BFB0-60BF855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F74F-C913-4A47-AB92-FBB6B7D0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4805-CE3D-42DC-A847-EB6EE14C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788-35C4-4708-B578-038B6E09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BB8D3-D331-4E23-8500-AA7B685E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D2EA3-570B-468F-B0AC-6BCA1F84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0527F-E76C-4FF8-9870-D7A506CA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80433-E761-4C21-9EFA-4D644740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09437-340C-4F6E-93D7-73D78FB4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51821-28A9-4EBD-A7CC-0F5ED788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D7105-C183-4BCF-B5C8-0DCD473F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D03E9-9A1A-4BBC-8353-E3D0B9C7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BA252-C036-4FF1-8396-E126E911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997FD-69D9-4D7D-8D5D-420E613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4FB-D157-409B-8B2F-DAE852A3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AE7EC-EC3D-4327-AF71-96C099C7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F6AF-BD01-443B-A75B-F3D3C305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7C3A1-7440-4A9B-82B6-4082C2D8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8F4F4-A23F-4DFC-B7CD-F1DF980A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E1C76-3094-4610-AAC8-262A61C1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57AF7-A98E-439D-9EAB-F6C76F31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E4F35-B40C-4473-ACDE-FAA79B10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7CD5A-69B4-4189-93DD-A9C9A530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30887-F2DB-4FC6-AF48-97A4B556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D29F0-4812-43FD-A8D5-0EDE62D0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6A3-598B-4326-A3F7-290BCA72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59207-6DF6-4E11-BE51-86E84A3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702F-CC0B-40C7-B598-7E315634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84DF-A104-44D8-A228-41BD7BD8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D35FC-190C-4F4E-8C4B-69EB28CD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F933D-7A5E-4F47-BEA4-6AFA6009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C35D3-9DCB-42A4-A2AA-D3C59B5D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226CB-F3D2-4498-9F20-62B3EF43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26537-895E-4D5B-9C62-38030012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14062-F1DD-4F31-983C-6FB748BE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E70C1-4C73-4E73-ADBC-7577C6C4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9EE-2DB5-47FA-9208-AF7A1EAC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2C1A1-0F40-4199-A232-178CB7B1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3D386-2F01-4AC8-9F69-39698E28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17271-F62F-4DE0-A308-9E4DE68E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CDBA2-8FD4-4743-8A92-B6EEE0B6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02686-5AEE-43FA-9527-31061ACB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E5738-6BE3-41A6-823D-9822585F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D63B5-F7A9-4601-92D3-3ECF0690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B620-AA69-4A22-9D49-0BAF540FEEEB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2AAE-4881-4F97-B546-644F6648E4EF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5d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3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5d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 Same Side Corner Rectangle 4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F181-DEF2-4205-B53B-9F3B95DB19D0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7290-44EF-4252-8775-06CEC06FBE2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3"/>
          <p:cNvSpPr/>
          <p:nvPr/>
        </p:nvSpPr>
        <p:spPr>
          <a:xfrm>
            <a:off x="228600" y="228600"/>
            <a:ext cx="8686800" cy="49528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4952880"/>
              <a:gd name="textAreaBottom" fmla="*/ 4953240 h 4952880"/>
            </a:gdLst>
            <a:ahLst/>
            <a:rect l="textAreaLeft" t="textAreaTop" r="textAreaRight" b="textAreaBottom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lnTo>
                  <a:pt x="8547076" y="0"/>
                </a:lnTo>
                <a:arcTo wR="139724" hR="139724" stAng="-5400000" swAng="5400000"/>
                <a:lnTo>
                  <a:pt x="8686800" y="4953000"/>
                </a:lnTo>
                <a:lnTo>
                  <a:pt x="0" y="4953000"/>
                </a:lnTo>
                <a:lnTo>
                  <a:pt x="0" y="139724"/>
                </a:lnTo>
                <a:lnTo>
                  <a:pt x="0" y="139724"/>
                </a:lnTo>
                <a:arcTo wR="139724" hR="139724" stAng="10800000" swAng="5400000"/>
                <a:close/>
              </a:path>
            </a:pathLst>
          </a:custGeom>
          <a:solidFill>
            <a:srgbClr val="5d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 Same Side Corner Rectangle 4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1295280"/>
              <a:gd name="textAreaBottom" fmla="*/ 1295640 h 1295280"/>
            </a:gdLst>
            <a:ahLst/>
            <a:rect l="textAreaLeft" t="textAreaTop" r="textAreaRight" b="textAreaBottom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lnTo>
                  <a:pt x="8547104" y="0"/>
                </a:lnTo>
                <a:arcTo wR="139696" hR="139696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139696"/>
                </a:lnTo>
                <a:lnTo>
                  <a:pt x="0" y="139696"/>
                </a:lnTo>
                <a:arcTo wR="139696" hR="139696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B3C4-4A6C-4B52-9420-05008BDA7A82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3DA2-47E4-41E3-B704-FB3242B390E5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C32A-3700-46C8-9DD0-4F493DFA52B1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027A-DEFD-49C7-8837-C16A97DE636F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4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5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5d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5d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BCF1-A754-4131-AD79-FA458928957D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F437-07D6-40C7-B1D2-AEAF8FB304B3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4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5d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7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5d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9EA7-C323-45EE-8C68-27C098F003AD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764A-8CF2-4A5B-BEA3-18D43404BAC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3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>
              <a:gd name="textAreaLeft" fmla="*/ 27720 w 6095880"/>
              <a:gd name="textAreaRight" fmla="*/ 6068160 w 6095880"/>
              <a:gd name="textAreaTop" fmla="*/ 27720 h 1952640"/>
              <a:gd name="textAreaBottom" fmla="*/ 1953000 h 1952640"/>
            </a:gdLst>
            <a:ahLst/>
            <a:rect l="textAreaLeft" t="textAreaTop" r="textAreaRight" b="textAreaBottom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lnTo>
                  <a:pt x="6000282" y="0"/>
                </a:lnTo>
                <a:arcTo wR="95718" hR="95718" stAng="-5400000" swAng="5400000"/>
                <a:lnTo>
                  <a:pt x="6096000" y="1952625"/>
                </a:lnTo>
                <a:lnTo>
                  <a:pt x="0" y="1952625"/>
                </a:lnTo>
                <a:lnTo>
                  <a:pt x="0" y="95718"/>
                </a:lnTo>
                <a:lnTo>
                  <a:pt x="0" y="95718"/>
                </a:lnTo>
                <a:arcTo wR="95718" hR="95718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traight Connector 4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5d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34F2-C451-47B6-8EFE-E336FFE693FE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9AF3-E6EE-42F8-9A41-22DAD2F25CF5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5d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32DA-1733-43FB-A6D7-846734BE3BB1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9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2603-C1AF-444D-906E-9013B0589D4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30492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Modelling Method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838080" y="473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6, 17,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56DD-EB50-4607-B038-DB1F1884959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3  Identify and associate attributes with entity or relationship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identify and associate attributes with the appropriate entity or relationship types and document the details of each attribu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4  Determine attribute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determine domains for the attributes in the data model and document the details of each dom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6E85-2C14-4EFC-9F36-77C53AA8330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7"/>
          <p:cNvSpPr/>
          <p:nvPr/>
        </p:nvSpPr>
        <p:spPr>
          <a:xfrm>
            <a:off x="152280" y="2819520"/>
            <a:ext cx="861084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52280" y="2819520"/>
            <a:ext cx="8596440" cy="26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152280" y="327672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6"/>
          <p:cNvSpPr/>
          <p:nvPr/>
        </p:nvSpPr>
        <p:spPr>
          <a:xfrm>
            <a:off x="755640" y="2819520"/>
            <a:ext cx="0" cy="26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176040" y="2828880"/>
            <a:ext cx="864396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Entity  Attribute       Description                                Data     Length  Nulls 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Multi-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   Default  Range    PK    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Name                                                                          Type                            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Valued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  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152280" y="3338640"/>
            <a:ext cx="85964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ff    Staff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Uniquely identifies a staff member  varchar     5         No        No                                       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Nam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name of Staff                           varchar     15        No       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am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name of Staf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rchar     15        No       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title of member of staf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rchar     10        No       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der of member of staff              character   1         Yes       No             M         F, 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Birth of member of staff     Date                     Yes       No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0-199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154764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6"/>
          <p:cNvSpPr/>
          <p:nvPr/>
        </p:nvSpPr>
        <p:spPr>
          <a:xfrm>
            <a:off x="406728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478800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536400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94036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6"/>
          <p:cNvSpPr/>
          <p:nvPr/>
        </p:nvSpPr>
        <p:spPr>
          <a:xfrm>
            <a:off x="651672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716436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6"/>
          <p:cNvSpPr/>
          <p:nvPr/>
        </p:nvSpPr>
        <p:spPr>
          <a:xfrm>
            <a:off x="788508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6"/>
          <p:cNvSpPr/>
          <p:nvPr/>
        </p:nvSpPr>
        <p:spPr>
          <a:xfrm>
            <a:off x="831708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1116000" y="2131920"/>
            <a:ext cx="6264360" cy="576360"/>
          </a:xfrm>
          <a:prstGeom prst="rect">
            <a:avLst/>
          </a:pr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ata Dictionary for Staff View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how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scription of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F76C-5459-4F67-BDE1-990AC7F88EA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5  Determine candidate and primary key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identify the candidate key(s) for each entity and if there is more than one candidate key, to choose one to be the primary 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AFDF-818D-4706-862C-5713268399E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RD for Staff View of </a:t>
            </a:r>
            <a:r>
              <a:rPr b="1" i="1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 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with P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6" name="Picture 8" descr="C15NF05"/>
          <p:cNvPicPr/>
          <p:nvPr/>
        </p:nvPicPr>
        <p:blipFill>
          <a:blip r:embed="rId1"/>
          <a:srcRect l="282" t="0" r="0" b="4899"/>
          <a:stretch/>
        </p:blipFill>
        <p:spPr>
          <a:xfrm>
            <a:off x="684360" y="1557360"/>
            <a:ext cx="755964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2525-C9C9-45CF-BDFA-12D5BCFD57FB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6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use of enhanced modeling concep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consider the use of enhanced modeling concepts, such as specialization / generalization, aggregation, and composition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B042-C0A1-4AF2-91E6-253BF725782F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RD for Staff View of </a:t>
            </a:r>
            <a:r>
              <a:rPr b="1" i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with specialization / general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4" name="Picture 8" descr="C15NF06"/>
          <p:cNvPicPr/>
          <p:nvPr/>
        </p:nvPicPr>
        <p:blipFill>
          <a:blip r:embed="rId1"/>
          <a:srcRect l="-59" t="0" r="0" b="4900"/>
          <a:stretch/>
        </p:blipFill>
        <p:spPr>
          <a:xfrm>
            <a:off x="1042920" y="1484280"/>
            <a:ext cx="65534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BEC4-A1EB-46F5-AF82-1D9E18FE3A40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7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model for redundanc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check for the presence of any redundancy in the model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Re-examine 1:1 relationsh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Remove redundant relationsh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1.8  Validate conceptual model against user transaction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ensure that the conceptual model supports the transactions required by the view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6480" algn="just">
              <a:lnSpc>
                <a:spcPct val="11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be the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6480" algn="just">
              <a:lnSpc>
                <a:spcPct val="11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ransaction pathways: diagrammatically represent the pathway taken by each transaction on the E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91BA-5E94-427C-B0D8-F68E34CF955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Using transaction</a:t>
            </a:r>
            <a:r>
              <a:rPr b="1" lang="ja-JP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’</a:t>
            </a:r>
            <a:r>
              <a:rPr b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 Pathway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2" name="Picture 8" descr="C15NF09"/>
          <p:cNvPicPr/>
          <p:nvPr/>
        </p:nvPicPr>
        <p:blipFill>
          <a:blip r:embed="rId1"/>
          <a:srcRect l="0" t="0" r="-865" b="4900"/>
          <a:stretch/>
        </p:blipFill>
        <p:spPr>
          <a:xfrm>
            <a:off x="684360" y="1500120"/>
            <a:ext cx="6551640" cy="47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3766-0166-492E-A36B-50C11718FD7B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1.9   Review conceptual data model with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review the conceptual data model with the user to ensure that the model is a ‘true’ representation of the user’s view of the enterpr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5EC1-5AA4-4B6C-BF64-9BD3D718813F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18892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4267080" y="491184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4267080" y="346392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7"/>
          <p:cNvSpPr/>
          <p:nvPr/>
        </p:nvSpPr>
        <p:spPr>
          <a:xfrm>
            <a:off x="4952880" y="414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4267080" y="178740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5029200" y="247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911880" y="4881600"/>
            <a:ext cx="25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889560" y="33876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889560" y="17874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2"/>
          <p:cNvSpPr/>
          <p:nvPr/>
        </p:nvSpPr>
        <p:spPr>
          <a:xfrm>
            <a:off x="611280" y="4221000"/>
            <a:ext cx="6121440" cy="16560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3"/>
          <p:cNvSpPr/>
          <p:nvPr/>
        </p:nvSpPr>
        <p:spPr>
          <a:xfrm>
            <a:off x="684360" y="1773360"/>
            <a:ext cx="6121080" cy="165564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26E2-7DE7-48AC-B938-24121F6346B6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18892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4267080" y="491184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4267080" y="346392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7"/>
          <p:cNvSpPr/>
          <p:nvPr/>
        </p:nvSpPr>
        <p:spPr>
          <a:xfrm>
            <a:off x="4952880" y="414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4267080" y="178740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5029200" y="247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911880" y="4881600"/>
            <a:ext cx="25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889560" y="33876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889560" y="17874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50D5-94F1-48B4-8843-A4C3D766271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ogical DB Design Objectiv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10000"/>
              </a:lnSpc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ap the conceptual model into re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10000"/>
              </a:lnSpc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lidate these relations using the technique of normalization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10000"/>
              </a:lnSpc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lidate a logical data model to ensure it supports required user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10000"/>
              </a:lnSpc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ge local logical data models based on specific views into a global logical data model of the enterpris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1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sure that resultant global model is a true and accurate representation of enterpris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0963-0D90-4394-ABAD-83735CB0126F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 Black"/>
              </a:rPr>
              <a:t>Step 2</a:t>
            </a: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 Build and Validate Logical Data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1  Derive relations for logical data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2  Validate relations using 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3  Validate relations against user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4  Define integrit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5  Review logical data model with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6 Merge logical data models into global model (optional st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-196560">
              <a:lnSpc>
                <a:spcPct val="230000"/>
              </a:lnSpc>
              <a:spcBef>
                <a:spcPts val="349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ep 2.6.1  Merge local logical data models into global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-196560">
              <a:lnSpc>
                <a:spcPct val="230000"/>
              </a:lnSpc>
              <a:spcBef>
                <a:spcPts val="349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ep 2.6.2  Validate global logical data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-196560">
              <a:lnSpc>
                <a:spcPct val="230000"/>
              </a:lnSpc>
              <a:spcBef>
                <a:spcPts val="349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ep 2.6.3  Review global logical data model with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7  Check for future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436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452C-D73E-4AB3-91F6-D0B785792ED3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 Black"/>
              </a:rPr>
              <a:t>Step 2</a:t>
            </a: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 Build and Validate Logical Data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1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ive relations for logical data mode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reate relations for the logical data model to represent the entities, relationships, and attributes that have been identifie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Covered before in this cour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2  Validate relations using 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validate the relations in the logical data model using normal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3 Validate relations against user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ensure that the relations in the logical data model support the required transaction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5E0C-3C2B-4B25-9B79-2FB6419CEE07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 Black"/>
              </a:rPr>
              <a:t>Step 2.4</a:t>
            </a:r>
            <a:r>
              <a:rPr b="1" lang="en-GB" sz="1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Define integrity constrai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ep 2.4  Define integrit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 constraints protects DB from being inconsis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of integrity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 domain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i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integ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integ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l constrai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43B2-980C-4AD7-B927-0E359B657A18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tial Integrity Constraints for Rel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0" name="Picture 1032" descr="C16NF04"/>
          <p:cNvPicPr/>
          <p:nvPr/>
        </p:nvPicPr>
        <p:blipFill>
          <a:blip r:embed="rId1"/>
          <a:srcRect l="0" t="580" r="17450" b="0"/>
          <a:stretch/>
        </p:blipFill>
        <p:spPr>
          <a:xfrm>
            <a:off x="1450800" y="1500120"/>
            <a:ext cx="6264360" cy="49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AAB6-78B5-4470-A815-ECC9B36395C1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4E43-76EF-4B52-8988-2288CB9800A9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Step 2.5</a:t>
            </a:r>
            <a:r>
              <a:rPr b="1" lang="en-GB" sz="3600" spc="-1" strike="noStrike">
                <a:solidFill>
                  <a:srgbClr val="ffffff"/>
                </a:solidFill>
                <a:latin typeface="Arial Black"/>
                <a:ea typeface="Arial"/>
              </a:rPr>
              <a:t>  Review logical data model with use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72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view the logical data model with the users to ensure that they consider the model to be a true representation of the data requirements of the enterpri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6224-2282-4B8A-BB2B-EB6D42AE3EC7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D1A7-6897-4325-BE41-BD1C884ED8D2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 Black"/>
              </a:rPr>
              <a:t>Step 2.6</a:t>
            </a:r>
            <a:r>
              <a:rPr b="1" lang="en-GB" sz="2800" spc="-1" strike="noStrike">
                <a:solidFill>
                  <a:srgbClr val="ffffff"/>
                </a:solidFill>
                <a:latin typeface="Arial Black"/>
              </a:rPr>
              <a:t> Merge logical data models into global model (optional step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6320" y="2063880"/>
            <a:ext cx="8915400" cy="27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erge logical data models into a single global logical data model that represents the enterpr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200" indent="468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200" indent="468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Step 2.6.1  Merge local logical data models into glob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200" indent="468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Step 2.6.2  Validate global logical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200" indent="468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Step 2.6.3  Review global logical data model with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B422-C4C8-446C-872A-C382D046C3E8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1589-4001-4C2F-A892-76BE117A3A7E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 Black"/>
              </a:rPr>
              <a:t>Step 2.6.1</a:t>
            </a:r>
            <a:r>
              <a:rPr b="1" lang="en-GB" sz="2800" spc="-1" strike="noStrike">
                <a:solidFill>
                  <a:srgbClr val="ffffff"/>
                </a:solidFill>
                <a:latin typeface="Arial Black"/>
              </a:rPr>
              <a:t> Merge logical data models into global model (optional step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152280" y="1828800"/>
            <a:ext cx="89154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Review the names &amp; contents of entities/relations and their 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Review the names &amp; contents of relationships/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Merge entities/relations from the local data mod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Include (without merging) entities/relations unique to each local data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Merge relationships/FK from the local data mod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Include (without merging) relationships/FKs unique to each local data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Check the missing entities/relations and relationships/F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heck F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Check integrity constra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 Draw the global ER/relation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. Update the docu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8765-88CD-4845-9646-A7F03E7AE2EA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1. Review the names &amp; contents of entities/relations and their C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11280" y="1700280"/>
            <a:ext cx="800100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603360" y="2565360"/>
            <a:ext cx="8001000" cy="367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913320" y="1762200"/>
            <a:ext cx="32090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ranch 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y Type              CK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776520" y="2427120"/>
            <a:ext cx="3733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                     Branch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phone               Tel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ff                        Staff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                  Staff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Owner          Own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Owner       B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                     Client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yForRent     Property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se                      Leas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y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No, Rent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4821840" y="1739880"/>
            <a:ext cx="32090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aff 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y Type              CK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4677480" y="2405160"/>
            <a:ext cx="38811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ff                        Staff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Owner         Own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Owner      B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                     Client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yForRent     Property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                  ClientNo, Property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7577-972E-4A92-B8BC-5EAE1C80FD87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2. Review the names &amp; contents of relationships/F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152280" y="1600200"/>
            <a:ext cx="8883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152280" y="2133720"/>
            <a:ext cx="88837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647360" y="1568520"/>
            <a:ext cx="3821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ranch 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K                           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1559160" y="2201760"/>
            <a:ext cx="36903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rStaffNo -&gt; Manager(StaffNo)             Man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N -&gt; Branch(branchNo)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visorStaffNo -&gt; Staff(staffNo)          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No -&gt; Branch(branchN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No -&gt; Staff(StaffN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No -&gt; PrivateOwner(ownerNo)        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No -&gt;                                               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Owner(ownerN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No -&gt; Staff(StaffNo)                            Overs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No  -&gt; Branch(BranchNo)               Of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5826600" y="1546200"/>
            <a:ext cx="3225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ff 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K                             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154800" y="1568520"/>
            <a:ext cx="869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162000" y="2166840"/>
            <a:ext cx="151452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Owner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Ow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Fo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5360040" y="2209680"/>
            <a:ext cx="363420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visorStaffNo -&gt; Staff(staffNo)         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No -&gt; Staff(StaffNo)                         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No -&gt; PrivateOwner(ownerNo)      P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No -&gt;                                             B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Owner(ownerN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No -&gt; Staff(StaffNo)                          Man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3"/>
          <p:cNvSpPr/>
          <p:nvPr/>
        </p:nvSpPr>
        <p:spPr>
          <a:xfrm>
            <a:off x="1476360" y="1628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5292720" y="1628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F9AC-4EF3-458C-9363-68FB3163EBF6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88A1-1806-41DE-9F0B-7C401283DF68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74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Success Factors in Database Desig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Text Box 3076"/>
          <p:cNvSpPr/>
          <p:nvPr/>
        </p:nvSpPr>
        <p:spPr>
          <a:xfrm>
            <a:off x="228600" y="1897200"/>
            <a:ext cx="8763120" cy="44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interactively with users as much as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llow a structured methodology throughout the data modelling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ploy a data-driven approa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rporate structural and integrity considerations into the data mod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ine conceptualization, normalization, and transaction validation techniques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to the data modelling methodolo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diagrams to represent as much of the data models as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a data dictionary to supplement the data model dia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willing to repeat ste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4C7D-7195-473A-BDCB-8B96CCB1E08A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3. Merge entities/relations from the local data model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-1522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Merge entities/relations with the same name &amp; the same P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Branch View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Staff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IVATE 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name, address)      PRIVATE 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fname, lname, addr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Glob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IVATE 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fname, lname, addr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5"/>
          <p:cNvSpPr/>
          <p:nvPr/>
        </p:nvSpPr>
        <p:spPr>
          <a:xfrm flipH="1">
            <a:off x="4495680" y="3429000"/>
            <a:ext cx="2286000" cy="762120"/>
          </a:xfrm>
          <a:prstGeom prst="line">
            <a:avLst/>
          </a:prstGeom>
          <a:ln w="9360">
            <a:solidFill>
              <a:srgbClr val="e663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>
            <a:off x="2057400" y="3429000"/>
            <a:ext cx="1981080" cy="762120"/>
          </a:xfrm>
          <a:prstGeom prst="line">
            <a:avLst/>
          </a:prstGeom>
          <a:ln w="9360">
            <a:solidFill>
              <a:srgbClr val="e663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7636-5418-40FC-85E4-DC6FADAC57D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3. Merge entities/relations from the local data model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-7128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Merge entities/relations with the same name but different P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Branch View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Staff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B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b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bType, address,telNO)         B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bName, bType, address,tel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K tel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AK bName, tel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Glob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B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bName, bType, addr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K bName, tel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4"/>
          <p:cNvSpPr/>
          <p:nvPr/>
        </p:nvSpPr>
        <p:spPr>
          <a:xfrm flipH="1">
            <a:off x="5033520" y="3048120"/>
            <a:ext cx="2514600" cy="990360"/>
          </a:xfrm>
          <a:prstGeom prst="line">
            <a:avLst/>
          </a:prstGeom>
          <a:ln w="9360">
            <a:solidFill>
              <a:srgbClr val="e663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2290680" y="2971800"/>
            <a:ext cx="1828800" cy="1066680"/>
          </a:xfrm>
          <a:prstGeom prst="line">
            <a:avLst/>
          </a:prstGeom>
          <a:ln w="9360">
            <a:solidFill>
              <a:srgbClr val="e663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4D6A-368C-4ABD-AA33-A013A5C0D5B1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54BC-66F9-4A14-89BE-610146A54D0E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2.6.2</a:t>
            </a: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Validate global logical data mod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72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validate the relations created from the global logical data model using the technique of normalization and to ensure they support the required transactions, if necessary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752A-51F9-4A34-BE52-CB27E061E346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92F2-3A21-42AF-8947-BDCE4FDD25B5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2.6.3</a:t>
            </a: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view global logical data model with users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review the global logical data model with the users to ensure that they consider the model to be a true representation of the data requirements of an enterp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42AF-CBD9-4F79-9EC0-AE47B0A61014}" type="slidenum">
              <a:rPr b="0" lang="en-GB" sz="1200" spc="-1" strike="noStrike">
                <a:solidFill>
                  <a:srgbClr val="5d5c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 for the Branch user views of </a:t>
            </a:r>
            <a:r>
              <a:rPr b="1" i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5" name="Picture 8" descr="C16NF05"/>
          <p:cNvPicPr/>
          <p:nvPr/>
        </p:nvPicPr>
        <p:blipFill>
          <a:blip r:embed="rId1"/>
          <a:srcRect l="0" t="0" r="-237" b="3162"/>
          <a:stretch/>
        </p:blipFill>
        <p:spPr>
          <a:xfrm>
            <a:off x="684360" y="1413000"/>
            <a:ext cx="6335640" cy="54133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9"/>
          <p:cNvSpPr/>
          <p:nvPr/>
        </p:nvSpPr>
        <p:spPr>
          <a:xfrm>
            <a:off x="7086600" y="64008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6C6E-E626-4D8E-807D-C1A861B029A7}" type="slidenum">
              <a:rPr b="0" lang="en-GB" sz="1200" spc="-1" strike="noStrike">
                <a:solidFill>
                  <a:srgbClr val="5d5c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 that represent the global logical data model for </a:t>
            </a:r>
            <a:r>
              <a:rPr b="1" i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9" name="Picture 8" descr="C16NF08"/>
          <p:cNvPicPr/>
          <p:nvPr/>
        </p:nvPicPr>
        <p:blipFill>
          <a:blip r:embed="rId1"/>
          <a:srcRect l="0" t="0" r="-812" b="3163"/>
          <a:stretch/>
        </p:blipFill>
        <p:spPr>
          <a:xfrm>
            <a:off x="1187280" y="1413000"/>
            <a:ext cx="5364360" cy="5445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9"/>
          <p:cNvSpPr/>
          <p:nvPr/>
        </p:nvSpPr>
        <p:spPr>
          <a:xfrm>
            <a:off x="6553080" y="64008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1F9A-B951-4022-BC53-FB3195E285EF}" type="slidenum">
              <a:rPr b="0" lang="en-GB" sz="1200" spc="-1" strike="noStrike">
                <a:solidFill>
                  <a:srgbClr val="5d5c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Global relation diagram for </a:t>
            </a:r>
            <a:r>
              <a:rPr b="1" i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93" name="Picture 8" descr="C16NF09"/>
          <p:cNvPicPr/>
          <p:nvPr/>
        </p:nvPicPr>
        <p:blipFill>
          <a:blip r:embed="rId1"/>
          <a:srcRect l="1101" t="0" r="0" b="3164"/>
          <a:stretch/>
        </p:blipFill>
        <p:spPr>
          <a:xfrm>
            <a:off x="1187280" y="1341360"/>
            <a:ext cx="4343400" cy="55166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9"/>
          <p:cNvSpPr/>
          <p:nvPr/>
        </p:nvSpPr>
        <p:spPr>
          <a:xfrm>
            <a:off x="5562720" y="64008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0A78-233A-43DD-818D-0341A8B95EAB}" type="slidenum">
              <a:rPr b="0" lang="en-GB" sz="1200" spc="-1" strike="noStrike">
                <a:solidFill>
                  <a:srgbClr val="5d5c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Step 2.7 Check for future growth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Objective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determine whether there are any significant changes likely in the foreseeable future and to assess whether the global logical data model can accommodate thes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C1E8-7FEE-41A4-AD34-53E5F0EDFA94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8892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4267080" y="491184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4267080" y="346392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7"/>
          <p:cNvSpPr/>
          <p:nvPr/>
        </p:nvSpPr>
        <p:spPr>
          <a:xfrm>
            <a:off x="4952880" y="414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8"/>
          <p:cNvSpPr/>
          <p:nvPr/>
        </p:nvSpPr>
        <p:spPr>
          <a:xfrm>
            <a:off x="4267080" y="178740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5029200" y="247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911880" y="4881600"/>
            <a:ext cx="25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889560" y="33876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889560" y="17874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3"/>
          <p:cNvSpPr/>
          <p:nvPr/>
        </p:nvSpPr>
        <p:spPr>
          <a:xfrm>
            <a:off x="684360" y="1773360"/>
            <a:ext cx="6121080" cy="309564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B9B3-B145-4B62-BF94-AB2D535F0E3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6D4E-CE1A-45E6-AFEE-199FFA3FC0C1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arison of Logical and Physical Database Design</a:t>
            </a: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476360" y="1778040"/>
            <a:ext cx="7112160" cy="20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ogical database design is concerned with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hysical database design is concerned with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o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380880" y="3581280"/>
            <a:ext cx="8382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of producing a description of the implementation of the database on secondary storage; it describes the base relations, file organizations, and indexes used to achieve efficient access to the data, and any associated integrity constraints and security measure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Date Placeholder 7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Physical DB Design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2920-796B-42BA-97A0-F1646037BDA6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8628-F5B6-4426-8D31-97B5FE508D6D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Design Methodology Overview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304920" y="1717560"/>
            <a:ext cx="8915400" cy="45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ep 1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conceptual data 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and validate logical data mod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e logical data model for target DB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4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file organizations and index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user vie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6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security mechanism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7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the introduction of controlled redundanc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8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 and tune the operational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24000" y="1844640"/>
            <a:ext cx="6553080" cy="432000"/>
          </a:xfrm>
          <a:prstGeom prst="rect">
            <a:avLst/>
          </a:prstGeom>
          <a:noFill/>
          <a:ln w="38160">
            <a:solidFill>
              <a:srgbClr val="e0b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8"/>
          <p:cNvSpPr/>
          <p:nvPr/>
        </p:nvSpPr>
        <p:spPr>
          <a:xfrm>
            <a:off x="7164360" y="170028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324000" y="2349360"/>
            <a:ext cx="6696000" cy="863640"/>
          </a:xfrm>
          <a:prstGeom prst="rect">
            <a:avLst/>
          </a:prstGeom>
          <a:noFill/>
          <a:ln w="38160">
            <a:solidFill>
              <a:srgbClr val="e0b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7093080" y="1628640"/>
            <a:ext cx="1582560" cy="792360"/>
          </a:xfrm>
          <a:prstGeom prst="rect">
            <a:avLst/>
          </a:prstGeom>
          <a:solidFill>
            <a:srgbClr val="ffff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6"/>
          <p:cNvSpPr/>
          <p:nvPr/>
        </p:nvSpPr>
        <p:spPr>
          <a:xfrm>
            <a:off x="7164360" y="249228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324000" y="3284640"/>
            <a:ext cx="6696000" cy="2881080"/>
          </a:xfrm>
          <a:prstGeom prst="rect">
            <a:avLst/>
          </a:prstGeom>
          <a:noFill/>
          <a:ln w="38160">
            <a:solidFill>
              <a:srgbClr val="e0b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7164360" y="443700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7093080" y="2421000"/>
            <a:ext cx="1582560" cy="792000"/>
          </a:xfrm>
          <a:prstGeom prst="rect">
            <a:avLst/>
          </a:prstGeom>
          <a:solidFill>
            <a:srgbClr val="ffff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FFFD-564C-4740-8A3C-BE0769ADC23B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Overview of Physical Database Design Methodolog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5662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36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3  Translate logical data model for target DB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3.1  Design base 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3.2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representation of derived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ep 3.3  Design general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4  Design  physical re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4.1  Analyze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4.2  Choose file 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4.3  Choose ind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4.4  Estimate disk space requi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tep 5  Design user vie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tep 6  Design security mech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p 7  Consider the introduction of controlled redundan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p 8  Monitor and tune the operational system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BB6C-4A72-4A73-A17E-A84A1FC66752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3E89-75EB-4DE6-87B0-5A8942491E66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Black"/>
                <a:ea typeface="Times New Roman"/>
              </a:rPr>
              <a:t>Step 3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Translate Logical Data Model for Target DBM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produce a relational database schema that can be implemented in the target DBMS from the global logical data model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ed to know functionality of target DBMS such as how to create base relations and whether the system supports the definition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Ks, FKs, and AK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quired data (NOT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ma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ational integrity constrai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erprise constraint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d5c64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F1F2-29B6-4325-B54D-B033EF4836B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ep 3.1  Design Base Rel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decide how to represent base relations identified in logical model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For each relation, need to def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14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name of the rel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14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list of simple attributes in bracke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14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PK and, where appropriate, AKs and F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14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erential integrity constraints for any FKs ident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For each attribute, need to def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8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s domain, consisting of a data type, length, and any constraints on the doma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8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 optional default value for the attribu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8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ther the attribute can hold nu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8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ther it is derived, and if so, how it should be compu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120A-B3B2-43D7-BF9E-22255626D91B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25A1-FFC0-4311-A3DE-40D0051358AE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ForRent Relation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36" name="Picture 4" descr="DS3-Figure 16-01"/>
          <p:cNvPicPr/>
          <p:nvPr/>
        </p:nvPicPr>
        <p:blipFill>
          <a:blip r:embed="rId1"/>
          <a:stretch/>
        </p:blipFill>
        <p:spPr>
          <a:xfrm>
            <a:off x="1571760" y="1468440"/>
            <a:ext cx="580536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C5A3-1849-4836-9C62-D13DCA4E77B6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ep 3.2  Design Representation of Derived Dat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484280"/>
            <a:ext cx="853416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decide how to represent any derived data present in the global logical data model in the target DB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rived attribute can be stored in database or calculated every time it is needed. Option selected is based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lnSpc>
                <a:spcPct val="9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to store the derived data and keep it consistent with operational data from which it is deriv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st to calculate it each time it is requi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3316-36DB-480F-88F8-E1EB3F029B4E}" type="slidenum">
              <a:rPr b="0" lang="en-GB" sz="1200" spc="-1" strike="noStrike">
                <a:solidFill>
                  <a:srgbClr val="5d5c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ropertyforR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tion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taf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tion with Derived Attribut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noOfProperties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3" name="Picture 4" descr="DS3-Figure 16-02"/>
          <p:cNvPicPr/>
          <p:nvPr/>
        </p:nvPicPr>
        <p:blipFill>
          <a:blip r:embed="rId1"/>
          <a:stretch/>
        </p:blipFill>
        <p:spPr>
          <a:xfrm>
            <a:off x="539640" y="1484280"/>
            <a:ext cx="7920000" cy="479736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F0A4-C336-402E-95D3-B98F853EB78D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8A1A-73F7-413F-AB8B-7F1A6F1443E3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ep 3.3  Design Enterprise Constrain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design the general constraints for the target DBM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me DBMS provide more facilities than others for defining enterprise constraint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AINT StaffNotHandlingToo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(NOT EXISTS (SELECT staff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OM PropertyFo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UP BY staff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ING COUNT(*) &gt; 100)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20BD-1FA4-4242-B52E-F216F47627C0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18892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4267080" y="491184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4267080" y="346392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7"/>
          <p:cNvSpPr/>
          <p:nvPr/>
        </p:nvSpPr>
        <p:spPr>
          <a:xfrm>
            <a:off x="4952880" y="414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4267080" y="178740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9"/>
          <p:cNvSpPr/>
          <p:nvPr/>
        </p:nvSpPr>
        <p:spPr>
          <a:xfrm>
            <a:off x="5029200" y="247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911880" y="4881600"/>
            <a:ext cx="25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889560" y="33876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889560" y="17874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611280" y="2492280"/>
            <a:ext cx="6121440" cy="338472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5900-E4AB-4119-9687-24A37030D5C7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7360"/>
            <a:ext cx="8534160" cy="17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uild a conceptual data model of an enterprise for each specific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1  Identify entity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43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identify the main entity types that are required by the view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43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cument entity types in data diction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250920" y="4200480"/>
            <a:ext cx="8569080" cy="210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866880" y="465768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250920" y="4210200"/>
            <a:ext cx="849780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Entity Name           Description                               Aliases        Occurre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179280" y="4653000"/>
            <a:ext cx="871380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ff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neral term describing all staff     Employee    Each member of staff works at one particular 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d by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rmHom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roperty has a single owner &amp; is available 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ForRen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term describing all            Property      one specific branch, where the property is manag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for ren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by 1 member of staff. A property is viewed 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lients and rented by a single client at a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250920" y="508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3"/>
          <p:cNvSpPr/>
          <p:nvPr/>
        </p:nvSpPr>
        <p:spPr>
          <a:xfrm flipH="1">
            <a:off x="3995640" y="4221000"/>
            <a:ext cx="158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3"/>
          <p:cNvSpPr/>
          <p:nvPr/>
        </p:nvSpPr>
        <p:spPr>
          <a:xfrm flipH="1">
            <a:off x="4916520" y="4221000"/>
            <a:ext cx="158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 flipH="1">
            <a:off x="1531800" y="4221000"/>
            <a:ext cx="158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95280" y="3645000"/>
            <a:ext cx="8209080" cy="431640"/>
          </a:xfrm>
          <a:prstGeom prst="rect">
            <a:avLst/>
          </a:pr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ata Dictionary for Staff View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how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scription of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8"/>
          <p:cNvSpPr/>
          <p:nvPr/>
        </p:nvSpPr>
        <p:spPr>
          <a:xfrm>
            <a:off x="250920" y="4653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86CB-1BE2-4107-9D85-8D55B324F44F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2  Identify relationship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identify the important relationships that exist between the entity types that have been identifie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CF1D-E6F0-4649-A9E1-ACFBADC3DE0A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RD for Staff View of </a:t>
            </a:r>
            <a:r>
              <a:rPr b="1" i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2" name="Picture 8" descr="C15NF02"/>
          <p:cNvPicPr/>
          <p:nvPr/>
        </p:nvPicPr>
        <p:blipFill>
          <a:blip r:embed="rId1"/>
          <a:srcRect l="457" t="0" r="0" b="6674"/>
          <a:stretch/>
        </p:blipFill>
        <p:spPr>
          <a:xfrm>
            <a:off x="1332000" y="1844640"/>
            <a:ext cx="6624720" cy="38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A9D9-3826-40FF-9A0E-68E896446CC3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10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866880" y="2511360"/>
            <a:ext cx="68292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866880" y="2968560"/>
            <a:ext cx="68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855720" y="2492280"/>
            <a:ext cx="68850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Entity Name           Multiplicity           Relationship            Entity Name        Multiplic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868680" y="3046320"/>
            <a:ext cx="63860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ff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.1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nag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ertyForRen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0..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.1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pervis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0.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pertyForRent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.1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ssociatedWit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a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0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2"/>
          <p:cNvSpPr/>
          <p:nvPr/>
        </p:nvSpPr>
        <p:spPr>
          <a:xfrm>
            <a:off x="866880" y="3730680"/>
            <a:ext cx="68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5"/>
          <p:cNvSpPr/>
          <p:nvPr/>
        </p:nvSpPr>
        <p:spPr>
          <a:xfrm flipH="1">
            <a:off x="3492360" y="2511360"/>
            <a:ext cx="1296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6"/>
          <p:cNvSpPr/>
          <p:nvPr/>
        </p:nvSpPr>
        <p:spPr>
          <a:xfrm flipH="1">
            <a:off x="2268000" y="2511360"/>
            <a:ext cx="1764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1844640"/>
            <a:ext cx="6264360" cy="576360"/>
          </a:xfrm>
          <a:prstGeom prst="rect">
            <a:avLst/>
          </a:pr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ata Dictionary for Staff View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how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scription of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5"/>
          <p:cNvSpPr/>
          <p:nvPr/>
        </p:nvSpPr>
        <p:spPr>
          <a:xfrm flipH="1">
            <a:off x="5063760" y="2492280"/>
            <a:ext cx="12600" cy="17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5"/>
          <p:cNvSpPr/>
          <p:nvPr/>
        </p:nvSpPr>
        <p:spPr>
          <a:xfrm flipH="1">
            <a:off x="6575040" y="2492280"/>
            <a:ext cx="12600" cy="17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7:10:43Z</dcterms:created>
  <dc:creator>Nora</dc:creator>
  <dc:description/>
  <dc:language>en-US</dc:language>
  <cp:lastModifiedBy>sara</cp:lastModifiedBy>
  <dcterms:modified xsi:type="dcterms:W3CDTF">2014-02-22T21:21:51Z</dcterms:modified>
  <cp:revision>459</cp:revision>
  <dc:subject/>
  <dc:title>PL/SQL</dc:title>
</cp:coreProperties>
</file>