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PECIAL  TECHNIQ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 intraoral &amp; extraoral 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gn barrel of syringe over premolars and with extraoral 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e mucosa distil to 2nd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 needle to bone (avg. 25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, deposit 1.8 ml of solution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’s mouth must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 during injection and for 1-2 mins afte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quire reinforcement with second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  (&lt; 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9600"/>
            <a:ext cx="9753480" cy="672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 For Special 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for mandibular block when limited opening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eg. trismus, closed lock, etc..)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necessary to open wid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uccess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atrau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complications, few positive aspi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ation of path and depth of insertion i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bony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tic if needle hits perioste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ge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issue medial to ra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ve foramen, below cond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gingival junction of maxillary 2nd or 3rd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tuberosity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 of inse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issue overlying medial ramus, adjacent to tubero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height of mucogingival junction of maxillary 2nd or 3rd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ct soft tissues, have patient oc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e to 25 mm, parallel to maxillary occlusal plane, in a posterior and lateral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, deposit 1.8 ml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paralysis will develop first, allowing patient to open more wid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 (&lt;1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al nerve paralysis (Bell’s Pals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 (r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kinosi Closed Mouth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ilures of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flaring of mand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ion too 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ion too deep or shallow (adjust for patient siz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rve Block Techniq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oral Maxillary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oral Infraorbital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oral Mandibu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0"/>
            <a:ext cx="4729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78120" y="0"/>
            <a:ext cx="47293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9829800" cy="67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287000" cy="688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287000" cy="688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287000" cy="688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10287000" cy="688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rve Block Techniq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w-Gates Mandibu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inosi Closed Mouth Mandibu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iltration Techniq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ontal Lig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os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lohyoid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to improve success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 mandibu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 lower rate of positive aspi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% vs. 10%-15% for I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 For Special 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ic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nerve trun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ve pulpal / soft tissue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ge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k of condyle, below insertion of lateral pterygoid mus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ow-Gates Mandibular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iolingual cusp of maxillary 2nd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tragic no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er of the m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8:44:40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5T21:22:56Z</dcterms:modified>
  <cp:revision>16</cp:revision>
  <dc:subject/>
  <dc:title>SPECIAL TECHNIQUES</dc:title>
</cp:coreProperties>
</file>