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ontal Ligament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sia for 1-2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ateral mandibular treatment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ed treatment in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rve blocks contraindicat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hemophilia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d diagnosis of mandibular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raosseous Infil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jection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al - distil to tooth tre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mental foramen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tical - for edentulous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alveolar crest, mesial or dist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reatmen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raosseous  Infiltration </a:t>
            </a:r>
            <a:r>
              <a:rPr b="0" lang="en-US" sz="4400" spc="-1" strike="noStrike" u="sng">
                <a:solidFill>
                  <a:srgbClr val="fafd00"/>
                </a:solidFill>
                <a:uFillTx/>
                <a:latin typeface="Times New Roman"/>
              </a:rPr>
              <a:t>Stabident Syste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, consider local 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perforator through tissue to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ate in short spurts until resistance is lost ( approx. 2 se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syringe in pen grip, into perf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“plain” anesthetic (0.6 ml-1-2 tee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ylohyoid Nerve Infil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lohyoid nerve may provide sensation to mola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used as a supplement to IAN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ements lingual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ylohyoid Nerve Infil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act tongue med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etrate mucosa of floor of mouth by alveo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, deposit 0.5 ml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3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di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bility to open mo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ath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tic or Theraputic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ontal Ligament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/infla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logical need for “feeling numb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Maxillary/Mandibu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ge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amen Rotundum / Foramen Ov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netration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n overlying sigmoid no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erygoid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Maxillary/Mandibular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mamenta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-22 gauge spinal needle (3-5 in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ml syri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 skin p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Maxillary/Mandibular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 skin overlying sigmoid notc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tize skin and masseter mus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 spinal needle through sigmoid notch until the pterygoid plate is conta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Maxillary/Mandibular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, then re-direct anterior/superior to 4.5 cm for maxillary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-direct posterior/superior toward Foramen Ovale for mandibular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Maxillary/Mandibular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styl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filled syringe on spinal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 and deposit 3 ml of anesthetic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41720" y="0"/>
            <a:ext cx="46605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ontal Ligament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unecessary areas of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s dosage of 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ements partially effecti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Infraorbital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r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traoral Infraorbital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pate foramen- 6 mm below rim on pupillary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 s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etrate skin and contact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irect until foramen ent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 2-3 mm and deposit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41720" y="0"/>
            <a:ext cx="46605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ontal Ligament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on difficult in some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cause post-op discomfort, tooth extrusion, &amp;/or  tissue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 pressure may break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iodontal Ligament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needle on long axis of t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 0.2 ml slowly (30 se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feel resistance to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491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3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39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raosseous Infil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factors preclude adequate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e cortical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 / infla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pulpal irr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10:29:35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5T21:55:30Z</dcterms:modified>
  <cp:revision>28</cp:revision>
  <dc:subject/>
  <dc:title>Periodontal Ligament Injection</dc:title>
</cp:coreProperties>
</file>