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10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518112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10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0F6A-518C-45E9-A34A-139F14AE25B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14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A1C1-B4B5-4818-905F-8B4A66C1A53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BE30-0BE6-499C-AFA7-A8DBFFF2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EA2C-DB0D-44AF-ABA3-E836F078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8684-C4EC-4B06-9B4B-21C49039A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FE23-9E36-4297-A2D1-76CC51EB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ABEE-20B1-431D-A948-58B1549E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26E5-BE80-412A-B255-74BD3656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D8D5-4C8B-4811-A70A-F1352D4C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FCD2-10FC-4B47-A74F-871811E2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50AC-D0DE-4833-99E3-FADA0F06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BB9A-CFAF-49EA-8E0E-13B3B213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A521-E566-43D4-BD8F-4E110CE3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276D-C094-4E8E-A98D-417EFCB4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8E5B-C91A-4469-A925-B882E075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1F0E-50AE-4CF1-9454-29E1B58A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7C89D-2067-4B17-8E46-BA635E94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DC56-84BA-41EF-A510-CB00DE7B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4FB9-2CBA-4637-A5CA-7342AD23A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A428-A778-4736-8287-B2D39AE6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CECD-3652-4F91-8226-74A27AE6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8DCE-408A-4461-917A-9414EB2F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5410-EFE1-4F94-8BE1-6AA59E39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E682-18DD-467E-9261-E5D6D63D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A6A9-5754-49BC-ACE8-987FBD11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F2FF-44B1-4C18-BE3B-7DA2AA25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5C76-8CD2-4168-9F78-A702B0E808DD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4FE9-A055-4F9A-9351-48B6D6732439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6"/>
          <p:cNvSpPr txBox="1"/>
          <p:nvPr/>
        </p:nvSpPr>
        <p:spPr>
          <a:xfrm>
            <a:off x="755640" y="4495680"/>
            <a:ext cx="7704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odule one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INFECTION CONTROL 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7" name="WordArt 8"/>
          <p:cNvSpPr txBox="1"/>
          <p:nvPr/>
        </p:nvSpPr>
        <p:spPr>
          <a:xfrm>
            <a:off x="1143000" y="2438280"/>
            <a:ext cx="69343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undamental of nursing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8" name="WordArt 10"/>
          <p:cNvSpPr txBox="1"/>
          <p:nvPr/>
        </p:nvSpPr>
        <p:spPr>
          <a:xfrm>
            <a:off x="1143000" y="762120"/>
            <a:ext cx="6553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King Saud Universit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llege of Nursing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is a place in which an infectious agent can survive but may or may not multipl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#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Human-Beings (most common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#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nim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#</a:t>
            </a:r>
            <a:r>
              <a:rPr b="0" lang="en-US" sz="3200" spc="-1" strike="noStrike">
                <a:solidFill>
                  <a:srgbClr val="1ef8f8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Pla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#</a:t>
            </a:r>
            <a:r>
              <a:rPr b="0" lang="en-US" sz="3200" spc="-1" strike="noStrike">
                <a:solidFill>
                  <a:srgbClr val="1ef8f8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o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#</a:t>
            </a:r>
            <a:r>
              <a:rPr b="0" lang="en-US" sz="3200" spc="-1" strike="noStrike">
                <a:solidFill>
                  <a:srgbClr val="1ef8f8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#</a:t>
            </a:r>
            <a:r>
              <a:rPr b="0" lang="en-US" sz="3200" spc="-1" strike="noStrike">
                <a:solidFill>
                  <a:srgbClr val="1ef8f8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#</a:t>
            </a:r>
            <a:r>
              <a:rPr b="0" lang="en-US" sz="3200" spc="-1" strike="noStrike">
                <a:solidFill>
                  <a:srgbClr val="1ef8f8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Solutions &amp; Instru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WordArt 4"/>
          <p:cNvSpPr txBox="1"/>
          <p:nvPr/>
        </p:nvSpPr>
        <p:spPr>
          <a:xfrm>
            <a:off x="1600200" y="533520"/>
            <a:ext cx="6019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ESERVOIR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is the path by which an infectious agent leaves the sour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Respiratory trac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(e.g., lung, nos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Genitourinary trac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(e.g., vagina, peni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Mucous membrane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(e.g., eyes, nose, mouth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Gastrointestinal trac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(e.g., mouth ,anu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Blood-stream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(open wound, needle punctur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Broken ski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(e.g., puncture ,cut, surgical site, rash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Trans-placental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( mothers –to- fetus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 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WordArt 4"/>
          <p:cNvSpPr txBox="1"/>
          <p:nvPr/>
        </p:nvSpPr>
        <p:spPr>
          <a:xfrm>
            <a:off x="1143000" y="380880"/>
            <a:ext cx="70866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9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ORTAL OF EXIT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2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5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8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1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 mechanisms or the way in which the infectious agent moves from the reservoir to a susceptible hos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Transmission can occur by four mod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f8f8"/>
                </a:solidFill>
                <a:latin typeface="Comic Sans MS"/>
              </a:rPr>
              <a:t>CONTACT TRANSMISS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1ef8f8"/>
                </a:solidFill>
                <a:latin typeface="Comic Sans MS"/>
              </a:rPr>
              <a:t>: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 infectious agent can be transmitted directly from the reservoir to a susceptible host through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touch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(e.g.,staphyllococcus)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,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sexual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inter-course (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e.g., gonorrhea, HIV), or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droplets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(e.g., influenza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609480" y="457200"/>
            <a:ext cx="784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ODE OF TRANSMISS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VEHICLE TRANSMISS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: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 infectious agent can be transmitted indirectly from the reservoir to a susceptible host by material that maintains the life of the infectious agent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Food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(e.g, salmonella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Blood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(e.g, Hepatitis B , HIV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Water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(e.g, Cholera , Shigell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Wingdings"/>
                <a:ea typeface="Wingdings"/>
              </a:rPr>
              <a:t>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Instruments &amp; Others Items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(e.g, Hepatitis B , HIV , Pseudomonas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-360" y="-609840"/>
            <a:ext cx="8534520" cy="74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AIRBORNE TRANSMISSIO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:          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  <a:ea typeface="Courier New"/>
              </a:rPr>
              <a:t>The infectious agent can be carried by air currents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ff00"/>
                </a:solidFill>
                <a:latin typeface="Comic Sans MS"/>
              </a:rPr>
              <a:t>(e.g, Measles , Mycobacterium Tuberculosis , Varicella zoster  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VECTOR TRANSMISSION: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 infectious agent can be transmitted to a susceptible host through insects &amp; other invertebrate animals </a:t>
            </a:r>
            <a:r>
              <a:rPr b="0" i="1" lang="en-US" sz="3200" spc="-1" strike="noStrike">
                <a:solidFill>
                  <a:srgbClr val="00ff00"/>
                </a:solidFill>
                <a:latin typeface="Comic Sans MS"/>
                <a:ea typeface="Courier New"/>
              </a:rPr>
              <a:t>(</a:t>
            </a:r>
            <a:r>
              <a:rPr b="0" i="1" lang="en-US" sz="3200" spc="-1" strike="noStrike">
                <a:solidFill>
                  <a:srgbClr val="00ff00"/>
                </a:solidFill>
                <a:latin typeface="Comic Sans MS"/>
              </a:rPr>
              <a:t>e.g, Mosquitoes can transmit Malaria &amp; Yellow Fever ; fleas can transmit plague )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 route by which the infectious agent moves into (enters ) susceptible ho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WordArt 4"/>
          <p:cNvSpPr txBox="1"/>
          <p:nvPr/>
        </p:nvSpPr>
        <p:spPr>
          <a:xfrm>
            <a:off x="762120" y="457200"/>
            <a:ext cx="78483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ORTAL OF ENTER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304920" y="2322360"/>
            <a:ext cx="861048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Respiratory trac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(e.g., lung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Genitourinary trac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(e.g., vagina, peni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Mucous membranes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(e.g., eyes, nose, mouth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Gastrointestinal tract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(e.g., mouth ,anu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Blood-stream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Broken skin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(e.g., puncture ,cut, surgical site, rash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Trans-placental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( mothers –to- fetus 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Comic Sans MS"/>
                <a:ea typeface="Courier New"/>
              </a:rPr>
              <a:t>Host is any person who is at risk for infection. C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haracteristics that influence susceptibility &amp; severity of disease are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g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ex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ocio-Economic statu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isease histo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Nutritional statu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762120" y="533520"/>
            <a:ext cx="7772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USCEPTIBLE HOST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ccup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mmunization statu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iagnostic /Therapeutic procedur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edica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egnanc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raum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Hered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Ethnic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WordArt 3"/>
          <p:cNvSpPr txBox="1"/>
          <p:nvPr/>
        </p:nvSpPr>
        <p:spPr>
          <a:xfrm>
            <a:off x="762120" y="228600"/>
            <a:ext cx="7772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USCEPTIBLE HOST CONT'D</a:t>
            </a:r>
            <a:endParaRPr b="0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70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3" descr="Untitled-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3" descr="TRANSMISSION OF DISEASE 3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04920" y="533520"/>
            <a:ext cx="8839080" cy="71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MMON  TERMINOLOGIES  IN  INFECTION  CONTRO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ff00"/>
                </a:solidFill>
                <a:uFillTx/>
                <a:latin typeface="Comic Sans MS"/>
              </a:rPr>
              <a:t>CONTAMINATION    </a:t>
            </a:r>
            <a:r>
              <a:rPr b="1" lang="en-GB" sz="2800" spc="-1" strike="noStrike" u="sng">
                <a:solidFill>
                  <a:srgbClr val="99ff33"/>
                </a:solidFill>
                <a:uFillTx/>
                <a:latin typeface="Comic Sans MS"/>
              </a:rPr>
              <a:t> 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acteria present on surf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ff00"/>
                </a:solidFill>
                <a:uFillTx/>
                <a:latin typeface="Comic Sans MS"/>
              </a:rPr>
              <a:t>COLONIZATION</a:t>
            </a:r>
            <a:r>
              <a:rPr b="1" i="1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 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  <a:ea typeface="Courier New"/>
              </a:rPr>
              <a:t>presence 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and multiplication of microorganis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in or on a host without tissue damag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Bacteria present on surfa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ff00"/>
                </a:solidFill>
                <a:uFillTx/>
                <a:latin typeface="Comic Sans MS"/>
              </a:rPr>
              <a:t>INFECTION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 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                               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  <a:ea typeface="Courier New"/>
              </a:rPr>
              <a:t>invasion and multiplication                                                        of an infectious agent in                                                         the tissues of the host.</a:t>
            </a:r>
            <a:r>
              <a:rPr b="1" lang="en-US" sz="2400" spc="-1" strike="noStrike">
                <a:solidFill>
                  <a:srgbClr val="eaeaea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rcRect l="7534" t="44431" r="63334" b="41452"/>
          <a:stretch/>
        </p:blipFill>
        <p:spPr>
          <a:xfrm>
            <a:off x="5867280" y="4114800"/>
            <a:ext cx="335304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2"/>
          <a:srcRect l="4450" t="69142" r="63334" b="15557"/>
          <a:stretch/>
        </p:blipFill>
        <p:spPr>
          <a:xfrm>
            <a:off x="4800600" y="5562720"/>
            <a:ext cx="4343400" cy="1295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3"/>
          <a:srcRect l="0" t="24428" r="63334" b="59104"/>
          <a:stretch/>
        </p:blipFill>
        <p:spPr>
          <a:xfrm>
            <a:off x="5410080" y="2057400"/>
            <a:ext cx="3733920" cy="10666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831EFC3C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320400"/>
            <a:ext cx="80769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How can we break the chain of infection</a:t>
            </a: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?</a:t>
            </a:r>
            <a:br>
              <a:rPr sz="4800"/>
            </a:b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Link                             Interven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4800600" y="2502000"/>
            <a:ext cx="4191120" cy="3506040"/>
          </a:xfrm>
          <a:prstGeom prst="rect">
            <a:avLst/>
          </a:prstGeom>
          <a:noFill/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ccurate and rapid identification of micro-organisms</a:t>
            </a:r>
            <a:r>
              <a:rPr b="0" lang="ar-S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arly recognition of sign and symptoms of infection</a:t>
            </a:r>
            <a:r>
              <a:rPr b="0" lang="ar-S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1680" y="2597040"/>
            <a:ext cx="4311720" cy="1191240"/>
          </a:xfrm>
          <a:prstGeom prst="rect">
            <a:avLst/>
          </a:prstGeom>
          <a:noFill/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Comic Sans MS"/>
              </a:rPr>
              <a:t>1-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fectious or Causative Agent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20400"/>
            <a:ext cx="80769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How can we break the chain of infection</a:t>
            </a: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?</a:t>
            </a:r>
            <a:br>
              <a:rPr sz="4800"/>
            </a:b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ahoma"/>
              </a:rPr>
              <a:t>Link </a:t>
            </a: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                    </a:t>
            </a:r>
            <a:r>
              <a:rPr b="0" lang="en-US" sz="5400" spc="-1" strike="noStrike">
                <a:solidFill>
                  <a:srgbClr val="00ff00"/>
                </a:solidFill>
                <a:latin typeface="Tahoma"/>
              </a:rPr>
              <a:t>Interventio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200400" y="2355840"/>
            <a:ext cx="5943600" cy="4483080"/>
          </a:xfrm>
          <a:prstGeom prst="rect">
            <a:avLst/>
          </a:prstGeom>
          <a:noFill/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mployee health examinations and screen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nvironmental sanitization including floors, walls, exam tables and be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sinfection/Sterilization of equipment and instrumen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andard Precau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dical Asepsi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per Hygiene - bathing and hand wash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ean gowns, linens and towel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ean wound dressing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31680" y="2409840"/>
            <a:ext cx="2940120" cy="611640"/>
          </a:xfrm>
          <a:prstGeom prst="rect">
            <a:avLst/>
          </a:prstGeom>
          <a:noFill/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ff00"/>
                </a:solidFill>
                <a:latin typeface="Comic Sans MS"/>
              </a:rPr>
              <a:t>2-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Reservoir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20400"/>
            <a:ext cx="80769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How can we break the chain of infection</a:t>
            </a: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?</a:t>
            </a:r>
            <a:br>
              <a:rPr sz="4800"/>
            </a:b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Link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                           </a:t>
            </a:r>
            <a:r>
              <a:rPr b="0" lang="en-US" sz="4800" spc="-1" strike="noStrike">
                <a:solidFill>
                  <a:srgbClr val="00ff00"/>
                </a:solidFill>
                <a:latin typeface="Tahoma"/>
              </a:rPr>
              <a:t>Interven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505320" y="2209680"/>
            <a:ext cx="5638680" cy="4117320"/>
          </a:xfrm>
          <a:prstGeom prst="rect">
            <a:avLst/>
          </a:prstGeom>
          <a:noFill/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and wash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of Personal Protective Equipment such as gloves, gowns, facemask, N95 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ean dressings over woun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dical Asepsis or Clean Techniqu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trol of excretions and secre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vering the mouth and nose when coughing or sneez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per trash and waste dispos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andard Precau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1680" y="2209680"/>
            <a:ext cx="3245040" cy="520560"/>
          </a:xfrm>
          <a:prstGeom prst="rect">
            <a:avLst/>
          </a:prstGeom>
          <a:noFill/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3-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ortal of Ex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20400"/>
            <a:ext cx="80769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How can we break the chain of infection</a:t>
            </a: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?</a:t>
            </a:r>
            <a:br>
              <a:rPr sz="4800"/>
            </a:b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Link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                           </a:t>
            </a:r>
            <a:r>
              <a:rPr b="0" lang="en-US" sz="4800" spc="-1" strike="noStrike">
                <a:solidFill>
                  <a:srgbClr val="00ff00"/>
                </a:solidFill>
                <a:latin typeface="Tahoma"/>
              </a:rPr>
              <a:t>Interven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48120" y="2057400"/>
            <a:ext cx="5943600" cy="4716360"/>
          </a:xfrm>
          <a:prstGeom prst="rect">
            <a:avLst/>
          </a:prstGeom>
          <a:noFill/>
          <a:ln w="9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Hand washing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Standard Precautions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Rooms with air flow control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Safe Food handling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Isolation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Transmission-based precautions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Sterilization of equipment and supplies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Medical and Surgical Asepsis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Use of Personal Protective Equipment such as gloves, gowns, facemask, N95 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Proper disposal of contaminated objects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1680" y="2133720"/>
            <a:ext cx="2787840" cy="1800360"/>
          </a:xfrm>
          <a:prstGeom prst="rect">
            <a:avLst/>
          </a:prstGeom>
          <a:noFill/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4-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ethod or           Mode of                    Transmi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320400"/>
            <a:ext cx="80769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How can we break the chain of infection</a:t>
            </a: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?</a:t>
            </a:r>
            <a:br>
              <a:rPr sz="4800"/>
            </a:b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Link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                           </a:t>
            </a:r>
            <a:r>
              <a:rPr b="0" lang="en-US" sz="4800" spc="-1" strike="noStrike">
                <a:solidFill>
                  <a:srgbClr val="00ff00"/>
                </a:solidFill>
                <a:latin typeface="Tahoma"/>
              </a:rPr>
              <a:t>Interventio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276720" y="2057400"/>
            <a:ext cx="5486400" cy="4786560"/>
          </a:xfrm>
          <a:prstGeom prst="rect">
            <a:avLst/>
          </a:prstGeom>
          <a:noFill/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erile technique or Surgical Asepsis (dressing, injections, catheterization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edical Asepsis or Clean Techniqu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theter Ca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ound ca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per Disposal of needles or sharp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aintaining skin integr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andard Precau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0" y="2133720"/>
            <a:ext cx="3276720" cy="520560"/>
          </a:xfrm>
          <a:prstGeom prst="rect">
            <a:avLst/>
          </a:prstGeom>
          <a:noFill/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5-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rtal of Ent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320400"/>
            <a:ext cx="80769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How can we break the chain of infection</a:t>
            </a: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?</a:t>
            </a:r>
            <a:br>
              <a:rPr sz="4800"/>
            </a:b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Link 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                              </a:t>
            </a:r>
            <a:r>
              <a:rPr b="0" lang="en-US" sz="4000" spc="-1" strike="noStrike">
                <a:solidFill>
                  <a:srgbClr val="00ff00"/>
                </a:solidFill>
                <a:latin typeface="Tahoma"/>
              </a:rPr>
              <a:t>Interven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572000" y="2209680"/>
            <a:ext cx="4419720" cy="3993480"/>
          </a:xfrm>
          <a:prstGeom prst="rect">
            <a:avLst/>
          </a:prstGeom>
          <a:noFill/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reatment of Disea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cognition of clients at ris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mmuniz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xerci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oper Nutr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atient Educ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1680" y="2209680"/>
            <a:ext cx="3854520" cy="581400"/>
          </a:xfrm>
          <a:prstGeom prst="rect">
            <a:avLst/>
          </a:prstGeom>
          <a:noFill/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6-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usceptible H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533520" y="457200"/>
            <a:ext cx="81532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ff33"/>
                </a:solidFill>
                <a:uFillTx/>
                <a:latin typeface="Comic Sans MS"/>
              </a:rPr>
              <a:t>PREVENTIVE  PATIENT  CAR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ff33"/>
                </a:solidFill>
                <a:uFillTx/>
                <a:latin typeface="Comic Sans MS"/>
              </a:rPr>
              <a:t>PRACTI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Hand  was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Aseptic  techni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3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Standard  precau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4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Steriliz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5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Disinf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6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Comic Sans MS"/>
              </a:rPr>
              <a:t>Isolation  Preca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3" descr="B7051C96"/>
          <p:cNvPicPr/>
          <p:nvPr/>
        </p:nvPicPr>
        <p:blipFill>
          <a:blip r:embed="rId1"/>
          <a:stretch/>
        </p:blipFill>
        <p:spPr>
          <a:xfrm>
            <a:off x="5791320" y="236232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5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5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8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5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3880"/>
                            </p:stCondLst>
                            <p:childTnLst>
                              <p:par>
                                <p:cTn id="5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4880"/>
                            </p:stCondLst>
                            <p:childTnLst>
                              <p:par>
                                <p:cTn id="5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880"/>
                            </p:stCondLst>
                            <p:childTnLst>
                              <p:par>
                                <p:cTn id="5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5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5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4" dur="1000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5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0" dur="1000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9880"/>
                            </p:stCondLst>
                            <p:childTnLst>
                              <p:par>
                                <p:cTn id="5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10880"/>
                            </p:stCondLst>
                            <p:childTnLst>
                              <p:par>
                                <p:cTn id="5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0" y="763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00"/>
                </a:solidFill>
                <a:uFillTx/>
                <a:latin typeface="Comic Sans MS"/>
              </a:rPr>
              <a:t>HAND WASHING:-</a:t>
            </a:r>
            <a:r>
              <a:rPr b="0" lang="en-US" sz="3200" spc="-1" strike="noStrike" u="sng">
                <a:solidFill>
                  <a:srgbClr val="1ef8f8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is the process for the removal of dirt and transient microorganisms(E.g.  E. COLI) from the hands. (it is considered the most effective infection control measur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00"/>
                </a:solidFill>
                <a:uFillTx/>
                <a:latin typeface="Comic Sans MS"/>
                <a:ea typeface="ＭＳ Ｐゴシック"/>
              </a:rPr>
              <a:t>HAND ANTISEPSIS: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ef8f8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is a process of the removal or destruction of transient microorganis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00"/>
                </a:solidFill>
                <a:uFillTx/>
                <a:latin typeface="Comic Sans MS"/>
                <a:ea typeface="ＭＳ Ｐゴシック"/>
              </a:rPr>
              <a:t>SURGICAL HAND SCRUB :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is a process to remove or destroy the transient microorganisms and reduced resident flora, (E.g. Diphtherias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Comic Sans MS"/>
              </a:rPr>
              <a:t>Types of the Hand Wash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cc"/>
              </a:buClr>
              <a:buSzPct val="150000"/>
              <a:buFont typeface="Courier New"/>
              <a:buChar char="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ff33"/>
                </a:solidFill>
                <a:uFillTx/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ff00"/>
                </a:solidFill>
                <a:uFillTx/>
                <a:latin typeface="Comic Sans MS"/>
              </a:rPr>
              <a:t>ROUTINE HAND WASHING or  HYGIENIC HAND WASHING: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ＭＳ Ｐゴシック"/>
              </a:rPr>
              <a:t>It is accomplished by vigorously rubbing together all surfaces of lathered hands followed by thorough rinsing under a stream of wat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ＭＳ Ｐゴシック"/>
              </a:rPr>
              <a:t>This should take  10-15 seconds to comple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ＭＳ Ｐゴシック"/>
              </a:rPr>
              <a:t>The hands should be dried with a paper towe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04920" y="1219320"/>
            <a:ext cx="883908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00"/>
                </a:solidFill>
                <a:uFillTx/>
                <a:latin typeface="Comic Sans MS"/>
              </a:rPr>
              <a:t>ENDOGENOUS  INFECT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ff33"/>
                </a:solidFill>
                <a:latin typeface="Comic Sans MS"/>
              </a:rPr>
              <a:t> :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 organisms  derived  from patients  own  flora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Courier New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00"/>
                </a:solidFill>
                <a:uFillTx/>
                <a:latin typeface="Comic Sans MS"/>
              </a:rPr>
              <a:t>EXOGENOUS  INFECTION</a:t>
            </a:r>
            <a:r>
              <a:rPr b="1" lang="en-US" sz="3200" spc="-1" strike="noStrike">
                <a:solidFill>
                  <a:srgbClr val="99ff33"/>
                </a:solidFill>
                <a:latin typeface="Comic Sans MS"/>
              </a:rPr>
              <a:t> :            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Organisms  are  derived  from  outside  for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ff00"/>
                </a:solidFill>
                <a:uFillTx/>
                <a:latin typeface="Comic Sans MS"/>
              </a:rPr>
              <a:t>INCUBATION  PERIOD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99ff33"/>
                </a:solidFill>
                <a:latin typeface="Comic Sans MS"/>
              </a:rPr>
              <a:t> :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</a:rPr>
              <a:t>time of initial contact  with the infectious agent to the appearance of  the first sympto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33520" y="380880"/>
            <a:ext cx="81532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MMON  TERMINOLOGIES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  INFECTION  CONTROL cont</a:t>
            </a:r>
            <a:r>
              <a:rPr b="0" lang="ja-JP" sz="3600" spc="-1" strike="noStrike">
                <a:solidFill>
                  <a:srgbClr val="ffff00"/>
                </a:solidFill>
                <a:latin typeface="Comic Sans MS"/>
              </a:rPr>
              <a:t>’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ff33"/>
                </a:solidFill>
                <a:uFillTx/>
                <a:latin typeface="Comic Sans MS"/>
              </a:rPr>
              <a:t>Types of the Hand Washing cont</a:t>
            </a:r>
            <a:r>
              <a:rPr b="0" lang="ja-JP" sz="3600" spc="-1" strike="noStrike" u="sng">
                <a:solidFill>
                  <a:srgbClr val="99ff33"/>
                </a:solidFill>
                <a:uFillTx/>
                <a:latin typeface="Comic Sans MS"/>
              </a:rPr>
              <a:t>’</a:t>
            </a:r>
            <a:r>
              <a:rPr b="0" lang="en-US" sz="3600" spc="-1" strike="noStrike" u="sng">
                <a:solidFill>
                  <a:srgbClr val="99ff33"/>
                </a:solidFill>
                <a:uFillTx/>
                <a:latin typeface="Comic Sans MS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urier New"/>
              <a:buChar char="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fabcf1"/>
                </a:solidFill>
                <a:uFillTx/>
                <a:latin typeface="Comic Sans MS"/>
              </a:rPr>
              <a:t>SURGICAL SCRUB: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ffffcc"/>
              </a:buClr>
              <a:buSzPct val="150000"/>
              <a:buFont typeface="Wingdings 2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is the process that begin with washing hands and forearms thoroughly to remove dirt and transient bacteria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ffffcc"/>
              </a:buClr>
              <a:buSzPct val="150000"/>
              <a:buFont typeface="Wingdings 2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A nail cleaner should be used to clean under the nai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ffffcc"/>
              </a:buClr>
              <a:buSzPct val="150000"/>
              <a:buFont typeface="Wingdings 2" charset="2"/>
              <a:buChar char="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should take about 5 minu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ff33"/>
                </a:solidFill>
                <a:uFillTx/>
                <a:latin typeface="Comic Sans MS"/>
              </a:rPr>
              <a:t>VARIOUS HAND DECONTAMINA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Soap solution: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ＭＳ Ｐゴシック"/>
              </a:rPr>
              <a:t>Soap have a detergent eff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ＭＳ Ｐゴシック"/>
              </a:rPr>
              <a:t>They remove transient microorganisms physically but have no effect on the resident microbial popul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33"/>
                </a:solidFill>
                <a:uFillTx/>
                <a:latin typeface="Comic Sans MS"/>
              </a:rPr>
              <a:t>VARIOUS HAND DECONTAMINANT cont</a:t>
            </a:r>
            <a:r>
              <a:rPr b="0" lang="ja-JP" sz="3200" spc="-1" strike="noStrike" u="sng">
                <a:solidFill>
                  <a:srgbClr val="99ff33"/>
                </a:solidFill>
                <a:uFillTx/>
                <a:latin typeface="Comic Sans MS"/>
              </a:rPr>
              <a:t>’</a:t>
            </a:r>
            <a:r>
              <a:rPr b="0" lang="en-US" sz="3200" spc="-1" strike="noStrike" u="sng">
                <a:solidFill>
                  <a:srgbClr val="99ff33"/>
                </a:solidFill>
                <a:uFillTx/>
                <a:latin typeface="Comic Sans MS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CHLOROHEXIDINE: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 has a broad - spectrum activity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5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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binds to the stratum corneum, continuing to destroy bacteria for at least six hou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0" y="-3049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33"/>
                </a:solidFill>
                <a:uFillTx/>
                <a:latin typeface="Comic Sans MS"/>
              </a:rPr>
              <a:t>VARIOUS HAND DECONTAMINANTS cont</a:t>
            </a:r>
            <a:r>
              <a:rPr b="0" lang="ja-JP" sz="3200" spc="-1" strike="noStrike" u="sng">
                <a:solidFill>
                  <a:srgbClr val="99ff33"/>
                </a:solidFill>
                <a:uFillTx/>
                <a:latin typeface="Comic Sans MS"/>
              </a:rPr>
              <a:t>’</a:t>
            </a:r>
            <a:r>
              <a:rPr b="0" lang="en-US" sz="3200" spc="-1" strike="noStrike" u="sng">
                <a:solidFill>
                  <a:srgbClr val="99ff33"/>
                </a:solidFill>
                <a:uFillTx/>
                <a:latin typeface="Comic Sans MS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POVIDINE IODINE:-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7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is often used in the operating theatre because it destroys spores more effectively than many other antiseptic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6320" y="-3808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33"/>
                </a:solidFill>
                <a:uFillTx/>
                <a:latin typeface="Comic Sans MS"/>
              </a:rPr>
              <a:t>VARIOUS HAND DECONTAMINANTS cont</a:t>
            </a:r>
            <a:r>
              <a:rPr b="0" lang="ja-JP" sz="3200" spc="-1" strike="noStrike" u="sng">
                <a:solidFill>
                  <a:srgbClr val="99ff33"/>
                </a:solidFill>
                <a:uFillTx/>
                <a:latin typeface="Comic Sans MS"/>
              </a:rPr>
              <a:t>’</a:t>
            </a:r>
            <a:r>
              <a:rPr b="0" lang="en-US" sz="3200" spc="-1" strike="noStrike" u="sng">
                <a:solidFill>
                  <a:srgbClr val="99ff33"/>
                </a:solidFill>
                <a:uFillTx/>
                <a:latin typeface="Comic Sans MS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ALCOHOL HAND-RUBS, GEL &amp; WIPES: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y have excellent bactericidal activity against most gram – positive and gram- negative bacteria but have no effect on spo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1ef8f8"/>
                </a:solidFill>
                <a:uFillTx/>
                <a:latin typeface="Comic Sans MS"/>
              </a:rPr>
              <a:t>INDICATIONS FOR HAND WASH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ef8f8"/>
                </a:solidFill>
                <a:uFillTx/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ＭＳ Ｐゴシック"/>
              </a:rPr>
              <a:t>When coming on du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ＭＳ Ｐゴシック"/>
              </a:rPr>
              <a:t>After removing glo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ＭＳ Ｐゴシック"/>
              </a:rPr>
              <a:t>When hands are soiled including after sneezing, coughing, or blowing your no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ＭＳ Ｐゴシック"/>
              </a:rPr>
              <a:t>Between patients</a:t>
            </a:r>
            <a:r>
              <a:rPr b="0" lang="ja-JP" sz="2800" spc="-1" strike="noStrike">
                <a:solidFill>
                  <a:srgbClr val="eaeaea"/>
                </a:solidFill>
                <a:latin typeface="Comic Sans MS"/>
                <a:ea typeface="ＭＳ Ｐゴシック"/>
              </a:rPr>
              <a:t>’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 contac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Before  &amp; after medication administr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After personal use of the toil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Before performing invasive procedu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ef8f8"/>
                </a:solidFill>
                <a:uFillTx/>
                <a:latin typeface="Comic Sans MS"/>
              </a:rPr>
              <a:t>INDICATIONS FOR HAND WASHING cont</a:t>
            </a:r>
            <a:r>
              <a:rPr b="0" lang="ja-JP" sz="3200" spc="-1" strike="noStrike" u="sng">
                <a:solidFill>
                  <a:srgbClr val="1ef8f8"/>
                </a:solidFill>
                <a:uFillTx/>
                <a:latin typeface="Comic Sans MS"/>
              </a:rPr>
              <a:t>’</a:t>
            </a:r>
            <a:r>
              <a:rPr b="0" lang="en-US" sz="3200" spc="-1" strike="noStrike" u="sng">
                <a:solidFill>
                  <a:srgbClr val="1ef8f8"/>
                </a:solidFill>
                <a:uFillTx/>
                <a:latin typeface="Comic Sans MS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Before taking care of particularly susceptible patients, such as who are severely Immuno-compromised &amp; Newbor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Before and after touching woun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Before &amp; after ea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After touching  objects that are likely to be contaminated with pathogenic  micro-organisms E.g. urine measuring devices, secretion collection apparatus, etc..</a:t>
            </a:r>
            <a:r>
              <a:rPr b="1" lang="en-US" sz="2800" spc="-1" strike="noStrike">
                <a:solidFill>
                  <a:srgbClr val="eaeaea"/>
                </a:solidFill>
                <a:latin typeface="Courier New"/>
                <a:ea typeface="Courier New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ef8f8"/>
                </a:solidFill>
                <a:uFillTx/>
                <a:latin typeface="Comic Sans MS"/>
              </a:rPr>
              <a:t>INDICATIONS FOR HAND WASHING cont</a:t>
            </a:r>
            <a:r>
              <a:rPr b="0" lang="ja-JP" sz="3200" spc="-1" strike="noStrike" u="sng">
                <a:solidFill>
                  <a:srgbClr val="1ef8f8"/>
                </a:solidFill>
                <a:uFillTx/>
                <a:latin typeface="Comic Sans MS"/>
              </a:rPr>
              <a:t>’</a:t>
            </a:r>
            <a:r>
              <a:rPr b="0" lang="en-US" sz="3200" spc="-1" strike="noStrike" u="sng">
                <a:solidFill>
                  <a:srgbClr val="1ef8f8"/>
                </a:solidFill>
                <a:uFillTx/>
                <a:latin typeface="Comic Sans MS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After taking care of infected patients or patients who are likely to be colonized with microorganisms for special clinical or epidemiologic significance. (E.g. Multi-drug resistant bacteria-M.D.R.O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-2286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ef8f8"/>
                </a:solidFill>
                <a:uFillTx/>
                <a:latin typeface="Comic Sans MS"/>
              </a:rPr>
              <a:t>ASEPTIC TECHNIQU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ＭＳ Ｐゴシック"/>
              </a:rPr>
              <a:t>It is an a method used to prevent contamination of wounds and other susceptible sites by organisms that could cause infe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ＭＳ Ｐゴシック"/>
              </a:rPr>
              <a:t>This can be achieved by using sterile equipment and fluids used for invasive medical and nursing procedur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-360" y="-304920"/>
            <a:ext cx="8839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ef8f8"/>
                </a:solidFill>
                <a:uFillTx/>
                <a:latin typeface="Comic Sans MS"/>
              </a:rPr>
              <a:t>STERELIZ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ＭＳ Ｐゴシック"/>
              </a:rPr>
              <a:t>It is the complete elimination of all viable microorganisms including viruses, fungi, and their spores both pathogenic and non- pathogen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ef8f8"/>
                </a:solidFill>
                <a:uFillTx/>
                <a:latin typeface="Comic Sans MS"/>
              </a:rPr>
              <a:t>DIS-INFE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ＭＳ Ｐゴシック"/>
              </a:rPr>
              <a:t>Disinfection implies the removal of all life forms capable of causing disease.( all viable microorganisms except bacterial spore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2203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OMMON  TERMINOLOGI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  INFECTION  CONTROL cont</a:t>
            </a:r>
            <a:r>
              <a:rPr b="1" lang="ja-JP" sz="3200" spc="-1" strike="noStrike">
                <a:solidFill>
                  <a:srgbClr val="ffff00"/>
                </a:solidFill>
                <a:latin typeface="Comic Sans MS"/>
              </a:rPr>
              <a:t>’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ff00"/>
                </a:solidFill>
                <a:uFillTx/>
                <a:latin typeface="Comic Sans MS"/>
              </a:rPr>
              <a:t>Asepsis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The freedom from disease causing micro-organis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ff00"/>
                </a:solidFill>
                <a:uFillTx/>
                <a:latin typeface="Comic Sans MS"/>
              </a:rPr>
              <a:t>Medical asepsis</a:t>
            </a:r>
            <a:r>
              <a:rPr b="1" i="1" lang="en-US" sz="2800" spc="-1" strike="noStrike">
                <a:solidFill>
                  <a:srgbClr val="00ff00"/>
                </a:solidFill>
                <a:latin typeface="Comic Sans MS"/>
              </a:rPr>
              <a:t>: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Includes all practices intended to confine a specific microorganism to a specific area, limiting the number, growth, &amp; transmission of microorganism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ff00"/>
                </a:solidFill>
                <a:uFillTx/>
                <a:latin typeface="Comic Sans MS"/>
              </a:rPr>
              <a:t>Surgical asepsis (sterile technique)</a:t>
            </a:r>
            <a:r>
              <a:rPr b="1" i="1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99ff33"/>
                </a:solidFill>
                <a:latin typeface="Comic Sans MS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Comic Sans MS"/>
              </a:rPr>
              <a:t>Refers to those practices that keep an area or object free of all microorganisms; it include all practices that destroy all microorganisms &amp; spo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380880" y="304920"/>
            <a:ext cx="8763120" cy="62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33"/>
                </a:solidFill>
                <a:uFillTx/>
                <a:latin typeface="Comic Sans MS"/>
              </a:rPr>
              <a:t>STANDARD  PRECAU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 term standard  precautions  refers to a system of infection  control practices which assume  that  every direct contact with blood and body fluids is potentially  infectiou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33"/>
                </a:solidFill>
                <a:uFillTx/>
                <a:latin typeface="Comic Sans MS"/>
              </a:rPr>
              <a:t>CONCEPT OF STANDARD  PRECAUTIO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It should  be implemented to all pati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Courier New"/>
              </a:rPr>
              <a:t>2.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 Standard precautions are not generally  intended to reduce cross contamination among patients and they do not replace other precaution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80880" y="380880"/>
            <a:ext cx="876312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ff33"/>
                </a:solidFill>
                <a:uFillTx/>
                <a:latin typeface="Comic Sans MS"/>
              </a:rPr>
              <a:t>ELEMENTS  OF STANDARD PRECAU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Hand  was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Glo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Masks, eyewear, face shiel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Gowns and  ap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Care of sharps  and  need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Care of spills of blood and body flu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Care of laboratory  specime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Disposal of was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Disposal of lin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10000"/>
              </a:lnSpc>
              <a:buClr>
                <a:srgbClr val="00ff00"/>
              </a:buClr>
              <a:buFont typeface="Wingdings" charset="2"/>
              <a:buChar char="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</a:rPr>
              <a:t>Care of resuscitation  equip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0" y="380880"/>
            <a:ext cx="9144000" cy="9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ef8f8"/>
                </a:solidFill>
                <a:uFillTx/>
                <a:latin typeface="Comic Sans MS"/>
              </a:rPr>
              <a:t>ISOLATION  PRECA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se  are  guidelines  created  to   prevent  transmission  of  microorganisms  in  hospit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y are Transmission Based Isolation designated for care of patients with known or suspected infectious disease that can spread by one of the following routes: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buClr>
                <a:srgbClr val="99cc00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  <a:ea typeface="Courier New"/>
              </a:rPr>
              <a:t>AIR-BORNE: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(e.g measels, Rubella &amp; TB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buClr>
                <a:srgbClr val="99cc00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  <a:ea typeface="Courier New"/>
              </a:rPr>
              <a:t>DROPLET: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(e.g Diphteria &amp; Pertus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buClr>
                <a:srgbClr val="99cc00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  <a:ea typeface="Courier New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  <a:ea typeface="Courier New"/>
              </a:rPr>
              <a:t>CONTACT: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(e.g Hepatitis A, herpes simplex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1ef8f8"/>
                </a:solidFill>
                <a:uFillTx/>
                <a:latin typeface="Comic Sans MS"/>
              </a:rPr>
              <a:t> </a:t>
            </a:r>
            <a:r>
              <a:rPr b="0" lang="en-US" sz="4400" spc="-1" strike="noStrike" u="sng">
                <a:solidFill>
                  <a:srgbClr val="1ef8f8"/>
                </a:solidFill>
                <a:uFillTx/>
                <a:latin typeface="Comic Sans MS"/>
              </a:rPr>
              <a:t>ISOL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omic Sans MS"/>
                <a:ea typeface="ＭＳ Ｐゴシック"/>
              </a:rPr>
              <a:t>The  separation  of  a  person  with  infectious  disease  from  contact  with  other  human  beings,  for  the  period  of  communicabil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6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228600" y="228600"/>
            <a:ext cx="8610480" cy="65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BASIC  PRINCIPLES  FOR  AL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CATEGORIES  OF  ISOL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ff00"/>
                </a:solidFill>
                <a:latin typeface="Comic Sans MS"/>
              </a:rPr>
              <a:t>1.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Necessity  of  a  single  ro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  <a:ea typeface="Courier New"/>
              </a:rPr>
              <a:t>2.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Hand was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  <a:ea typeface="Courier New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Use  of protective  barriers  as  per  ne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  <a:ea typeface="Courier New"/>
              </a:rPr>
              <a:t>4.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Disposal  of  waste  in  orange   ba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  <a:ea typeface="Courier New"/>
              </a:rPr>
              <a:t>5.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Disposal  of  linen  in  water- soluble  linen  ba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  <a:ea typeface="Courier New"/>
              </a:rPr>
              <a:t>6.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Request  for  a  isolation diet  tray  (with 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disposable  cutleri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1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04920" y="1593720"/>
            <a:ext cx="883908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ff00"/>
                </a:solidFill>
                <a:uFillTx/>
                <a:latin typeface="Comic Sans MS"/>
              </a:rPr>
              <a:t>COMMUNITY  ACQUIRED  INFECTION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 :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infection  present  or incubating  on admission with  no association  to previous hospitalization  at  the  same  facil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ff00"/>
                </a:solidFill>
                <a:uFillTx/>
                <a:latin typeface="Comic Sans MS"/>
              </a:rPr>
              <a:t>HOSPITAL ACQUIRED INFECTION</a:t>
            </a:r>
            <a:r>
              <a:rPr b="0" lang="en-US" sz="3600" spc="-1" strike="noStrike">
                <a:solidFill>
                  <a:srgbClr val="00ff00"/>
                </a:solidFill>
                <a:latin typeface="Comic Sans MS"/>
              </a:rPr>
              <a:t>  :</a:t>
            </a:r>
            <a:r>
              <a:rPr b="0" lang="en-US" sz="3600" spc="-1" strike="noStrike">
                <a:solidFill>
                  <a:srgbClr val="ff00ff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A nosocomial infection can be defined  as an infection acquired in the hospital after 72 hours of admission to hospit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0" y="2286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OMMON  TERMINOLOGIES  IN  INFECTION  CONTROL cont</a:t>
            </a:r>
            <a:r>
              <a:rPr b="1" lang="ja-JP" sz="3600" spc="-1" strike="noStrike">
                <a:solidFill>
                  <a:srgbClr val="ffff00"/>
                </a:solidFill>
                <a:latin typeface="Comic Sans MS"/>
              </a:rPr>
              <a:t>’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ff33"/>
                </a:solidFill>
                <a:latin typeface="CAC Moose"/>
              </a:rPr>
              <a:t>     </a:t>
            </a:r>
            <a:r>
              <a:rPr b="0" i="1" lang="en-US" sz="2800" spc="-1" strike="noStrike">
                <a:solidFill>
                  <a:srgbClr val="99ff33"/>
                </a:solidFill>
                <a:latin typeface="Comic Sans MS"/>
              </a:rPr>
              <a:t>HOSPITAL AQUIRED INFEC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ff33"/>
                </a:solidFill>
                <a:latin typeface="Comic Sans MS"/>
              </a:rPr>
              <a:t>       </a:t>
            </a:r>
            <a:r>
              <a:rPr b="0" i="1" lang="en-US" sz="2800" spc="-1" strike="noStrike">
                <a:solidFill>
                  <a:srgbClr val="99ff33"/>
                </a:solidFill>
                <a:latin typeface="Comic Sans MS"/>
              </a:rPr>
              <a:t>( NOSOCOMIAL INFECTION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t is an infection meeting the following criteria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Not present or incubating on admi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An infection temporarily associated with admission to or a procedure done at health care facility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mic Sans MS"/>
                <a:ea typeface="Courier New"/>
              </a:rPr>
              <a:t>An infection incubating at that time of admission that is related to previous hospitalization at the same facility or identified on admission following performance of the procedure during a previous admi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ef8f8"/>
                </a:solidFill>
                <a:latin typeface="Comic Sans MS"/>
              </a:rPr>
              <a:t>COMPONENTS OF INFECTION PROC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AUSATIVE AG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ESERVOIR OF THE AG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ORTAL OF EX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DE OF TRANSMIS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ORTAL OF ENTE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USCEPTIBLE  H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WordArt 3"/>
          <p:cNvSpPr txBox="1"/>
          <p:nvPr/>
        </p:nvSpPr>
        <p:spPr>
          <a:xfrm>
            <a:off x="685800" y="304920"/>
            <a:ext cx="7772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HAIN OF INFEC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Any biological ,physical  or chemical entity capable of causing disease is called an agent </a:t>
            </a:r>
            <a:r>
              <a:rPr b="0" lang="ar-SA" sz="3600" spc="-1" strike="noStrike">
                <a:solidFill>
                  <a:srgbClr val="eaeaea"/>
                </a:solidFill>
                <a:latin typeface="Comic Sans MS"/>
                <a:ea typeface="Courier New"/>
              </a:rPr>
              <a:t>)</a:t>
            </a:r>
            <a:r>
              <a:rPr b="0" lang="en-US" sz="3200" spc="-1" strike="noStrike">
                <a:solidFill>
                  <a:srgbClr val="eaeaea"/>
                </a:solidFill>
                <a:latin typeface="Comic Sans MS"/>
                <a:ea typeface="Courier New"/>
              </a:rPr>
              <a:t>The micro-organism that can cause infection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f8f8"/>
                </a:solidFill>
                <a:latin typeface="Comic Sans MS"/>
              </a:rPr>
              <a:t>MICRO-ORGANISMS: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eaeaea"/>
                </a:solidFill>
                <a:latin typeface="Comic Sans MS"/>
                <a:ea typeface="Courier New"/>
              </a:rPr>
              <a:t>Organisms that can be seen only with the magnification of a microscope 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# 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Bacteri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Comic Sans MS"/>
              </a:rPr>
              <a:t># 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Virus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Comic Sans MS"/>
              </a:rPr>
              <a:t># 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Fungi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Comic Sans MS"/>
              </a:rPr>
              <a:t>#  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Parasit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23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WordArt 3"/>
          <p:cNvSpPr txBox="1"/>
          <p:nvPr/>
        </p:nvSpPr>
        <p:spPr>
          <a:xfrm>
            <a:off x="685800" y="304920"/>
            <a:ext cx="77724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USATIVE AGENT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Comic Sans MS"/>
                <a:ea typeface="Courier New"/>
              </a:rPr>
              <a:t>Some Micro-organisms are normally present on people</a:t>
            </a:r>
            <a:r>
              <a:rPr b="0" lang="ja-JP" sz="2600" spc="-1" strike="noStrike">
                <a:solidFill>
                  <a:srgbClr val="eaeaea"/>
                </a:solidFill>
                <a:latin typeface="Comic Sans MS"/>
                <a:ea typeface="Courier New"/>
              </a:rPr>
              <a:t>’</a:t>
            </a:r>
            <a:r>
              <a:rPr b="0" lang="en-US" sz="2600" spc="-1" strike="noStrike">
                <a:solidFill>
                  <a:srgbClr val="eaeaea"/>
                </a:solidFill>
                <a:latin typeface="Comic Sans MS"/>
                <a:ea typeface="Courier New"/>
              </a:rPr>
              <a:t>s skin &amp; in Respiratory ,Intestinal , &amp; Genital tract ; these micro-organisms are called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1ef8f8"/>
                </a:solidFill>
                <a:latin typeface="Comic Sans MS"/>
              </a:rPr>
              <a:t>NORMAL FLORA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Comic Sans MS"/>
                <a:ea typeface="Courier New"/>
              </a:rPr>
              <a:t>Other Micro-organisms are normally not found on or in the human body &amp; are usually associated with disease ;these micro-organism are known as</a:t>
            </a: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1ef8f8"/>
                </a:solidFill>
                <a:latin typeface="Comic Sans MS"/>
              </a:rPr>
              <a:t>PATHOGEN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1ef8f8"/>
                </a:solidFill>
                <a:latin typeface="Comic Sans MS"/>
              </a:rPr>
              <a:t>ALL MICRO-ORGANISMS</a:t>
            </a:r>
            <a:r>
              <a:rPr b="0" i="1" lang="en-US" sz="2400" spc="-1" strike="noStrike">
                <a:solidFill>
                  <a:srgbClr val="eaeaea"/>
                </a:solidFill>
                <a:latin typeface="Comic Sans MS"/>
                <a:ea typeface="Courier New"/>
              </a:rPr>
              <a:t>, including normal flora ,can cause infection or disease if certain conditions exist</a:t>
            </a:r>
            <a:r>
              <a:rPr b="0" i="1" lang="en-US" sz="2000" spc="-1" strike="noStrike">
                <a:solidFill>
                  <a:srgbClr val="eaeaea"/>
                </a:solidFill>
                <a:latin typeface="Comic Sans MS"/>
                <a:ea typeface="Courier New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  <a:ea typeface="Courier New"/>
              </a:rPr>
              <a:t>Normal flora are introduced an area of the body in which they are not normally found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  <a:ea typeface="Courier New"/>
              </a:rPr>
              <a:t>Pathogens are introduced into the body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mic Sans MS"/>
                <a:ea typeface="Courier New"/>
              </a:rPr>
              <a:t>Micro-organisms are introduced into the body of a person who is immunocomprimised &amp; thus susceptible to infections to which he or she otherwise would not be susceptible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WordArt 3"/>
          <p:cNvSpPr txBox="1"/>
          <p:nvPr/>
        </p:nvSpPr>
        <p:spPr>
          <a:xfrm>
            <a:off x="609480" y="76320"/>
            <a:ext cx="77724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USATIVE AGENTS CONT'D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7T21:09:26Z</dcterms:created>
  <dc:creator>Dr. Rubean</dc:creator>
  <dc:description/>
  <dc:language>en-US</dc:language>
  <cp:lastModifiedBy>Thamer Alwadani</cp:lastModifiedBy>
  <dcterms:modified xsi:type="dcterms:W3CDTF">2014-03-30T23:18:31Z</dcterms:modified>
  <cp:revision>104</cp:revision>
  <dc:subject/>
  <dc:title>Case presentation</dc:title>
</cp:coreProperties>
</file>