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10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518112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10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F2AC-E87F-45DA-8AFB-DB0E5628A9F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11A5-C3E7-4B2D-86F3-500EF0119F5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95B-FFE8-44FE-B97C-16303C7E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83F-A5BE-4639-89F8-E8D6761B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744-9775-4E15-9A34-36A70107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F1E-C352-45DD-9A39-40398552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19F7-10F5-4FD3-AC59-F7756528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2572-41CF-4DD6-9327-121EB23D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7DA7-C787-41DB-B34E-22C5D2A9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0B9F-2870-4004-83D4-99CFDF84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29D0-1A86-48C2-AC80-2630496A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5D61-7D92-47ED-AA41-32E0B41D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80B1-1316-4640-B1B3-BE3A5D3F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489-6D63-48D7-A5F3-EDBF2ABD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FAC2-DFF8-482F-94E1-2C2A7EE6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E556-D0C6-457D-9ECA-3FDCF6C3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C11F-B401-40C0-B781-2588B9FF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958D-0797-436E-BAA5-0874BCFA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24D6-6897-4DEE-AE5D-BC4B45FF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70C-ED0E-4731-B555-67FA3ADC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57E-23A2-4EC4-A541-3101AE1F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0D4E-A2AF-4031-A1CE-2942B328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704-9015-48A5-814B-06AC2E08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555-C268-41AA-8D51-FE13E559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F7B-2772-41AA-A3BE-A8DA2971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B8B-0179-4AD9-B9A6-BCE15E8A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FB08-5409-49DE-9EC3-4CD32E6D4B29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D2FD-A997-4930-AD90-B0F3219D6E62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6"/>
          <p:cNvSpPr txBox="1"/>
          <p:nvPr/>
        </p:nvSpPr>
        <p:spPr>
          <a:xfrm>
            <a:off x="755640" y="4495680"/>
            <a:ext cx="7704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dule one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FECTION CONTROL 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WordArt 8"/>
          <p:cNvSpPr txBox="1"/>
          <p:nvPr/>
        </p:nvSpPr>
        <p:spPr>
          <a:xfrm>
            <a:off x="1143000" y="2438280"/>
            <a:ext cx="6934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undamental of nurs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WordArt 10"/>
          <p:cNvSpPr txBox="1"/>
          <p:nvPr/>
        </p:nvSpPr>
        <p:spPr>
          <a:xfrm>
            <a:off x="1143000" y="762120"/>
            <a:ext cx="6553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King Saud Universit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llege of Nursing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a place in which an infectious agent can survive but may or may not multip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uman-Beings (most comm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nim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olutions &amp; Instr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1600200" y="533520"/>
            <a:ext cx="6019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SERVOI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the path by which an infectious agent leaves the sour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Respiratory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lung, nos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enitourinary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vagina, peni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ucous membran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eyes, nose, mout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astrointestinal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mouth ,anu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lood-stream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open wound, needle punctur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roken ski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puncture ,cut, surgical site, ras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Trans-placent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 mothers –to- fetus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 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1143000" y="380880"/>
            <a:ext cx="70866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9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RTAL OF EXI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mechanisms or the way in which the infectious agent moves from the reservoir to a susceptible ho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ransmission can occur by four mo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f8f8"/>
                </a:solidFill>
                <a:latin typeface="Comic Sans MS"/>
              </a:rPr>
              <a:t>CONTACT TRANS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1ef8f8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infectious agent can be transmitted directly from the reservoir to a susceptible host through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touch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(e.g.,staphyllococcus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,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sexual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inter-course (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e.g., gonorrhea, HIV), o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droplets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(e.g., influenz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609480" y="457200"/>
            <a:ext cx="784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ODE OF TRANSMISS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VEHICLE TRANS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: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infectious agent can be transmitted indirectly from the reservoir to a susceptible host by material that maintains the life of the infectious agent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Food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, salmonella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lood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, Hepatitis B , HIV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Water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, Cholera , Shige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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Instruments &amp; Others Items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, Hepatitis B , HIV , Pseudomona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-609840"/>
            <a:ext cx="853452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IRBORNE TRANSMISSIO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:        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The infectious agent can be carried by air current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ff00"/>
                </a:solidFill>
                <a:latin typeface="Comic Sans MS"/>
              </a:rPr>
              <a:t>(e.g, Measles , Mycobacterium Tuberculosis , Varicella zoster 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ECTOR TRANSMISSION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infectious agent can be transmitted to a susceptible host through insects &amp; other invertebrate animals </a:t>
            </a:r>
            <a:r>
              <a:rPr b="0" i="1" lang="en-US" sz="3200" spc="-1" strike="noStrike">
                <a:solidFill>
                  <a:srgbClr val="00ff00"/>
                </a:solidFill>
                <a:latin typeface="Comic Sans MS"/>
                <a:ea typeface="Courier New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Comic Sans MS"/>
              </a:rPr>
              <a:t>e.g, Mosquitoes can transmit Malaria &amp; Yellow Fever ; fleas can transmit plague 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route by which the infectious agent moves into (enters ) susceptible h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762120" y="457200"/>
            <a:ext cx="7848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RTAL OF ENTER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04920" y="2322360"/>
            <a:ext cx="861048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Respiratory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lung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enitourinary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vagina, peni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ucous membran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eyes, nose, mout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astrointestinal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mouth ,anu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lood-stream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roken ski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puncture ,cut, surgical site, ras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Trans-placent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 mothers –to- fetus 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Comic Sans MS"/>
                <a:ea typeface="Courier New"/>
              </a:rPr>
              <a:t>Host is any person who is at risk for infection. C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haracteristics that influence susceptibility &amp; severity of disease are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x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cio-Economic stat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isease hist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Nutritional stat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762120" y="533520"/>
            <a:ext cx="7772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USCEPTIBLE HOST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ccup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mmunization stat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iagnostic /Therapeutic procedur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ed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egnanc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rau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ered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thnic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762120" y="228600"/>
            <a:ext cx="7772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USCEPTIBLE HOST CONT'D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0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3" descr="Untitled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3" descr="TRANSMISSION OF DISEASE 3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533520"/>
            <a:ext cx="8839080" cy="71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 TERMINOLOGIES  IN  INFECTION  CONTRO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ff00"/>
                </a:solidFill>
                <a:uFillTx/>
                <a:latin typeface="Comic Sans MS"/>
              </a:rPr>
              <a:t>CONTAMINATION    </a:t>
            </a:r>
            <a:r>
              <a:rPr b="1" lang="en-GB" sz="2800" spc="-1" strike="noStrike" u="sng">
                <a:solidFill>
                  <a:srgbClr val="99ff33"/>
                </a:solidFill>
                <a:uFillTx/>
                <a:latin typeface="Comic Sans MS"/>
              </a:rPr>
              <a:t>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acteria present on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COLONIZATION</a:t>
            </a:r>
            <a:r>
              <a:rPr b="1" i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presence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and multiplication of microorganis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in or on a host without tissue dam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acteria present on surfa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INFECTION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invasion and multiplication                                                        of an infectious agent in                                                         the tissues of the host.</a:t>
            </a: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rcRect l="7534" t="44431" r="63334" b="41452"/>
          <a:stretch/>
        </p:blipFill>
        <p:spPr>
          <a:xfrm>
            <a:off x="5867280" y="4114800"/>
            <a:ext cx="33530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rcRect l="4450" t="69142" r="63334" b="15557"/>
          <a:stretch/>
        </p:blipFill>
        <p:spPr>
          <a:xfrm>
            <a:off x="4800600" y="5562720"/>
            <a:ext cx="4343400" cy="1295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rcRect l="0" t="24428" r="63334" b="59104"/>
          <a:stretch/>
        </p:blipFill>
        <p:spPr>
          <a:xfrm>
            <a:off x="5410080" y="2057400"/>
            <a:ext cx="3733920" cy="10666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831EFC3C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Link                             Interven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800600" y="2502000"/>
            <a:ext cx="4191120" cy="350604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curate and rapid identification of micro-organisms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rly recognition of sign and symptoms of infection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1680" y="2597040"/>
            <a:ext cx="4311720" cy="119124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fectious or Causative Agent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                    </a:t>
            </a:r>
            <a:r>
              <a:rPr b="0" lang="en-US" sz="54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200400" y="2355840"/>
            <a:ext cx="5943600" cy="448308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mployee health examinations and scree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vironmental sanitization including floors, walls, exam tables and be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infection/Sterilization of equipment and instru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ndard Precau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dical Asep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per Hygiene - bathing and hand wash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ean gowns, linens and towel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ean wound dressing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1680" y="2409840"/>
            <a:ext cx="2940120" cy="61164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00"/>
                </a:solidFill>
                <a:latin typeface="Comic Sans MS"/>
              </a:rPr>
              <a:t>2-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Reservoir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                       </a:t>
            </a: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505320" y="2209680"/>
            <a:ext cx="5638680" cy="411732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nd wash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of Personal Protective Equipment such as gloves, gowns, facemask, N95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ean dressings over woun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dical Asepsis or Clean Techniqu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 of excretions and secre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vering the mouth and nose when coughing or sneez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per trash and waste dispos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ndard Precau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1680" y="2209680"/>
            <a:ext cx="3245040" cy="52056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3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rtal of Ex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                       </a:t>
            </a: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48120" y="2057400"/>
            <a:ext cx="5943600" cy="4716360"/>
          </a:xfrm>
          <a:prstGeom prst="rect">
            <a:avLst/>
          </a:prstGeom>
          <a:noFill/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Hand washing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Standard Precaution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Rooms with air flow contro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Safe Food handling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Isolation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ransmission-based precaution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Sterilization of equipment and supplie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Medical and Surgical Asepsi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Use of Personal Protective Equipment such as gloves, gowns, facemask, N95 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Proper disposal of contaminated object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1680" y="2133720"/>
            <a:ext cx="2787840" cy="180036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4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ethod or           Mode of                    Trans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                       </a:t>
            </a: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276720" y="2057400"/>
            <a:ext cx="5486400" cy="478656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rile technique or Surgical Asepsis (dressing, injections, catheterization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dical Asepsis or Clean Techniqu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theter C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ound c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er Disposal of needles or shar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intaining skin integr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ndard Precau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133720"/>
            <a:ext cx="3276720" cy="52056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5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rtal of En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                             </a:t>
            </a: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0" y="2209680"/>
            <a:ext cx="4419720" cy="399348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eatment of Dise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cognition of clients at ris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muniz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per Nutr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tient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1680" y="2209680"/>
            <a:ext cx="3854520" cy="58140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6-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sceptible H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533520" y="457200"/>
            <a:ext cx="81532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PREVENTIVE  PATIENT  CAR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Hand  wa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Aseptic  techn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Standard  preca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Steril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Dis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6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Isolation  Preca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B7051C96"/>
          <p:cNvPicPr/>
          <p:nvPr/>
        </p:nvPicPr>
        <p:blipFill>
          <a:blip r:embed="rId1"/>
          <a:stretch/>
        </p:blipFill>
        <p:spPr>
          <a:xfrm>
            <a:off x="5791320" y="23623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5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5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5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5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5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5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5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5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5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5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6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763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HAND WASHING:-</a:t>
            </a: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the process for the removal of dirt and transient microorganisms(E.g.  E. COLI) from the hands. (it is considered the most effective infection control measur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Comic Sans MS"/>
                <a:ea typeface="ＭＳ Ｐゴシック"/>
              </a:rPr>
              <a:t>HAND ANTISEPSIS: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f8f8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a process of the removal or destruction of transient microorgani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Comic Sans MS"/>
                <a:ea typeface="ＭＳ Ｐゴシック"/>
              </a:rPr>
              <a:t>SURGICAL HAND SCRUB :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a process to remove or destroy the transient microorganisms and reduced resident flora, (E.g. Diphtheria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Comic Sans MS"/>
              </a:rPr>
              <a:t>Types of the Hand Wash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150000"/>
              <a:buFont typeface="Courier New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ROUTINE HAND WASHING or  HYGIENIC HAND WASHING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It is accomplished by vigorously rubbing together all surfaces of lathered hands followed by thorough rinsing under a stream of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This should take  10-15 seconds to comple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The hands should be dried with a paper towe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04920" y="1219320"/>
            <a:ext cx="883908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ENDOGENOUS  INFEC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 :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organisms  derived  from patients  own  flor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urier Ne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EXOGENOUS  INFECTION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 :            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Organisms  are  derived  from  outside  fo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INCUBATION  PERIOD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ff33"/>
                </a:solidFill>
                <a:latin typeface="Comic Sans MS"/>
              </a:rPr>
              <a:t> 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ime of initial contact  with the infectious agent to the appearance of  the first sympt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3520" y="380880"/>
            <a:ext cx="8153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MON  TERMINOLOGIE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  INFECTION  CONTROL cont</a:t>
            </a:r>
            <a:r>
              <a:rPr b="0" lang="ja-JP" sz="3600" spc="-1" strike="noStrike">
                <a:solidFill>
                  <a:srgbClr val="ffff00"/>
                </a:solidFill>
                <a:latin typeface="Comic Sans MS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Types of the Hand Washing cont</a:t>
            </a:r>
            <a:r>
              <a:rPr b="0" lang="ja-JP" sz="3600" spc="-1" strike="noStrike" u="sng">
                <a:solidFill>
                  <a:srgbClr val="99ff33"/>
                </a:solidFill>
                <a:uFillTx/>
                <a:latin typeface="Comic Sans MS"/>
              </a:rPr>
              <a:t>’</a:t>
            </a: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urier New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fabcf1"/>
                </a:solidFill>
                <a:uFillTx/>
                <a:latin typeface="Comic Sans MS"/>
              </a:rPr>
              <a:t>SURGICAL SCRUB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150000"/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the process that begin with washing hands and forearms thoroughly to remove dirt and transient bacteria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150000"/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 nail cleaner should be used to clean under the na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150000"/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should take about 5 minu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VARIOUS HAND DECONTAMINA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Soap solution: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Soap have a detergent eff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They remove transient microorganisms physically but have no effect on the resident microbial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VARIOUS HAND DECONTAMINANT cont</a:t>
            </a:r>
            <a:r>
              <a:rPr b="0" lang="ja-JP" sz="3200" spc="-1" strike="noStrike" u="sng">
                <a:solidFill>
                  <a:srgbClr val="99ff33"/>
                </a:solidFill>
                <a:uFillTx/>
                <a:latin typeface="Comic Sans MS"/>
              </a:rPr>
              <a:t>’</a:t>
            </a: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HLOROHEXIDINE: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 has a broad - spectrum activity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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binds to the stratum corneum, continuing to destroy bacteria for at least six hou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-30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VARIOUS HAND DECONTAMINANTS cont</a:t>
            </a:r>
            <a:r>
              <a:rPr b="0" lang="ja-JP" sz="3200" spc="-1" strike="noStrike" u="sng">
                <a:solidFill>
                  <a:srgbClr val="99ff33"/>
                </a:solidFill>
                <a:uFillTx/>
                <a:latin typeface="Comic Sans MS"/>
              </a:rPr>
              <a:t>’</a:t>
            </a: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POVIDINE IODINE: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7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often used in the operating theatre because it destroys spores more effectively than many other antisep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6320" y="-3808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VARIOUS HAND DECONTAMINANTS cont</a:t>
            </a:r>
            <a:r>
              <a:rPr b="0" lang="ja-JP" sz="3200" spc="-1" strike="noStrike" u="sng">
                <a:solidFill>
                  <a:srgbClr val="99ff33"/>
                </a:solidFill>
                <a:uFillTx/>
                <a:latin typeface="Comic Sans MS"/>
              </a:rPr>
              <a:t>’</a:t>
            </a: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ALCOHOL HAND-RUBS, GEL &amp; WIPES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y have excellent bactericidal activity against most gram – positive and gram- negative bacteria but have no effect on spo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1ef8f8"/>
                </a:solidFill>
                <a:uFillTx/>
                <a:latin typeface="Comic Sans MS"/>
              </a:rPr>
              <a:t>INDICATIONS FOR HAND WASH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When coming on du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After removing glo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When hands are soiled including after sneezing, coughing, or blowing your n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Between patients</a:t>
            </a:r>
            <a:r>
              <a:rPr b="0" lang="ja-JP" sz="28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conta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 &amp; after medication administ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fter personal use of the toil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performing invasive procedu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INDICATIONS FOR HAND WASHING cont</a:t>
            </a:r>
            <a:r>
              <a:rPr b="0" lang="ja-JP" sz="3200" spc="-1" strike="noStrike" u="sng">
                <a:solidFill>
                  <a:srgbClr val="1ef8f8"/>
                </a:solidFill>
                <a:uFillTx/>
                <a:latin typeface="Comic Sans MS"/>
              </a:rPr>
              <a:t>’</a:t>
            </a: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taking care of particularly susceptible patients, such as who are severely Immuno-compromised &amp; Newbor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and after touching wou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&amp; after ea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fter touching  objects that are likely to be contaminated with pathogenic  micro-organisms E.g. urine measuring devices, secretion collection apparatus, etc..</a:t>
            </a:r>
            <a:r>
              <a:rPr b="1" lang="en-US" sz="2800" spc="-1" strike="noStrike">
                <a:solidFill>
                  <a:srgbClr val="eaeaea"/>
                </a:solidFill>
                <a:latin typeface="Courier New"/>
                <a:ea typeface="Courier Ne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INDICATIONS FOR HAND WASHING cont</a:t>
            </a:r>
            <a:r>
              <a:rPr b="0" lang="ja-JP" sz="3200" spc="-1" strike="noStrike" u="sng">
                <a:solidFill>
                  <a:srgbClr val="1ef8f8"/>
                </a:solidFill>
                <a:uFillTx/>
                <a:latin typeface="Comic Sans MS"/>
              </a:rPr>
              <a:t>’</a:t>
            </a: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After taking care of infected patients or patients who are likely to be colonized with microorganisms for special clinical or epidemiologic significance. (E.g. Multi-drug resistant bacteria-M.D.R.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-2286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ef8f8"/>
                </a:solidFill>
                <a:uFillTx/>
                <a:latin typeface="Comic Sans MS"/>
              </a:rPr>
              <a:t>ASEPTIC TECHNIQU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It is an a method used to prevent contamination of wounds and other susceptible sites by organisms that could cause inf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This can be achieved by using sterile equipment and fluids used for invasive medical and nursing procedur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-30492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ef8f8"/>
                </a:solidFill>
                <a:uFillTx/>
                <a:latin typeface="Comic Sans MS"/>
              </a:rPr>
              <a:t>STERELIZ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It is the complete elimination of all viable microorganisms including viruses, fungi, and their spores both pathogenic and non- pathogen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ef8f8"/>
                </a:solidFill>
                <a:uFillTx/>
                <a:latin typeface="Comic Sans MS"/>
              </a:rPr>
              <a:t>DIS-INF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Disinfection implies the removal of all life forms capable of causing disease.( all viable microorganisms except bacterial spore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220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MMON  TERMINOLOG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 INFECTION  CONTROL cont</a:t>
            </a:r>
            <a:r>
              <a:rPr b="1" lang="ja-JP" sz="3200" spc="-1" strike="noStrike">
                <a:solidFill>
                  <a:srgbClr val="ffff00"/>
                </a:solidFill>
                <a:latin typeface="Comic Sans MS"/>
              </a:rPr>
              <a:t>’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Asepsi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The freedom from disease causing micro-organis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Medical asepsis</a:t>
            </a:r>
            <a:r>
              <a:rPr b="1" i="1" lang="en-US" sz="2800" spc="-1" strike="noStrike">
                <a:solidFill>
                  <a:srgbClr val="00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Includes all practices intended to confine a specific microorganism to a specific area, limiting the number, growth, &amp; transmission of microorganis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Surgical asepsis (sterile technique)</a:t>
            </a:r>
            <a:r>
              <a:rPr b="1" i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99ff33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Refers to those practices that keep an area or object free of all microorganisms; it include all practices that destroy all microorganisms &amp; sp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380880" y="304920"/>
            <a:ext cx="876312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33"/>
                </a:solidFill>
                <a:uFillTx/>
                <a:latin typeface="Comic Sans MS"/>
              </a:rPr>
              <a:t>STANDARD  PRECA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term standard  precautions  refers to a system of infection  control practices which assume  that  every direct contact with blood and body fluids is potentially  infectio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33"/>
                </a:solidFill>
                <a:uFillTx/>
                <a:latin typeface="Comic Sans MS"/>
              </a:rPr>
              <a:t>CONCEPT OF STANDARD  PRECAU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should  be implemented to all pati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Courier New"/>
              </a:rPr>
              <a:t>2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Standard precautions are not generally  intended to reduce cross contamination among patients and they do not replace other precaution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80880" y="380880"/>
            <a:ext cx="876312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ELEMENTS  OF STANDARD PRECAU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Hand  wa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lo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asks, eyewear, face shie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owns and  ap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Care of sharps  and  need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Care of spills of blood and body flu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Care of laboratory  specim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Disposal of was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Disposal of li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Care of resuscitation  equi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380880"/>
            <a:ext cx="9144000" cy="9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ISOLATION  PRECA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se  are  guidelines  created  to   prevent  transmission  of  microorganisms  in  hospit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y are Transmission Based Isolation designated for care of patients with known or suspected infectious disease that can spread by one of the following routes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buClr>
                <a:srgbClr val="99cc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AIR-BORNE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(e.g measels, Rubella &amp; T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buClr>
                <a:srgbClr val="99cc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DROPLET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(e.g Diphteria &amp; Pertu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buClr>
                <a:srgbClr val="99cc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CONTACT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(e.g Hepatitis A, herpes simplex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ef8f8"/>
                </a:solidFill>
                <a:uFillTx/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1ef8f8"/>
                </a:solidFill>
                <a:uFillTx/>
                <a:latin typeface="Comic Sans MS"/>
              </a:rPr>
              <a:t>ISOL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The  separation  of  a  person  with  infectious  disease  from  contact  with  other  human  beings,  for  the  period  of  communicabi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28600" y="228600"/>
            <a:ext cx="8610480" cy="65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BASIC  PRINCIPLES  FOR  A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ATEGORIES  OF  ISOL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Necessity  of  a  single  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2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Hand wa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Use  of protective  barriers  as  per  n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4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Disposal  of  waste  in  orange   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5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Disposal  of  linen  in  water- soluble  linen  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6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Request  for  a  isolation diet  tray  (with 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disposable  cutleri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4920" y="1593720"/>
            <a:ext cx="88390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COMMUNITY  ACQUIRED  INFECTIO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: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nfection  present  or incubating  on admission with  no association  to previous hospitalization  at  the  same  fac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ff00"/>
                </a:solidFill>
                <a:uFillTx/>
                <a:latin typeface="Comic Sans MS"/>
              </a:rPr>
              <a:t>HOSPITAL ACQUIRED INFECTION</a:t>
            </a: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:</a:t>
            </a: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 nosocomial infection can be defined  as an infection acquired in the hospital after 72 hours of admission to hosp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228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MMON  TERMINOLOGIES  IN  INFECTION  CONTROL cont</a:t>
            </a:r>
            <a:r>
              <a:rPr b="1" lang="ja-JP" sz="3600" spc="-1" strike="noStrike">
                <a:solidFill>
                  <a:srgbClr val="ffff00"/>
                </a:solidFill>
                <a:latin typeface="Comic Sans MS"/>
              </a:rPr>
              <a:t>’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ff33"/>
                </a:solidFill>
                <a:latin typeface="CAC Moose"/>
              </a:rPr>
              <a:t>     </a:t>
            </a:r>
            <a:r>
              <a:rPr b="0" i="1" lang="en-US" sz="2800" spc="-1" strike="noStrike">
                <a:solidFill>
                  <a:srgbClr val="99ff33"/>
                </a:solidFill>
                <a:latin typeface="Comic Sans MS"/>
              </a:rPr>
              <a:t>HOSPITAL AQUIRED INFEC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ff33"/>
                </a:solidFill>
                <a:latin typeface="Comic Sans MS"/>
              </a:rPr>
              <a:t>       </a:t>
            </a:r>
            <a:r>
              <a:rPr b="0" i="1" lang="en-US" sz="2800" spc="-1" strike="noStrike">
                <a:solidFill>
                  <a:srgbClr val="99ff33"/>
                </a:solidFill>
                <a:latin typeface="Comic Sans MS"/>
              </a:rPr>
              <a:t>( NOSOCOMIAL INFECTION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an infection meeting the following criteria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Not present or incubating on ad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n infection temporarily associated with admission to or a procedure done at health care facility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n infection incubating at that time of admission that is related to previous hospitalization at the same facility or identified on admission following performance of the procedure during a previous ad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f8f8"/>
                </a:solidFill>
                <a:latin typeface="Comic Sans MS"/>
              </a:rPr>
              <a:t>COMPONENTS OF INFECTION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USATIVE AG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SERVOIR OF THE AG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TAL OF EX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DE OF TRANSMI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TAL OF ENT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USCEPTIBLE  H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3"/>
          <p:cNvSpPr txBox="1"/>
          <p:nvPr/>
        </p:nvSpPr>
        <p:spPr>
          <a:xfrm>
            <a:off x="685800" y="304920"/>
            <a:ext cx="7772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HAIN OF INFEC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Any biological ,physical  or chemical entity capable of causing disease is called an agent </a:t>
            </a:r>
            <a:r>
              <a:rPr b="0" lang="ar-SA" sz="3600" spc="-1" strike="noStrike">
                <a:solidFill>
                  <a:srgbClr val="eaeaea"/>
                </a:solidFill>
                <a:latin typeface="Comic Sans MS"/>
                <a:ea typeface="Courier New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micro-organism that can cause infecti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f8f8"/>
                </a:solidFill>
                <a:latin typeface="Comic Sans MS"/>
              </a:rPr>
              <a:t>MICRO-ORGANISMS: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Comic Sans MS"/>
                <a:ea typeface="Courier New"/>
              </a:rPr>
              <a:t>Organisms that can be seen only with the magnification of a microscope 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# 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Bacteri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# 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Virus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# 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Fung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# 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Parasit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685800" y="3049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USATIVE AGENT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  <a:ea typeface="Courier New"/>
              </a:rPr>
              <a:t>Some Micro-organisms are normally present on people</a:t>
            </a:r>
            <a:r>
              <a:rPr b="0" lang="ja-JP" sz="2600" spc="-1" strike="noStrike">
                <a:solidFill>
                  <a:srgbClr val="eaeaea"/>
                </a:solidFill>
                <a:latin typeface="Comic Sans MS"/>
                <a:ea typeface="Courier New"/>
              </a:rPr>
              <a:t>’</a:t>
            </a:r>
            <a:r>
              <a:rPr b="0" lang="en-US" sz="2600" spc="-1" strike="noStrike">
                <a:solidFill>
                  <a:srgbClr val="eaeaea"/>
                </a:solidFill>
                <a:latin typeface="Comic Sans MS"/>
                <a:ea typeface="Courier New"/>
              </a:rPr>
              <a:t>s skin &amp; in Respiratory ,Intestinal , &amp; Genital tract ; these micro-organisms are called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1ef8f8"/>
                </a:solidFill>
                <a:latin typeface="Comic Sans MS"/>
              </a:rPr>
              <a:t>NORMAL FLOR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  <a:ea typeface="Courier New"/>
              </a:rPr>
              <a:t>Other Micro-organisms are normally not found on or in the human body &amp; are usually associated with disease ;these micro-organism are known as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1ef8f8"/>
                </a:solidFill>
                <a:latin typeface="Comic Sans MS"/>
              </a:rPr>
              <a:t>PATHOGEN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1ef8f8"/>
                </a:solidFill>
                <a:latin typeface="Comic Sans MS"/>
              </a:rPr>
              <a:t>ALL MICRO-ORGANISMS</a:t>
            </a:r>
            <a:r>
              <a:rPr b="0" i="1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, including normal flora ,can cause infection or disease if certain conditions exist</a:t>
            </a:r>
            <a:r>
              <a:rPr b="0" i="1" lang="en-US" sz="2000" spc="-1" strike="noStrike">
                <a:solidFill>
                  <a:srgbClr val="eaeaea"/>
                </a:solidFill>
                <a:latin typeface="Comic Sans MS"/>
                <a:ea typeface="Courier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Normal flora are introduced an area of the body in which they are not normally found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Pathogens are introduced into the body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Micro-organisms are introduced into the body of a person who is immunocomprimised &amp; thus susceptible to infections to which he or she otherwise would not be susceptible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609480" y="763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USATIVE AGENTS CONT'D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21:09:26Z</dcterms:created>
  <dc:creator>Dr. Rubean</dc:creator>
  <dc:description/>
  <dc:language>en-US</dc:language>
  <cp:lastModifiedBy>Thamer Alwadani</cp:lastModifiedBy>
  <dcterms:modified xsi:type="dcterms:W3CDTF">2014-03-30T23:18:31Z</dcterms:modified>
  <cp:revision>104</cp:revision>
  <dc:subject/>
  <dc:title>Case presentation</dc:title>
</cp:coreProperties>
</file>