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20.png" ContentType="image/png"/>
  <Override PartName="/ppt/media/image36.jpeg" ContentType="image/jpeg"/>
  <Override PartName="/ppt/media/image1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30.jpeg" ContentType="image/jpeg"/>
  <Override PartName="/ppt/media/image15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9F67-A60D-4C84-A123-F77F1530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48E-63C9-40E8-8622-B43C8D36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67C-AF1F-45A7-A528-D69C376C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2FB-5852-415B-8B19-09920AFC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374A-97A1-4D31-9429-31FBC2A3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EB09-702B-4503-BDC8-D82787B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CE12-5E61-4351-BF1B-862BDD85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22B2-64C5-420B-8048-F56BAAED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F63C-29C2-4008-9A59-B1F2071A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048D-99A6-4E54-A9D2-CEEC325C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2865-5B78-483C-B384-D44084A4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30E-052C-49CB-BF46-69630EAD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64C3-8829-46CD-8AB6-D882AF6D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5CA-D4DC-42CE-869A-F542168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C1383-A782-439B-A808-DAE52BE0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0DB2-6555-407E-A49D-A3DF8C92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8D957-A7A4-45AB-87A3-36277E3F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A0977-9A67-43FF-84B3-BA7A8F6E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3249-5B50-4105-9A29-9DDC6B2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9479-8095-4CD3-A304-4C36A69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A0C4-0983-41AA-808B-4DC7F8D7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A193-DCBA-4B9E-B283-4B5F99CA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82E-B4BC-4E0E-93C1-D3B9E7C4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02C26-8A74-4931-8C33-88C61A7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B01B2-10F5-4C73-B90F-593AB4B9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435DA-7AA9-4BDC-BDC7-8ADCCCD0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C32C-FCCA-4388-A3CA-26297E35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AE94-222A-4D2F-8CC4-324B98A0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9051-FCC0-459D-9725-09C65F83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D31CC-6CD3-4038-93DB-54219FC1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656-B775-4D51-9954-1B91ABA2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651-5DB5-4C26-908F-F79612E7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B82-3ECA-4150-A32E-E4798020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5190-13E4-4BFB-AAF9-1EFE2B8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AF5-8ED5-4321-A4EB-6316967C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76F-72C6-40A8-8F66-918A7DB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cbc"/>
                </a:solidFill>
                <a:latin typeface="Arial"/>
              </a:rPr>
              <a:t>M&amp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F00F-22A8-4539-A430-22FA7174E396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cbc"/>
                </a:solidFill>
                <a:latin typeface="Arial"/>
              </a:rPr>
              <a:t>M&amp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EB2-007D-4A1F-AE79-D56F8DD73A9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cbcbc"/>
                </a:solidFill>
                <a:latin typeface="Arial"/>
              </a:rPr>
              <a:t>M&amp;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E934-75EE-4AC7-A381-EB8963083F2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FEFE-D71E-4587-B4F4-0C07B50F6CE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2"/>
          <p:cNvSpPr txBox="1"/>
          <p:nvPr/>
        </p:nvSpPr>
        <p:spPr>
          <a:xfrm>
            <a:off x="1143000" y="2438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undamental of nurs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WordArt 3"/>
          <p:cNvSpPr txBox="1"/>
          <p:nvPr/>
        </p:nvSpPr>
        <p:spPr>
          <a:xfrm>
            <a:off x="1143000" y="762120"/>
            <a:ext cx="65530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King Saud Universit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llege of Nursing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68440" y="3733920"/>
            <a:ext cx="827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Care and Dress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0" y="384120"/>
            <a:ext cx="8686800" cy="1139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evelopmental consideration/Ag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utri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ife-style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edica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fect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ound perfusion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C6B4-BC2D-4001-887A-AC371146D9F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-457200" y="-231840"/>
            <a:ext cx="91440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228600" y="762120"/>
          <a:ext cx="8686800" cy="6013440"/>
        </p:xfrm>
        <a:graphic>
          <a:graphicData uri="http://schemas.openxmlformats.org/drawingml/2006/table">
            <a:tbl>
              <a:tblPr/>
              <a:tblGrid>
                <a:gridCol w="1523880"/>
                <a:gridCol w="4343400"/>
                <a:gridCol w="281952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yp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u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scription and Characteristic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Inci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p instrument eg. Knif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pain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38160">
                      <a:solidFill>
                        <a:srgbClr val="ff00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Contu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w from a blunt instru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wound, skin appears ecchymotic (bruised) because of damaged blood vessel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bras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scrape, either unintentional (eg, scraped knee from fall) or intentional (eg, dermal abrasion to remove pockmar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involving the skin ; painfu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un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etration of the skin and,  often the underlying tissues from a sharp instru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can be intentional or uninten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Lace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ssues torn apart, often from accidents (eg, machinery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edges are often jagg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Penetrating wou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etration of the skin and the underlying tiss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 wound; usually accidental ( bullet or metal fragmen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0066"/>
                      </a:solidFill>
                    </a:lnL>
                    <a:lnR w="38160">
                      <a:solidFill>
                        <a:srgbClr val="ff00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828F-A466-4C66-8572-CE18CBF8C5B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2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686800" cy="1152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Clean wound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Operations in which a viscus is not opened. This category includes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non- traumatic, uninfect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wounds where is no inflammation encountered and no break in technique has occur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Clean-contaminat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A viscus is entered but without spillage of contents. This category included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non- traumatic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s where a minor break in technique has occur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CA35-A4D3-4814-AB0A-271E11B988C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0" y="536400"/>
            <a:ext cx="9144000" cy="1140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Contaminated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 Gross spillage has occurred or a fresh traumatic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from a relatively clean source. Acute non-purulent inflammation may  also be encounter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Dirty or infected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Old traumatic wounds from a dirty source, with delayed treatment, devitalised tissue, clinical infection, faecal contamination or a foreign bod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6248-92C2-4C0B-A2BD-24F3F47962B1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1145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380880" y="17935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Book Antiqua"/>
              </a:rPr>
              <a:t>Partial-thicknes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Confined to the skin, the dermis and epidermi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812880" indent="-812880"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Book Antiqua"/>
              </a:rPr>
              <a:t>Full-thicknes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Involve the dermis, epidermis, subcutaneous tissue, and possibly muscle and bon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4032-3BAD-4F7E-8964-F82E5BF604B5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2"/>
          <a:srcRect l="6251" t="41502" r="19585" b="12778"/>
          <a:stretch/>
        </p:blipFill>
        <p:spPr>
          <a:xfrm>
            <a:off x="1143000" y="4648320"/>
            <a:ext cx="6197760" cy="2016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1143000" y="42670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Partial Thick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800600" y="4281480"/>
            <a:ext cx="26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Arial"/>
              </a:rPr>
              <a:t>Full Thick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6858000" cy="1146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5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A complex process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Involve examination of the entire wound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30000"/>
              </a:lnSpc>
              <a:spcBef>
                <a:spcPts val="85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Nurses visually assess wounds and document their findings to monitor and evaluate the progress of wound healing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E55A-F670-478F-A425-6C3A832FD8C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Picture64"/>
          <p:cNvPicPr/>
          <p:nvPr/>
        </p:nvPicPr>
        <p:blipFill>
          <a:blip r:embed="rId2"/>
          <a:stretch/>
        </p:blipFill>
        <p:spPr>
          <a:xfrm>
            <a:off x="7238880" y="99072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228600" y="126036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What to asses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oc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mensions/Siz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issue viabi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udate/Drain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iwound cond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ge or extent of tissue damage , dictates how often a wound is reassess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9448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wel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EF96-384E-4F33-A27A-B1D5149E243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2"/>
          <a:srcRect l="10834" t="24450" r="66668" b="27762"/>
          <a:stretch/>
        </p:blipFill>
        <p:spPr>
          <a:xfrm>
            <a:off x="4800600" y="1447920"/>
            <a:ext cx="2057400" cy="1752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rcRect l="0" t="26634" r="62501" b="5558"/>
          <a:stretch/>
        </p:blipFill>
        <p:spPr>
          <a:xfrm>
            <a:off x="6858000" y="1447920"/>
            <a:ext cx="2171880" cy="1752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Risk for Impaired Skin Integrity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Impaired Skin Integrity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Impaired Tissue Integrity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Risk for Infec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E2F-94FA-4F72-A1B2-B3418E9F267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1500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09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A-</a:t>
            </a: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 Intrinsic risk factors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Extremes ag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Defined as “ Children aged 1 year and under, and people aged 65 years and over’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Underling Conditions/Disord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295280" indent="-3808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SzPct val="105000"/>
              <a:buFont typeface="Book Antiqu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Diabete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2" marL="1295280" indent="-3808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SzPct val="105000"/>
              <a:buFont typeface="Book Antiqu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Respiratory disord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lvl="2" marL="1295280" indent="-380880">
              <a:lnSpc>
                <a:spcPct val="80000"/>
              </a:lnSpc>
              <a:spcBef>
                <a:spcPts val="624"/>
              </a:spcBef>
              <a:buClr>
                <a:srgbClr val="ffff00"/>
              </a:buClr>
              <a:buSzPct val="105000"/>
              <a:buFont typeface="Book Antiqu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Book Antiqua"/>
              </a:rPr>
              <a:t>Blood disorders</a:t>
            </a:r>
            <a:endParaRPr b="0" lang="en-US" sz="25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Smo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Nutrition and buil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27CA-C60C-439C-ACCD-46522A9D6030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Rectangle 2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1438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Book Antiqua"/>
              </a:rPr>
              <a:t>B-</a:t>
            </a: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 Extrinsic risk factors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Drug therapy as a risk facto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 e.g. Cytotoxic dru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Break in the integrity of the sk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Items such as foreign bo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110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Bypassing of defense mechanisms through devices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.g. Intub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B4F-61BA-47D2-8381-A3AD59B0176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140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67A-7677-49FB-BE9D-AE0F9D39DB9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29600" cy="8157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is swolle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is deep red in col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feels hot on palpa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inage is increased and possibly purul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l odor may be not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edges may be separated with dehiscence presen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D817-3F73-4E6C-9F90-25CBCBD5EA9B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52280" y="1295280"/>
            <a:ext cx="8839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Exudate</a:t>
            </a:r>
            <a:r>
              <a:rPr b="0" lang="en-US" sz="4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material, such as fluid and cells, that has escaped from blood vessels during the inflammatory process and deposited in or on tissue surfaces.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The Nature and amount of exudate vary according to: </a:t>
            </a:r>
            <a:r>
              <a:rPr b="0" lang="en-US" sz="2200" spc="-1" strike="noStrike">
                <a:solidFill>
                  <a:srgbClr val="ceb966"/>
                </a:solidFill>
                <a:latin typeface="Book Antiqua"/>
              </a:rPr>
              <a:t>Tissue involved, Intensity and duration of the inflammation, and the presence of microorganism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1. </a:t>
            </a:r>
            <a:r>
              <a:rPr b="0" lang="en-US" sz="3000" spc="-1" strike="noStrike">
                <a:solidFill>
                  <a:srgbClr val="00ff00"/>
                </a:solidFill>
                <a:latin typeface="Book Antiqua"/>
              </a:rPr>
              <a:t>Serous Exudate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stly seru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ery, clear of cel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.g., fluid in a blist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FD7C-1959-4C75-A471-0EB40426A5FD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51920" y="8380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ffff00"/>
              </a:buClr>
              <a:buSzPct val="125000"/>
              <a:buFont typeface="Book Antiq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Book Antiqua"/>
              </a:rPr>
              <a:t>A purulent Exudate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s thicker than serous exudate because of the presence of pu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consists of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leukocytes, liquefied dead tissue debris, dead and living bacteri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Process of pus formation is referred to as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suppurat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and the bacteria that produce pus are called 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pyogenic bacteria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rulent exudate vary in color, some acquiring tinges of </a:t>
            </a:r>
            <a:r>
              <a:rPr b="0" lang="en-US" sz="2800" spc="-1" strike="noStrike">
                <a:solidFill>
                  <a:srgbClr val="3366ff"/>
                </a:solidFill>
                <a:latin typeface="Book Antiqua"/>
              </a:rPr>
              <a:t>blue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, </a:t>
            </a: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green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, or yellow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 The color may depend on the causative organism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164-0AAE-45B3-BAF4-C9BAAB6157D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Kristen IT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1294920"/>
            <a:ext cx="9144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751"/>
              </a:spcBef>
              <a:buClr>
                <a:srgbClr val="ffff00"/>
              </a:buClr>
              <a:buSzPct val="125000"/>
              <a:buFont typeface="Book Antiqu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ff00"/>
                </a:solidFill>
                <a:latin typeface="Book Antiqua"/>
              </a:rPr>
              <a:t>A sanguineous (hemorrhagic) Exudate 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consists of large amount or blood cells, indicating damage to capillaries that is very severe enough to allow the escape of </a:t>
            </a:r>
            <a:r>
              <a:rPr b="0" lang="en-US" sz="2800" spc="-1" strike="noStrike">
                <a:solidFill>
                  <a:srgbClr val="ff0066"/>
                </a:solidFill>
                <a:latin typeface="Book Antiqua"/>
              </a:rPr>
              <a:t>RBC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from plasm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s type of exudate is  frequently seen in open wound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8120" indent="-528120">
              <a:spcBef>
                <a:spcPts val="700"/>
              </a:spcBef>
              <a:buClr>
                <a:srgbClr val="ffff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urses often need to distinguish whether the exudate is dark or bright. Bright indicate fresh blood, whereas dark exudate denotes older bleed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92F-8340-474B-8D71-2587B6723A38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29600" cy="815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e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morrha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hiscence and possible eviscer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stula form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7937-1801-40C4-A53E-8EFDF81DFE2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Rectangle 2" descr=""/>
          <p:cNvPicPr/>
          <p:nvPr/>
        </p:nvPicPr>
        <p:blipFill>
          <a:blip r:embed="rId1"/>
          <a:stretch/>
        </p:blipFill>
        <p:spPr>
          <a:xfrm>
            <a:off x="-152280" y="457200"/>
            <a:ext cx="8381880" cy="1182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76320" y="17524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s concept is based on the color of the open wound rather than the depth or size of  the wound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50000"/>
              </a:lnSpc>
              <a:spcBef>
                <a:spcPts val="3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4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n this scheme, the goal of wound care is to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protect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 cover) red,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clean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yellow, and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debrid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lack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RYB code can be applied to any wound allowed to heal by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secondary inten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03B7-C827-48F5-AB61-51BD5761713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3352680"/>
            <a:ext cx="8915400" cy="7642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66"/>
                </a:solidFill>
                <a:latin typeface="Arial"/>
              </a:rPr>
              <a:t>R=Red      </a:t>
            </a:r>
            <a:r>
              <a:rPr b="0" i="1" lang="en-US" sz="4400" spc="-1" strike="noStrike">
                <a:solidFill>
                  <a:srgbClr val="ffff00"/>
                </a:solidFill>
                <a:latin typeface="Arial"/>
              </a:rPr>
              <a:t>Y=Yellow       </a:t>
            </a:r>
            <a:r>
              <a:rPr b="0" i="1" lang="en-US" sz="4400" spc="-1" strike="noStrike">
                <a:solidFill>
                  <a:srgbClr val="993300"/>
                </a:solidFill>
                <a:latin typeface="Arial"/>
              </a:rPr>
              <a:t>B= 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686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6320" y="1142640"/>
            <a:ext cx="9067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66"/>
                </a:solidFill>
                <a:latin typeface="Lucida Sans"/>
              </a:rPr>
              <a:t>Red wound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1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ually in the late regeneration phase of tissue repair (ie, developing granulation tissue) and are clean and uniformly pink in appearan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1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ey need to be protected to avoid  disturbance to regenerating tissue. Examples are superficial wounds, skin donor sites, and partial- thickness or second – degree bur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9DD-DA5F-413F-8195-BE486D419958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67416BBF"/>
          <p:cNvPicPr/>
          <p:nvPr/>
        </p:nvPicPr>
        <p:blipFill>
          <a:blip r:embed="rId1"/>
          <a:stretch/>
        </p:blipFill>
        <p:spPr>
          <a:xfrm>
            <a:off x="5943600" y="5105520"/>
            <a:ext cx="2514600" cy="1295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6320" y="11430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00"/>
                </a:solidFill>
                <a:latin typeface="Book Antiqua"/>
              </a:rPr>
              <a:t>How to protect red wounds: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Gentle cleansin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void the use of dry gauze or wet- to-dry saline dressing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pplying a topical antimicrobial agen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ppling a transparent film or hydrocolloid dressing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30000"/>
              </a:lnSpc>
              <a:spcBef>
                <a:spcPts val="649"/>
              </a:spcBef>
              <a:buClr>
                <a:srgbClr val="00ff00"/>
              </a:buClr>
              <a:buSzPct val="11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Changing the dressing as infrequently as possibl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0AEC-88C4-41E2-871F-B95EFF783CD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0" y="407880"/>
            <a:ext cx="8686800" cy="11955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76320" y="1564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haracterized primarily by liquid to semiliquid ”slough” that is often accompanied by purulent draina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he nurse cleanses yellow wounds to absorb drainage and remove nonviable tissue. Methods used may include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Applying wet-to-wet dressing; irrigating the wound; using absorbent dressing material such as impregnated nonadherent, hydrogel dressing, or other exudate absorbers; and consulting with the physician about the need for a topical antimicrobial to minimize bacterial growth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9EF0-4B11-44F5-9A44-F501B4D13246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67CA2B25"/>
          <p:cNvPicPr/>
          <p:nvPr/>
        </p:nvPicPr>
        <p:blipFill>
          <a:blip r:embed="rId2"/>
          <a:stretch/>
        </p:blipFill>
        <p:spPr>
          <a:xfrm>
            <a:off x="6324480" y="228600"/>
            <a:ext cx="259092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32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Book Antiqua"/>
              </a:rPr>
              <a:t>Black Wound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Covered with thick necrotic tissue or Eschar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e.g.. third degree burns and gangrenous ulcer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Required debridement 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8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When the eschar is removed, the wound is treated as yellow, then red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007-B8EF-44DC-BE01-2A6B906900A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4" descr="EF292D7B"/>
          <p:cNvPicPr/>
          <p:nvPr/>
        </p:nvPicPr>
        <p:blipFill>
          <a:blip r:embed="rId1"/>
          <a:stretch/>
        </p:blipFill>
        <p:spPr>
          <a:xfrm>
            <a:off x="6172200" y="990720"/>
            <a:ext cx="2666880" cy="1143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ulates body temperature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events loss of essential body fluids, and penetration of toxic substances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rotection of the body from harmful effects of the sun and radiation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Excretes toxic substances with sweat ( waste removal)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Mechanical support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mmunological function mediated by Langerhans cells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nsory organ for touch, heat, cold, socio-sexual and emotional sensations.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tamin D synthesis from its precursors under the effect of sunlight and introversion of steroid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57BA-4141-4B56-BC19-63013DEDBC4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-304920" y="152280"/>
            <a:ext cx="9528120" cy="11401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0" y="12193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tect the wound from mechanical injuri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tect the wound from microbial contamin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vide or maintain high humidity of the woun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ovide thermal insulation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00ff00"/>
              </a:buClr>
              <a:buSzPct val="11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absorb drainage and /or debride a wound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lnSpc>
                <a:spcPct val="11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E4FA-2F0A-4A47-A79A-450AFD7FC3A0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05280" y="151920"/>
            <a:ext cx="95252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260000"/>
            <a:ext cx="86868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6.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prevent hemorrhage (when applied as a pressure dressing or with elastic bandages)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7.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o splint or immobilize the wound site and thereby facilitate healing and prevent injury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ook Antiqua"/>
              </a:rPr>
              <a:t>8. </a:t>
            </a:r>
            <a:r>
              <a:rPr b="0" lang="en-US" sz="3000" spc="-1" strike="noStrike">
                <a:solidFill>
                  <a:srgbClr val="ffff00"/>
                </a:solidFill>
                <a:latin typeface="Book Antiqua"/>
              </a:rPr>
              <a:t>To provide psychological (aesthetic) comfort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901"/>
              </a:spcBef>
              <a:buClr>
                <a:srgbClr val="00ff00"/>
              </a:buClr>
              <a:buSzPct val="11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lnSpc>
                <a:spcPct val="110000"/>
              </a:lnSpc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F9B7-8988-401E-B9D0-70CCAB31A063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Book Antiqua"/>
              </a:rPr>
              <a:t>The aim: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arantee the safety of the equipment used (cleaning/disinfection/sterilisation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duce the level of microbial contamination of the site requiring manipulation (antisepsi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sure that no microorganisms are introduced (asepsis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0A0B-C5FB-499F-BBEF-09C6D3A7CC97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7086600" y="4876920"/>
            <a:ext cx="1442880" cy="1752480"/>
          </a:xfrm>
          <a:prstGeom prst="rect">
            <a:avLst/>
          </a:prstGeom>
          <a:ln w="38160">
            <a:solidFill>
              <a:srgbClr val="cc00ff"/>
            </a:solidFill>
            <a:miter/>
          </a:ln>
        </p:spPr>
      </p:pic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Cleaning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s the removal of dirt, debris and organic material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Disinfectio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Removes or destroys harmful microorganisms but not bacterial spores or  slow virus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Sterilization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s the complete destruction or removal of all living microorganisms including  bacterial spores.</a:t>
            </a: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ntisepsis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: is the reduction of the number of microorganisms already present on the body site prior to a procedur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Book Antiqua"/>
              </a:rPr>
              <a:t>Asepsis: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Procedure designed to prevent any introduction of microorganisms to the site achieved by </a:t>
            </a:r>
            <a:r>
              <a:rPr b="0" lang="en-US" sz="2600" spc="-1" strike="noStrike">
                <a:solidFill>
                  <a:srgbClr val="00ff00"/>
                </a:solidFill>
                <a:latin typeface="Book Antiqua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i="1" lang="en-US" sz="2600" spc="-1" strike="noStrike">
                <a:solidFill>
                  <a:srgbClr val="00ff00"/>
                </a:solidFill>
                <a:latin typeface="Book Antiqua"/>
              </a:rPr>
              <a:t>non-touching technique and use of sterile glov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CEAD-E3D3-4F3C-9AAC-130FABBC6E7F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Rectangle 2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7547040" cy="11397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457200" y="1447920"/>
            <a:ext cx="86868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physiologic solution, such as                isotonic saline or lactated ringer soluti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possible , warm the solution to body temperature before us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the wound is grossly contaminated by foreign material , bacteria, slough, or necrotic tissue clean the wound at every dressing chang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2720" indent="-52272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a wound is clean , has little exudate , and reveals healthy granulation tissue , avoid repeated clean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7745-AA18-4869-973C-90A64B31173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4" descr="Picture45"/>
          <p:cNvPicPr/>
          <p:nvPr/>
        </p:nvPicPr>
        <p:blipFill>
          <a:blip r:embed="rId2"/>
          <a:stretch/>
        </p:blipFill>
        <p:spPr>
          <a:xfrm>
            <a:off x="7162920" y="-76320"/>
            <a:ext cx="2133360" cy="2400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38412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ff00"/>
              </a:solidFill>
              <a:latin typeface="Kristen IT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se gauze squares .                                   Avoid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60240" indent="-660240"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sider cleaning superficial noninfected wound by irrigating them with normal saline rather than using mechanical mea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60240" indent="-660240">
              <a:spcBef>
                <a:spcPts val="700"/>
              </a:spcBef>
              <a:buClr>
                <a:srgbClr val="ffff00"/>
              </a:buClr>
              <a:buSzPct val="120000"/>
              <a:buFont typeface="Book Antiqu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retain wound moisture , avoid drying a wound after cleaning i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AE08-9C34-4A03-983E-ED47FA9B296E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4" descr="Picture45"/>
          <p:cNvPicPr/>
          <p:nvPr/>
        </p:nvPicPr>
        <p:blipFill>
          <a:blip r:embed="rId1"/>
          <a:stretch/>
        </p:blipFill>
        <p:spPr>
          <a:xfrm>
            <a:off x="6858000" y="0"/>
            <a:ext cx="2362320" cy="2590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2" descr=""/>
          <p:cNvPicPr/>
          <p:nvPr/>
        </p:nvPicPr>
        <p:blipFill>
          <a:blip r:embed="rId1"/>
          <a:stretch/>
        </p:blipFill>
        <p:spPr>
          <a:xfrm>
            <a:off x="457200" y="781200"/>
            <a:ext cx="8229600" cy="8157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ection preven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und hea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ppearance of the skin/recent cha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ctivity/mobil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utri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limin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5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B4EE-8016-48BC-8628-02A3A748CAE9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15652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51920" y="1599840"/>
            <a:ext cx="8610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A loss of continuity of the skin or mucous membrane which may involve soft tissues, muscles, bone and other anatomical structur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1BA8-F985-457A-AAC3-CF62E702B8C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52280" y="382284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- Any disruption to layers of the skin and underlying tissues due to multiple causes including trauma, surgery, or a specific disease st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Book Antiqua"/>
              </a:rPr>
              <a:t>Classification of wound healing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Book Antiqua"/>
              </a:rPr>
              <a:t>(According to the amount of tissue los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Primary intention healing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Secondary intention healing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2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Tertiary intention healing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262-A864-471A-A80C-FD94F74B3D0D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686800" cy="1140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228240" y="1260360"/>
            <a:ext cx="8915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00"/>
                </a:solidFill>
                <a:latin typeface="Book Antiqua"/>
              </a:rPr>
              <a:t>Healing is a quality of living tissue; it is also referred to as regeneration (renewal) of tissu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ff00"/>
              </a:buClr>
              <a:buSzPct val="12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inflammatory phase (3-6 day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ff00"/>
              </a:buClr>
              <a:buSzPct val="12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regenerative (Proliferative) phase (day 4-day21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>
              <a:lnSpc>
                <a:spcPct val="170000"/>
              </a:lnSpc>
              <a:spcBef>
                <a:spcPts val="649"/>
              </a:spcBef>
              <a:buClr>
                <a:srgbClr val="00ff00"/>
              </a:buClr>
              <a:buSzPct val="125000"/>
              <a:buFont typeface="Book Antiqu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maturation (Remodeling) phase (day 21- 1 or 2 yrs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609480" indent="-609480" algn="ctr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Lucida Calligraphy"/>
              </a:rPr>
              <a:t>                                 </a:t>
            </a:r>
            <a:r>
              <a:rPr b="1" lang="en-US" sz="1700" spc="-1" strike="noStrike">
                <a:solidFill>
                  <a:srgbClr val="ffff00"/>
                </a:solidFill>
                <a:latin typeface="Lucida Calligraphy"/>
              </a:rPr>
              <a:t>(Manley, Bellman,  2000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CEF-2187-4429-8CF8-E9248C35A41A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7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12840"/>
          </a:xfrm>
          <a:prstGeom prst="rect">
            <a:avLst/>
          </a:prstGeom>
          <a:ln w="0">
            <a:noFill/>
          </a:ln>
        </p:spPr>
      </p:pic>
      <p:sp>
        <p:nvSpPr>
          <p:cNvPr id="145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694B-0E07-4C21-B6E4-A52D982572A4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533520" y="990720"/>
            <a:ext cx="4419360" cy="5814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ury /damage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99400" y="2133720"/>
            <a:ext cx="1584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 C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00120" y="3787920"/>
            <a:ext cx="19911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ing th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nd ed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71800" y="2133720"/>
            <a:ext cx="15339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28600" y="2971800"/>
            <a:ext cx="228600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sod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H="1" flipV="1">
            <a:off x="380520" y="3200040"/>
            <a:ext cx="180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4800" y="4321080"/>
            <a:ext cx="202176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trophil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oc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622840" y="503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28600" y="5592600"/>
            <a:ext cx="2819520" cy="1161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edema&amp;              Engo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-3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V="1">
            <a:off x="304920" y="5638320"/>
            <a:ext cx="144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H="1">
            <a:off x="1066320" y="5181480"/>
            <a:ext cx="1800" cy="3812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3352680" y="2895480"/>
            <a:ext cx="106704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3200400" y="5191200"/>
            <a:ext cx="329256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ed blood vess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circulation slow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9"/>
          <p:cNvSpPr/>
          <p:nvPr/>
        </p:nvSpPr>
        <p:spPr>
          <a:xfrm>
            <a:off x="4038480" y="1676520"/>
            <a:ext cx="180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20"/>
          <p:cNvSpPr/>
          <p:nvPr/>
        </p:nvSpPr>
        <p:spPr>
          <a:xfrm>
            <a:off x="1066680" y="2590920"/>
            <a:ext cx="180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Line 21"/>
          <p:cNvSpPr/>
          <p:nvPr/>
        </p:nvSpPr>
        <p:spPr>
          <a:xfrm>
            <a:off x="1066680" y="3886200"/>
            <a:ext cx="180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22"/>
          <p:cNvSpPr/>
          <p:nvPr/>
        </p:nvSpPr>
        <p:spPr>
          <a:xfrm>
            <a:off x="4038480" y="3429000"/>
            <a:ext cx="180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23"/>
          <p:cNvSpPr/>
          <p:nvPr/>
        </p:nvSpPr>
        <p:spPr>
          <a:xfrm>
            <a:off x="4038480" y="2590920"/>
            <a:ext cx="1800" cy="3045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4"/>
          <p:cNvSpPr/>
          <p:nvPr/>
        </p:nvSpPr>
        <p:spPr>
          <a:xfrm>
            <a:off x="1066680" y="1676520"/>
            <a:ext cx="180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4114800" y="4648320"/>
            <a:ext cx="1440" cy="533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Rectangle 24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229600" cy="68904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BD4-E6BE-4A05-9B2C-8759B24011F2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533520" y="838080"/>
            <a:ext cx="4419360" cy="7038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od vessels near the edge of the wound become por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229640" y="2184480"/>
            <a:ext cx="3902400" cy="8240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sultant tissue filling is refer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as granulation tiss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process of wound contraction beg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191120" y="3495600"/>
            <a:ext cx="4114800" cy="1191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ps other blood cell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maged blood vess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gin to regenerate with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wound marg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01480" y="1981080"/>
            <a:ext cx="315612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ing excess moisture to esca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09480" y="2917800"/>
            <a:ext cx="2286000" cy="703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rophage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475560" y="4572000"/>
            <a:ext cx="308088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ion&amp; multiplic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 fibrobla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 flipV="1">
            <a:off x="5334120" y="47973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09480" y="5867280"/>
            <a:ext cx="2819520" cy="6786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grate along fibrin thre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1600200" y="5334120"/>
            <a:ext cx="0" cy="5331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343400" y="5410080"/>
            <a:ext cx="3292560" cy="13723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ying down of a ground substa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Beginning</a:t>
            </a: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the synthesis of collagen fibers (granulation tissue 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6"/>
          <p:cNvSpPr/>
          <p:nvPr/>
        </p:nvSpPr>
        <p:spPr>
          <a:xfrm flipV="1">
            <a:off x="5410080" y="3048120"/>
            <a:ext cx="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1523880" y="2590920"/>
            <a:ext cx="0" cy="3808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1523880" y="3733920"/>
            <a:ext cx="0" cy="838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9"/>
          <p:cNvSpPr/>
          <p:nvPr/>
        </p:nvSpPr>
        <p:spPr>
          <a:xfrm flipV="1">
            <a:off x="5410080" y="4800600"/>
            <a:ext cx="0" cy="5335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1"/>
          <p:cNvSpPr/>
          <p:nvPr/>
        </p:nvSpPr>
        <p:spPr>
          <a:xfrm>
            <a:off x="1523880" y="1600200"/>
            <a:ext cx="0" cy="4572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5"/>
          <p:cNvSpPr/>
          <p:nvPr/>
        </p:nvSpPr>
        <p:spPr>
          <a:xfrm>
            <a:off x="947880" y="38466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timul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143000" y="5334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Wh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8"/>
          <p:cNvSpPr/>
          <p:nvPr/>
        </p:nvSpPr>
        <p:spPr>
          <a:xfrm>
            <a:off x="4578480" y="4967280"/>
            <a:ext cx="24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This fibrous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3505320" y="6095880"/>
            <a:ext cx="7617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1"/>
          <p:cNvSpPr/>
          <p:nvPr/>
        </p:nvSpPr>
        <p:spPr>
          <a:xfrm rot="5400000">
            <a:off x="3139200" y="600336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Resulting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2"/>
          <p:cNvSpPr/>
          <p:nvPr/>
        </p:nvSpPr>
        <p:spPr>
          <a:xfrm>
            <a:off x="5410080" y="838080"/>
            <a:ext cx="3276720" cy="91440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gins 2-3 days of inju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sting up to 2-3 week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gins about day 21 and can extend up to 6 months up to one or two years after the injury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broblasts continue to synthesize collagen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ollagen fibers recognized into a more orderly structu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car become a thin ,less elastic, white line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7822-8A15-498B-836C-7BF230FCBBFE}" type="slidenum">
              <a:rPr b="0" lang="ar-S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17:35Z</dcterms:modified>
  <cp:revision>1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