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20.png" ContentType="image/png"/>
  <Override PartName="/ppt/media/image36.jpeg" ContentType="image/jpeg"/>
  <Override PartName="/ppt/media/image1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15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77A-FDF1-4743-8F4C-FD62B942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1F3-0273-49A3-BA91-37319B97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194-60C0-42B1-9436-17F1F4EB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BA7-BA9A-4107-94D0-9F080AEE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8CC3-4291-409F-8687-1B649ED9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4CC5-E3DE-46AB-9234-62B5BC7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01F3-96FA-4878-8B04-170BC67E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24C0-F4D9-4DEF-8E9C-9A927FFB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766C-9E51-4B7F-88CC-D0BC3DC1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4F39-97E9-4AAB-B13E-446421C5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F111-9B80-47EC-93BA-04DA639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2E3-49E0-4933-8EF3-49D8E337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AE5-2D7D-415D-A02F-535425C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EA16-3F2D-48CE-BB63-B337BD9D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8947-D21F-4D90-BA3C-677A4EAD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CFA4-A444-42D7-9BA6-8F2ADE54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4A11-B3EF-47AC-8876-8B97B6FF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7A08-0E69-4DFD-AD54-CDE15146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10DD-E18E-40DD-A8D8-3DDB583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0A19-B807-46AE-B937-E760E82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AC15-B351-45FF-90D5-C58CCB5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9E87-1CE6-435F-AC99-DF5B6588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45D-6B0C-4846-9E16-1C71D876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36F7-E3D1-4A71-9D48-8CD085CE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E95D2-786F-43D9-9119-47F7498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D5B0-B7F1-48F3-BEC5-5CAD34C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608F-199D-424F-A500-A930415B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0CCA-F9B9-4255-A2A1-A3AAAFCB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58B1-8066-4054-A94D-CEDEE411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0A94-23EB-4AF8-87BD-CAA57F8B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283-6E71-467A-AA0A-ACCB879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229-AFBA-4E79-A7EE-FC39D0B5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F64-F128-4BCF-BF92-7CA2B741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762-C110-4A3A-A5DC-A79051D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3DC-AD51-4DF1-B275-2BFDFF3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BEE-8525-46CD-A3C1-90866E9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cbc"/>
                </a:solidFill>
                <a:latin typeface="Arial"/>
              </a:rPr>
              <a:t>M&amp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A8EF-9DEE-499D-8C79-1112C9BD111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cbc"/>
                </a:solidFill>
                <a:latin typeface="Arial"/>
              </a:rPr>
              <a:t>M&amp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3A59-4011-417A-8A0A-70742D35D3FC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cbc"/>
                </a:solidFill>
                <a:latin typeface="Arial"/>
              </a:rPr>
              <a:t>M&amp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A47-607D-4D58-AD18-BC69BE8693B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7E3D-23C6-44AF-A72A-DC93A92C25D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1143000" y="2438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ndamental of nurs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1143000" y="7621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ing Saud Universit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ge of Nursing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68440" y="3733920"/>
            <a:ext cx="82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Care and Dress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8686800" cy="1139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evelopmental consideration/Ag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utri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ife-sty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edic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fec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ound perfus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27A9-0EC4-4FEF-BA4A-B60D292AA72C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457200" y="-231840"/>
            <a:ext cx="91440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228600" y="762120"/>
          <a:ext cx="8686800" cy="6013440"/>
        </p:xfrm>
        <a:graphic>
          <a:graphicData uri="http://schemas.openxmlformats.org/drawingml/2006/table">
            <a:tbl>
              <a:tblPr/>
              <a:tblGrid>
                <a:gridCol w="1523880"/>
                <a:gridCol w="4343400"/>
                <a:gridCol w="28195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u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scription and Characteristic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Inc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p instrument eg. Kni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pain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ontu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w from a blunt instru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 wound, skin appears ecchymotic (bruised) because of damaged blood vesse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bra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 scrape, either unintentional (eg, scraped knee from fall) or intentional (eg, dermal abrasion to remove pockmar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involving the skin ; pain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un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etration of the skin and,  often the underlying tissues from a sharp instru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can be intentional or uninten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ace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s torn apart, often from accidents (eg, machine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edges are often jagg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enetrating wou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etration of the skin and the underlying tiss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usually accidental ( bullet or metal frag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C5CC-AB72-4CEA-A5CF-078DEA7C9930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304920" y="371520"/>
            <a:ext cx="8686800" cy="1152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Clean wound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Operations in which a viscus is not opened. This category includes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non- traumatic, uninfect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wounds where is no inflammation encountered and no break in technique has occur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Clean-contaminat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A viscus is entered but without spillage of contents. This category included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non- traumatic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s where a minor break in technique has occur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7C85-3D17-4064-9C98-E08695153C6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0" y="536400"/>
            <a:ext cx="9144000" cy="1140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Contaminat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 Gross spillage has occurred or a fresh traumatic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from a relatively clean source. Acute non-purulent inflammation may  also be encounte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Dirty or infecte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Old traumatic wounds from a dirty source, with delayed treatment, devitalised tissue, clinical infection, faecal contamination or a foreign bod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3EAC-E2E4-46D6-A565-0DF50BE22BAF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1145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80880" y="17935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Book Antiqua"/>
              </a:rPr>
              <a:t>Partial-thick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onfined to the skin, the dermis and epidermi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2880" indent="-812880"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Book Antiqua"/>
              </a:rPr>
              <a:t>Full-thicknes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Involve the dermis, epidermis, subcutaneous tissue, and possibly muscle and b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C7FE-59AE-48E8-8DEE-D33D1835265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rcRect l="6251" t="41502" r="19585" b="12778"/>
          <a:stretch/>
        </p:blipFill>
        <p:spPr>
          <a:xfrm>
            <a:off x="1143000" y="4648320"/>
            <a:ext cx="6197760" cy="2016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1143000" y="426708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Partial Thick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800600" y="428148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Full Thick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858000" cy="1146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5228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A complex proces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Involve examination of the entire wound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Nurses visually assess wounds and document their findings to monitor and evaluate the progress of wound healing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7D3F-314F-47FD-BF45-A73140F4D54C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Picture64"/>
          <p:cNvPicPr/>
          <p:nvPr/>
        </p:nvPicPr>
        <p:blipFill>
          <a:blip r:embed="rId2"/>
          <a:stretch/>
        </p:blipFill>
        <p:spPr>
          <a:xfrm>
            <a:off x="7238880" y="99072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" y="126036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hat to asses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mensions/Siz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ssue viabi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udate/Drain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iwound cond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ge or extent of tissue damage , dictates how often a wound is reassess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wel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21C-C294-4725-8D85-11618C54550A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rcRect l="10834" t="24450" r="66668" b="27762"/>
          <a:stretch/>
        </p:blipFill>
        <p:spPr>
          <a:xfrm>
            <a:off x="4800600" y="14479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rcRect l="0" t="26634" r="62501" b="5558"/>
          <a:stretch/>
        </p:blipFill>
        <p:spPr>
          <a:xfrm>
            <a:off x="6858000" y="1447920"/>
            <a:ext cx="2171880" cy="1752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Risk for Impaired Skin Integr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Impaired Skin Integrity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Impaired Tissue Integrity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Risk for Infe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D911-BE63-4795-9C71-B08D4B6D34EE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1500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A-</a:t>
            </a: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 Intrinsic risk factors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Extremes ag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efined as “ Children aged 1 year and under, and people aged 65 years and over’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Underling Conditions/Disord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295280" indent="-3808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SzPct val="105000"/>
              <a:buFont typeface="Book Antiqu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Diabet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2" marL="1295280" indent="-3808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SzPct val="105000"/>
              <a:buFont typeface="Book Antiqu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spiratory disord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2" marL="1295280" indent="-3808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SzPct val="105000"/>
              <a:buFont typeface="Book Antiqu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Blood disord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Nutrition and bu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172E-B1F4-4895-8193-C4757169BBA8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B-</a:t>
            </a: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 Extrinsic risk factors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Drug therapy as a risk facto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e.g. Cytotoxic dru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Break in the integrity of the sk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Items such as foreign bo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Bypassing of defense mechanisms through devic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.g. Intub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AE0E-A91E-4C4F-B311-4D11B3029987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152-6D68-4463-B7EE-8EE89FE12921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29600" cy="815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is swolle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is deep red in col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feels hot on palp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inage is increased and possibly purul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l odor may be no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edges may be separated with dehiscence pres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5FE-B806-4A3E-9D0E-714CEA1B22E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52280" y="1295280"/>
            <a:ext cx="8839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Exudate</a:t>
            </a:r>
            <a:r>
              <a:rPr b="0" lang="en-US" sz="4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material, such as fluid and cells, that has escaped from blood vessels during the inflammatory process and deposited in or on tissue surfaces.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The Nature and amount of exudate vary according to: </a:t>
            </a:r>
            <a:r>
              <a:rPr b="0" lang="en-US" sz="2200" spc="-1" strike="noStrike">
                <a:solidFill>
                  <a:srgbClr val="ceb966"/>
                </a:solidFill>
                <a:latin typeface="Book Antiqua"/>
              </a:rPr>
              <a:t>Tissue involved, Intensity and duration of the inflammation, and the presence of microorganism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</a:t>
            </a:r>
            <a:r>
              <a:rPr b="0" lang="en-US" sz="3000" spc="-1" strike="noStrike">
                <a:solidFill>
                  <a:srgbClr val="00ff00"/>
                </a:solidFill>
                <a:latin typeface="Book Antiqua"/>
              </a:rPr>
              <a:t>Serous Exudat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ly se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ery, clear of ce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.g., fluid in a blis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A4C4-1A51-4920-8FF8-C24052B3494F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1920" y="8380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00"/>
              </a:buClr>
              <a:buSzPct val="125000"/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Book Antiqua"/>
              </a:rPr>
              <a:t>A purulent Exudate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thicker than serous exudate because of the presence of pu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consist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leukocytes, liquefied dead tissue debris, dead and living bacteri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rocess of pus formation is referred to as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uppur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and the bacteria that produce pus are calle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yogenic bacter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rulent exudate vary in color, some acquiring tinges of </a:t>
            </a:r>
            <a:r>
              <a:rPr b="0" lang="en-US" sz="2800" spc="-1" strike="noStrike">
                <a:solidFill>
                  <a:srgbClr val="3366ff"/>
                </a:solidFill>
                <a:latin typeface="Book Antiqua"/>
              </a:rPr>
              <a:t>blue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green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, or yellow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The color may depend on the causative organism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3223-4B39-459C-816A-1FC5A8F4234F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294920"/>
            <a:ext cx="9144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ff00"/>
              </a:buClr>
              <a:buSzPct val="125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Book Antiqua"/>
              </a:rPr>
              <a:t>A sanguineous (hemorrhagic) Exudate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consists of large amount or blood cells, indicating damage to capillaries that is very severe enough to allow the escape of </a:t>
            </a:r>
            <a:r>
              <a:rPr b="0" lang="en-US" sz="2800" spc="-1" strike="noStrike">
                <a:solidFill>
                  <a:srgbClr val="ff0066"/>
                </a:solidFill>
                <a:latin typeface="Book Antiqua"/>
              </a:rPr>
              <a:t>RBC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from plasm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type of exudate is  frequently seen in open wound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urses often need to distinguish whether the exudate is dark or bright. Bright indicate fresh blood, whereas dark exudate denotes older bleed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B5A4-F0B1-4964-AF51-446C1A8AD0F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29600" cy="815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morrh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hiscence and possible evisce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stula form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F18E-407B-44B3-84D1-FCE7C4F88E25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-152280" y="457200"/>
            <a:ext cx="8381880" cy="1182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76320" y="17524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s concept is based on the color of the open wound rather than the depth or size of  the wou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5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n this scheme, the goal of wound care is to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protect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 cover) red,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lean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yellow, and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debrid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ack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YB code can be applied to any wound allowed to heal by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secondary inten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54A4-D789-4230-A80B-EFAAD492BB2C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3352680"/>
            <a:ext cx="8915400" cy="76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R=Red     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Y=Yellow       </a:t>
            </a: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B= 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6320" y="11426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Lucida Sans"/>
              </a:rPr>
              <a:t>Red wound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1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in the late regeneration phase of tissue repair (ie, developing granulation tissue) and are clean and uniformly pink in appear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1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ey need to be protected to avoid  disturbance to regenerating tissue. Examples are superficial wounds, skin donor sites, and partial- thickness or second – degree bur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A8F-C549-4E71-A19B-1A6605E2FB91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67416BBF"/>
          <p:cNvPicPr/>
          <p:nvPr/>
        </p:nvPicPr>
        <p:blipFill>
          <a:blip r:embed="rId1"/>
          <a:stretch/>
        </p:blipFill>
        <p:spPr>
          <a:xfrm>
            <a:off x="5943600" y="51055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6320" y="11430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Book Antiqua"/>
              </a:rPr>
              <a:t>How to protect red wounds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Gentle cleansin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void the use of dry gauze or wet- to-dry saline dressing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pplying a topical antimicrobial ag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ppling a transparent film or hydrocolloid dressing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Changing the dressing as infrequently as possibl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D879-9063-4195-9074-5C1FC19A8537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0" y="407880"/>
            <a:ext cx="8686800" cy="1195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76320" y="1564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aracterized primarily by liquid to semiliquid ”slough” that is often accompanied by purulent draina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e nurse cleanses yellow wounds to absorb drainage and remove nonviable tissue. Methods used may include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Applying wet-to-wet dressing; irrigating the wound; using absorbent dressing material such as impregnated nonadherent, hydrogel dressing, or other exudate absorbers; and consulting with the physician about the need for a topical antimicrobial to minimize bacterial grow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1AEE-4C24-4040-A0E1-0193FC86AA37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67CA2B25"/>
          <p:cNvPicPr/>
          <p:nvPr/>
        </p:nvPicPr>
        <p:blipFill>
          <a:blip r:embed="rId2"/>
          <a:stretch/>
        </p:blipFill>
        <p:spPr>
          <a:xfrm>
            <a:off x="6324480" y="228600"/>
            <a:ext cx="259092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32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Book Antiqua"/>
              </a:rPr>
              <a:t>Black Wound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Covered with thick necrotic tissue or Eschar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e.g.. third degree burns and gangrenous ulcer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Required debridement 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When the eschar is removed, the wound is treated as yellow, then red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8D9-DC5C-480D-A3C1-3CBB9D9452A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EF292D7B"/>
          <p:cNvPicPr/>
          <p:nvPr/>
        </p:nvPicPr>
        <p:blipFill>
          <a:blip r:embed="rId1"/>
          <a:stretch/>
        </p:blipFill>
        <p:spPr>
          <a:xfrm>
            <a:off x="6172200" y="990720"/>
            <a:ext cx="266688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ulates body temperature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events loss of essential body fluids, and penetration of toxic substances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tection of the body from harmful effects of the sun and radiation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cretes toxic substances with sweat ( waste removal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echanical support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mmunological function mediated by Langerhans cells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nsory organ for touch, heat, cold, socio-sexual and emotional sensations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tamin D synthesis from its precursors under the effect of sunlight and introversion of steroi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2DD4-B334-49AD-A1B6-6EFF76F6442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-304920" y="152280"/>
            <a:ext cx="9528120" cy="1140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tect the wound from mechanical injuri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tect the wound from microbial contamin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vide or maintain high humidity of the woun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vide thermal insul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absorb drainage and /or debride a woun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5F08-2267-441A-AC13-4E8BFDDC030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05280" y="151920"/>
            <a:ext cx="95252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260000"/>
            <a:ext cx="8686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event hemorrhage (when applied as a pressure dressing or with elastic bandag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7.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splint or immobilize the wound site and thereby facilitate healing and prevent injur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8. </a:t>
            </a:r>
            <a:r>
              <a:rPr b="0" lang="en-US" sz="3000" spc="-1" strike="noStrike">
                <a:solidFill>
                  <a:srgbClr val="ffff00"/>
                </a:solidFill>
                <a:latin typeface="Book Antiqua"/>
              </a:rPr>
              <a:t>To provide psychological (aesthetic) comfort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901"/>
              </a:spcBef>
              <a:buClr>
                <a:srgbClr val="00ff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1B2-FFA5-4A2F-B4EA-95308C4EF24F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The aim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arantee the safety of the equipment used (cleaning/disinfection/sterilisation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level of microbial contamination of the site requiring manipulation (antisepsi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sure that no microorganisms are introduced (asepsi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9EC7-D691-499B-A981-20D76BD066C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7086600" y="4876920"/>
            <a:ext cx="1442880" cy="175248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Cleaning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s the removal of dirt, debris and organic material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Disinfectio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Removes or destroys harmful microorganisms but not bacterial spores or  slow virus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Sterilizatio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s the complete destruction or removal of all living microorganisms including  bacterial spores.</a:t>
            </a: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ntisepsi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s the reduction of the number of microorganisms already present on the body site prior to a procedur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sepsis: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Procedure designed to prevent any introduction of microorganisms to the site achieved by </a:t>
            </a:r>
            <a:r>
              <a:rPr b="0" lang="en-US" sz="2600" spc="-1" strike="noStrike">
                <a:solidFill>
                  <a:srgbClr val="00ff00"/>
                </a:solidFill>
                <a:latin typeface="Book Antiqua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ff00"/>
                </a:solidFill>
                <a:latin typeface="Book Antiqua"/>
              </a:rPr>
              <a:t>non-touching technique and use of sterile glov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E689-94B2-4EEE-AD17-FFA7E468270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7547040" cy="1139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447920"/>
            <a:ext cx="86868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physiologic solution, such as                isotonic saline or lactated ringer solu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possible , warm the solution to body temperature before u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the wound is grossly contaminated by foreign material , bacteria, slough, or necrotic tissue clean the wound at every dressing chan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a wound is clean , has little exudate , and reveals healthy granulation tissue , avoid repeated clean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967A-6978-4803-883F-7023113E3A0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Picture45"/>
          <p:cNvPicPr/>
          <p:nvPr/>
        </p:nvPicPr>
        <p:blipFill>
          <a:blip r:embed="rId2"/>
          <a:stretch/>
        </p:blipFill>
        <p:spPr>
          <a:xfrm>
            <a:off x="7162920" y="-76320"/>
            <a:ext cx="213336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8412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uze squares .                                   Avoi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60240" indent="-660240"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 cleaning superficial noninfected wound by irrigating them with normal saline rather than using mechanical mea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60240" indent="-660240"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tain wound moisture , avoid drying a wound after cleaning 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F215-9D8D-4290-9072-4A79843F11CC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Picture45"/>
          <p:cNvPicPr/>
          <p:nvPr/>
        </p:nvPicPr>
        <p:blipFill>
          <a:blip r:embed="rId1"/>
          <a:stretch/>
        </p:blipFill>
        <p:spPr>
          <a:xfrm>
            <a:off x="6858000" y="0"/>
            <a:ext cx="2362320" cy="2590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29600" cy="815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ection preven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hea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earance of the skin/recent cha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ivity/mobi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utr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limin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B815-2B64-434A-9291-5CC4DFBE5280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156520" cy="1066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51920" y="1599840"/>
            <a:ext cx="8610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A loss of continuity of the skin or mucous membrane which may involve soft tissues, muscles, bone and other anatomical structu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87A8-3518-4B6E-BFB5-1289FD900088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2280" y="382284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- Any disruption to layers of the skin and underlying tissues due to multiple causes including trauma, surgery, or a specific disease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Book Antiqua"/>
              </a:rPr>
              <a:t>Classification of wound healing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(According to the amount of tissue los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rimary intention healing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econdary intention healing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rtiary intention heal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99E6-B5AD-4E62-BC05-038526C4947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86800" cy="1140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28240" y="1260360"/>
            <a:ext cx="8915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Book Antiqua"/>
              </a:rPr>
              <a:t>Healing is a quality of living tissue; it is also referred to as regeneration (renewal) of tissu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ff00"/>
              </a:buClr>
              <a:buSzPct val="12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inflammatory phase (3-6 day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ff00"/>
              </a:buClr>
              <a:buSzPct val="12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regenerative (Proliferative) phase (day 4-day21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ff00"/>
              </a:buClr>
              <a:buSzPct val="12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maturation (Remodeling) phase (day 21- 1 or 2 yr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Lucida Calligraphy"/>
              </a:rPr>
              <a:t>                                 </a:t>
            </a:r>
            <a:r>
              <a:rPr b="1" lang="en-US" sz="1700" spc="-1" strike="noStrike">
                <a:solidFill>
                  <a:srgbClr val="ffff00"/>
                </a:solidFill>
                <a:latin typeface="Lucida Calligraphy"/>
              </a:rPr>
              <a:t>(Manley, Bellman,  2000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A4E7-B995-41EB-9EE5-B0FD0459629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7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1284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16D2-3E13-4CA3-B1F6-C54359B44D5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33520" y="990720"/>
            <a:ext cx="4419360" cy="5814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ury /damage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99400" y="2133720"/>
            <a:ext cx="15843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C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00120" y="3787920"/>
            <a:ext cx="19911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ing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nd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71800" y="2133720"/>
            <a:ext cx="15339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28600" y="2971800"/>
            <a:ext cx="22860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d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380520" y="3200040"/>
            <a:ext cx="180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4800" y="4321080"/>
            <a:ext cx="20217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ophi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c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622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28600" y="5592600"/>
            <a:ext cx="2819520" cy="11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edema&amp;              Engo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-3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V="1">
            <a:off x="304920" y="5638320"/>
            <a:ext cx="144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1066320" y="5181480"/>
            <a:ext cx="1800" cy="3812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352680" y="2895480"/>
            <a:ext cx="10670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00400" y="5191200"/>
            <a:ext cx="329256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ated blood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irculation slow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038480" y="1676520"/>
            <a:ext cx="180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1066680" y="2590920"/>
            <a:ext cx="180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1066680" y="3886200"/>
            <a:ext cx="180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038480" y="3429000"/>
            <a:ext cx="180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038480" y="2590920"/>
            <a:ext cx="1800" cy="3045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1066680" y="1676520"/>
            <a:ext cx="180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4114800" y="4648320"/>
            <a:ext cx="1440" cy="533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4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68904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0509-D8AD-4233-810A-7AB3E361F88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33520" y="838080"/>
            <a:ext cx="4419360" cy="703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od vessels near the edge of the wound become por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29640" y="2184480"/>
            <a:ext cx="3902400" cy="824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esultant tissue filling is refer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as granulation tiss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process of wound contraction beg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191120" y="3495600"/>
            <a:ext cx="4114800" cy="119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ps other blood cell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maged blood vess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gin to regenerate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und marg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01480" y="1981080"/>
            <a:ext cx="31561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ing excess moisture to esc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09480" y="2917800"/>
            <a:ext cx="2286000" cy="703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rophage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75560" y="4572000"/>
            <a:ext cx="30808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on&amp; multipl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fibrobl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 flipV="1">
            <a:off x="5334120" y="47973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09480" y="5867280"/>
            <a:ext cx="2819520" cy="678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te along fibrin thr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1600200" y="5334120"/>
            <a:ext cx="0" cy="533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343400" y="5410080"/>
            <a:ext cx="3292560" cy="1372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ying down of a ground subst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Beginning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he synthesis of collagen fibers (granulation tissue 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5410080" y="3048120"/>
            <a:ext cx="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1523880" y="2590920"/>
            <a:ext cx="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1523880" y="3733920"/>
            <a:ext cx="0" cy="838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5410080" y="4800600"/>
            <a:ext cx="0" cy="533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1523880" y="1600200"/>
            <a:ext cx="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947880" y="38466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timu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143000" y="5334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4578480" y="496728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is fibrous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3505320" y="6095880"/>
            <a:ext cx="7617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1"/>
          <p:cNvSpPr/>
          <p:nvPr/>
        </p:nvSpPr>
        <p:spPr>
          <a:xfrm rot="5400000">
            <a:off x="3139200" y="60033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Resulting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5410080" y="838080"/>
            <a:ext cx="3276720" cy="9144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gins 2-3 days of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sting up to 2-3 week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gins about day 21 and can extend up to 6 months up to one or two years after the inju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broblasts continue to synthesize collage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ollagen fibers recognized into a more orderly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car become a thin ,less elastic, white line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80D-0368-451C-AB09-917E681BDB2F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17:35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