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4.png" ContentType="image/png"/>
  <Override PartName="/ppt/media/image1.jpeg" ContentType="image/jpeg"/>
  <Override PartName="/ppt/media/image22.jpeg" ContentType="image/jpe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3A260C-DEDB-417D-8B2C-2A6602B66D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6880" y="425520"/>
            <a:ext cx="87627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240" y="1066680"/>
            <a:ext cx="87375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228240" y="3972240"/>
            <a:ext cx="87375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381FF7-03A2-4B65-B53F-307E90FC0B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6880" y="425520"/>
            <a:ext cx="87627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28240" y="1066680"/>
            <a:ext cx="4263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05560" y="1066680"/>
            <a:ext cx="4263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28240" y="3972240"/>
            <a:ext cx="4263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05560" y="3972240"/>
            <a:ext cx="4263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42D053-3A24-41C7-9E48-B5F0836540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6880" y="425520"/>
            <a:ext cx="87627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28240" y="1066680"/>
            <a:ext cx="28134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82760" y="1066680"/>
            <a:ext cx="28134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37280" y="1066680"/>
            <a:ext cx="28134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228240" y="3972240"/>
            <a:ext cx="28134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82760" y="3972240"/>
            <a:ext cx="28134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37280" y="3972240"/>
            <a:ext cx="28134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604875-EFAE-4843-A327-CE42276195A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6880" y="425520"/>
            <a:ext cx="87627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228240" y="1066680"/>
            <a:ext cx="873756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B6EF93-A5F1-4533-BBE4-3923A9E4C69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6880" y="425520"/>
            <a:ext cx="87627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240" y="1066680"/>
            <a:ext cx="87375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A99827-2E0F-45B0-AA24-18454219DA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6880" y="425520"/>
            <a:ext cx="87627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28240" y="1066680"/>
            <a:ext cx="426384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05560" y="1066680"/>
            <a:ext cx="426384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7259C9-BF05-4565-9051-E210415667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6880" y="425520"/>
            <a:ext cx="87627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4EAEEC-90FA-4194-8788-28AF66E407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6880" y="457200"/>
            <a:ext cx="87627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22264C-B833-40F2-A7CE-9780B88368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6880" y="425520"/>
            <a:ext cx="87627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28240" y="1066680"/>
            <a:ext cx="4263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05560" y="1066680"/>
            <a:ext cx="426384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228240" y="3972240"/>
            <a:ext cx="4263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A899CD-C76A-4883-AF8E-B48E1D26F8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6880" y="425520"/>
            <a:ext cx="87627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240" y="1066680"/>
            <a:ext cx="426384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05560" y="1066680"/>
            <a:ext cx="4263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5560" y="3972240"/>
            <a:ext cx="4263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60668D-3596-4CE4-8E7E-36030CF3C8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6880" y="425520"/>
            <a:ext cx="87627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240" y="1066680"/>
            <a:ext cx="4263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5560" y="1066680"/>
            <a:ext cx="4263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28240" y="3972240"/>
            <a:ext cx="87375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813A23-6749-40A5-AC29-0FF9B00734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457200"/>
            <a:ext cx="9144000" cy="54756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-4680" y="0"/>
            <a:ext cx="9144000" cy="457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6880" y="45720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228240" y="1066680"/>
            <a:ext cx="87375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7009920" y="65336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9CEB2-7611-4312-B9BF-49AA0D230E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8280" y="6629400"/>
            <a:ext cx="2509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Symbol"/>
                <a:ea typeface="Symbol"/>
              </a:rPr>
              <a:t>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005 Pearson Education South Asia Pte Lt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84240" y="0"/>
            <a:ext cx="145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 St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019920" y="1065240"/>
            <a:ext cx="3125520" cy="3125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 OBJECTIV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28240" y="1066320"/>
            <a:ext cx="57913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iew important principles of sta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the principles to determine internal resultant loadings in a bo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roduce concepts of normal and shear st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8600" y="4387680"/>
            <a:ext cx="8686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uss applications of analysis and design of members subjected to an axial load or direct sh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357F5E-11FC-4ED8-B36D-035AB7D189F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304560" y="1066680"/>
            <a:ext cx="84582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Internal resultant load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coplanar loading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y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∑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x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= 0 to solve f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y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∑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y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= 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solve fo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y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∑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O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= 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solve fo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title"/>
          </p:nvPr>
        </p:nvSpPr>
        <p:spPr>
          <a:xfrm>
            <a:off x="56880" y="48564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.2 EQUILIBRIUM OF A DEFORMABLE BOD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4572000" y="3657600"/>
            <a:ext cx="4343400" cy="2552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1B9B1B-FAF2-48B7-9764-EB0D1B1D209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329760" y="1066680"/>
            <a:ext cx="84330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Procedure for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Method of s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oose segment to analy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e Support Re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w free-body diagram for whole bo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y equations of equilibr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title"/>
          </p:nvPr>
        </p:nvSpPr>
        <p:spPr>
          <a:xfrm>
            <a:off x="56880" y="528480"/>
            <a:ext cx="8762760" cy="3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.2 EQUILIBRIUM OF A DEFORMABLE BOD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46AB05-1849-4ADB-BE16-A6DCB81F313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304920" y="1066320"/>
            <a:ext cx="84326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Procedure for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Free-body dia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ep all external loadings in exact locations before “sectioning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icate unknown resultants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t the section, normally at centroi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sectioned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planar system of forces only includ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tablis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ordinate axes with origin at centro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56880" y="515880"/>
            <a:ext cx="8762760" cy="3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.2 EQUILIBRIUM OF A DEFORMABLE BOD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7BAEAD-6AC9-4DD0-BCAE-D484051852C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309600" y="1066320"/>
            <a:ext cx="8453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Procedure for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Equations of equilibr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m moments at section, about each coordinate axes where resultants 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ill eliminate unknown force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with direct solution fo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and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ant force with negative value implies that assumed direction is opposite to that shown on free-body dia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56880" y="533520"/>
            <a:ext cx="8762760" cy="3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.2 EQUILIBRIUM OF A DEFORMABLE BOD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C15EDE-0D45-4FD4-8885-F5B763B57FF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6880" y="48276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AMPLE 1.1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e resultant loadings acting on cross section a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bea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600200" y="2757600"/>
            <a:ext cx="5867280" cy="295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23E2C7-9D80-4083-AEFB-F76938D39F5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6880" y="46980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AMPLE 1.1 (SOLN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28240" y="1066320"/>
            <a:ext cx="487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upport re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ider segmen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2786040" y="4211640"/>
            <a:ext cx="3538440" cy="25700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228600" y="2133720"/>
            <a:ext cx="8534520" cy="19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Free-body diagra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ep distributed loading exactly where it is on segmen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ft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“cutting” the sect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lace it with a single resultant force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6B3CF7-0181-467B-A863-D43554DDA4D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6880" y="50004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AMPLE 1.1 (SOLN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990720" y="1752480"/>
            <a:ext cx="7086600" cy="3429000"/>
            <a:chOff x="990720" y="1752480"/>
            <a:chExt cx="7086600" cy="3429000"/>
          </a:xfrm>
        </p:grpSpPr>
        <p:sp>
          <p:nvSpPr>
            <p:cNvPr id="92" name=""/>
            <p:cNvSpPr/>
            <p:nvPr/>
          </p:nvSpPr>
          <p:spPr>
            <a:xfrm>
              <a:off x="990720" y="1752480"/>
              <a:ext cx="7086600" cy="3429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066680" y="1947600"/>
              <a:ext cx="6916680" cy="308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Intensity (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w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) of loading at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C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(by proportion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w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/6 m = (270 N/m)/9 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w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= 180 N/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½ (180 N/m)(6 m) = 540 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cts 1/3(6 m) = 2 m from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152280" y="1066680"/>
            <a:ext cx="449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Free-body diagra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E67518-7B1A-49D4-B607-B22AB490AFD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6880" y="46980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AMPLE 1.1 (SOLN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80520" y="1066680"/>
            <a:ext cx="4496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Equilibrium equ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1295280" y="1676520"/>
            <a:ext cx="6553440" cy="3429000"/>
            <a:chOff x="1295280" y="1676520"/>
            <a:chExt cx="6553440" cy="3429000"/>
          </a:xfrm>
        </p:grpSpPr>
        <p:sp>
          <p:nvSpPr>
            <p:cNvPr id="98" name=""/>
            <p:cNvSpPr/>
            <p:nvPr/>
          </p:nvSpPr>
          <p:spPr>
            <a:xfrm>
              <a:off x="1295280" y="1676520"/>
              <a:ext cx="6553440" cy="3429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371600" y="1752840"/>
              <a:ext cx="480060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178720" y="1741680"/>
              <a:ext cx="1494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∑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F</a:t>
              </a:r>
              <a:r>
                <a:rPr b="0" i="1" lang="en-US" sz="2800" spc="-1" strike="noStrike" baseline="-25000">
                  <a:solidFill>
                    <a:srgbClr val="000000"/>
                  </a:solidFill>
                  <a:latin typeface="Times New Roman"/>
                  <a:ea typeface="Arial"/>
                </a:rPr>
                <a:t>x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= 0;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64320" y="2800440"/>
              <a:ext cx="1494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∑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F</a:t>
              </a:r>
              <a:r>
                <a:rPr b="0" i="1" lang="en-US" sz="2800" spc="-1" strike="noStrike" baseline="-25000">
                  <a:solidFill>
                    <a:srgbClr val="000000"/>
                  </a:solidFill>
                  <a:latin typeface="Times New Roman"/>
                  <a:ea typeface="Arial"/>
                </a:rPr>
                <a:t>y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= 0;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139480" y="3976920"/>
              <a:ext cx="15627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∑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M</a:t>
              </a:r>
              <a:r>
                <a:rPr b="0" i="1" lang="en-US" sz="2800" spc="-1" strike="noStrike" baseline="-25000">
                  <a:solidFill>
                    <a:srgbClr val="000000"/>
                  </a:solidFill>
                  <a:latin typeface="Times New Roman"/>
                  <a:ea typeface="Arial"/>
                </a:rPr>
                <a:t>c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= 0;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737600" y="1825920"/>
              <a:ext cx="1450080" cy="106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−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N</a:t>
              </a:r>
              <a:r>
                <a:rPr b="0" i="1" lang="en-US" sz="2800" spc="-1" strike="noStrike" baseline="-25000">
                  <a:solidFill>
                    <a:srgbClr val="000000"/>
                  </a:solidFill>
                  <a:latin typeface="Times New Roman"/>
                  <a:ea typeface="Arial"/>
                </a:rPr>
                <a:t>c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= 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= 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381200" y="2820960"/>
              <a:ext cx="2298960" cy="106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V</a:t>
              </a:r>
              <a:r>
                <a:rPr b="0" i="1" lang="en-US" sz="2800" spc="-1" strike="noStrike" baseline="-25000">
                  <a:solidFill>
                    <a:srgbClr val="000000"/>
                  </a:solidFill>
                  <a:latin typeface="Times New Roman"/>
                  <a:ea typeface="Arial"/>
                </a:rPr>
                <a:t>c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− 540 N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= 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= 540 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983760" y="3978360"/>
              <a:ext cx="3446640" cy="106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−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i="1" lang="en-US" sz="2800" spc="-1" strike="noStrike" baseline="-25000">
                  <a:solidFill>
                    <a:srgbClr val="000000"/>
                  </a:solidFill>
                  <a:latin typeface="Times New Roman"/>
                  <a:ea typeface="Arial"/>
                </a:rPr>
                <a:t>c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− 504 N (2 m)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= 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= −1080 N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·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1523880" y="1781280"/>
              <a:ext cx="457200" cy="520560"/>
              <a:chOff x="1523880" y="1781280"/>
              <a:chExt cx="457200" cy="520560"/>
            </a:xfrm>
          </p:grpSpPr>
          <p:sp>
            <p:nvSpPr>
              <p:cNvPr id="107" name=""/>
              <p:cNvSpPr/>
              <p:nvPr/>
            </p:nvSpPr>
            <p:spPr>
              <a:xfrm>
                <a:off x="1525680" y="1781280"/>
                <a:ext cx="388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1523880" y="22100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1538640" y="2909880"/>
              <a:ext cx="388080" cy="520560"/>
              <a:chOff x="1538640" y="2909880"/>
              <a:chExt cx="388080" cy="520560"/>
            </a:xfrm>
          </p:grpSpPr>
          <p:sp>
            <p:nvSpPr>
              <p:cNvPr id="110" name=""/>
              <p:cNvSpPr/>
              <p:nvPr/>
            </p:nvSpPr>
            <p:spPr>
              <a:xfrm>
                <a:off x="1538640" y="2909880"/>
                <a:ext cx="388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V="1">
                <a:off x="1841400" y="295740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2" name=""/>
            <p:cNvGrpSpPr/>
            <p:nvPr/>
          </p:nvGrpSpPr>
          <p:grpSpPr>
            <a:xfrm>
              <a:off x="1600200" y="4052880"/>
              <a:ext cx="389880" cy="580680"/>
              <a:chOff x="1600200" y="4052880"/>
              <a:chExt cx="389880" cy="580680"/>
            </a:xfrm>
          </p:grpSpPr>
          <p:sp>
            <p:nvSpPr>
              <p:cNvPr id="113" name=""/>
              <p:cNvSpPr/>
              <p:nvPr/>
            </p:nvSpPr>
            <p:spPr>
              <a:xfrm>
                <a:off x="1602000" y="4052880"/>
                <a:ext cx="388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1600200" y="4176720"/>
                <a:ext cx="303840" cy="456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993A5F-8257-4BDA-B233-0928655C63F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6880" y="46980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AMPLE 1.1 (SOLN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4495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Equilibrium equ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1676520"/>
            <a:ext cx="830556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gative sign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eans it acts in the opposite direction to that shown be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2400480" y="2819520"/>
            <a:ext cx="4381200" cy="3313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425FB4-B19E-4292-9B01-415036A7380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6880" y="51444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AMPLE 1.5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28600" y="2057400"/>
            <a:ext cx="419112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ss of pipe = 2 kg/m,  subjected to vertical force of 50 N and couple moment of 70 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 at e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It is fixed to the wall 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4572000" y="1785960"/>
            <a:ext cx="4267080" cy="36241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228600" y="1066680"/>
            <a:ext cx="8610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e resultant internal loadings acting on cross section a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pip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CB9874-A4FF-46F3-B68F-742EF41E77F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320" y="3805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 OUTLIN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560" y="1066680"/>
            <a:ext cx="838188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librium of a deformable bo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erage normal stress in an axially loaded b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erage shear st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able st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ign of simple conn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C7E780-7495-47B9-A9F3-506ABF77763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6880" y="50004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AMPLE 1.5 (SOLN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77480" y="1066320"/>
            <a:ext cx="454644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upport reacti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ider segmen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which does not involve support reactions 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Free-body diagr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to find weight of each segment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4724280" y="1295280"/>
            <a:ext cx="4186440" cy="4267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460710-1063-428F-8DBA-BB710EECE2D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5257800" y="2895480"/>
            <a:ext cx="3664080" cy="37339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6880" y="48564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AMPLE 1.5 (SOLN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66760" y="1187280"/>
            <a:ext cx="5829120" cy="23450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W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B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= (2 kg/m)(0.5 m)(9.81 N/kg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= 9.81 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W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A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= (2 kg/m)(1.25 m)(9.81 N/kg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= 24.525 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60351D-84A0-4338-B693-AC116669C9A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5960" y="380520"/>
            <a:ext cx="8762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AMPLE 1.5 (SOLN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32920" y="1066680"/>
            <a:ext cx="456732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Equilibrium equ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317520" y="1905120"/>
            <a:ext cx="8381880" cy="2895480"/>
            <a:chOff x="317520" y="1905120"/>
            <a:chExt cx="8381880" cy="2895480"/>
          </a:xfrm>
        </p:grpSpPr>
        <p:sp>
          <p:nvSpPr>
            <p:cNvPr id="132" name=""/>
            <p:cNvSpPr/>
            <p:nvPr/>
          </p:nvSpPr>
          <p:spPr>
            <a:xfrm>
              <a:off x="317520" y="1905120"/>
              <a:ext cx="8381880" cy="2895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4840" y="2014560"/>
              <a:ext cx="14839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∑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F</a:t>
              </a:r>
              <a:r>
                <a:rPr b="0" i="1" lang="en-US" sz="2800" spc="-1" strike="noStrike" baseline="-25000">
                  <a:solidFill>
                    <a:srgbClr val="000000"/>
                  </a:solidFill>
                  <a:latin typeface="Times New Roman"/>
                  <a:ea typeface="Arial"/>
                </a:rPr>
                <a:t>x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= 0;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66000" y="2757600"/>
              <a:ext cx="14839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∑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F</a:t>
              </a:r>
              <a:r>
                <a:rPr b="0" i="1" lang="en-US" sz="2800" spc="-1" strike="noStrike" baseline="-25000">
                  <a:solidFill>
                    <a:srgbClr val="000000"/>
                  </a:solidFill>
                  <a:latin typeface="Times New Roman"/>
                  <a:ea typeface="Arial"/>
                </a:rPr>
                <a:t>y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= 0;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831840" y="2009880"/>
              <a:ext cx="1494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(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F</a:t>
              </a:r>
              <a:r>
                <a:rPr b="0" i="1" lang="en-US" sz="2800" spc="-1" strike="noStrike" baseline="-25000">
                  <a:solidFill>
                    <a:srgbClr val="000000"/>
                  </a:solidFill>
                  <a:latin typeface="Times New Roman"/>
                  <a:ea typeface="Arial"/>
                </a:rPr>
                <a:t>B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)</a:t>
              </a:r>
              <a:r>
                <a:rPr b="0" i="1" lang="en-US" sz="2800" spc="-1" strike="noStrike" baseline="-25000">
                  <a:solidFill>
                    <a:srgbClr val="000000"/>
                  </a:solidFill>
                  <a:latin typeface="Times New Roman"/>
                  <a:ea typeface="Arial"/>
                </a:rPr>
                <a:t>x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= 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17800" y="2782800"/>
              <a:ext cx="1494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(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F</a:t>
              </a:r>
              <a:r>
                <a:rPr b="0" i="1" lang="en-US" sz="2800" spc="-1" strike="noStrike" baseline="-25000">
                  <a:solidFill>
                    <a:srgbClr val="000000"/>
                  </a:solidFill>
                  <a:latin typeface="Times New Roman"/>
                  <a:ea typeface="Arial"/>
                </a:rPr>
                <a:t>B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)</a:t>
              </a:r>
              <a:r>
                <a:rPr b="0" i="1" lang="en-US" sz="2800" spc="-1" strike="noStrike" baseline="-25000">
                  <a:solidFill>
                    <a:srgbClr val="000000"/>
                  </a:solidFill>
                  <a:latin typeface="Times New Roman"/>
                  <a:ea typeface="Arial"/>
                </a:rPr>
                <a:t>y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= 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82560" y="3532320"/>
              <a:ext cx="14731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∑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F</a:t>
              </a:r>
              <a:r>
                <a:rPr b="0" i="1" lang="en-US" sz="2800" spc="-1" strike="noStrike" baseline="-25000">
                  <a:solidFill>
                    <a:srgbClr val="000000"/>
                  </a:solidFill>
                  <a:latin typeface="Times New Roman"/>
                  <a:ea typeface="Arial"/>
                </a:rPr>
                <a:t>z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= 0;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407680" y="3549600"/>
              <a:ext cx="5605920" cy="106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(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F</a:t>
              </a:r>
              <a:r>
                <a:rPr b="0" i="1" lang="en-US" sz="2800" spc="-1" strike="noStrike" baseline="-25000">
                  <a:solidFill>
                    <a:srgbClr val="000000"/>
                  </a:solidFill>
                  <a:latin typeface="Times New Roman"/>
                  <a:ea typeface="Arial"/>
                </a:rPr>
                <a:t>B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)</a:t>
              </a:r>
              <a:r>
                <a:rPr b="0" i="1" lang="en-US" sz="2800" spc="-1" strike="noStrike" baseline="-25000">
                  <a:solidFill>
                    <a:srgbClr val="000000"/>
                  </a:solidFill>
                  <a:latin typeface="Times New Roman"/>
                  <a:ea typeface="Arial"/>
                </a:rPr>
                <a:t>z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− 9.81 N − 24.525 N −  50 N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= 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= 84.3 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03C3CC-1EEB-4697-ADD9-89AA0AFCFF8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6880" y="48564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AMPLE 1.5 (SOLN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6960" y="1066680"/>
            <a:ext cx="8737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Equilibrium equ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1676520"/>
            <a:ext cx="9144000" cy="46479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37960" y="1828800"/>
            <a:ext cx="1925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∑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)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= 0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09480" y="2438280"/>
            <a:ext cx="8153640" cy="14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800600" indent="-4800600">
              <a:lnSpc>
                <a:spcPct val="100000"/>
              </a:lnSpc>
              <a:tabLst>
                <a:tab algn="l" pos="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)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70 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 − 50 N (0.5 m) − 24.525 N (0.5 m)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− 9.81 N (0.25m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=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800600" indent="-4800600">
              <a:lnSpc>
                <a:spcPct val="100000"/>
              </a:lnSpc>
              <a:tabLst>
                <a:tab algn="l" pos="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− 30.3 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26880" y="3976560"/>
            <a:ext cx="1925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∑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)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= 0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01640" y="4464000"/>
            <a:ext cx="706572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)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24.525 N (0.62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) + 50 N (1.25 m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=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− 77.8 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25800" y="5805360"/>
            <a:ext cx="1826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∑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)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= 0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814200" y="5791320"/>
            <a:ext cx="1440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)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=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EE6B84-CA3C-4D92-8426-70E55078D16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6880" y="48564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AMPLE 1.5 (SOLN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228600" y="1676520"/>
            <a:ext cx="5562720" cy="2819160"/>
            <a:chOff x="228600" y="1676520"/>
            <a:chExt cx="5562720" cy="2819160"/>
          </a:xfrm>
        </p:grpSpPr>
        <p:sp>
          <p:nvSpPr>
            <p:cNvPr id="150" name=""/>
            <p:cNvSpPr/>
            <p:nvPr/>
          </p:nvSpPr>
          <p:spPr>
            <a:xfrm>
              <a:off x="228600" y="1676520"/>
              <a:ext cx="5562720" cy="28191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533520" indent="-533520" algn="ctr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796760" y="1766520"/>
              <a:ext cx="23598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N</a:t>
              </a:r>
              <a:r>
                <a:rPr b="0" i="1" lang="en-US" sz="2800" spc="-1" strike="noStrike" baseline="-25000">
                  <a:solidFill>
                    <a:srgbClr val="000000"/>
                  </a:solidFill>
                  <a:latin typeface="Times New Roman"/>
                  <a:ea typeface="Arial"/>
                </a:rPr>
                <a:t>B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(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F</a:t>
              </a:r>
              <a:r>
                <a:rPr b="0" i="1" lang="en-US" sz="2800" spc="-1" strike="noStrike" baseline="-25000">
                  <a:solidFill>
                    <a:srgbClr val="000000"/>
                  </a:solidFill>
                  <a:latin typeface="Times New Roman"/>
                  <a:ea typeface="Arial"/>
                </a:rPr>
                <a:t>B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)</a:t>
              </a:r>
              <a:r>
                <a:rPr b="0" i="1" lang="en-US" sz="2800" spc="-1" strike="noStrike" baseline="-25000">
                  <a:solidFill>
                    <a:srgbClr val="000000"/>
                  </a:solidFill>
                  <a:latin typeface="Times New Roman"/>
                  <a:ea typeface="Arial"/>
                </a:rPr>
                <a:t>y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= 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914040" y="2376360"/>
              <a:ext cx="43869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V</a:t>
              </a:r>
              <a:r>
                <a:rPr b="0" i="1" lang="en-US" sz="2800" spc="-1" strike="noStrike" baseline="-25000">
                  <a:solidFill>
                    <a:srgbClr val="000000"/>
                  </a:solidFill>
                  <a:latin typeface="Times New Roman"/>
                  <a:ea typeface="Arial"/>
                </a:rPr>
                <a:t>B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= √ (0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  <a:ea typeface="Arial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+ (84.3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  <a:ea typeface="Arial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= 84.3 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240200" y="3062160"/>
              <a:ext cx="33883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T</a:t>
              </a:r>
              <a:r>
                <a:rPr b="0" i="1" lang="en-US" sz="2800" spc="-1" strike="noStrike" baseline="-25000">
                  <a:solidFill>
                    <a:srgbClr val="000000"/>
                  </a:solidFill>
                  <a:latin typeface="Times New Roman"/>
                  <a:ea typeface="Arial"/>
                </a:rPr>
                <a:t>B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= (M</a:t>
              </a:r>
              <a:r>
                <a:rPr b="0" i="1" lang="en-US" sz="2800" spc="-1" strike="noStrike" baseline="-25000">
                  <a:solidFill>
                    <a:srgbClr val="000000"/>
                  </a:solidFill>
                  <a:latin typeface="Times New Roman"/>
                  <a:ea typeface="Arial"/>
                </a:rPr>
                <a:t>B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)</a:t>
              </a:r>
              <a:r>
                <a:rPr b="0" i="1" lang="en-US" sz="2800" spc="-1" strike="noStrike" baseline="-25000">
                  <a:solidFill>
                    <a:srgbClr val="000000"/>
                  </a:solidFill>
                  <a:latin typeface="Times New Roman"/>
                  <a:ea typeface="Arial"/>
                </a:rPr>
                <a:t>y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= 77.8 N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·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31360" y="3747960"/>
              <a:ext cx="48607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M</a:t>
              </a:r>
              <a:r>
                <a:rPr b="0" i="1" lang="en-US" sz="2800" spc="-1" strike="noStrike" baseline="-25000">
                  <a:solidFill>
                    <a:srgbClr val="000000"/>
                  </a:solidFill>
                  <a:latin typeface="Times New Roman"/>
                  <a:ea typeface="Arial"/>
                </a:rPr>
                <a:t>B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= √ (30.3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  <a:ea typeface="Arial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+ (0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  <a:ea typeface="Arial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= 30.3 N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·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" name=""/>
          <p:cNvSpPr/>
          <p:nvPr/>
        </p:nvSpPr>
        <p:spPr>
          <a:xfrm>
            <a:off x="228600" y="4648320"/>
            <a:ext cx="6705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direction of each moment is determined using the right-hand rule: positive moments (thumb) directed along positive coordinate ax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6934320" y="4572000"/>
            <a:ext cx="685800" cy="133524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56960" y="1066680"/>
            <a:ext cx="8737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Equilibrium equ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5913360" y="1143000"/>
            <a:ext cx="3154320" cy="32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C6AF41-B1FA-4952-A15C-F3AF0C414CF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6880" y="48564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.3 STRES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33280" y="1066680"/>
            <a:ext cx="8453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cept of st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obtain distribution of force acting over a sectioned are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umptions of materia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continuous (uniform distribution of matt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cohesive (all portions are connected togeth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96BAD8-0D5E-40EC-8646-A6C0C4CA5EF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6880" y="48564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.3 STRES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33280" y="1066680"/>
            <a:ext cx="845352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cept of st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ider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 figure be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finite force,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cts on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But stress (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Δ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→ finite limit (∞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2209680" y="3562200"/>
            <a:ext cx="6858000" cy="2990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F185C9-4625-4ECA-B42E-85B14DF1DEF8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228240" y="1066320"/>
            <a:ext cx="85345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Normal st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tens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force, or force per unit area, actin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rm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bol used for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rmal stress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</a:t>
            </a:r>
            <a:r>
              <a:rPr b="0" i="1" lang="el-G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(sigm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28600" y="4572000"/>
            <a:ext cx="86104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9960" indent="-3999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sile stress: normal force “pulls” or “stretches” the area element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ressive stress: normal force “pushes” or “compresses” area element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56880" y="48564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.3 STRES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200400" y="3200400"/>
            <a:ext cx="2666880" cy="1218960"/>
            <a:chOff x="3200400" y="3200400"/>
            <a:chExt cx="2666880" cy="1218960"/>
          </a:xfrm>
        </p:grpSpPr>
        <p:sp>
          <p:nvSpPr>
            <p:cNvPr id="168" name=""/>
            <p:cNvSpPr/>
            <p:nvPr/>
          </p:nvSpPr>
          <p:spPr>
            <a:xfrm>
              <a:off x="3200400" y="3200400"/>
              <a:ext cx="2666880" cy="1218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403440" y="3519360"/>
              <a:ext cx="8384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l-GR" sz="2800" spc="-1" strike="noStrike">
                  <a:solidFill>
                    <a:srgbClr val="000000"/>
                  </a:solidFill>
                  <a:latin typeface="Times New Roman"/>
                </a:rPr>
                <a:t>σ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034880" y="3360600"/>
              <a:ext cx="799200" cy="94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li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800" spc="-1" strike="noStrike" baseline="-25000">
                  <a:solidFill>
                    <a:srgbClr val="000000"/>
                  </a:solidFill>
                  <a:latin typeface="Times New Roman"/>
                </a:rPr>
                <a:t>Δ</a:t>
              </a:r>
              <a:r>
                <a:rPr b="0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A →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761000" y="3265200"/>
              <a:ext cx="877680" cy="109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33520" indent="-533520"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800" spc="-1" strike="noStrike">
                  <a:solidFill>
                    <a:srgbClr val="000000"/>
                  </a:solidFill>
                  <a:latin typeface="Times New Roman"/>
                </a:rPr>
                <a:t>Δ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800" spc="-1" strike="noStrike">
                  <a:solidFill>
                    <a:srgbClr val="000000"/>
                  </a:solidFill>
                  <a:latin typeface="Times New Roman"/>
                </a:rPr>
                <a:t>Δ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876920" y="378756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028A2E-8F02-454A-997D-ADAE7323A4C9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254160" y="1066320"/>
            <a:ext cx="84326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Shear st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tens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force, or force per unit area, actin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ang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Δ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bol used for normal stress is </a:t>
            </a:r>
            <a:r>
              <a:rPr b="0" i="1" lang="el-G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τ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(ta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title"/>
          </p:nvPr>
        </p:nvSpPr>
        <p:spPr>
          <a:xfrm>
            <a:off x="56880" y="51912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.3 STRES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3048120" y="3429000"/>
            <a:ext cx="2971800" cy="2514600"/>
            <a:chOff x="3048120" y="3429000"/>
            <a:chExt cx="2971800" cy="2514600"/>
          </a:xfrm>
        </p:grpSpPr>
        <p:sp>
          <p:nvSpPr>
            <p:cNvPr id="176" name=""/>
            <p:cNvSpPr/>
            <p:nvPr/>
          </p:nvSpPr>
          <p:spPr>
            <a:xfrm>
              <a:off x="3048120" y="3429000"/>
              <a:ext cx="2971800" cy="25146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276720" y="3747960"/>
              <a:ext cx="99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l-GR" sz="2800" spc="-1" strike="noStrike">
                  <a:solidFill>
                    <a:srgbClr val="000000"/>
                  </a:solidFill>
                  <a:latin typeface="Times New Roman"/>
                </a:rPr>
                <a:t>τ</a:t>
              </a:r>
              <a:r>
                <a:rPr b="0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zx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034880" y="3589200"/>
              <a:ext cx="799200" cy="94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li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800" spc="-1" strike="noStrike" baseline="-25000">
                  <a:solidFill>
                    <a:srgbClr val="000000"/>
                  </a:solidFill>
                  <a:latin typeface="Times New Roman"/>
                </a:rPr>
                <a:t>Δ</a:t>
              </a:r>
              <a:r>
                <a:rPr b="0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A →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761000" y="3493800"/>
              <a:ext cx="877680" cy="109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33520" indent="-533520"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800" spc="-1" strike="noStrike">
                  <a:solidFill>
                    <a:srgbClr val="000000"/>
                  </a:solidFill>
                  <a:latin typeface="Times New Roman"/>
                </a:rPr>
                <a:t>Δ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800" spc="-1" strike="noStrike">
                  <a:solidFill>
                    <a:srgbClr val="000000"/>
                  </a:solidFill>
                  <a:latin typeface="Times New Roman"/>
                </a:rPr>
                <a:t>Δ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876920" y="401616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276720" y="5013360"/>
              <a:ext cx="99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l-GR" sz="2800" spc="-1" strike="noStrike">
                  <a:solidFill>
                    <a:srgbClr val="000000"/>
                  </a:solidFill>
                  <a:latin typeface="Times New Roman"/>
                </a:rPr>
                <a:t>τ</a:t>
              </a:r>
              <a:r>
                <a:rPr b="0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zy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034880" y="4854600"/>
              <a:ext cx="799200" cy="94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li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800" spc="-1" strike="noStrike" baseline="-25000">
                  <a:solidFill>
                    <a:srgbClr val="000000"/>
                  </a:solidFill>
                  <a:latin typeface="Times New Roman"/>
                </a:rPr>
                <a:t>Δ</a:t>
              </a:r>
              <a:r>
                <a:rPr b="0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A →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761000" y="4759200"/>
              <a:ext cx="877680" cy="109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33520" indent="-533520"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800" spc="-1" strike="noStrike">
                  <a:solidFill>
                    <a:srgbClr val="000000"/>
                  </a:solidFill>
                  <a:latin typeface="Times New Roman"/>
                </a:rPr>
                <a:t>Δ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800" spc="-1" strike="noStrike">
                  <a:solidFill>
                    <a:srgbClr val="000000"/>
                  </a:solidFill>
                  <a:latin typeface="Times New Roman"/>
                </a:rPr>
                <a:t>Δ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876920" y="528156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74267D-B6A2-45BC-9047-16FA465630F1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309600" y="1066680"/>
            <a:ext cx="60148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General state of st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 shows the state of stress acting around a chosen point in a bo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Units (SI syste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tons per square meter (N/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or 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asc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1 Pa = 1 N/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Pa =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N/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kilo-pasc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Pa =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/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mega-pasc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Pa =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9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/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giga-pasc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title"/>
          </p:nvPr>
        </p:nvSpPr>
        <p:spPr>
          <a:xfrm>
            <a:off x="56880" y="48564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.3 STRES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400800" y="1219320"/>
            <a:ext cx="2484360" cy="2130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1BA013-019A-49AC-9874-5F1C18CD5098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309600" y="1066680"/>
            <a:ext cx="8377200" cy="47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chanics of mater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branch of mechan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studies the relationship 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rnal loads applied to a deformable body, 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intensity of internal forces acting within the bo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used to compute deformations of a bo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y body’s stability when external forces are applied to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0" y="485640"/>
            <a:ext cx="8763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.1 INTRODUC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47C436-2097-44A0-AAE6-B6CA483EF6D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6880" y="457200"/>
            <a:ext cx="9086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.4 AVERAGE NORMAL STRESS IN AXIALLY LOADED B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883944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amples of axially loaded b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ually long and slender structural me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uss members, hangers, bo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smatic means all the cross sections are the s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6673680" y="3200400"/>
            <a:ext cx="1708200" cy="342900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838080" y="3200400"/>
            <a:ext cx="1289160" cy="342900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3"/>
          <a:stretch/>
        </p:blipFill>
        <p:spPr>
          <a:xfrm>
            <a:off x="3743280" y="3352680"/>
            <a:ext cx="1895400" cy="327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43470D-A496-4A50-AAD1-656D94A7CEA0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309240" y="1066320"/>
            <a:ext cx="8529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Assump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form deformation: Bar remains straight before and after load is applied, and cross section remains flat or plane during de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order for uniform deformation, forc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e applied along centroidal axis of cross s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title"/>
          </p:nvPr>
        </p:nvSpPr>
        <p:spPr>
          <a:xfrm>
            <a:off x="56880" y="519120"/>
            <a:ext cx="9086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.4 AVERAGE NORMAL STRESS IN AXIALLY LOADED B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058B20-32EC-4907-9CC1-2BEE84BE94D0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232920" y="1066320"/>
            <a:ext cx="86821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Average normal stress dis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04920" y="4371840"/>
            <a:ext cx="5715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800" spc="-1" strike="noStrike">
                <a:solidFill>
                  <a:srgbClr val="000000"/>
                </a:solidFill>
                <a:latin typeface="Times New Roman"/>
              </a:rPr>
              <a:t>σ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"/>
              </a:rPr>
              <a:t>= average normal stress at any point on cross sectional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"/>
              </a:rPr>
              <a:t> = internal resultant normal fo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"/>
              </a:rPr>
              <a:t> = x-sectional area of the b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title"/>
          </p:nvPr>
        </p:nvSpPr>
        <p:spPr>
          <a:xfrm>
            <a:off x="56880" y="519120"/>
            <a:ext cx="9086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.4 AVERAGE NORMAL STRESS IN AXIALLY LOADED B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304920" y="1752480"/>
            <a:ext cx="5181480" cy="2514600"/>
            <a:chOff x="304920" y="1752480"/>
            <a:chExt cx="5181480" cy="2514600"/>
          </a:xfrm>
        </p:grpSpPr>
        <p:sp>
          <p:nvSpPr>
            <p:cNvPr id="199" name=""/>
            <p:cNvSpPr/>
            <p:nvPr/>
          </p:nvSpPr>
          <p:spPr>
            <a:xfrm>
              <a:off x="304920" y="1752480"/>
              <a:ext cx="5181480" cy="25146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74080" y="1830240"/>
              <a:ext cx="17092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F</a:t>
              </a:r>
              <a:r>
                <a:rPr b="0" i="1" lang="en-US" sz="2800" spc="-1" strike="noStrike" baseline="-25000">
                  <a:solidFill>
                    <a:srgbClr val="000000"/>
                  </a:solidFill>
                  <a:latin typeface="Times New Roman"/>
                  <a:ea typeface="Arial"/>
                </a:rPr>
                <a:t>Rz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∑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F</a:t>
              </a:r>
              <a:r>
                <a:rPr b="0" i="1" lang="en-US" sz="2800" spc="-1" strike="noStrike" baseline="-25000">
                  <a:solidFill>
                    <a:srgbClr val="000000"/>
                  </a:solidFill>
                  <a:latin typeface="Times New Roman"/>
                  <a:ea typeface="Arial"/>
                </a:rPr>
                <a:t>xz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954160" y="1830240"/>
              <a:ext cx="2324160" cy="143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43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∫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dF 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∫</a:t>
              </a:r>
              <a:r>
                <a:rPr b="0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l-GR" sz="2800" spc="-1" strike="noStrike">
                  <a:solidFill>
                    <a:srgbClr val="000000"/>
                  </a:solidFill>
                  <a:latin typeface="Times New Roman"/>
                </a:rPr>
                <a:t>σ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dA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43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43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i="1" lang="el-GR" sz="2800" spc="-1" strike="noStrike">
                  <a:solidFill>
                    <a:srgbClr val="000000"/>
                  </a:solidFill>
                  <a:latin typeface="Times New Roman"/>
                </a:rPr>
                <a:t>σ</a:t>
              </a:r>
              <a:r>
                <a:rPr b="0" lang="el-GR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2" name=""/>
            <p:cNvGrpSpPr/>
            <p:nvPr/>
          </p:nvGrpSpPr>
          <p:grpSpPr>
            <a:xfrm>
              <a:off x="306720" y="1828800"/>
              <a:ext cx="388080" cy="520560"/>
              <a:chOff x="306720" y="1828800"/>
              <a:chExt cx="388080" cy="520560"/>
            </a:xfrm>
          </p:grpSpPr>
          <p:sp>
            <p:nvSpPr>
              <p:cNvPr id="203" name=""/>
              <p:cNvSpPr/>
              <p:nvPr/>
            </p:nvSpPr>
            <p:spPr>
              <a:xfrm>
                <a:off x="306720" y="1828800"/>
                <a:ext cx="388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 flipV="1">
                <a:off x="609480" y="187632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5" name=""/>
            <p:cNvSpPr/>
            <p:nvPr/>
          </p:nvSpPr>
          <p:spPr>
            <a:xfrm>
              <a:off x="3931200" y="3246480"/>
              <a:ext cx="397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19800" y="3443040"/>
              <a:ext cx="1750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l-GR" sz="2800" spc="-1" strike="noStrike">
                  <a:solidFill>
                    <a:srgbClr val="000000"/>
                  </a:solidFill>
                  <a:latin typeface="Times New Roman"/>
                </a:rPr>
                <a:t>σ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 flipH="1">
              <a:off x="3954600" y="3695760"/>
              <a:ext cx="365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6269040" y="1219320"/>
            <a:ext cx="2509920" cy="4419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676C87-5EBE-4B8C-B4E5-9B460C9FA52A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4648320" y="3294000"/>
            <a:ext cx="4297320" cy="310680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309600" y="1066680"/>
            <a:ext cx="83772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Equilibr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ider vertical equilibrium of the el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1143000" y="2133720"/>
            <a:ext cx="5486400" cy="1066680"/>
            <a:chOff x="1143000" y="2133720"/>
            <a:chExt cx="5486400" cy="1066680"/>
          </a:xfrm>
        </p:grpSpPr>
        <p:sp>
          <p:nvSpPr>
            <p:cNvPr id="212" name=""/>
            <p:cNvSpPr/>
            <p:nvPr/>
          </p:nvSpPr>
          <p:spPr>
            <a:xfrm>
              <a:off x="1143000" y="2133720"/>
              <a:ext cx="5486400" cy="10666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381680" y="2162160"/>
              <a:ext cx="14623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∑ 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F</a:t>
              </a:r>
              <a:r>
                <a:rPr b="0" i="1" lang="en-US" sz="2800" spc="-1" strike="noStrike" baseline="-25000">
                  <a:solidFill>
                    <a:srgbClr val="000000"/>
                  </a:solidFill>
                  <a:latin typeface="Times New Roman"/>
                  <a:ea typeface="Arial"/>
                </a:rPr>
                <a:t>z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= 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249720" y="2162160"/>
              <a:ext cx="31237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l-GR" sz="2800" spc="-1" strike="noStrike">
                  <a:solidFill>
                    <a:srgbClr val="000000"/>
                  </a:solidFill>
                  <a:latin typeface="Times New Roman"/>
                </a:rPr>
                <a:t>σ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(</a:t>
              </a:r>
              <a:r>
                <a:rPr b="0" lang="el-GR" sz="2800" spc="-1" strike="noStrike">
                  <a:solidFill>
                    <a:srgbClr val="000000"/>
                  </a:solidFill>
                  <a:latin typeface="Times New Roman"/>
                </a:rPr>
                <a:t>Δ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− </a:t>
              </a:r>
              <a:r>
                <a:rPr b="0" i="1" lang="el-GR" sz="2800" spc="-1" strike="noStrike">
                  <a:solidFill>
                    <a:srgbClr val="000000"/>
                  </a:solidFill>
                  <a:latin typeface="Times New Roman"/>
                </a:rPr>
                <a:t>σ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"/>
                </a:rPr>
                <a:t>’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el-GR" sz="2800" spc="-1" strike="noStrike">
                  <a:solidFill>
                    <a:srgbClr val="000000"/>
                  </a:solidFill>
                  <a:latin typeface="Times New Roman"/>
                </a:rPr>
                <a:t>Δ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 = 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l-GR" sz="2800" spc="-1" strike="noStrike">
                  <a:solidFill>
                    <a:srgbClr val="000000"/>
                  </a:solidFill>
                  <a:latin typeface="Times New Roman"/>
                </a:rPr>
                <a:t>σ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i="1" lang="el-GR" sz="2800" spc="-1" strike="noStrike">
                  <a:solidFill>
                    <a:srgbClr val="000000"/>
                  </a:solidFill>
                  <a:latin typeface="Times New Roman"/>
                </a:rPr>
                <a:t>σ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" name=""/>
          <p:cNvSpPr/>
          <p:nvPr/>
        </p:nvSpPr>
        <p:spPr>
          <a:xfrm>
            <a:off x="609480" y="3595680"/>
            <a:ext cx="3581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"/>
              </a:rPr>
              <a:t>Above analysis applies to members subjected to tension or compress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title"/>
          </p:nvPr>
        </p:nvSpPr>
        <p:spPr>
          <a:xfrm>
            <a:off x="56880" y="504720"/>
            <a:ext cx="9086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.4 AVERAGE NORMAL STRESS IN AXIALLY LOADED B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685B21-0443-461D-8A20-167FFA242F89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233280" y="1066680"/>
            <a:ext cx="84535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Maximum average normal st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problems where internal forc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x-sectional A wer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onsta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long the longitudinal axis of the bar, normal stress </a:t>
            </a:r>
            <a:r>
              <a:rPr b="0" i="1" lang="el-GR" sz="24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/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lso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ons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e bar is subjected to several external loads along its axis, change in x-sectional area may occ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us, it is important to find 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aximu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verage normal st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termine that, we need to find 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loc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re rati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 maxim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title"/>
          </p:nvPr>
        </p:nvSpPr>
        <p:spPr>
          <a:xfrm>
            <a:off x="56880" y="519120"/>
            <a:ext cx="9086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.4 AVERAGE NORMAL STRESS IN AXIALLY LOADED B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F63169-2218-48AA-8C46-2CD8BDBE6C47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232920" y="1066680"/>
            <a:ext cx="8301240" cy="434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Maximum average normal st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w a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xial or normal force diagr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plot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vs. its posi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long bar’s lengt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gn convention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positive (+) if it causes tension in the me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negative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−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if it causes compre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y the maximum average normal stress from the pl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title"/>
          </p:nvPr>
        </p:nvSpPr>
        <p:spPr>
          <a:xfrm>
            <a:off x="56880" y="504720"/>
            <a:ext cx="9086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.4 AVERAGE NORMAL STRESS IN AXIALLY LOADED B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637666-A37B-467D-8839-7E91D4C9E8D1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1048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Procedure for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Average normal st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equation of </a:t>
            </a:r>
            <a:r>
              <a:rPr b="0" i="1" lang="el-G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r x-sectional area of a member when section subjected to internal resultant forc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title"/>
          </p:nvPr>
        </p:nvSpPr>
        <p:spPr>
          <a:xfrm>
            <a:off x="56880" y="519120"/>
            <a:ext cx="9086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.4 AVERAGE NORMAL STRESS IN AXIALLY LOADED B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996414-3F8F-4B0C-97CE-26AB0B1ABF26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228600" y="106668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Procedure for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Axially loaded me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Internal Loa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tion member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erpendicula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its longitudinal axis at pt where normal stress is to be determin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w free-body dia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equation of force equilibrium to obtain internal axial forc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t the s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title"/>
          </p:nvPr>
        </p:nvSpPr>
        <p:spPr>
          <a:xfrm>
            <a:off x="56880" y="519120"/>
            <a:ext cx="9086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.4 AVERAGE NORMAL STRESS IN AXIALLY LOADED B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217B3D-8CED-4212-BB2F-899856D2AE19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10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Procedure for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Axially loaded me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Average Normal Stres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e member’s x-sectional area at the s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e average normal stress </a:t>
            </a:r>
            <a:r>
              <a:rPr b="0" i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title"/>
          </p:nvPr>
        </p:nvSpPr>
        <p:spPr>
          <a:xfrm>
            <a:off x="56880" y="504720"/>
            <a:ext cx="9086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.4 AVERAGE NORMAL STRESS IN AXIALLY LOADED B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50FF5C-F1DD-4EC5-890A-E2CEE2C6A70A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6880" y="49680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AMPLE 1.6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r width = 35 mm, thickness = 10 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04920" y="1600200"/>
            <a:ext cx="8381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e max. average normal stress in bar when subjected to loading show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609480" y="3429000"/>
            <a:ext cx="7925040" cy="1324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16E08F-609C-448D-AEB0-FE29B5313CBE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309600" y="1066320"/>
            <a:ext cx="83772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Historical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ginning of 17th century (Galile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rly 18th century (Saint-Venant, Poisson, L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é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Navi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recent times, with advanced mathematical and computer techniques, more complex problems can be sol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title"/>
          </p:nvPr>
        </p:nvSpPr>
        <p:spPr>
          <a:xfrm>
            <a:off x="21960" y="48276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.1 INTRODUC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6248520" y="3809880"/>
            <a:ext cx="2324160" cy="2832120"/>
            <a:chOff x="6248520" y="3809880"/>
            <a:chExt cx="2324160" cy="2832120"/>
          </a:xfrm>
        </p:grpSpPr>
        <p:sp>
          <p:nvSpPr>
            <p:cNvPr id="54" name=""/>
            <p:cNvSpPr/>
            <p:nvPr/>
          </p:nvSpPr>
          <p:spPr>
            <a:xfrm>
              <a:off x="6286680" y="3898800"/>
              <a:ext cx="2286000" cy="27432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6248520" y="3809880"/>
              <a:ext cx="2266920" cy="2766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8FB77D-5580-4774-8A98-182FB7F47F6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6880" y="49680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AMPLE 1.6 (SOLN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066680"/>
            <a:ext cx="289548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Internal loa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28600" y="3672000"/>
            <a:ext cx="43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Normal force dia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28600" y="4265640"/>
            <a:ext cx="358128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inspection, largest loading area i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B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30 k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1295280" y="1652760"/>
            <a:ext cx="6096240" cy="200484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3962520" y="4186080"/>
            <a:ext cx="5029200" cy="1528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A6388B-C6E4-455B-9E17-FACD834A166E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6880" y="47160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AMPLE 1.6 (SOLN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04560" y="1066680"/>
            <a:ext cx="83818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Average normal st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914400" y="1841400"/>
            <a:ext cx="7315200" cy="1358640"/>
            <a:chOff x="914400" y="1841400"/>
            <a:chExt cx="7315200" cy="1358640"/>
          </a:xfrm>
        </p:grpSpPr>
        <p:sp>
          <p:nvSpPr>
            <p:cNvPr id="240" name=""/>
            <p:cNvSpPr/>
            <p:nvPr/>
          </p:nvSpPr>
          <p:spPr>
            <a:xfrm>
              <a:off x="914400" y="1904760"/>
              <a:ext cx="7315200" cy="12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990720" y="2241360"/>
              <a:ext cx="11332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l-GR" sz="2800" spc="-1" strike="noStrike">
                  <a:solidFill>
                    <a:srgbClr val="000000"/>
                  </a:solidFill>
                  <a:latin typeface="Times New Roman"/>
                </a:rPr>
                <a:t>σ</a:t>
              </a:r>
              <a:r>
                <a:rPr b="0" i="1" lang="en-US" sz="2800" spc="-1" strike="noStrike" baseline="-25000">
                  <a:solidFill>
                    <a:srgbClr val="000000"/>
                  </a:solidFill>
                  <a:latin typeface="Times New Roman"/>
                  <a:ea typeface=""/>
                </a:rPr>
                <a:t>BC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"/>
                </a:rPr>
                <a:t> 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982520" y="1841400"/>
              <a:ext cx="659160" cy="127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B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003400" y="2501640"/>
              <a:ext cx="5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017520" y="1906200"/>
              <a:ext cx="2988000" cy="111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30(10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 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0.035 m)(0.010 m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933640" y="2500200"/>
              <a:ext cx="319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579760" y="2249280"/>
              <a:ext cx="380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123240" y="2236680"/>
              <a:ext cx="1910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85.7 MP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3276720" y="3657600"/>
            <a:ext cx="3611520" cy="2209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40D10E-2862-424C-A886-77A0FD840763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6880" y="48564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AMPLE 1.8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68680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fic weight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γ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80 kN/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28600" y="1600200"/>
            <a:ext cx="8381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e average compressive stress acting at point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3352680" y="2362320"/>
            <a:ext cx="2714760" cy="4190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E94006-A628-4061-BD0E-27337F0382A6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6880" y="45720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AMPLE 1.8 (SOLN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686800" cy="22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Internal loa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ed on free-body diagram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ight of segmen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etermined fr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4114800" y="2590920"/>
            <a:ext cx="2446200" cy="3809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394FCC-B15F-4398-96B5-48400DED63EC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6880" y="48564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AMPLE 1.8 (SOLN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686800" cy="6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Average normal st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915840" y="1752480"/>
            <a:ext cx="7313400" cy="2004840"/>
            <a:chOff x="915840" y="1752480"/>
            <a:chExt cx="7313400" cy="2004840"/>
          </a:xfrm>
        </p:grpSpPr>
        <p:sp>
          <p:nvSpPr>
            <p:cNvPr id="259" name=""/>
            <p:cNvSpPr/>
            <p:nvPr/>
          </p:nvSpPr>
          <p:spPr>
            <a:xfrm>
              <a:off x="915840" y="1776240"/>
              <a:ext cx="7313400" cy="1981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0" name=""/>
            <p:cNvGrpSpPr/>
            <p:nvPr/>
          </p:nvGrpSpPr>
          <p:grpSpPr>
            <a:xfrm>
              <a:off x="993600" y="1881000"/>
              <a:ext cx="388080" cy="520560"/>
              <a:chOff x="993600" y="1881000"/>
              <a:chExt cx="388080" cy="520560"/>
            </a:xfrm>
          </p:grpSpPr>
          <p:sp>
            <p:nvSpPr>
              <p:cNvPr id="261" name=""/>
              <p:cNvSpPr/>
              <p:nvPr/>
            </p:nvSpPr>
            <p:spPr>
              <a:xfrm>
                <a:off x="993600" y="1881000"/>
                <a:ext cx="388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flipV="1">
                <a:off x="1296360" y="192852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3" name=""/>
            <p:cNvSpPr/>
            <p:nvPr/>
          </p:nvSpPr>
          <p:spPr>
            <a:xfrm>
              <a:off x="1458720" y="1881000"/>
              <a:ext cx="14731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∑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F</a:t>
              </a:r>
              <a:r>
                <a:rPr b="0" i="1" lang="en-US" sz="2800" spc="-1" strike="noStrike" baseline="-25000">
                  <a:solidFill>
                    <a:srgbClr val="000000"/>
                  </a:solidFill>
                  <a:latin typeface="Times New Roman"/>
                  <a:ea typeface="Arial"/>
                </a:rPr>
                <a:t>z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= 0;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738880" y="1752480"/>
              <a:ext cx="5316840" cy="196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−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st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= 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− (80 kN/m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(0.8 m)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0.2 m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= 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= 8.042 k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628C84-5CA6-4AF9-A0B8-54EDFE540E47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6880" y="47160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AMPLE 1.8 (SOLN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Average compressive st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-sectional area at se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754720" y="2362320"/>
            <a:ext cx="309816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0.2)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2461320" y="3354480"/>
            <a:ext cx="4015440" cy="2278080"/>
            <a:chOff x="2461320" y="3354480"/>
            <a:chExt cx="4015440" cy="2278080"/>
          </a:xfrm>
        </p:grpSpPr>
        <p:sp>
          <p:nvSpPr>
            <p:cNvPr id="269" name=""/>
            <p:cNvSpPr/>
            <p:nvPr/>
          </p:nvSpPr>
          <p:spPr>
            <a:xfrm>
              <a:off x="2666880" y="3422880"/>
              <a:ext cx="3809880" cy="22096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555440" y="3354480"/>
              <a:ext cx="1526400" cy="128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8.042 k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0.2 m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756240" y="3380040"/>
              <a:ext cx="397080" cy="128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633840" y="3803760"/>
              <a:ext cx="1447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571640" y="404496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>
              <a:off x="3733560" y="4070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503800" y="3818160"/>
              <a:ext cx="1799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l-GR" sz="2800" spc="-1" strike="noStrike">
                  <a:solidFill>
                    <a:srgbClr val="000000"/>
                  </a:solidFill>
                  <a:latin typeface="Times New Roman"/>
                </a:rPr>
                <a:t>σ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461320" y="4822920"/>
              <a:ext cx="3424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l-GR" sz="2800" spc="-1" strike="noStrike">
                  <a:solidFill>
                    <a:srgbClr val="000000"/>
                  </a:solidFill>
                  <a:latin typeface="Times New Roman"/>
                </a:rPr>
                <a:t>σ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= 64.0 kN/m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526362-BBFE-4E02-A999-81A9954E427A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6880" y="471240"/>
            <a:ext cx="87627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.2 EQUILIBRIUM OF A DEFORMABLE BOD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06440" y="1066680"/>
            <a:ext cx="477504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External loa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rface fo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a of cont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entrated fo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ear distributed fo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ntroi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or geometric cent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dy force (e.g., weigh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369040" y="1371600"/>
            <a:ext cx="3595680" cy="365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05AEF7-6990-404B-AE8E-B3422C8F182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71680" y="2133720"/>
            <a:ext cx="8001000" cy="420984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330120" y="1066680"/>
            <a:ext cx="8204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Support re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2D probl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title"/>
          </p:nvPr>
        </p:nvSpPr>
        <p:spPr>
          <a:xfrm>
            <a:off x="56880" y="50472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.2 EQUILIBRIUM OF A DEFORMABLE BOD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DC6255-9222-4C61-B7C6-3C613BB04F5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306360" y="1066320"/>
            <a:ext cx="852984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Equations of equilibr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quilibr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lance of fo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lance of mo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w a free-body diagram to account for all forces acting on the bo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y the two equations to achieve equilibrium 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3429000" y="4419720"/>
            <a:ext cx="2286000" cy="1295280"/>
            <a:chOff x="3429000" y="4419720"/>
            <a:chExt cx="2286000" cy="1295280"/>
          </a:xfrm>
        </p:grpSpPr>
        <p:sp>
          <p:nvSpPr>
            <p:cNvPr id="64" name=""/>
            <p:cNvSpPr/>
            <p:nvPr/>
          </p:nvSpPr>
          <p:spPr>
            <a:xfrm>
              <a:off x="3429000" y="4419720"/>
              <a:ext cx="2286000" cy="12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809880" y="4496040"/>
              <a:ext cx="1828800" cy="109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33520" indent="-533520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∑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= 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∑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</a:t>
              </a:r>
              <a:r>
                <a:rPr b="0" i="1" lang="en-US" sz="28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O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= 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56880" y="48564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.2 EQUILIBRIUM OF A DEFORMABLE BOD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CAF466-537A-4EA8-829F-C841F2E38FA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152280" y="1066680"/>
            <a:ext cx="883944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Internal resultant load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e resultant force 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and moment 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R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in 3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rmal force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ear force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rsional moment or torque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nding moment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title"/>
          </p:nvPr>
        </p:nvSpPr>
        <p:spPr>
          <a:xfrm>
            <a:off x="56880" y="45720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.2 EQUILIBRIUM OF A DEFORMABLE BOD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4114800" y="4267080"/>
            <a:ext cx="2044800" cy="25146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6172200" y="2271600"/>
            <a:ext cx="2895480" cy="26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E18F46-9D29-4925-A4A0-246A2AFED19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09600" y="1066680"/>
            <a:ext cx="84535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Internal resultant load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coplanar loading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rmal force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ear force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nding moment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title"/>
          </p:nvPr>
        </p:nvSpPr>
        <p:spPr>
          <a:xfrm>
            <a:off x="56880" y="47160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.2 EQUILIBRIUM OF A DEFORMABLE BOD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3809880" y="3890880"/>
            <a:ext cx="5105520" cy="2517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1D6555-B653-4CAD-80AE-40AC9133DC5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0T08:57:51Z</dcterms:created>
  <dc:creator>MCA</dc:creator>
  <dc:description/>
  <dc:language>en-US</dc:language>
  <cp:lastModifiedBy>Ng Family</cp:lastModifiedBy>
  <dcterms:modified xsi:type="dcterms:W3CDTF">2005-05-03T13:33:16Z</dcterms:modified>
  <cp:revision>152</cp:revision>
  <dc:subject/>
  <dc:title>Chapter 1</dc:title>
</cp:coreProperties>
</file>