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9A73F-4010-4796-AE69-DA3DB71FF1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6880" y="425520"/>
            <a:ext cx="8762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240" y="1066680"/>
            <a:ext cx="87375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28240" y="3972240"/>
            <a:ext cx="87375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F63D1-3EB4-414F-842C-9CC09AE8D7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6880" y="425520"/>
            <a:ext cx="8762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240" y="1066680"/>
            <a:ext cx="4263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05560" y="1066680"/>
            <a:ext cx="4263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28240" y="3972240"/>
            <a:ext cx="4263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05560" y="3972240"/>
            <a:ext cx="4263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11C65-3EA2-4534-B751-5F53DA24B6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6880" y="425520"/>
            <a:ext cx="8762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28240" y="1066680"/>
            <a:ext cx="281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2760" y="1066680"/>
            <a:ext cx="281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37280" y="1066680"/>
            <a:ext cx="281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28240" y="3972240"/>
            <a:ext cx="281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2760" y="3972240"/>
            <a:ext cx="281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37280" y="3972240"/>
            <a:ext cx="281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17BF4-47D6-4F49-9747-4D1FB02AB9C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6880" y="425520"/>
            <a:ext cx="8762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28240" y="1066680"/>
            <a:ext cx="873756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D8E98-98E6-4324-B8E0-94D93ED953E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6880" y="425520"/>
            <a:ext cx="8762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240" y="1066680"/>
            <a:ext cx="87375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C6701-5B32-43C9-BEAC-6699985AE8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6880" y="425520"/>
            <a:ext cx="8762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28240" y="1066680"/>
            <a:ext cx="42638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05560" y="1066680"/>
            <a:ext cx="42638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0F344-BD40-4692-BC4C-34A0E91D4E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6880" y="425520"/>
            <a:ext cx="8762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369ED-C3DC-4ECE-8E12-3BFB782446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6880" y="457200"/>
            <a:ext cx="87627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E92E1-32AB-4A4C-8698-04B4CD50E0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6880" y="425520"/>
            <a:ext cx="8762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240" y="1066680"/>
            <a:ext cx="4263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05560" y="1066680"/>
            <a:ext cx="42638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28240" y="3972240"/>
            <a:ext cx="4263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E0450-401F-45B2-9829-F36805D8E4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6880" y="425520"/>
            <a:ext cx="8762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240" y="1066680"/>
            <a:ext cx="42638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05560" y="1066680"/>
            <a:ext cx="4263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5560" y="3972240"/>
            <a:ext cx="4263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3EC36-F22D-427B-92AB-B4FCCBE3FB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6880" y="425520"/>
            <a:ext cx="8762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240" y="1066680"/>
            <a:ext cx="4263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5560" y="1066680"/>
            <a:ext cx="4263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28240" y="3972240"/>
            <a:ext cx="87375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2B9EA-C90A-462D-9665-FB2AFA2FA1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457200"/>
            <a:ext cx="9144000" cy="54756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-4680" y="0"/>
            <a:ext cx="9144000" cy="457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6880" y="45720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28240" y="1066680"/>
            <a:ext cx="87375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009920" y="65336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6C61E-1327-4D25-85F4-1E333A3B6F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280" y="6629400"/>
            <a:ext cx="2509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Symbol"/>
                <a:ea typeface="Symbol"/>
              </a:rPr>
              <a:t>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005 Pearson Education South Asia Pte Lt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84240" y="0"/>
            <a:ext cx="145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St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019920" y="1065240"/>
            <a:ext cx="3125520" cy="3125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OBJECTIV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28240" y="1066320"/>
            <a:ext cx="57913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 important principles of sta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he principles to determine internal resultant loadings in a bo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e concepts of normal and shear st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4387680"/>
            <a:ext cx="86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 applications of analysis and design of members subjected to an axial load or direct sh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069B6-F6A5-44B0-BDB8-EB1949B6789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304560" y="1066680"/>
            <a:ext cx="84582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Internal resultant load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coplanar loading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y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∑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= 0 to solve f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y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∑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y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= 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solve fo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y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∑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O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= 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solve fo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title"/>
          </p:nvPr>
        </p:nvSpPr>
        <p:spPr>
          <a:xfrm>
            <a:off x="56880" y="48564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2 EQUILIBRIUM OF A DEFORMABLE BOD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572000" y="3657600"/>
            <a:ext cx="4343400" cy="2552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B3453-2C7A-4E55-82FE-B6099535EC8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329760" y="1066680"/>
            <a:ext cx="8433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Procedure for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Method of s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ose segment to analy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Support Re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w free-body diagram for whole bo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y equations of equilibr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56880" y="528480"/>
            <a:ext cx="876276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2 EQUILIBRIUM OF A DEFORMABLE BOD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8B132-6919-4D29-84FA-134CDFD04FF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304920" y="1066320"/>
            <a:ext cx="84326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Procedure for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ree-body 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ep all external loadings in exact locations before “sectioning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cate unknown resultants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t the section, normally at centroi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sectioned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planar system of forces only includ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ablis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ordinate axes with origin at centro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56880" y="515880"/>
            <a:ext cx="876276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2 EQUILIBRIUM OF A DEFORMABLE BOD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4AB8E-5D31-444E-AB2E-AAD2EF58290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309600" y="1066320"/>
            <a:ext cx="8453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Procedure for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quations of equilibr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 moments at section, about each coordinate axes where resultants 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ill eliminate unknown force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with direct solution fo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an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ant force with negative value implies that assumed direction is opposite to that shown on free-body 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56880" y="533520"/>
            <a:ext cx="876276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2 EQUILIBRIUM OF A DEFORMABLE BOD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46F8E-06C6-49C5-A5A7-D7F31EDE70D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6880" y="4827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 1.1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resultant loadings acting on cross section a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be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600200" y="2757600"/>
            <a:ext cx="5867280" cy="295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5C973-F41C-4F9A-BA77-46CD6E90D58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6880" y="46980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 1.1 (SOLN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240" y="1066320"/>
            <a:ext cx="487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upport re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 segmen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786040" y="4211640"/>
            <a:ext cx="3538440" cy="25700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28600" y="2133720"/>
            <a:ext cx="8534520" cy="19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ree-body diagra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ep distributed loading exactly where it is on segmen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ft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“cutting” the sec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lace it with a single resultant force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8AD99-716F-4DF5-979D-005CF205EFD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6880" y="50004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 1.1 (SOLN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990720" y="1752480"/>
            <a:ext cx="7086600" cy="3429000"/>
            <a:chOff x="990720" y="1752480"/>
            <a:chExt cx="7086600" cy="3429000"/>
          </a:xfrm>
        </p:grpSpPr>
        <p:sp>
          <p:nvSpPr>
            <p:cNvPr id="92" name=""/>
            <p:cNvSpPr/>
            <p:nvPr/>
          </p:nvSpPr>
          <p:spPr>
            <a:xfrm>
              <a:off x="990720" y="1752480"/>
              <a:ext cx="7086600" cy="3429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066680" y="1947600"/>
              <a:ext cx="6916680" cy="308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Intensity 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w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) of loading at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C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(by proportion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w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/6 m = (270 N/m)/9 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w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= 180 N/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½ (180 N/m)(6 m) = 540 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cts 1/3(6 m) = 2 m from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152280" y="1066680"/>
            <a:ext cx="44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ree-body diagra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88D4D-1D34-4AE6-98F8-96ECD07B751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6880" y="46980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 1.1 (SOLN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4496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quilibrium equ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295280" y="1676520"/>
            <a:ext cx="6553440" cy="3429000"/>
            <a:chOff x="1295280" y="1676520"/>
            <a:chExt cx="6553440" cy="3429000"/>
          </a:xfrm>
        </p:grpSpPr>
        <p:sp>
          <p:nvSpPr>
            <p:cNvPr id="98" name=""/>
            <p:cNvSpPr/>
            <p:nvPr/>
          </p:nvSpPr>
          <p:spPr>
            <a:xfrm>
              <a:off x="1295280" y="1676520"/>
              <a:ext cx="6553440" cy="3429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371600" y="1752840"/>
              <a:ext cx="480060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178720" y="1741680"/>
              <a:ext cx="1494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∑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F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  <a:ea typeface="Arial"/>
                </a:rPr>
                <a:t>x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= 0;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64320" y="2800440"/>
              <a:ext cx="1494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∑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F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  <a:ea typeface="Arial"/>
                </a:rPr>
                <a:t>y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= 0;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139480" y="3976920"/>
              <a:ext cx="15627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∑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M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  <a:ea typeface="Arial"/>
                </a:rPr>
                <a:t>c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= 0;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737600" y="1825920"/>
              <a:ext cx="1450080" cy="10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−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N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  <a:ea typeface="Arial"/>
                </a:rPr>
                <a:t>c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= 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381200" y="2820960"/>
              <a:ext cx="2298960" cy="10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V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  <a:ea typeface="Arial"/>
                </a:rPr>
                <a:t>c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− 540 N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= 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540 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983760" y="3978360"/>
              <a:ext cx="3446640" cy="10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−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  <a:ea typeface="Arial"/>
                </a:rPr>
                <a:t>c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− 504 N (2 m)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= 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−1080 N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·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1523880" y="1781280"/>
              <a:ext cx="457200" cy="520560"/>
              <a:chOff x="1523880" y="1781280"/>
              <a:chExt cx="457200" cy="520560"/>
            </a:xfrm>
          </p:grpSpPr>
          <p:sp>
            <p:nvSpPr>
              <p:cNvPr id="107" name=""/>
              <p:cNvSpPr/>
              <p:nvPr/>
            </p:nvSpPr>
            <p:spPr>
              <a:xfrm>
                <a:off x="1525680" y="1781280"/>
                <a:ext cx="388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1523880" y="22100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1538640" y="2909880"/>
              <a:ext cx="388080" cy="520560"/>
              <a:chOff x="1538640" y="2909880"/>
              <a:chExt cx="388080" cy="520560"/>
            </a:xfrm>
          </p:grpSpPr>
          <p:sp>
            <p:nvSpPr>
              <p:cNvPr id="110" name=""/>
              <p:cNvSpPr/>
              <p:nvPr/>
            </p:nvSpPr>
            <p:spPr>
              <a:xfrm>
                <a:off x="1538640" y="2909880"/>
                <a:ext cx="388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V="1">
                <a:off x="1841400" y="295740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" name=""/>
            <p:cNvGrpSpPr/>
            <p:nvPr/>
          </p:nvGrpSpPr>
          <p:grpSpPr>
            <a:xfrm>
              <a:off x="1600200" y="4052880"/>
              <a:ext cx="389880" cy="580680"/>
              <a:chOff x="1600200" y="4052880"/>
              <a:chExt cx="389880" cy="580680"/>
            </a:xfrm>
          </p:grpSpPr>
          <p:sp>
            <p:nvSpPr>
              <p:cNvPr id="113" name=""/>
              <p:cNvSpPr/>
              <p:nvPr/>
            </p:nvSpPr>
            <p:spPr>
              <a:xfrm>
                <a:off x="1602000" y="4052880"/>
                <a:ext cx="388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1600200" y="4176720"/>
                <a:ext cx="303840" cy="45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55A38-F673-4B96-B754-4BF8E59881F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6880" y="46980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 1.1 (SOLN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4495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quilibrium equ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1676520"/>
            <a:ext cx="830556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ative sign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ans it acts in the opposite direction to that shown be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400480" y="2819520"/>
            <a:ext cx="4381200" cy="3313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4BCB9-A2B6-486C-A543-09B759A93B8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6880" y="51444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 1.5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600" y="2057400"/>
            <a:ext cx="419112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ss of pipe = 2 kg/m,  subjected to vertical force of 50 N and couple moment of 70 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 at e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It is fixed to the wall 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572000" y="1785960"/>
            <a:ext cx="4267080" cy="36241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228600" y="1066680"/>
            <a:ext cx="8610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resultant internal loadings acting on cross section a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pip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0C894-DFF1-4527-8169-434A08AB36B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320" y="3805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OUTLIN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838188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librium of a deformable bo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erage normal stress in an axially loaded b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erage shear st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able st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ign of simple conn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9D3F5-12E6-4C88-81D0-CF311D4EAFA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6880" y="50004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 1.5 (SOLN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7480" y="1066320"/>
            <a:ext cx="45464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upport reac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 segmen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which does not involve support reactions 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ree-body diagr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to find weight of each segment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724280" y="1295280"/>
            <a:ext cx="4186440" cy="4267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91D53-74A8-4491-BD0D-2AB206E0F1F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5257800" y="2895480"/>
            <a:ext cx="3664080" cy="37339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6880" y="48564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 1.5 (SOLN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66760" y="1187280"/>
            <a:ext cx="5829120" cy="23450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W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B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= (2 kg/m)(0.5 m)(9.81 N/kg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= 9.81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W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A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= (2 kg/m)(1.25 m)(9.81 N/kg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= 24.525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C8A3A-6113-4DAA-9F6F-41DC53E67B1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5960" y="380520"/>
            <a:ext cx="8762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 1.5 (SOLN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32920" y="1066680"/>
            <a:ext cx="456732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quilibrium equ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317520" y="1905120"/>
            <a:ext cx="8381880" cy="2895480"/>
            <a:chOff x="317520" y="1905120"/>
            <a:chExt cx="8381880" cy="2895480"/>
          </a:xfrm>
        </p:grpSpPr>
        <p:sp>
          <p:nvSpPr>
            <p:cNvPr id="132" name=""/>
            <p:cNvSpPr/>
            <p:nvPr/>
          </p:nvSpPr>
          <p:spPr>
            <a:xfrm>
              <a:off x="317520" y="1905120"/>
              <a:ext cx="8381880" cy="2895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4840" y="2014560"/>
              <a:ext cx="1483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∑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F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  <a:ea typeface="Arial"/>
                </a:rPr>
                <a:t>x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= 0;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66000" y="2757600"/>
              <a:ext cx="1483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∑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F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  <a:ea typeface="Arial"/>
                </a:rPr>
                <a:t>y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= 0;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831840" y="2009880"/>
              <a:ext cx="1494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F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  <a:ea typeface="Arial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)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  <a:ea typeface="Arial"/>
                </a:rPr>
                <a:t>x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= 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17800" y="2782800"/>
              <a:ext cx="1494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F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  <a:ea typeface="Arial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)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  <a:ea typeface="Arial"/>
                </a:rPr>
                <a:t>y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= 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82560" y="3532320"/>
              <a:ext cx="1473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∑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F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  <a:ea typeface="Arial"/>
                </a:rPr>
                <a:t>z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= 0;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407680" y="3549600"/>
              <a:ext cx="5605920" cy="10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F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  <a:ea typeface="Arial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)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  <a:ea typeface="Arial"/>
                </a:rPr>
                <a:t>z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− 9.81 N − 24.525 N −  50 N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= 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84.3 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E53C3-7E86-41C9-B392-45445E5C364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6880" y="48564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 1.5 (SOLN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6960" y="1066680"/>
            <a:ext cx="8737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quilibrium equ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1676520"/>
            <a:ext cx="9144000" cy="46479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37960" y="1828800"/>
            <a:ext cx="1925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∑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)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= 0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09480" y="2438280"/>
            <a:ext cx="8153640" cy="14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800600" indent="-4800600">
              <a:lnSpc>
                <a:spcPct val="100000"/>
              </a:lnSpc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)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70 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 − 50 N (0.5 m) − 24.525 N (0.5 m)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− 9.81 N (0.25m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800600" indent="-4800600">
              <a:lnSpc>
                <a:spcPct val="100000"/>
              </a:lnSpc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− 30.3 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6880" y="3976560"/>
            <a:ext cx="1925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∑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)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= 0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01640" y="4464000"/>
            <a:ext cx="706572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)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24.525 N (0.62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) + 50 N (1.25 m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− 77.8 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25800" y="5805360"/>
            <a:ext cx="1826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∑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)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= 0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814200" y="5791320"/>
            <a:ext cx="1440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)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2B0DD-9990-4FE0-9F77-4AB70597D69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6880" y="48564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 1.5 (SOLN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228600" y="1676520"/>
            <a:ext cx="5562720" cy="2819160"/>
            <a:chOff x="228600" y="1676520"/>
            <a:chExt cx="5562720" cy="2819160"/>
          </a:xfrm>
        </p:grpSpPr>
        <p:sp>
          <p:nvSpPr>
            <p:cNvPr id="150" name=""/>
            <p:cNvSpPr/>
            <p:nvPr/>
          </p:nvSpPr>
          <p:spPr>
            <a:xfrm>
              <a:off x="228600" y="1676520"/>
              <a:ext cx="5562720" cy="2819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533520" indent="-533520" algn="ctr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796760" y="1766520"/>
              <a:ext cx="2359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N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  <a:ea typeface="Arial"/>
                </a:rPr>
                <a:t>B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F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  <a:ea typeface="Arial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)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  <a:ea typeface="Arial"/>
                </a:rPr>
                <a:t>y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= 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914040" y="2376360"/>
              <a:ext cx="43869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V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  <a:ea typeface="Arial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= √ (0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  <a:ea typeface="Arial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+ (84.3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  <a:ea typeface="Arial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= 84.3 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240200" y="3062160"/>
              <a:ext cx="33883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T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  <a:ea typeface="Arial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= (M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  <a:ea typeface="Arial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)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  <a:ea typeface="Arial"/>
                </a:rPr>
                <a:t>y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= 77.8 N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·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31360" y="3747960"/>
              <a:ext cx="4860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M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  <a:ea typeface="Arial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= √ (30.3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  <a:ea typeface="Arial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+ (0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  <a:ea typeface="Arial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= 30.3 N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·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228600" y="4648320"/>
            <a:ext cx="670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irection of each moment is determined using the right-hand rule: positive moments (thumb) directed along positive coordinate ax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6934320" y="4572000"/>
            <a:ext cx="685800" cy="133524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56960" y="1066680"/>
            <a:ext cx="8737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quilibrium equ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5913360" y="1143000"/>
            <a:ext cx="3154320" cy="32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9EB50-976F-49CB-9779-FE4C389443B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6880" y="48564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3 STRES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33280" y="1066680"/>
            <a:ext cx="8453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cept of st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obtain distribution of force acting over a sectioned are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ptions of materi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continuous (uniform distribution of matt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cohesive (all portions are connected togeth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A1C1F-E7A3-450D-A61C-9DA88BFB139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6880" y="48564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3 STRES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33280" y="1066680"/>
            <a:ext cx="845352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cept of st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figure be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finite force,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cts on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But stress (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Δ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→ finite limit (∞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2209680" y="3562200"/>
            <a:ext cx="6858000" cy="2990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F6B62-E9A7-4944-864D-EE6C4FF0517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228240" y="1066320"/>
            <a:ext cx="85345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Normal st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tens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force, or force per unit area, actin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rm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bol used fo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rmal stress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0" i="1" lang="el-G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(sigm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28600" y="4572000"/>
            <a:ext cx="8610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9960" indent="-399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sile stress: normal force “pulls” or “stretches” the area element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ressive stress: normal force “pushes” or “compresses” area element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56880" y="48564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3 STRES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200400" y="3200400"/>
            <a:ext cx="2666880" cy="1218960"/>
            <a:chOff x="3200400" y="3200400"/>
            <a:chExt cx="2666880" cy="1218960"/>
          </a:xfrm>
        </p:grpSpPr>
        <p:sp>
          <p:nvSpPr>
            <p:cNvPr id="168" name=""/>
            <p:cNvSpPr/>
            <p:nvPr/>
          </p:nvSpPr>
          <p:spPr>
            <a:xfrm>
              <a:off x="3200400" y="3200400"/>
              <a:ext cx="2666880" cy="1218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403440" y="3519360"/>
              <a:ext cx="8384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800" spc="-1" strike="noStrike">
                  <a:solidFill>
                    <a:srgbClr val="000000"/>
                  </a:solidFill>
                  <a:latin typeface="Times New Roman"/>
                </a:rPr>
                <a:t>σ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034880" y="3360600"/>
              <a:ext cx="799200" cy="94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i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800" spc="-1" strike="noStrike" baseline="-25000">
                  <a:solidFill>
                    <a:srgbClr val="000000"/>
                  </a:solidFill>
                  <a:latin typeface="Times New Roman"/>
                </a:rPr>
                <a:t>Δ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A →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761000" y="3265200"/>
              <a:ext cx="877680" cy="10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33520" indent="-53352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800" spc="-1" strike="noStrike">
                  <a:solidFill>
                    <a:srgbClr val="000000"/>
                  </a:solidFill>
                  <a:latin typeface="Times New Roman"/>
                </a:rPr>
                <a:t>Δ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800" spc="-1" strike="noStrike">
                  <a:solidFill>
                    <a:srgbClr val="000000"/>
                  </a:solidFill>
                  <a:latin typeface="Times New Roman"/>
                </a:rPr>
                <a:t>Δ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876920" y="378756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C9D21-9475-44E8-A1B9-A4388923BCA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254160" y="1066320"/>
            <a:ext cx="84326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Shear st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tens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force, or force per unit area, actin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ang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Δ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bol used for normal stress is </a:t>
            </a:r>
            <a:r>
              <a:rPr b="0" i="1" lang="el-G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(ta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title"/>
          </p:nvPr>
        </p:nvSpPr>
        <p:spPr>
          <a:xfrm>
            <a:off x="56880" y="51912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3 STRES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3048120" y="3429000"/>
            <a:ext cx="2971800" cy="2514600"/>
            <a:chOff x="3048120" y="3429000"/>
            <a:chExt cx="2971800" cy="2514600"/>
          </a:xfrm>
        </p:grpSpPr>
        <p:sp>
          <p:nvSpPr>
            <p:cNvPr id="176" name=""/>
            <p:cNvSpPr/>
            <p:nvPr/>
          </p:nvSpPr>
          <p:spPr>
            <a:xfrm>
              <a:off x="3048120" y="3429000"/>
              <a:ext cx="2971800" cy="25146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276720" y="3747960"/>
              <a:ext cx="99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800" spc="-1" strike="noStrike">
                  <a:solidFill>
                    <a:srgbClr val="000000"/>
                  </a:solidFill>
                  <a:latin typeface="Times New Roman"/>
                </a:rPr>
                <a:t>τ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zx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034880" y="3589200"/>
              <a:ext cx="799200" cy="94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i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800" spc="-1" strike="noStrike" baseline="-25000">
                  <a:solidFill>
                    <a:srgbClr val="000000"/>
                  </a:solidFill>
                  <a:latin typeface="Times New Roman"/>
                </a:rPr>
                <a:t>Δ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A →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761000" y="3493800"/>
              <a:ext cx="877680" cy="10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33520" indent="-53352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800" spc="-1" strike="noStrike">
                  <a:solidFill>
                    <a:srgbClr val="000000"/>
                  </a:solidFill>
                  <a:latin typeface="Times New Roman"/>
                </a:rPr>
                <a:t>Δ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800" spc="-1" strike="noStrike">
                  <a:solidFill>
                    <a:srgbClr val="000000"/>
                  </a:solidFill>
                  <a:latin typeface="Times New Roman"/>
                </a:rPr>
                <a:t>Δ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876920" y="401616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276720" y="5013360"/>
              <a:ext cx="99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800" spc="-1" strike="noStrike">
                  <a:solidFill>
                    <a:srgbClr val="000000"/>
                  </a:solidFill>
                  <a:latin typeface="Times New Roman"/>
                </a:rPr>
                <a:t>τ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zy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034880" y="4854600"/>
              <a:ext cx="799200" cy="94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i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800" spc="-1" strike="noStrike" baseline="-25000">
                  <a:solidFill>
                    <a:srgbClr val="000000"/>
                  </a:solidFill>
                  <a:latin typeface="Times New Roman"/>
                </a:rPr>
                <a:t>Δ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A →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761000" y="4759200"/>
              <a:ext cx="877680" cy="10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33520" indent="-53352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800" spc="-1" strike="noStrike">
                  <a:solidFill>
                    <a:srgbClr val="000000"/>
                  </a:solidFill>
                  <a:latin typeface="Times New Roman"/>
                </a:rPr>
                <a:t>Δ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800" spc="-1" strike="noStrike">
                  <a:solidFill>
                    <a:srgbClr val="000000"/>
                  </a:solidFill>
                  <a:latin typeface="Times New Roman"/>
                </a:rPr>
                <a:t>Δ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76920" y="528156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DCBD6-D8B2-4E8A-98A3-1A051A52893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309600" y="1066680"/>
            <a:ext cx="6014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General state of st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 shows the state of stress acting around a chosen point in a bo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Units (SI syste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tons per square meter (N/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or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asc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1 Pa = 1 N/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Pa =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N/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kilo-pasc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Pa =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/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mega-pasc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Pa =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/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giga-pasc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56880" y="48564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3 STRES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400800" y="1219320"/>
            <a:ext cx="2484360" cy="2130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385F7-3E59-439C-8741-EBEFD4468DC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09600" y="1066680"/>
            <a:ext cx="837720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chanics of 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branch of mechan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studies the relationship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rnal loads applied to a deformable body,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ntensity of internal forces acting within the bo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used to compute deformations of a bo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y body’s stability when external forces are applied to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0" y="485640"/>
            <a:ext cx="8763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1 INTRODUC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32871-5E8F-4274-82A3-7F5C36E67A1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6880" y="457200"/>
            <a:ext cx="9086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.4 AVERAGE NORMAL STRESS IN AXIALLY LOADED B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88394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s of axially loaded b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ually long and slender structural me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uss members, hangers, bo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smatic means all the cross sections are the s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6673680" y="3200400"/>
            <a:ext cx="1708200" cy="34290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838080" y="3200400"/>
            <a:ext cx="1289160" cy="342900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3743280" y="3352680"/>
            <a:ext cx="1895400" cy="32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527E7-4784-49A7-BBBB-168495C397D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309240" y="1066320"/>
            <a:ext cx="8529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Assum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form deformation: Bar remains straight before and after load is applied, and cross section remains flat or plane during de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order for uniform deformation, forc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 applied along centroidal axis of cross s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title"/>
          </p:nvPr>
        </p:nvSpPr>
        <p:spPr>
          <a:xfrm>
            <a:off x="56880" y="519120"/>
            <a:ext cx="9086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.4 AVERAGE NORMAL STRESS IN AXIALLY LOADED B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C26FB-745D-467D-AC33-17EB91FD94D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232920" y="1066320"/>
            <a:ext cx="8682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Average normal stress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04920" y="4371840"/>
            <a:ext cx="5715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8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"/>
              </a:rPr>
              <a:t>= average normal stress at any point on cross sectional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"/>
              </a:rPr>
              <a:t> = internal resultant normal fo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"/>
              </a:rPr>
              <a:t> = x-sectional area of the b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title"/>
          </p:nvPr>
        </p:nvSpPr>
        <p:spPr>
          <a:xfrm>
            <a:off x="56880" y="519120"/>
            <a:ext cx="9086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.4 AVERAGE NORMAL STRESS IN AXIALLY LOADED B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304920" y="1752480"/>
            <a:ext cx="5181480" cy="2514600"/>
            <a:chOff x="304920" y="1752480"/>
            <a:chExt cx="5181480" cy="2514600"/>
          </a:xfrm>
        </p:grpSpPr>
        <p:sp>
          <p:nvSpPr>
            <p:cNvPr id="199" name=""/>
            <p:cNvSpPr/>
            <p:nvPr/>
          </p:nvSpPr>
          <p:spPr>
            <a:xfrm>
              <a:off x="304920" y="1752480"/>
              <a:ext cx="5181480" cy="25146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74080" y="1830240"/>
              <a:ext cx="1709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F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  <a:ea typeface="Arial"/>
                </a:rPr>
                <a:t>Rz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∑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F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  <a:ea typeface="Arial"/>
                </a:rPr>
                <a:t>xz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954160" y="1830240"/>
              <a:ext cx="2324160" cy="14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43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∫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dF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∫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l-GR" sz="2800" spc="-1" strike="noStrike">
                  <a:solidFill>
                    <a:srgbClr val="000000"/>
                  </a:solidFill>
                  <a:latin typeface="Times New Roman"/>
                </a:rPr>
                <a:t>σ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A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43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43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i="1" lang="el-GR" sz="2800" spc="-1" strike="noStrike">
                  <a:solidFill>
                    <a:srgbClr val="000000"/>
                  </a:solidFill>
                  <a:latin typeface="Times New Roman"/>
                </a:rPr>
                <a:t>σ</a:t>
              </a:r>
              <a:r>
                <a:rPr b="0" lang="el-GR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2" name=""/>
            <p:cNvGrpSpPr/>
            <p:nvPr/>
          </p:nvGrpSpPr>
          <p:grpSpPr>
            <a:xfrm>
              <a:off x="306720" y="1828800"/>
              <a:ext cx="388080" cy="520560"/>
              <a:chOff x="306720" y="1828800"/>
              <a:chExt cx="388080" cy="520560"/>
            </a:xfrm>
          </p:grpSpPr>
          <p:sp>
            <p:nvSpPr>
              <p:cNvPr id="203" name=""/>
              <p:cNvSpPr/>
              <p:nvPr/>
            </p:nvSpPr>
            <p:spPr>
              <a:xfrm>
                <a:off x="306720" y="1828800"/>
                <a:ext cx="388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flipV="1">
                <a:off x="609480" y="18763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5" name=""/>
            <p:cNvSpPr/>
            <p:nvPr/>
          </p:nvSpPr>
          <p:spPr>
            <a:xfrm>
              <a:off x="3931200" y="3246480"/>
              <a:ext cx="397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19800" y="3443040"/>
              <a:ext cx="1750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800" spc="-1" strike="noStrike">
                  <a:solidFill>
                    <a:srgbClr val="000000"/>
                  </a:solidFill>
                  <a:latin typeface="Times New Roman"/>
                </a:rPr>
                <a:t>σ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>
              <a:off x="3954600" y="3695760"/>
              <a:ext cx="365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6269040" y="1219320"/>
            <a:ext cx="2509920" cy="4419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3E9E0-9A5E-4368-8B33-6A5841E89E1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4648320" y="3294000"/>
            <a:ext cx="4297320" cy="310680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309600" y="1066680"/>
            <a:ext cx="83772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Equilibr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 vertical equilibrium of the e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1143000" y="2133720"/>
            <a:ext cx="5486400" cy="1066680"/>
            <a:chOff x="1143000" y="2133720"/>
            <a:chExt cx="5486400" cy="1066680"/>
          </a:xfrm>
        </p:grpSpPr>
        <p:sp>
          <p:nvSpPr>
            <p:cNvPr id="212" name=""/>
            <p:cNvSpPr/>
            <p:nvPr/>
          </p:nvSpPr>
          <p:spPr>
            <a:xfrm>
              <a:off x="1143000" y="2133720"/>
              <a:ext cx="5486400" cy="10666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381680" y="2162160"/>
              <a:ext cx="14623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∑ 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F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  <a:ea typeface="Arial"/>
                </a:rPr>
                <a:t>z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= 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249720" y="2162160"/>
              <a:ext cx="31237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800" spc="-1" strike="noStrike">
                  <a:solidFill>
                    <a:srgbClr val="000000"/>
                  </a:solidFill>
                  <a:latin typeface="Times New Roman"/>
                </a:rPr>
                <a:t>σ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(</a:t>
              </a:r>
              <a:r>
                <a:rPr b="0" lang="el-GR" sz="2800" spc="-1" strike="noStrike">
                  <a:solidFill>
                    <a:srgbClr val="000000"/>
                  </a:solidFill>
                  <a:latin typeface="Times New Roman"/>
                </a:rPr>
                <a:t>Δ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− </a:t>
              </a:r>
              <a:r>
                <a:rPr b="0" i="1" lang="el-GR" sz="2800" spc="-1" strike="noStrike">
                  <a:solidFill>
                    <a:srgbClr val="000000"/>
                  </a:solidFill>
                  <a:latin typeface="Times New Roman"/>
                </a:rPr>
                <a:t>σ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"/>
                </a:rPr>
                <a:t>’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l-GR" sz="2800" spc="-1" strike="noStrike">
                  <a:solidFill>
                    <a:srgbClr val="000000"/>
                  </a:solidFill>
                  <a:latin typeface="Times New Roman"/>
                </a:rPr>
                <a:t>Δ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= 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800" spc="-1" strike="noStrike">
                  <a:solidFill>
                    <a:srgbClr val="000000"/>
                  </a:solidFill>
                  <a:latin typeface="Times New Roman"/>
                </a:rPr>
                <a:t>σ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i="1" lang="el-GR" sz="2800" spc="-1" strike="noStrike">
                  <a:solidFill>
                    <a:srgbClr val="000000"/>
                  </a:solidFill>
                  <a:latin typeface="Times New Roman"/>
                </a:rPr>
                <a:t>σ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609480" y="3595680"/>
            <a:ext cx="3581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"/>
              </a:rPr>
              <a:t>Above analysis applies to members subjected to tension or compres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title"/>
          </p:nvPr>
        </p:nvSpPr>
        <p:spPr>
          <a:xfrm>
            <a:off x="56880" y="504720"/>
            <a:ext cx="9086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.4 AVERAGE NORMAL STRESS IN AXIALLY LOADED B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FE83F-6CA3-4F0A-B9DE-7AFE2E48518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233280" y="1066680"/>
            <a:ext cx="84535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Maximum average normal st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problems where internal forc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x-sectional A wer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nsta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long the longitudinal axis of the bar, normal stress </a:t>
            </a:r>
            <a:r>
              <a:rPr b="0" i="1" lang="el-GR" sz="24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/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lso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ns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bar is subjected to several external loads along its axis, change in x-sectional area may occ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us, it is important to find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axim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verage normal st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termine that, we need to find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oc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rati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maxim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title"/>
          </p:nvPr>
        </p:nvSpPr>
        <p:spPr>
          <a:xfrm>
            <a:off x="56880" y="519120"/>
            <a:ext cx="9086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.4 AVERAGE NORMAL STRESS IN AXIALLY LOADED B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A2EB1-803F-45BF-A25C-00B32C8F5B1B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232920" y="1066680"/>
            <a:ext cx="8301240" cy="43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Maximum average normal st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w a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xial or normal force diagr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plot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s. its posi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long bar’s lengt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 convention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positive (+) if it causes tension in the me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negative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−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if it causes comp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the maximum average normal stress from the pl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title"/>
          </p:nvPr>
        </p:nvSpPr>
        <p:spPr>
          <a:xfrm>
            <a:off x="56880" y="504720"/>
            <a:ext cx="9086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.4 AVERAGE NORMAL STRESS IN AXIALLY LOADED B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8F42F-2608-4935-B4B1-9F3DD5F430B1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104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Procedure for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verage normal st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equation of </a:t>
            </a:r>
            <a:r>
              <a:rPr b="0" i="1" lang="el-G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x-sectional area of a member when section subjected to internal resultant forc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title"/>
          </p:nvPr>
        </p:nvSpPr>
        <p:spPr>
          <a:xfrm>
            <a:off x="56880" y="519120"/>
            <a:ext cx="9086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.4 AVERAGE NORMAL STRESS IN AXIALLY LOADED B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AB066-1AFD-4A1D-94B6-3F6163C39AD3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228600" y="10666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Procedure for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xially loaded me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Internal Loa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tion membe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erpendicula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its longitudinal axis at pt where normal stress is to be determi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w free-body 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equation of force equilibrium to obtain internal axial forc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t the s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title"/>
          </p:nvPr>
        </p:nvSpPr>
        <p:spPr>
          <a:xfrm>
            <a:off x="56880" y="519120"/>
            <a:ext cx="9086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.4 AVERAGE NORMAL STRESS IN AXIALLY LOADED B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D813A-A80C-4D4A-A1A7-8525A07A7AF7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10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Procedure for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xially loaded me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Average Normal Stre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member’s x-sectional area at the s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e average normal stress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title"/>
          </p:nvPr>
        </p:nvSpPr>
        <p:spPr>
          <a:xfrm>
            <a:off x="56880" y="504720"/>
            <a:ext cx="9086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.4 AVERAGE NORMAL STRESS IN AXIALLY LOADED B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28EE4-206E-431C-A80D-10FC275BE473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6880" y="49680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 1.6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 width = 35 mm, thickness = 10 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04920" y="1600200"/>
            <a:ext cx="8381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max. average normal stress in bar when subjected to loading show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09480" y="3429000"/>
            <a:ext cx="7925040" cy="1324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78CC6-0399-4A68-AFCF-152E86D732F2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09600" y="1066320"/>
            <a:ext cx="83772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Historical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ginning of 17th century (Galile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ly 18th century (Saint-Venant, Poisson, L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é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Navi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recent times, with advanced mathematical and computer techniques, more complex problems can be s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21960" y="4827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1 INTRODUC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6248520" y="3809880"/>
            <a:ext cx="2324160" cy="2832120"/>
            <a:chOff x="6248520" y="3809880"/>
            <a:chExt cx="2324160" cy="2832120"/>
          </a:xfrm>
        </p:grpSpPr>
        <p:sp>
          <p:nvSpPr>
            <p:cNvPr id="54" name=""/>
            <p:cNvSpPr/>
            <p:nvPr/>
          </p:nvSpPr>
          <p:spPr>
            <a:xfrm>
              <a:off x="6286680" y="3898800"/>
              <a:ext cx="2286000" cy="27432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6248520" y="3809880"/>
              <a:ext cx="2266920" cy="2766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03B3B-09C3-418C-B809-B5B5689F566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6880" y="49680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 1.6 (SOLN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066680"/>
            <a:ext cx="289548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Internal loa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28600" y="367200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Normal force 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8600" y="4265640"/>
            <a:ext cx="358128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inspection, largest loading area 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30 k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1295280" y="1652760"/>
            <a:ext cx="6096240" cy="200484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3962520" y="4186080"/>
            <a:ext cx="5029200" cy="1528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F4AD1-1214-4DE0-8488-E68501CBF743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6880" y="47160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 1.6 (SOLN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83818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Average normal st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914400" y="1841400"/>
            <a:ext cx="7315200" cy="1358640"/>
            <a:chOff x="914400" y="1841400"/>
            <a:chExt cx="7315200" cy="1358640"/>
          </a:xfrm>
        </p:grpSpPr>
        <p:sp>
          <p:nvSpPr>
            <p:cNvPr id="240" name=""/>
            <p:cNvSpPr/>
            <p:nvPr/>
          </p:nvSpPr>
          <p:spPr>
            <a:xfrm>
              <a:off x="914400" y="1904760"/>
              <a:ext cx="7315200" cy="12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990720" y="2241360"/>
              <a:ext cx="1133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800" spc="-1" strike="noStrike">
                  <a:solidFill>
                    <a:srgbClr val="000000"/>
                  </a:solidFill>
                  <a:latin typeface="Times New Roman"/>
                </a:rPr>
                <a:t>σ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  <a:ea typeface=""/>
                </a:rPr>
                <a:t>BC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"/>
                </a:rPr>
                <a:t> 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982520" y="1841400"/>
              <a:ext cx="659160" cy="127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B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003400" y="2501640"/>
              <a:ext cx="5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017520" y="1906200"/>
              <a:ext cx="2988000" cy="11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0(10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0.035 m)(0.010 m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933640" y="2500200"/>
              <a:ext cx="319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579760" y="2249280"/>
              <a:ext cx="380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123240" y="2236680"/>
              <a:ext cx="1910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85.7 MP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3276720" y="3657600"/>
            <a:ext cx="3611520" cy="220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71929-29CD-4709-B9F0-8B5BDADF35C9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6880" y="48564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 1.8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8680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fic weight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γ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80 kN/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28600" y="1600200"/>
            <a:ext cx="8381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average compressive stress acting at point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3352680" y="2362320"/>
            <a:ext cx="2714760" cy="4190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4FA6B-32C7-4F8D-8949-487EC12FD0CD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6880" y="45720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 1.8 (SOLN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86800" cy="22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Internal loa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d on free-body diagram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ight of segme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termined fr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4114800" y="2590920"/>
            <a:ext cx="2446200" cy="380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08FCF-9F92-445C-80F8-329088E521F6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6880" y="48564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 1.8 (SOLN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8680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Average normal st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915840" y="1752480"/>
            <a:ext cx="7313400" cy="2004840"/>
            <a:chOff x="915840" y="1752480"/>
            <a:chExt cx="7313400" cy="2004840"/>
          </a:xfrm>
        </p:grpSpPr>
        <p:sp>
          <p:nvSpPr>
            <p:cNvPr id="259" name=""/>
            <p:cNvSpPr/>
            <p:nvPr/>
          </p:nvSpPr>
          <p:spPr>
            <a:xfrm>
              <a:off x="915840" y="1776240"/>
              <a:ext cx="7313400" cy="1981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0" name=""/>
            <p:cNvGrpSpPr/>
            <p:nvPr/>
          </p:nvGrpSpPr>
          <p:grpSpPr>
            <a:xfrm>
              <a:off x="993600" y="1881000"/>
              <a:ext cx="388080" cy="520560"/>
              <a:chOff x="993600" y="1881000"/>
              <a:chExt cx="388080" cy="520560"/>
            </a:xfrm>
          </p:grpSpPr>
          <p:sp>
            <p:nvSpPr>
              <p:cNvPr id="261" name=""/>
              <p:cNvSpPr/>
              <p:nvPr/>
            </p:nvSpPr>
            <p:spPr>
              <a:xfrm>
                <a:off x="993600" y="1881000"/>
                <a:ext cx="388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flipV="1">
                <a:off x="1296360" y="19285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3" name=""/>
            <p:cNvSpPr/>
            <p:nvPr/>
          </p:nvSpPr>
          <p:spPr>
            <a:xfrm>
              <a:off x="1458720" y="1881000"/>
              <a:ext cx="1473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∑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F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  <a:ea typeface="Arial"/>
                </a:rPr>
                <a:t>z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= 0;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738880" y="1752480"/>
              <a:ext cx="5316840" cy="196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−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st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= 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− (80 kN/m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(0.8 m)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0.2 m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8.042 k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BB747-E6F8-488A-8543-4F73C875310B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6880" y="47160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 1.8 (SOLN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Average compressive st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-sectional area at se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754720" y="2362320"/>
            <a:ext cx="309816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0.2)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2461320" y="3354480"/>
            <a:ext cx="4015440" cy="2278080"/>
            <a:chOff x="2461320" y="3354480"/>
            <a:chExt cx="4015440" cy="2278080"/>
          </a:xfrm>
        </p:grpSpPr>
        <p:sp>
          <p:nvSpPr>
            <p:cNvPr id="269" name=""/>
            <p:cNvSpPr/>
            <p:nvPr/>
          </p:nvSpPr>
          <p:spPr>
            <a:xfrm>
              <a:off x="2666880" y="3422880"/>
              <a:ext cx="3809880" cy="22096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555440" y="3354480"/>
              <a:ext cx="1526400" cy="128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8.042 k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0.2 m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756240" y="3380040"/>
              <a:ext cx="397080" cy="128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633840" y="3803760"/>
              <a:ext cx="1447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571640" y="404496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>
              <a:off x="3733560" y="4070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503800" y="3818160"/>
              <a:ext cx="179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800" spc="-1" strike="noStrike">
                  <a:solidFill>
                    <a:srgbClr val="000000"/>
                  </a:solidFill>
                  <a:latin typeface="Times New Roman"/>
                </a:rPr>
                <a:t>σ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461320" y="4822920"/>
              <a:ext cx="3424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800" spc="-1" strike="noStrike">
                  <a:solidFill>
                    <a:srgbClr val="000000"/>
                  </a:solidFill>
                  <a:latin typeface="Times New Roman"/>
                </a:rPr>
                <a:t>σ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64.0 kN/m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38963-4714-45C9-9D6F-485AA818EEF5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6880" y="471240"/>
            <a:ext cx="8762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2 EQUILIBRIUM OF A DEFORMABLE BOD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06440" y="1066680"/>
            <a:ext cx="477504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External lo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rface fo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a of cont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entrated fo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distributed fo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troi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or geometric cent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dy force (e.g., weigh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369040" y="1371600"/>
            <a:ext cx="3595680" cy="365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52A91-39AF-45AE-AC78-0BF28C7C849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71680" y="2133720"/>
            <a:ext cx="8001000" cy="420984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330120" y="1066680"/>
            <a:ext cx="8204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Support re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2D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56880" y="50472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2 EQUILIBRIUM OF A DEFORMABLE BOD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65602-D451-48B7-A83A-7D203342AFA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306360" y="1066320"/>
            <a:ext cx="85298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Equations of equilibr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quilibr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lance of fo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lance of mo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w a free-body diagram to account for all forces acting on the bo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y the two equations to achieve equilibrium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3429000" y="4419720"/>
            <a:ext cx="2286000" cy="1295280"/>
            <a:chOff x="3429000" y="4419720"/>
            <a:chExt cx="2286000" cy="1295280"/>
          </a:xfrm>
        </p:grpSpPr>
        <p:sp>
          <p:nvSpPr>
            <p:cNvPr id="64" name=""/>
            <p:cNvSpPr/>
            <p:nvPr/>
          </p:nvSpPr>
          <p:spPr>
            <a:xfrm>
              <a:off x="3429000" y="4419720"/>
              <a:ext cx="2286000" cy="12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09880" y="4496040"/>
              <a:ext cx="1828800" cy="10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33520" indent="-53352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∑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=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∑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O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=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56880" y="48564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2 EQUILIBRIUM OF A DEFORMABLE BOD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14872-AECA-4CAC-B4B5-E4C2459E517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152280" y="1066680"/>
            <a:ext cx="88394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Internal resultant load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resultant force 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and moment 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R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in 3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rmal force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ear force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rsional moment or torque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nding moment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title"/>
          </p:nvPr>
        </p:nvSpPr>
        <p:spPr>
          <a:xfrm>
            <a:off x="56880" y="45720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2 EQUILIBRIUM OF A DEFORMABLE BOD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114800" y="4267080"/>
            <a:ext cx="2044800" cy="25146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6172200" y="2271600"/>
            <a:ext cx="2895480" cy="26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FA42F-2DD5-49F5-9597-23D9F3CA2C5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09600" y="1066680"/>
            <a:ext cx="84535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Internal resultant load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coplanar loading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rmal force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ear force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nding moment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56880" y="47160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2 EQUILIBRIUM OF A DEFORMABLE BOD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809880" y="3890880"/>
            <a:ext cx="5105520" cy="2517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72B28-5BF7-4B3A-8EB6-31C016A2B83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0T08:57:51Z</dcterms:created>
  <dc:creator>MCA</dc:creator>
  <dc:description/>
  <dc:language>en-US</dc:language>
  <cp:lastModifiedBy>Ng Family</cp:lastModifiedBy>
  <dcterms:modified xsi:type="dcterms:W3CDTF">2005-05-03T13:33:16Z</dcterms:modified>
  <cp:revision>152</cp:revision>
  <dc:subject/>
  <dc:title>Chapter 1</dc:title>
</cp:coreProperties>
</file>