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0960-13A6-456B-9AEE-2CC54E42C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4BB4-A65F-49AB-A0A5-465A68ED7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3CAE-08E4-46CA-B5C1-C62E91E0D9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276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7280" y="106668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24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276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7280" y="3972240"/>
            <a:ext cx="281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52F69-32B4-4EE9-8FDB-790122E6F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4DDE-5EB0-4E9F-A8F6-E0FAD325B5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F3D08-23F0-43BE-8CA3-68B4B6467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6AF7-372D-4CB5-8CF6-767E1E722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8FA0-50B8-412E-8A12-DFAA3DDE2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5720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DBE2-7D6E-4CE3-A545-9084AB8DD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3097-5F7F-40D0-A887-7EE74058B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560" y="397224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43DB-F293-4DD6-ABFE-4B701C369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2552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560" y="1066680"/>
            <a:ext cx="4263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240" y="3972240"/>
            <a:ext cx="87375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DED2-9CA7-4B89-B961-BD6371281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572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240" y="1066680"/>
            <a:ext cx="8737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7C1-D19D-464F-849D-AE0BC0373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240" y="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12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 is the stress component that act in the plane of the sectioned ar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ing to the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igid supports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rge enough, bar will deform and fail along the planes identifi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-body diagram indicates that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applied at both sections to ensur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00600" y="4932360"/>
            <a:ext cx="33526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3216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ess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2666880"/>
            <a:ext cx="5791320" cy="1295640"/>
            <a:chOff x="1295280" y="2666880"/>
            <a:chExt cx="5791320" cy="1295640"/>
          </a:xfrm>
        </p:grpSpPr>
        <p:sp>
          <p:nvSpPr>
            <p:cNvPr id="81" name=""/>
            <p:cNvSpPr/>
            <p:nvPr/>
          </p:nvSpPr>
          <p:spPr>
            <a:xfrm>
              <a:off x="1295280" y="2666880"/>
              <a:ext cx="5791320" cy="1295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76360" y="2989440"/>
              <a:ext cx="7621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marL="499680" indent="-4996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71880" y="2793960"/>
              <a:ext cx="52056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3200" y="2819520"/>
              <a:ext cx="2743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529920" indent="-5299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8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29920" indent="-5299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2971800"/>
              <a:ext cx="17524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marL="469080" indent="-469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500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58920" y="32702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895480" y="325116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08440" y="29876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86280" y="4191120"/>
            <a:ext cx="2971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8480" y="1066320"/>
            <a:ext cx="811080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hear stress on section, since shear force at section is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33920" y="2590920"/>
            <a:ext cx="1676160" cy="761760"/>
            <a:chOff x="3733920" y="2590920"/>
            <a:chExt cx="1676160" cy="761760"/>
          </a:xfrm>
        </p:grpSpPr>
        <p:sp>
          <p:nvSpPr>
            <p:cNvPr id="93" name=""/>
            <p:cNvSpPr/>
            <p:nvPr/>
          </p:nvSpPr>
          <p:spPr>
            <a:xfrm>
              <a:off x="3733920" y="2590920"/>
              <a:ext cx="167616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6200" y="2666880"/>
              <a:ext cx="1371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86280" y="3727440"/>
            <a:ext cx="29718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57200" y="2101680"/>
            <a:ext cx="7619760" cy="1555560"/>
            <a:chOff x="457200" y="2101680"/>
            <a:chExt cx="7619760" cy="1555560"/>
          </a:xfrm>
        </p:grpSpPr>
        <p:sp>
          <p:nvSpPr>
            <p:cNvPr id="99" name=""/>
            <p:cNvSpPr/>
            <p:nvPr/>
          </p:nvSpPr>
          <p:spPr>
            <a:xfrm>
              <a:off x="457200" y="2209320"/>
              <a:ext cx="761976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673920" y="2998440"/>
              <a:ext cx="315000" cy="444600"/>
              <a:chOff x="673920" y="2998440"/>
              <a:chExt cx="315000" cy="444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73920" y="307476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977400" y="299844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077120" y="225072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72920" y="2101680"/>
              <a:ext cx="534852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−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00 N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sin 60°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cos 6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°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86880" y="2312640"/>
              <a:ext cx="316440" cy="368280"/>
              <a:chOff x="686880" y="2312640"/>
              <a:chExt cx="316440" cy="36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686880" y="231264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8760" y="2617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77120" y="2998440"/>
              <a:ext cx="1483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8160" y="2877840"/>
              <a:ext cx="38048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in 60° −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cos 6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3735360"/>
            <a:ext cx="64008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8520" y="208116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directly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3520" y="2590920"/>
            <a:ext cx="6400800" cy="1566360"/>
            <a:chOff x="533520" y="2590920"/>
            <a:chExt cx="6400800" cy="1566360"/>
          </a:xfrm>
        </p:grpSpPr>
        <p:sp>
          <p:nvSpPr>
            <p:cNvPr id="115" name=""/>
            <p:cNvSpPr/>
            <p:nvPr/>
          </p:nvSpPr>
          <p:spPr>
            <a:xfrm>
              <a:off x="533520" y="2709720"/>
              <a:ext cx="6400800" cy="1447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59560" y="2712960"/>
              <a:ext cx="15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x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9560" y="3485880"/>
              <a:ext cx="155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∑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y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0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74280" y="2862000"/>
              <a:ext cx="392040" cy="368280"/>
              <a:chOff x="674280" y="2862000"/>
              <a:chExt cx="392040" cy="368280"/>
            </a:xfrm>
          </p:grpSpPr>
          <p:sp>
            <p:nvSpPr>
              <p:cNvPr id="119" name=""/>
              <p:cNvSpPr/>
              <p:nvPr/>
            </p:nvSpPr>
            <p:spPr>
              <a:xfrm>
                <a:off x="674280" y="28620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49160" y="2862000"/>
                <a:ext cx="31716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74280" y="3547800"/>
              <a:ext cx="392040" cy="380520"/>
              <a:chOff x="674280" y="3547800"/>
              <a:chExt cx="392040" cy="380520"/>
            </a:xfrm>
          </p:grpSpPr>
          <p:sp>
            <p:nvSpPr>
              <p:cNvPr id="122" name=""/>
              <p:cNvSpPr/>
              <p:nvPr/>
            </p:nvSpPr>
            <p:spPr>
              <a:xfrm>
                <a:off x="674280" y="3547800"/>
                <a:ext cx="31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749160" y="3700080"/>
                <a:ext cx="31716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245760" y="2590920"/>
              <a:ext cx="33764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N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− 800 N cos 3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23520" y="3390840"/>
              <a:ext cx="3298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− 800 N sin 30°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81080" y="4179960"/>
            <a:ext cx="5562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norm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27000" y="2133720"/>
            <a:ext cx="7302240" cy="1218960"/>
            <a:chOff x="927000" y="2133720"/>
            <a:chExt cx="7302240" cy="1218960"/>
          </a:xfrm>
        </p:grpSpPr>
        <p:sp>
          <p:nvSpPr>
            <p:cNvPr id="130" name=""/>
            <p:cNvSpPr/>
            <p:nvPr/>
          </p:nvSpPr>
          <p:spPr>
            <a:xfrm>
              <a:off x="927000" y="2133720"/>
              <a:ext cx="71625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9280" y="2449440"/>
              <a:ext cx="106668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65080" y="2171880"/>
              <a:ext cx="4572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8880" indent="-5788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74560" y="2171880"/>
              <a:ext cx="41148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692.8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/sin 60°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24480" y="2463840"/>
              <a:ext cx="1904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375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5840" y="2705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1320" y="2717640"/>
              <a:ext cx="36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0560" y="24652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6477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736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09480" y="2133720"/>
            <a:ext cx="7467480" cy="1218960"/>
            <a:chOff x="609480" y="2133720"/>
            <a:chExt cx="7467480" cy="1218960"/>
          </a:xfrm>
        </p:grpSpPr>
        <p:sp>
          <p:nvSpPr>
            <p:cNvPr id="142" name=""/>
            <p:cNvSpPr/>
            <p:nvPr/>
          </p:nvSpPr>
          <p:spPr>
            <a:xfrm>
              <a:off x="609480" y="2133720"/>
              <a:ext cx="73911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1760" y="2417760"/>
              <a:ext cx="1295280" cy="7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"/>
                </a:rPr>
                <a:t>avg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88760" y="2171520"/>
              <a:ext cx="68580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84120" y="2171520"/>
              <a:ext cx="42037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578880" indent="-578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4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8880" indent="-5788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(0.04 m)(0.04 m/sin 60°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71840" y="2435040"/>
              <a:ext cx="19051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= 217 kPa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63560" y="269244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0880" y="2692440"/>
              <a:ext cx="36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38280" y="24397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85680" y="3352680"/>
            <a:ext cx="68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istribution as shown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13040" y="4191120"/>
            <a:ext cx="351792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 ALLOWABLE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8231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esigning a structural member or mechanical element, the stress in it must be restricted to saf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n allowable load that is less than the load the member can fully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ethod used is the factor of safet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73040" y="4267080"/>
            <a:ext cx="3042720" cy="1295280"/>
            <a:chOff x="2273040" y="4267080"/>
            <a:chExt cx="3042720" cy="1295280"/>
          </a:xfrm>
        </p:grpSpPr>
        <p:sp>
          <p:nvSpPr>
            <p:cNvPr id="155" name=""/>
            <p:cNvSpPr/>
            <p:nvPr/>
          </p:nvSpPr>
          <p:spPr>
            <a:xfrm>
              <a:off x="2666880" y="4267080"/>
              <a:ext cx="22860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73040" y="4636800"/>
              <a:ext cx="222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93000" y="4368600"/>
              <a:ext cx="19227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35440" y="4889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362640" y="4033800"/>
            <a:ext cx="24764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6 ALLOWABLE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823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 applied is linearly related to stress developed within member, th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also be expres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902160" y="2514600"/>
            <a:ext cx="2918520" cy="1171440"/>
            <a:chOff x="902160" y="2514600"/>
            <a:chExt cx="2918520" cy="1171440"/>
          </a:xfrm>
        </p:grpSpPr>
        <p:sp>
          <p:nvSpPr>
            <p:cNvPr id="163" name=""/>
            <p:cNvSpPr/>
            <p:nvPr/>
          </p:nvSpPr>
          <p:spPr>
            <a:xfrm>
              <a:off x="1371600" y="2543040"/>
              <a:ext cx="213372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2160" y="2862000"/>
              <a:ext cx="22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38960" y="2514600"/>
              <a:ext cx="18817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"/>
                </a:rPr>
                <a:t>σ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76440" y="311472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27880" y="2514600"/>
            <a:ext cx="2910960" cy="1158840"/>
            <a:chOff x="4727880" y="2514600"/>
            <a:chExt cx="2910960" cy="1158840"/>
          </a:xfrm>
        </p:grpSpPr>
        <p:sp>
          <p:nvSpPr>
            <p:cNvPr id="168" name=""/>
            <p:cNvSpPr/>
            <p:nvPr/>
          </p:nvSpPr>
          <p:spPr>
            <a:xfrm>
              <a:off x="5181480" y="2606400"/>
              <a:ext cx="2133720" cy="1067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27880" y="2849400"/>
              <a:ext cx="221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.S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06080" y="2514600"/>
              <a:ext cx="183276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ai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24480" y="31017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457200" y="3809880"/>
            <a:ext cx="81532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l the equation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hosen to be greater than 1,  to avoid potential f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values will depend on types of material used and its intended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rea of section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2057400"/>
            <a:ext cx="198108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30040" y="2352600"/>
            <a:ext cx="18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40680" y="2082960"/>
            <a:ext cx="1881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14800" y="2641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22040" y="4572000"/>
            <a:ext cx="2485800" cy="1219320"/>
            <a:chOff x="2822040" y="4572000"/>
            <a:chExt cx="2485800" cy="1219320"/>
          </a:xfrm>
        </p:grpSpPr>
        <p:sp>
          <p:nvSpPr>
            <p:cNvPr id="180" name=""/>
            <p:cNvSpPr/>
            <p:nvPr/>
          </p:nvSpPr>
          <p:spPr>
            <a:xfrm>
              <a:off x="3200400" y="4572000"/>
              <a:ext cx="1752480" cy="121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22040" y="4891320"/>
              <a:ext cx="184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75080" y="4594320"/>
              <a:ext cx="18327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llow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06440" y="5143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82760" y="3505320"/>
            <a:ext cx="8356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area of section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-sectional area of a tension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809880"/>
            <a:ext cx="79246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dition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ce has a line of action that passes through the centroid of the x-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14800" y="2666880"/>
            <a:ext cx="4419720" cy="1500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4647960" cy="13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10080" y="3646440"/>
            <a:ext cx="3733920" cy="188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1219320"/>
            <a:ext cx="4419720" cy="190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88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600" y="1066320"/>
            <a:ext cx="614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erage shear stress over each sectio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971800"/>
            <a:ext cx="60962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shear stress at section, assumed to be same at each pt on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343400"/>
            <a:ext cx="579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resultant shear force at section determined from 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160" y="5638680"/>
            <a:ext cx="41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9120" indent="-51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rea of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684160" y="1676520"/>
            <a:ext cx="2192400" cy="1066680"/>
            <a:chOff x="2684160" y="1676520"/>
            <a:chExt cx="2192400" cy="1066680"/>
          </a:xfrm>
        </p:grpSpPr>
        <p:sp>
          <p:nvSpPr>
            <p:cNvPr id="54" name=""/>
            <p:cNvSpPr/>
            <p:nvPr/>
          </p:nvSpPr>
          <p:spPr>
            <a:xfrm>
              <a:off x="2971800" y="1676520"/>
              <a:ext cx="190476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72400" y="1720800"/>
              <a:ext cx="39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84160" y="1947960"/>
              <a:ext cx="2000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τ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233240" y="2198880"/>
              <a:ext cx="32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oss-sectional area of a connecter subjected to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4286160"/>
            <a:ext cx="84582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lt is loose or clamping force of bolt is unknown, assume frictional force between plates to be neglig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00400" y="2063880"/>
            <a:ext cx="5715000" cy="22032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" y="1963800"/>
            <a:ext cx="3200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995560"/>
            <a:ext cx="426708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ssump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concrete &l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ase 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stress is uniformly distributed between plate and concr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0344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area to resist b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ing stress is normal stress produced by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one surface against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3048120"/>
            <a:ext cx="7975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524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38080" y="3686040"/>
            <a:ext cx="2971800" cy="28670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actual shear-stress distribution along rod difficult to determine, we assume it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calcul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vid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066680"/>
            <a:ext cx="8534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quired area to resist shear caused by axi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8320" y="3971880"/>
            <a:ext cx="38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1280" y="4856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252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using average normal stress and shear stress equations, consider first the section over which the critical stress is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through x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ree-body diagram of segment of 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99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quations of equilibrium to determine internal resultant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7 DESIGN OF SIMPLE CONN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4040" y="1066680"/>
            <a:ext cx="7827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quired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known allowable stress, calculate required area needed to sustain load from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457880" y="3178080"/>
            <a:ext cx="4533840" cy="2689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9760" y="1066320"/>
            <a:ext cx="775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members pinned together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the pins have an allowable shear stres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0 MP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llowable tensile stress of r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15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938320"/>
            <a:ext cx="3581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o nearest mm the smallest diameter of pin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diameter of ro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to support th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2160" y="1066680"/>
            <a:ext cx="81817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523880" y="3276720"/>
            <a:ext cx="5867280" cy="1218960"/>
            <a:chOff x="1523880" y="3276720"/>
            <a:chExt cx="5867280" cy="1218960"/>
          </a:xfrm>
        </p:grpSpPr>
        <p:sp>
          <p:nvSpPr>
            <p:cNvPr id="216" name=""/>
            <p:cNvSpPr/>
            <p:nvPr/>
          </p:nvSpPr>
          <p:spPr>
            <a:xfrm>
              <a:off x="1523880" y="3276720"/>
              <a:ext cx="579096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1726920" y="3352680"/>
              <a:ext cx="5664240" cy="1066320"/>
              <a:chOff x="1726920" y="3352680"/>
              <a:chExt cx="5664240" cy="1066320"/>
            </a:xfrm>
          </p:grpSpPr>
          <p:sp>
            <p:nvSpPr>
              <p:cNvPr id="218" name=""/>
              <p:cNvSpPr/>
              <p:nvPr/>
            </p:nvSpPr>
            <p:spPr>
              <a:xfrm>
                <a:off x="1726920" y="3604680"/>
                <a:ext cx="914400" cy="52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σ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00120" y="3352680"/>
                <a:ext cx="533520" cy="10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95480" y="3352680"/>
                <a:ext cx="2819160" cy="84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9000"/>
              </a:bodyPr>
              <a:p>
                <a:pPr marL="481320" indent="-4813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800 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1320" indent="-48132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0.04 m)(0.04 m)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486040" y="3592080"/>
                <a:ext cx="1905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2000"/>
              </a:bodyPr>
              <a:p>
                <a:pPr marL="499680" indent="-4996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500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438280" y="3860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47760" y="3847680"/>
                <a:ext cx="246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85920" y="360612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"/>
          <p:cNvSpPr/>
          <p:nvPr/>
        </p:nvSpPr>
        <p:spPr>
          <a:xfrm>
            <a:off x="380880" y="46926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hear stress on section, since shear force at section is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57440" y="5562720"/>
            <a:ext cx="222768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865160" y="1600200"/>
            <a:ext cx="537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2520" y="1066680"/>
            <a:ext cx="3162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p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07160" y="4419720"/>
            <a:ext cx="30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3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3124080"/>
            <a:ext cx="7924680" cy="1219320"/>
            <a:chOff x="533520" y="3124080"/>
            <a:chExt cx="7924680" cy="1219320"/>
          </a:xfrm>
        </p:grpSpPr>
        <p:sp>
          <p:nvSpPr>
            <p:cNvPr id="232" name=""/>
            <p:cNvSpPr/>
            <p:nvPr/>
          </p:nvSpPr>
          <p:spPr>
            <a:xfrm>
              <a:off x="533520" y="3124080"/>
              <a:ext cx="7924680" cy="121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48000" y="3124080"/>
              <a:ext cx="7810200" cy="1155960"/>
              <a:chOff x="648000" y="3124080"/>
              <a:chExt cx="7810200" cy="1155960"/>
            </a:xfrm>
          </p:grpSpPr>
          <p:sp>
            <p:nvSpPr>
              <p:cNvPr id="234" name=""/>
              <p:cNvSpPr/>
              <p:nvPr/>
            </p:nvSpPr>
            <p:spPr>
              <a:xfrm>
                <a:off x="648000" y="3390840"/>
                <a:ext cx="160020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71600" y="3137040"/>
                <a:ext cx="99072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marL="603360" indent="-60336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V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603360" indent="-60336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43280" y="3124080"/>
                <a:ext cx="281952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0000"/>
              </a:bodyPr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2.84 k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90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60520" y="3670200"/>
                <a:ext cx="5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362320" y="36799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97240" y="342900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91120" y="3416400"/>
                <a:ext cx="426708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31.56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−6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m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lang="en-US" sz="2800" spc="-1" strike="noStrike" baseline="40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/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5957640" y="6110280"/>
            <a:ext cx="30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.7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46120" y="5029200"/>
            <a:ext cx="8140680" cy="1143000"/>
            <a:chOff x="546120" y="5029200"/>
            <a:chExt cx="8140680" cy="1143000"/>
          </a:xfrm>
        </p:grpSpPr>
        <p:sp>
          <p:nvSpPr>
            <p:cNvPr id="243" name=""/>
            <p:cNvSpPr/>
            <p:nvPr/>
          </p:nvSpPr>
          <p:spPr>
            <a:xfrm>
              <a:off x="546120" y="5029200"/>
              <a:ext cx="814068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85800" y="5067360"/>
              <a:ext cx="8001000" cy="927000"/>
              <a:chOff x="685800" y="5067360"/>
              <a:chExt cx="8001000" cy="927000"/>
            </a:xfrm>
          </p:grpSpPr>
          <p:sp>
            <p:nvSpPr>
              <p:cNvPr id="245" name=""/>
              <p:cNvSpPr/>
              <p:nvPr/>
            </p:nvSpPr>
            <p:spPr>
              <a:xfrm>
                <a:off x="685800" y="5319720"/>
                <a:ext cx="121932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447920" y="5079960"/>
                <a:ext cx="106668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7000"/>
              </a:bodyPr>
              <a:p>
                <a:pPr marL="469080" indent="-469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V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69080" indent="-469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T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allo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067360"/>
                <a:ext cx="2819160" cy="84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0000"/>
              </a:bodyPr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6.67 k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87440" indent="-487440"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90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3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kPa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524240" y="5587920"/>
                <a:ext cx="63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463840" y="560052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76800" y="5359320"/>
                <a:ext cx="1447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67440" y="5334120"/>
                <a:ext cx="441936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609480" indent="-6094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74.11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10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−6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 m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  <a:ea typeface=""/>
                  </a:rPr>
                  <a:t>2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=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(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d</a:t>
                </a:r>
                <a:r>
                  <a:rPr b="0" i="1" lang="en-US" sz="2800" spc="-1" strike="noStrike" baseline="-25000">
                    <a:solidFill>
                      <a:srgbClr val="000000"/>
                    </a:solidFill>
                    <a:latin typeface="Times New Roman"/>
                    <a:ea typeface=""/>
                  </a:rPr>
                  <a:t>B</a:t>
                </a:r>
                <a:r>
                  <a:rPr b="0" lang="en-US" sz="2800" spc="-1" strike="noStrike" baseline="40000">
                    <a:solidFill>
                      <a:srgbClr val="000000"/>
                    </a:solidFill>
                    <a:latin typeface="Times New Roman"/>
                    <a:ea typeface=""/>
                  </a:rPr>
                  <a:t>2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"/>
                  </a:rPr>
                  <a:t>/4)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41044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2160" y="1066680"/>
            <a:ext cx="8181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p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82520" y="2514600"/>
            <a:ext cx="276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90400" y="2514600"/>
            <a:ext cx="293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73800" y="1676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 size larger to nearest milli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3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3378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iameter of r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45120" y="2895480"/>
            <a:ext cx="3327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.59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1676520"/>
            <a:ext cx="845820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916280"/>
            <a:ext cx="144756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B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98680" y="1701720"/>
            <a:ext cx="139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676520"/>
            <a:ext cx="285768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6.67 k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115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k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49440" y="218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2184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82880" y="19447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927080"/>
            <a:ext cx="4191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414360" indent="-414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= 58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−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"/>
              </a:rPr>
              <a:t>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0920" y="4114800"/>
            <a:ext cx="2882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9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-152280" y="3505320"/>
            <a:ext cx="72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ose a size larger to nearest millim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discussed above is examp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the direct action of applied loa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various types of simple connections, e.g., bolts, pins, weld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loadings consis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force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ing mome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sional moments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resultants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tions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 for a uniform normal stress distribution over x-section of memb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made from homogeneous isotrop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ed to a series of external axial loads tha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ads must pass through centroid of x-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0120" y="1066320"/>
            <a:ext cx="7934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shear stress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/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resultant shear force on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 is used mostly to find average shear stress in fasteners or in parts fo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0120" y="1066680"/>
            <a:ext cx="7680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ny simple connection require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tress along any x-section not exceed a factor of safety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able value of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l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values are reported in codes or standards and are deemed safe on basis of experiments or through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28120" y="1066680"/>
            <a:ext cx="7929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ngle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el and wood joints shown below are exampl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ngle-shear conn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so known as lap j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we assume members are thin, there are no moments caused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4441680"/>
            <a:ext cx="86104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528120" y="1066680"/>
            <a:ext cx="775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ingle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, x-sectional area of bolt and bonding surface between the two members are subjected to single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shear stress equation can be applied to determine average shear stress acting on colored section in (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4476600"/>
            <a:ext cx="845820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066320"/>
            <a:ext cx="796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ouble sh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ints shown below are examples of double-shear connections, often called double lap j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quilibrium, x-sectional area of bolt and bonding surface between two members  subjected to double shear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verage shear stress equation to determine average shear stress acting on colored section in (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93680" y="4799160"/>
            <a:ext cx="744084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880" y="47160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5 AVERAGE SHEAR 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96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rocedure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rnal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member at the pt where the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o be determ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free-bod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internal shear forc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verage shear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ctioned are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verage shear stres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18208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th and thickness = 40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average normal stress and average shear stress acting along (a) section plan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(b) section pla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853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6880" y="4856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1.10 (SO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8480" y="1066680"/>
            <a:ext cx="7321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nter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ree-body diagram, Resultant loading of axial for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00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5638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11:25Z</dcterms:created>
  <dc:creator>Ng Family</dc:creator>
  <dc:description/>
  <dc:language>en-US</dc:language>
  <cp:lastModifiedBy>Ng Family</cp:lastModifiedBy>
  <dcterms:modified xsi:type="dcterms:W3CDTF">2005-05-05T04:52:46Z</dcterms:modified>
  <cp:revision>10</cp:revision>
  <dc:subject/>
  <dc:title>1.5 AVERAGE SHEAR STRESS</dc:title>
</cp:coreProperties>
</file>