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EACDB-6B74-41C9-8F44-996A0ADE6E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880" y="42552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737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240" y="3972240"/>
            <a:ext cx="8737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B2D57-8BA5-4FE5-89B3-0A947E27E6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880" y="42552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4263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560" y="1066680"/>
            <a:ext cx="4263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240" y="3972240"/>
            <a:ext cx="4263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560" y="3972240"/>
            <a:ext cx="4263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D7D89-7B84-4C62-8E02-2063244EB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880" y="42552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281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2760" y="1066680"/>
            <a:ext cx="281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7280" y="1066680"/>
            <a:ext cx="281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240" y="3972240"/>
            <a:ext cx="281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2760" y="3972240"/>
            <a:ext cx="281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7280" y="3972240"/>
            <a:ext cx="281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2D396-CA12-46C3-87D5-BE38A48DCA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880" y="42552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240" y="1066680"/>
            <a:ext cx="87375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7B867-9D81-403A-88CE-028EB4457E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880" y="42552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737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148A2-53E5-44CA-8F0A-4AB6050827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880" y="42552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42638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560" y="1066680"/>
            <a:ext cx="42638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72811-A669-4964-A367-F329C148BF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880" y="42552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01952-F6BE-4B38-A601-FFC682CFC9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6880" y="457200"/>
            <a:ext cx="87627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F6D1B-2ED5-42CC-ACCE-CF5DDF2C4C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880" y="42552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4263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560" y="1066680"/>
            <a:ext cx="42638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240" y="3972240"/>
            <a:ext cx="4263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AD902-D68F-4E0B-B5AC-89356CBF94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880" y="42552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42638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560" y="1066680"/>
            <a:ext cx="4263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560" y="3972240"/>
            <a:ext cx="4263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760B4-AB91-4751-9CA8-D400F0945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880" y="42552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4263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560" y="1066680"/>
            <a:ext cx="4263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240" y="3972240"/>
            <a:ext cx="8737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374F6-37E4-4BB2-8DF0-0A63E03FD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9144000" cy="5475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0"/>
            <a:ext cx="914400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6880" y="45720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8240" y="1066680"/>
            <a:ext cx="8737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6CDF-3FBB-432D-B7D9-B650FA303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280" y="6629400"/>
            <a:ext cx="250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 Pearson Education South Asia Pte Lt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4240" y="0"/>
            <a:ext cx="14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St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6880" y="5000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5 AVERAGE SHEAR 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12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 stress is the stress component that act in the plane of the sectioned are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a for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ting to the 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rigid supports,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large enough, bar will deform and fail along the planes identifi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-body diagram indicates that shear forc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applied at both sections to ensure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800600" y="4932360"/>
            <a:ext cx="335268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10 (SO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28480" y="1066680"/>
            <a:ext cx="73216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 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verage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normal stress,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295280" y="2666880"/>
            <a:ext cx="5791320" cy="1295640"/>
            <a:chOff x="1295280" y="2666880"/>
            <a:chExt cx="5791320" cy="1295640"/>
          </a:xfrm>
        </p:grpSpPr>
        <p:sp>
          <p:nvSpPr>
            <p:cNvPr id="81" name=""/>
            <p:cNvSpPr/>
            <p:nvPr/>
          </p:nvSpPr>
          <p:spPr>
            <a:xfrm>
              <a:off x="1295280" y="2666880"/>
              <a:ext cx="5791320" cy="1295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76360" y="2989440"/>
              <a:ext cx="76212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marL="499680" indent="-4996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σ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71880" y="2793960"/>
              <a:ext cx="52056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43200" y="2819520"/>
              <a:ext cx="27432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 marL="529920" indent="-5299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800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29920" indent="-5299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(0.04 m)(0.04 m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34120" y="2971800"/>
              <a:ext cx="17524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7000"/>
            </a:bodyPr>
            <a:p>
              <a:pPr marL="469080" indent="-469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= 500 kPa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58920" y="3270240"/>
              <a:ext cx="36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895480" y="325116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08440" y="298764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86280" y="4191120"/>
            <a:ext cx="29718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10 (SO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28480" y="1066320"/>
            <a:ext cx="811080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 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nternal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hear stress on section, since shear force at section is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733920" y="2590920"/>
            <a:ext cx="1676160" cy="761760"/>
            <a:chOff x="3733920" y="2590920"/>
            <a:chExt cx="1676160" cy="761760"/>
          </a:xfrm>
        </p:grpSpPr>
        <p:sp>
          <p:nvSpPr>
            <p:cNvPr id="93" name=""/>
            <p:cNvSpPr/>
            <p:nvPr/>
          </p:nvSpPr>
          <p:spPr>
            <a:xfrm>
              <a:off x="3733920" y="2590920"/>
              <a:ext cx="1676160" cy="761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86200" y="2666880"/>
              <a:ext cx="1371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τ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v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86280" y="3727440"/>
            <a:ext cx="29718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10 (SO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0373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 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nternal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57200" y="2101680"/>
            <a:ext cx="7619760" cy="1555560"/>
            <a:chOff x="457200" y="2101680"/>
            <a:chExt cx="7619760" cy="1555560"/>
          </a:xfrm>
        </p:grpSpPr>
        <p:sp>
          <p:nvSpPr>
            <p:cNvPr id="99" name=""/>
            <p:cNvSpPr/>
            <p:nvPr/>
          </p:nvSpPr>
          <p:spPr>
            <a:xfrm>
              <a:off x="457200" y="2209320"/>
              <a:ext cx="7619760" cy="1447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673920" y="2998440"/>
              <a:ext cx="315000" cy="444600"/>
              <a:chOff x="673920" y="2998440"/>
              <a:chExt cx="315000" cy="444600"/>
            </a:xfrm>
          </p:grpSpPr>
          <p:sp>
            <p:nvSpPr>
              <p:cNvPr id="101" name=""/>
              <p:cNvSpPr/>
              <p:nvPr/>
            </p:nvSpPr>
            <p:spPr>
              <a:xfrm>
                <a:off x="673920" y="307476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977400" y="299844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1077120" y="2250720"/>
              <a:ext cx="1483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∑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0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72920" y="2101680"/>
              <a:ext cx="534852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−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800 N +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sin 60° +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cos 6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86880" y="2312640"/>
              <a:ext cx="316440" cy="368280"/>
              <a:chOff x="686880" y="2312640"/>
              <a:chExt cx="316440" cy="368280"/>
            </a:xfrm>
          </p:grpSpPr>
          <p:sp>
            <p:nvSpPr>
              <p:cNvPr id="106" name=""/>
              <p:cNvSpPr/>
              <p:nvPr/>
            </p:nvSpPr>
            <p:spPr>
              <a:xfrm>
                <a:off x="686880" y="231264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98760" y="2617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77120" y="2998440"/>
              <a:ext cx="1483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∑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0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78160" y="2877840"/>
              <a:ext cx="380484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sin 60° −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cos 60°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3735360"/>
            <a:ext cx="640080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10 (SO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03736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 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nternal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38520" y="2081160"/>
            <a:ext cx="56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directly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33520" y="2590920"/>
            <a:ext cx="6400800" cy="1566360"/>
            <a:chOff x="533520" y="2590920"/>
            <a:chExt cx="6400800" cy="1566360"/>
          </a:xfrm>
        </p:grpSpPr>
        <p:sp>
          <p:nvSpPr>
            <p:cNvPr id="115" name=""/>
            <p:cNvSpPr/>
            <p:nvPr/>
          </p:nvSpPr>
          <p:spPr>
            <a:xfrm>
              <a:off x="533520" y="2709720"/>
              <a:ext cx="6400800" cy="1447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59560" y="2712960"/>
              <a:ext cx="1552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∑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x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0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59560" y="3485880"/>
              <a:ext cx="1552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∑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y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0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674280" y="2862000"/>
              <a:ext cx="392040" cy="368280"/>
              <a:chOff x="674280" y="2862000"/>
              <a:chExt cx="392040" cy="368280"/>
            </a:xfrm>
          </p:grpSpPr>
          <p:sp>
            <p:nvSpPr>
              <p:cNvPr id="119" name=""/>
              <p:cNvSpPr/>
              <p:nvPr/>
            </p:nvSpPr>
            <p:spPr>
              <a:xfrm>
                <a:off x="674280" y="286200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49160" y="2862000"/>
                <a:ext cx="31716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674280" y="3547800"/>
              <a:ext cx="392040" cy="380520"/>
              <a:chOff x="674280" y="3547800"/>
              <a:chExt cx="392040" cy="380520"/>
            </a:xfrm>
          </p:grpSpPr>
          <p:sp>
            <p:nvSpPr>
              <p:cNvPr id="122" name=""/>
              <p:cNvSpPr/>
              <p:nvPr/>
            </p:nvSpPr>
            <p:spPr>
              <a:xfrm>
                <a:off x="674280" y="354780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749160" y="3700080"/>
                <a:ext cx="31716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3245760" y="2590920"/>
              <a:ext cx="337644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− 800 N cos 30°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23520" y="3390840"/>
              <a:ext cx="329868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− 800 N sin 30°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81080" y="4179960"/>
            <a:ext cx="55627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10 (SO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0373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 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verage normal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927000" y="2133720"/>
            <a:ext cx="7302240" cy="1218960"/>
            <a:chOff x="927000" y="2133720"/>
            <a:chExt cx="7302240" cy="1218960"/>
          </a:xfrm>
        </p:grpSpPr>
        <p:sp>
          <p:nvSpPr>
            <p:cNvPr id="130" name=""/>
            <p:cNvSpPr/>
            <p:nvPr/>
          </p:nvSpPr>
          <p:spPr>
            <a:xfrm>
              <a:off x="927000" y="2133720"/>
              <a:ext cx="7162560" cy="1218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79280" y="2449440"/>
              <a:ext cx="1066680" cy="5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σ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65080" y="2171880"/>
              <a:ext cx="45720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marL="578880" indent="-5788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78880" indent="-5788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"/>
                  <a:ea typeface="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74560" y="2171880"/>
              <a:ext cx="41148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692.8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(0.04 m)(0.04 m/sin 60°)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24480" y="2463840"/>
              <a:ext cx="19047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= 375 kPa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15840" y="27050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41320" y="2717640"/>
              <a:ext cx="365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0560" y="246528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647712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10 (SO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0373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 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verage shear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09480" y="2133720"/>
            <a:ext cx="7467480" cy="1218960"/>
            <a:chOff x="609480" y="2133720"/>
            <a:chExt cx="7467480" cy="1218960"/>
          </a:xfrm>
        </p:grpSpPr>
        <p:sp>
          <p:nvSpPr>
            <p:cNvPr id="142" name=""/>
            <p:cNvSpPr/>
            <p:nvPr/>
          </p:nvSpPr>
          <p:spPr>
            <a:xfrm>
              <a:off x="609480" y="2133720"/>
              <a:ext cx="7391160" cy="1218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1760" y="2417760"/>
              <a:ext cx="1295280" cy="70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τ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"/>
                </a:rPr>
                <a:t>avg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88760" y="2171520"/>
              <a:ext cx="685800" cy="11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84120" y="2171520"/>
              <a:ext cx="420372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marL="578880" indent="-5788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400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78880" indent="-5788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(0.04 m)(0.04 m/sin 60°)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71840" y="2435040"/>
              <a:ext cx="190512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= 217 kPa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63560" y="2692440"/>
              <a:ext cx="39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0880" y="2692440"/>
              <a:ext cx="365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38280" y="24397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85680" y="3352680"/>
            <a:ext cx="68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distribution as shown bel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813040" y="4191120"/>
            <a:ext cx="351792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6 ALLOWABLE 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78231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esigning a structural member or mechanical element, the stress in it must be restricted to saf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n allowable load that is less than the load the member can fully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ethod used is the factor of safety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.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273040" y="4267080"/>
            <a:ext cx="3042720" cy="1295280"/>
            <a:chOff x="2273040" y="4267080"/>
            <a:chExt cx="3042720" cy="1295280"/>
          </a:xfrm>
        </p:grpSpPr>
        <p:sp>
          <p:nvSpPr>
            <p:cNvPr id="155" name=""/>
            <p:cNvSpPr/>
            <p:nvPr/>
          </p:nvSpPr>
          <p:spPr>
            <a:xfrm>
              <a:off x="2666880" y="4267080"/>
              <a:ext cx="2286000" cy="12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73040" y="4636800"/>
              <a:ext cx="222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.S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93000" y="4368600"/>
              <a:ext cx="1922760" cy="11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i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llo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35440" y="4889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362640" y="4033800"/>
            <a:ext cx="24764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6 ALLOWABLE 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7823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oad applied is linearly related to stress developed within member, the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.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also be expressed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902160" y="2514600"/>
            <a:ext cx="2918520" cy="1171440"/>
            <a:chOff x="902160" y="2514600"/>
            <a:chExt cx="2918520" cy="1171440"/>
          </a:xfrm>
        </p:grpSpPr>
        <p:sp>
          <p:nvSpPr>
            <p:cNvPr id="163" name=""/>
            <p:cNvSpPr/>
            <p:nvPr/>
          </p:nvSpPr>
          <p:spPr>
            <a:xfrm>
              <a:off x="1371600" y="2543040"/>
              <a:ext cx="2133720" cy="1143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02160" y="2862000"/>
              <a:ext cx="221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.S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38960" y="2514600"/>
              <a:ext cx="1881720" cy="11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σ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i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σ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llo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76440" y="311472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727880" y="2514600"/>
            <a:ext cx="2910960" cy="1158840"/>
            <a:chOff x="4727880" y="2514600"/>
            <a:chExt cx="2910960" cy="1158840"/>
          </a:xfrm>
        </p:grpSpPr>
        <p:sp>
          <p:nvSpPr>
            <p:cNvPr id="168" name=""/>
            <p:cNvSpPr/>
            <p:nvPr/>
          </p:nvSpPr>
          <p:spPr>
            <a:xfrm>
              <a:off x="5181480" y="2606400"/>
              <a:ext cx="2133720" cy="1067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727880" y="2849400"/>
              <a:ext cx="221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.S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06080" y="2514600"/>
              <a:ext cx="1832760" cy="11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τ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i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τ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llo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24480" y="3101760"/>
              <a:ext cx="63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457200" y="3809880"/>
            <a:ext cx="815328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ll the equations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.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hosen to be greater than 1,  to avoid potential f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values will depend on types of material used and its intended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7 DESIGN OF SIMPLE 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termine area of section subjected to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rmal fo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2057400"/>
            <a:ext cx="198108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30040" y="2352600"/>
            <a:ext cx="184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40680" y="2082960"/>
            <a:ext cx="18817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14800" y="2641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822040" y="4572000"/>
            <a:ext cx="2485800" cy="1219320"/>
            <a:chOff x="2822040" y="4572000"/>
            <a:chExt cx="2485800" cy="1219320"/>
          </a:xfrm>
        </p:grpSpPr>
        <p:sp>
          <p:nvSpPr>
            <p:cNvPr id="180" name=""/>
            <p:cNvSpPr/>
            <p:nvPr/>
          </p:nvSpPr>
          <p:spPr>
            <a:xfrm>
              <a:off x="3200400" y="4572000"/>
              <a:ext cx="1752480" cy="1219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822040" y="4891320"/>
              <a:ext cx="184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75080" y="4594320"/>
              <a:ext cx="183276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τ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llo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06440" y="51436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482760" y="3505320"/>
            <a:ext cx="8356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termine area of section subjected to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ear fo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7 DESIGN OF SIMPLE 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ross-sectional area of a tension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3809880"/>
            <a:ext cx="79246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dition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ce has a line of action that passes through the centroid of the x-s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114800" y="2666880"/>
            <a:ext cx="4419720" cy="1500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4647960" cy="13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410080" y="3646440"/>
            <a:ext cx="3733920" cy="1889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724280" y="1219320"/>
            <a:ext cx="4419720" cy="190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880" y="5000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5 AVERAGE SHEAR 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600" y="1066320"/>
            <a:ext cx="614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erage shear stress over each section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971800"/>
            <a:ext cx="60962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verage shear stress at section, assumed to be same at each pt on the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4343400"/>
            <a:ext cx="579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resultant shear force at section determined from equations of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2160" y="5638680"/>
            <a:ext cx="41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9120" indent="-519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rea of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684160" y="1676520"/>
            <a:ext cx="2192400" cy="1066680"/>
            <a:chOff x="2684160" y="1676520"/>
            <a:chExt cx="2192400" cy="1066680"/>
          </a:xfrm>
        </p:grpSpPr>
        <p:sp>
          <p:nvSpPr>
            <p:cNvPr id="54" name=""/>
            <p:cNvSpPr/>
            <p:nvPr/>
          </p:nvSpPr>
          <p:spPr>
            <a:xfrm>
              <a:off x="2971800" y="1676520"/>
              <a:ext cx="1904760" cy="1066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72400" y="1720800"/>
              <a:ext cx="397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84160" y="1947960"/>
              <a:ext cx="2000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τ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v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233240" y="2198880"/>
              <a:ext cx="32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7 DESIGN OF SIMPLE 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ross-sectional area of a connecter subjected to sh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4286160"/>
            <a:ext cx="845820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ssumption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bolt is loose or clamping force of bolt is unknown, assume frictional force between plates to be neglig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200400" y="2063880"/>
            <a:ext cx="5715000" cy="22032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28600" y="1963800"/>
            <a:ext cx="32004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57200" y="2995560"/>
            <a:ext cx="4267080" cy="33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ssumption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l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concrete &l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l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base 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ring stress is uniformly distributed between plate and concr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7 DESIGN OF SIMPLE 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0344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equired area to resist be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ring stress is normal stress produced by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pre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one surface against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3048120"/>
            <a:ext cx="79754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34120" y="2438280"/>
            <a:ext cx="3524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838080" y="3686040"/>
            <a:ext cx="2971800" cy="28670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7 DESIGN OF SIMPLE 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hough actual shear-stress distribution along rod difficult to determine, we assume it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i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 u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l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calcul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rovid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l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kn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1066680"/>
            <a:ext cx="8534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equired area to resist shear caused by axial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648320" y="3971880"/>
            <a:ext cx="38862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1280" y="48564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7 DESIGN OF SIMPLE 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252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using average normal stress and shear stress equations, consider first the section over which the critical stress is a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nal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999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member through x-sectional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999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 free-body diagram of segment of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999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equations of equilibrium to determine internal resultant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7 DESIGN OF SIMPLE 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54040" y="1066680"/>
            <a:ext cx="7827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quired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known allowable stress, calculate required area needed to sustain load from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457880" y="3178080"/>
            <a:ext cx="4533840" cy="26892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99760" y="1066320"/>
            <a:ext cx="7751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o members pinned together 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If the pins have an allowable shear stress of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90 MP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allowable tensile stress of ro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15 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938320"/>
            <a:ext cx="358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o nearest mm the smallest diameter of pi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 diameter of ro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cessary to support the l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13 (SO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2160" y="1066680"/>
            <a:ext cx="81817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87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free-body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523880" y="3276720"/>
            <a:ext cx="5867280" cy="1218960"/>
            <a:chOff x="1523880" y="3276720"/>
            <a:chExt cx="5867280" cy="1218960"/>
          </a:xfrm>
        </p:grpSpPr>
        <p:sp>
          <p:nvSpPr>
            <p:cNvPr id="216" name=""/>
            <p:cNvSpPr/>
            <p:nvPr/>
          </p:nvSpPr>
          <p:spPr>
            <a:xfrm>
              <a:off x="1523880" y="3276720"/>
              <a:ext cx="5790960" cy="1218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1726920" y="3352680"/>
              <a:ext cx="5664240" cy="1066320"/>
              <a:chOff x="1726920" y="3352680"/>
              <a:chExt cx="5664240" cy="1066320"/>
            </a:xfrm>
          </p:grpSpPr>
          <p:sp>
            <p:nvSpPr>
              <p:cNvPr id="218" name=""/>
              <p:cNvSpPr/>
              <p:nvPr/>
            </p:nvSpPr>
            <p:spPr>
              <a:xfrm>
                <a:off x="1726920" y="3604680"/>
                <a:ext cx="914400" cy="52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609480" indent="-6094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σ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=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400120" y="3352680"/>
                <a:ext cx="533520" cy="106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609480" indent="-6094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9480" indent="-6094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A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895480" y="3352680"/>
                <a:ext cx="2819160" cy="84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9000"/>
              </a:bodyPr>
              <a:p>
                <a:pPr marL="481320" indent="-4813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800 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81320" indent="-4813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(0.04 m)(0.04 m)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486040" y="3592080"/>
                <a:ext cx="190512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2000"/>
              </a:bodyPr>
              <a:p>
                <a:pPr marL="499680" indent="-4996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= 500 kPa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438280" y="386028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047760" y="3847680"/>
                <a:ext cx="246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185920" y="3606120"/>
                <a:ext cx="1447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"/>
          <p:cNvSpPr/>
          <p:nvPr/>
        </p:nvSpPr>
        <p:spPr>
          <a:xfrm>
            <a:off x="380880" y="46926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hear stress on section, since shear force at section is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57440" y="5562720"/>
            <a:ext cx="2227680" cy="579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v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865160" y="1600200"/>
            <a:ext cx="537372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13 (SO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2520" y="1066680"/>
            <a:ext cx="3162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Diameter of pi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07160" y="4419720"/>
            <a:ext cx="3035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6.3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3124080"/>
            <a:ext cx="7924680" cy="1219320"/>
            <a:chOff x="533520" y="3124080"/>
            <a:chExt cx="7924680" cy="1219320"/>
          </a:xfrm>
        </p:grpSpPr>
        <p:sp>
          <p:nvSpPr>
            <p:cNvPr id="232" name=""/>
            <p:cNvSpPr/>
            <p:nvPr/>
          </p:nvSpPr>
          <p:spPr>
            <a:xfrm>
              <a:off x="533520" y="3124080"/>
              <a:ext cx="7924680" cy="1219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648000" y="3124080"/>
              <a:ext cx="7810200" cy="1155960"/>
              <a:chOff x="648000" y="3124080"/>
              <a:chExt cx="7810200" cy="1155960"/>
            </a:xfrm>
          </p:grpSpPr>
          <p:sp>
            <p:nvSpPr>
              <p:cNvPr id="234" name=""/>
              <p:cNvSpPr/>
              <p:nvPr/>
            </p:nvSpPr>
            <p:spPr>
              <a:xfrm>
                <a:off x="648000" y="3390840"/>
                <a:ext cx="1600200" cy="67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609480" indent="-6094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A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"/>
                  </a:rPr>
                  <a:t>A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 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371600" y="3137040"/>
                <a:ext cx="99072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marL="603360" indent="-60336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V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3360" indent="-60336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T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"/>
                  </a:rPr>
                  <a:t>allo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43280" y="3124080"/>
                <a:ext cx="2819520" cy="84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0000"/>
              </a:bodyPr>
              <a:p>
                <a:pPr marL="487440" indent="-48744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2.84 k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87440" indent="-48744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90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 10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  <a:ea typeface=""/>
                  </a:rPr>
                  <a:t>3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 kPa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460520" y="3670200"/>
                <a:ext cx="5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362320" y="367992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497240" y="3429000"/>
                <a:ext cx="1447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191120" y="3416400"/>
                <a:ext cx="426708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609480" indent="-6094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= 31.56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 10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  <a:ea typeface=""/>
                  </a:rPr>
                  <a:t>−6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 m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  <a:ea typeface=""/>
                  </a:rPr>
                  <a:t>2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(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d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"/>
                  </a:rPr>
                  <a:t>A</a:t>
                </a:r>
                <a:r>
                  <a:rPr b="0" lang="en-US" sz="2800" spc="-1" strike="noStrike" baseline="40000">
                    <a:solidFill>
                      <a:srgbClr val="000000"/>
                    </a:solidFill>
                    <a:latin typeface="Times New Roman"/>
                    <a:ea typeface=""/>
                  </a:rPr>
                  <a:t>2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/4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"/>
          <p:cNvSpPr/>
          <p:nvPr/>
        </p:nvSpPr>
        <p:spPr>
          <a:xfrm>
            <a:off x="5957640" y="6110280"/>
            <a:ext cx="302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9.7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6120" y="5029200"/>
            <a:ext cx="8140680" cy="1143000"/>
            <a:chOff x="546120" y="5029200"/>
            <a:chExt cx="8140680" cy="1143000"/>
          </a:xfrm>
        </p:grpSpPr>
        <p:sp>
          <p:nvSpPr>
            <p:cNvPr id="243" name=""/>
            <p:cNvSpPr/>
            <p:nvPr/>
          </p:nvSpPr>
          <p:spPr>
            <a:xfrm>
              <a:off x="546120" y="5029200"/>
              <a:ext cx="8140680" cy="1143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685800" y="5067360"/>
              <a:ext cx="8001000" cy="927000"/>
              <a:chOff x="685800" y="5067360"/>
              <a:chExt cx="8001000" cy="927000"/>
            </a:xfrm>
          </p:grpSpPr>
          <p:sp>
            <p:nvSpPr>
              <p:cNvPr id="245" name=""/>
              <p:cNvSpPr/>
              <p:nvPr/>
            </p:nvSpPr>
            <p:spPr>
              <a:xfrm>
                <a:off x="685800" y="5319720"/>
                <a:ext cx="1219320" cy="67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609480" indent="-6094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A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"/>
                  </a:rPr>
                  <a:t>B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 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447920" y="5079960"/>
                <a:ext cx="106668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7000"/>
              </a:bodyPr>
              <a:p>
                <a:pPr marL="469080" indent="-469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V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69080" indent="-469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T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"/>
                  </a:rPr>
                  <a:t>allo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981440" y="5067360"/>
                <a:ext cx="2819160" cy="84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0000"/>
              </a:bodyPr>
              <a:p>
                <a:pPr marL="487440" indent="-48744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6.67 k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87440" indent="-48744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90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 10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  <a:ea typeface=""/>
                  </a:rPr>
                  <a:t>3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 kPa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524240" y="558792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463840" y="560052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576800" y="5359320"/>
                <a:ext cx="1447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267440" y="5334120"/>
                <a:ext cx="441936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609480" indent="-6094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= 74.11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 10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  <a:ea typeface=""/>
                  </a:rPr>
                  <a:t>−6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 m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  <a:ea typeface=""/>
                  </a:rPr>
                  <a:t>2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(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d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"/>
                  </a:rPr>
                  <a:t>B</a:t>
                </a:r>
                <a:r>
                  <a:rPr b="0" lang="en-US" sz="2800" spc="-1" strike="noStrike" baseline="40000">
                    <a:solidFill>
                      <a:srgbClr val="000000"/>
                    </a:solidFill>
                    <a:latin typeface="Times New Roman"/>
                    <a:ea typeface=""/>
                  </a:rPr>
                  <a:t>2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/4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581280" y="1219320"/>
            <a:ext cx="541044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13 (SO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2160" y="1066680"/>
            <a:ext cx="81817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Diameter of pi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82520" y="2514600"/>
            <a:ext cx="276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7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90400" y="2514600"/>
            <a:ext cx="2936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-73800" y="16765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 size larger to nearest millime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13 (SO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337824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438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Diameter of ro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45120" y="2895480"/>
            <a:ext cx="3327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8.59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1676520"/>
            <a:ext cx="84582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916280"/>
            <a:ext cx="144756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498680" y="1701720"/>
            <a:ext cx="139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499680" indent="-499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"/>
              </a:rPr>
              <a:t>σ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1676520"/>
            <a:ext cx="285768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"/>
              </a:rPr>
              <a:t>6.67 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"/>
              </a:rPr>
              <a:t>115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"/>
              </a:rPr>
              <a:t> kP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49440" y="2184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95480" y="2184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82880" y="194472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1927080"/>
            <a:ext cx="4191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414360" indent="-414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"/>
              </a:rPr>
              <a:t>= 58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"/>
              </a:rPr>
              <a:t>−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"/>
              </a:rPr>
              <a:t>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"/>
              </a:rPr>
              <a:t>/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20920" y="4114800"/>
            <a:ext cx="288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9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-152280" y="3505320"/>
            <a:ext cx="723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a size larger to nearest millime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5 AVERAGE SHEAR 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discussed above is exampl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rect sh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by the direct action of applied loa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in various types of simple connections, e.g., bolts, pins, welded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loadings consis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force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 force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ding moments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sional moments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resultants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of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tions of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s for a uniform normal stress distribution over x-section of memb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 made from homogeneous isotropic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jected to a series of external axial loads tha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ads must pass through centroid of x-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0120" y="1066320"/>
            <a:ext cx="7934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average shear stress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V/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resultant shear force on x-sectional are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mula is used mostly to find average shear stress in fasteners or in parts for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0120" y="1066680"/>
            <a:ext cx="76802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of any simple connection requires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stress along any x-section not exceed a factor of safety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.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able value of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al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or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values are reported in codes or standards and are deemed safe on basis of experiments or through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28120" y="1066680"/>
            <a:ext cx="7929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ingle sh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el and wood joints shown below are example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ngle-shear conn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lso known as lap joi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we assume members are thin, there are no moments caused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5 AVERAGE SHEAR 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4441680"/>
            <a:ext cx="861048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28120" y="1066680"/>
            <a:ext cx="7751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ingle sh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quilibrium, x-sectional area of bolt and bonding surface between the two members are subjected to single shear forc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verage shear stress equation can be applied to determine average shear stress acting on colored section in (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5 AVERAGE SHEAR 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80880" y="4476600"/>
            <a:ext cx="84582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5 AVERAGE SHEAR 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28480" y="1066320"/>
            <a:ext cx="796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Double sh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oints shown below are examples of double-shear connections, often called double lap j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quilibrium, x-sectional area of bolt and bonding surface between two members  subjected to double shear forc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average shear stress equation to determine average shear stress acting on colored section in (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93680" y="4799160"/>
            <a:ext cx="7440840" cy="17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6880" y="47160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5 AVERAGE SHEAR 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8480" y="1066680"/>
            <a:ext cx="796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nal sh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member at the pt where the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o be determ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free-body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the internal shear for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verage shear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sectioned are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average shear stress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18208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87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th and thickness = 4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60020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average normal stress and average shear stress acting along (a) section plan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(b) section pla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920" y="3200400"/>
            <a:ext cx="853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10 (SO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28480" y="1066680"/>
            <a:ext cx="73216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 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nternal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free-body diagram, Resultant loading of axial forc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800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76520" y="3200400"/>
            <a:ext cx="563868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3:11:25Z</dcterms:created>
  <dc:creator>Ng Family</dc:creator>
  <dc:description/>
  <dc:language>en-US</dc:language>
  <cp:lastModifiedBy>Ng Family</cp:lastModifiedBy>
  <dcterms:modified xsi:type="dcterms:W3CDTF">2005-05-05T04:52:46Z</dcterms:modified>
  <cp:revision>10</cp:revision>
  <dc:subject/>
  <dc:title>1.5 AVERAGE SHEAR STRESS</dc:title>
</cp:coreProperties>
</file>