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856AA-2F57-49E3-B9D2-D128FB4D94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24729-28B8-421D-B1F4-62F613618D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C2FAA-C37A-4B0E-8108-75F3F23EE9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148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696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148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AEA80-68E8-45C6-B367-B03E79C1D9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16A70-2ABB-4D83-A528-E2BBA2F0B4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9D97E-D18E-4672-B483-88588FC3E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4FAEA-CD15-42FA-9861-3A53B9837F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8BCDF-DCB3-441F-9DE9-C1CC0018D5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6880" y="495360"/>
            <a:ext cx="87627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E9B12-1C1F-4A7D-8FFA-2F167967B2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07482-3FF6-4304-B355-57F8DFC0C7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6DE01-7173-4B9A-92DB-01AF8F48FB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FE30E-397A-4580-AEC1-0389CC6924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9144000" cy="5475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0"/>
            <a:ext cx="914400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346A-7A3C-4F7A-893A-C8D2A752D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280" y="6629400"/>
            <a:ext cx="250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 Pearson Education South Asia Pte Lt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7520" y="0"/>
            <a:ext cx="15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Str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concept of normal st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concept of shear st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normal and shear strain in engineering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29200" y="114300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DC11C-CEDE-426A-9470-1BDF2093D2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6080" y="1066680"/>
            <a:ext cx="83566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hear st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line segme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iginating from same poi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 body, and directed along the perpendicul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deformation, lines become curves, such that angle between them 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43000" y="3886200"/>
            <a:ext cx="2819520" cy="2652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029200" y="3809880"/>
            <a:ext cx="2174760" cy="30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79B7B-A216-46E5-8688-EB9EA9AAE7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06440" y="1066320"/>
            <a:ext cx="8432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hear st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nce, shear strain at poi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ssociated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xe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smaller tha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shear strain is positiv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therwise, shear strain is neg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81360" y="2590920"/>
            <a:ext cx="4228920" cy="1447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16760" y="2919240"/>
            <a:ext cx="185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03720" y="2658960"/>
            <a:ext cx="14428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42800" y="2705040"/>
            <a:ext cx="29667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alo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→A alo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39560" y="2986200"/>
            <a:ext cx="154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31701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70640" y="291132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03EE0-209E-4589-A6A8-97507AE587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7480" y="1066320"/>
            <a:ext cx="87375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artesian strain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bove definitions of normal and shear strain, we show how they describe the deformation of the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7596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118280" y="4343400"/>
            <a:ext cx="1416240" cy="2362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952880" y="2895480"/>
            <a:ext cx="2210040" cy="2079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81080" y="29592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body into small elements with undeformed dimensions o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CA628-A459-4F5E-A6BE-6CA9CBCD08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097680" y="2133720"/>
            <a:ext cx="2741400" cy="23907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9240" y="1066680"/>
            <a:ext cx="860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artesian strain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element is very small, deformed shape of element is a parallelepi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. lengths of sides of parallelepiped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38080" y="5229360"/>
            <a:ext cx="7848720" cy="761760"/>
            <a:chOff x="838080" y="5229360"/>
            <a:chExt cx="7848720" cy="761760"/>
          </a:xfrm>
        </p:grpSpPr>
        <p:sp>
          <p:nvSpPr>
            <p:cNvPr id="103" name=""/>
            <p:cNvSpPr/>
            <p:nvPr/>
          </p:nvSpPr>
          <p:spPr>
            <a:xfrm>
              <a:off x="838080" y="5229360"/>
              <a:ext cx="7467840" cy="761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14400" y="527220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 +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1 +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(1 +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75960" y="5079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428D3-0CD8-4A16-935E-26F0A56A64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38080" y="2133720"/>
            <a:ext cx="7086600" cy="990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09600" y="1066320"/>
            <a:ext cx="845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artesian strain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. angles between the sid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75960" y="5079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58640" y="2004840"/>
            <a:ext cx="7830720" cy="1047240"/>
            <a:chOff x="458640" y="2004840"/>
            <a:chExt cx="7830720" cy="1047240"/>
          </a:xfrm>
        </p:grpSpPr>
        <p:sp>
          <p:nvSpPr>
            <p:cNvPr id="110" name=""/>
            <p:cNvSpPr/>
            <p:nvPr/>
          </p:nvSpPr>
          <p:spPr>
            <a:xfrm>
              <a:off x="458640" y="2004840"/>
              <a:ext cx="14428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000" y="2297160"/>
              <a:ext cx="1875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− </a:t>
              </a: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γ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x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77760" y="2536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09760" y="2016000"/>
              <a:ext cx="14428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05400" y="2308320"/>
              <a:ext cx="1864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− </a:t>
              </a: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γ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y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28880" y="25477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29280" y="2016000"/>
              <a:ext cx="14428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24560" y="2308320"/>
              <a:ext cx="1864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− </a:t>
              </a: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γ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x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48040" y="25477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04920" y="3316320"/>
            <a:ext cx="8305560" cy="25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strains cause a change in i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 strains cause a change in i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ummarize, state of strain at a point requires specifying 3 normal strains;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3 shear strains of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z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94E22-048D-490D-AD0A-9ED2106342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9600" y="1066680"/>
            <a:ext cx="8453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mall strain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engineering design involves applications for which on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mall deform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allo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assume that deformations that take place within a body are almost infinitesimal, s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rmal stra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ccurring within material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ery sm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ared to 1, i.e.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&lt;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75960" y="5079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48282-E562-4FA7-8570-B57D836222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9600" y="1066320"/>
            <a:ext cx="83008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mall strain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ssumption is widely applied in practical engineering problems, and is referred to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mall strain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it can be used to approximat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s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an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provided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sm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75960" y="5079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45F62-F829-461D-94EE-908B736295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OUT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92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5553000" cy="379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CCBA1-47BF-46C2-8882-32E85BFB35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9240" y="1066320"/>
            <a:ext cx="8529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when a force is applied to a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highly visible or practically unnotice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lso occur when temperature of a body is 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not uniform throughout a body’s volume, thus change in geometry of any line segment within body may vary along its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1 DE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A552C-19EE-4477-AAFE-4C13E4D004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9240" y="1066320"/>
            <a:ext cx="8529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simplify study of de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lines to be very short and located in neighborhood of a point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into account the orientation of the line segment at the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1 DE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5F601-9723-4E33-8468-C2074A1FF3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9600" y="1066680"/>
            <a:ext cx="8453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Normal st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as the elongation or contraction of a line segment per unit of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li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figure be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deformation,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s to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40360" y="3200400"/>
            <a:ext cx="242712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55760" y="3276720"/>
            <a:ext cx="208764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28A8E-7AE5-498F-A1C7-6D50AA6463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9600" y="1066320"/>
            <a:ext cx="8453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Normal st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verage normal str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psil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0,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694240" y="2133720"/>
            <a:ext cx="3492000" cy="1143000"/>
            <a:chOff x="2694240" y="2133720"/>
            <a:chExt cx="3492000" cy="1143000"/>
          </a:xfrm>
        </p:grpSpPr>
        <p:sp>
          <p:nvSpPr>
            <p:cNvPr id="60" name=""/>
            <p:cNvSpPr/>
            <p:nvPr/>
          </p:nvSpPr>
          <p:spPr>
            <a:xfrm>
              <a:off x="2971800" y="2133720"/>
              <a:ext cx="2971800" cy="1143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2694240" y="2211480"/>
              <a:ext cx="3492000" cy="971280"/>
              <a:chOff x="2694240" y="2211480"/>
              <a:chExt cx="3492000" cy="971280"/>
            </a:xfrm>
          </p:grpSpPr>
          <p:sp>
            <p:nvSpPr>
              <p:cNvPr id="62" name=""/>
              <p:cNvSpPr/>
              <p:nvPr/>
            </p:nvSpPr>
            <p:spPr>
              <a:xfrm>
                <a:off x="2694240" y="2442960"/>
                <a:ext cx="19886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avg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69120" y="2211480"/>
                <a:ext cx="2517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800" spc="-1" strike="noStrike">
                    <a:solidFill>
                      <a:srgbClr val="000000"/>
                    </a:solidFill>
                    <a:latin typeface="Times New Roman"/>
                  </a:rPr>
                  <a:t>Δ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− </a:t>
                </a:r>
                <a:r>
                  <a:rPr b="0" lang="el-GR" sz="2800" spc="-1" strike="noStrike">
                    <a:solidFill>
                      <a:srgbClr val="000000"/>
                    </a:solidFill>
                    <a:latin typeface="Times New Roman"/>
                  </a:rPr>
                  <a:t>Δ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’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055760" y="2662200"/>
                <a:ext cx="1614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800" spc="-1" strike="noStrike">
                    <a:solidFill>
                      <a:srgbClr val="000000"/>
                    </a:solidFill>
                    <a:latin typeface="Times New Roman"/>
                  </a:rPr>
                  <a:t>Δ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206600" y="2687400"/>
                <a:ext cx="146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"/>
          <p:cNvGrpSpPr/>
          <p:nvPr/>
        </p:nvGrpSpPr>
        <p:grpSpPr>
          <a:xfrm>
            <a:off x="1907640" y="4165560"/>
            <a:ext cx="5110920" cy="1320840"/>
            <a:chOff x="1907640" y="4165560"/>
            <a:chExt cx="5110920" cy="1320840"/>
          </a:xfrm>
        </p:grpSpPr>
        <p:sp>
          <p:nvSpPr>
            <p:cNvPr id="67" name=""/>
            <p:cNvSpPr/>
            <p:nvPr/>
          </p:nvSpPr>
          <p:spPr>
            <a:xfrm>
              <a:off x="2133720" y="4165560"/>
              <a:ext cx="4800600" cy="1320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07640" y="4500720"/>
              <a:ext cx="169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454640" y="4267080"/>
              <a:ext cx="25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Arial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s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− </a:t>
              </a:r>
              <a:r>
                <a:rPr b="0" lang="el-GR" sz="2800" spc="-1" strike="noStrike">
                  <a:solidFill>
                    <a:srgbClr val="000000"/>
                  </a:solidFill>
                  <a:latin typeface="Arial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s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62520" y="4718160"/>
              <a:ext cx="166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Arial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29200" y="4745160"/>
              <a:ext cx="14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94360" y="4243320"/>
              <a:ext cx="32410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i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→A along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4CADF-464E-45F2-9D52-AB315F6F75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9600" y="1066320"/>
            <a:ext cx="8453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Normal st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rmal stra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known, use the equation to obtain approx. final length of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ne segment in direc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ter de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ce, whe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s positive, initial line will elongate, if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egative, the line contr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754360" y="3276720"/>
            <a:ext cx="3508200" cy="838080"/>
            <a:chOff x="2754360" y="3276720"/>
            <a:chExt cx="3508200" cy="838080"/>
          </a:xfrm>
        </p:grpSpPr>
        <p:sp>
          <p:nvSpPr>
            <p:cNvPr id="76" name=""/>
            <p:cNvSpPr/>
            <p:nvPr/>
          </p:nvSpPr>
          <p:spPr>
            <a:xfrm>
              <a:off x="3162240" y="3276720"/>
              <a:ext cx="2857320" cy="838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54360" y="3429000"/>
              <a:ext cx="350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s’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≈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1 +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C568B-114C-482A-9636-51381931A5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06440" y="1066680"/>
            <a:ext cx="8051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Uni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strain i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mensionless quant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s it’s a ratio of two leng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common practice to state it in terms of meters/meter (m/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small for most engineering applications, so is normally expressed as micrometers per met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/m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=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expressed as a percentag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001 m/m = 0.1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24C73-F1D5-4310-B528-B7577E8AE3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6080" y="1066320"/>
            <a:ext cx="820404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hear st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a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nge in a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occurs between two line segments that were original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erpendic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one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ngle is denoted by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amma) and measured in radians (ra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E5F1F-5C97-45E4-92B2-C202F22501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08:57:51Z</dcterms:created>
  <dc:creator>MCA</dc:creator>
  <dc:description/>
  <dc:language>en-US</dc:language>
  <cp:lastModifiedBy>UNgCH</cp:lastModifiedBy>
  <dcterms:modified xsi:type="dcterms:W3CDTF">2005-05-24T08:55:19Z</dcterms:modified>
  <cp:revision>147</cp:revision>
  <dc:subject/>
  <dc:title>Chapter 1</dc:title>
</cp:coreProperties>
</file>