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BDAE-F6C9-4AA6-AD5E-7DDCF55D1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0F18-C79B-4EF9-85ED-42D2F7AD4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B8DC-D60E-495A-827F-108DF6C83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48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96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48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ECDA-D899-45AE-BC9D-94CBF56401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F3AB-D235-48BD-AEAE-4C608F7E2F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8115-10DF-47FB-946A-54CB9BF29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4A69-90A1-49B1-9EC9-8E02228AA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43C5-3723-43EA-9A52-6CDA7F8F3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9536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210A-DE88-400B-99D8-DFB765487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C5E8-9A40-4887-834F-C7B9C2CC9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DB04-4959-4441-8F96-BE5CA5079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D430-0645-4294-BCE1-8684D6754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AF83-49AD-496A-90CF-7B458DB76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520" y="0"/>
            <a:ext cx="15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Str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concept of normal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concept of shear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normal and shear strain in engineering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29200" y="114300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8CBD-73B8-4FE8-B407-9620E64886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6080" y="1066680"/>
            <a:ext cx="8356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hear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line segme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iginating from same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a body, and directed along the perpendicul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deformation, lines become curves, such that angle between them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3886200"/>
            <a:ext cx="2819520" cy="2652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17476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A2547-20AA-4744-9BC0-A892A5700B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06440" y="1066320"/>
            <a:ext cx="8432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hear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nce, shear strain at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ssociated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xe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smaller th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shear strain is positiv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herwise, shear strain is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81360" y="2590920"/>
            <a:ext cx="4228920" cy="1447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6760" y="2919240"/>
            <a:ext cx="185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03720" y="2658960"/>
            <a:ext cx="1442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42800" y="2705040"/>
            <a:ext cx="29667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alo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→A alo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39560" y="2986200"/>
            <a:ext cx="15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3170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70640" y="29113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DB24-0F44-4963-A07D-616691DC7E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7480" y="1066320"/>
            <a:ext cx="87375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artesian strain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bove definitions of normal and shear strain, we show how they describe the deformation of the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7596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118280" y="4343400"/>
            <a:ext cx="1416240" cy="2362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52880" y="2895480"/>
            <a:ext cx="2210040" cy="2079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81080" y="29592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body into small elements with undeformed dimensions of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3590-F7D0-45DC-8405-3C10E05273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7680" y="2133720"/>
            <a:ext cx="2741400" cy="23907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9240" y="1066680"/>
            <a:ext cx="8605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artesian strain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element is very small, deformed shape of element is a parallelepi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. lengths of sides of parallelepiped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38080" y="5229360"/>
            <a:ext cx="7848720" cy="761760"/>
            <a:chOff x="838080" y="5229360"/>
            <a:chExt cx="7848720" cy="761760"/>
          </a:xfrm>
        </p:grpSpPr>
        <p:sp>
          <p:nvSpPr>
            <p:cNvPr id="103" name=""/>
            <p:cNvSpPr/>
            <p:nvPr/>
          </p:nvSpPr>
          <p:spPr>
            <a:xfrm>
              <a:off x="838080" y="5229360"/>
              <a:ext cx="7467840" cy="761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14400" y="5272200"/>
              <a:ext cx="777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 +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1 +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(1 +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75960" y="5079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C0CE7-7917-447E-945A-266ABB50CE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2133720"/>
            <a:ext cx="7086600" cy="99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45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Cartesian strain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x. angles between the sid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75960" y="5079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8640" y="2004840"/>
            <a:ext cx="7830720" cy="1047240"/>
            <a:chOff x="458640" y="2004840"/>
            <a:chExt cx="7830720" cy="1047240"/>
          </a:xfrm>
        </p:grpSpPr>
        <p:sp>
          <p:nvSpPr>
            <p:cNvPr id="110" name=""/>
            <p:cNvSpPr/>
            <p:nvPr/>
          </p:nvSpPr>
          <p:spPr>
            <a:xfrm>
              <a:off x="458640" y="2004840"/>
              <a:ext cx="14428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000" y="2297160"/>
              <a:ext cx="1875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x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77760" y="2536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9760" y="2016000"/>
              <a:ext cx="14428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05400" y="2308320"/>
              <a:ext cx="186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y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28880" y="2547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29280" y="2016000"/>
              <a:ext cx="14428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24560" y="2308320"/>
              <a:ext cx="186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x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48040" y="25477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920" y="3316320"/>
            <a:ext cx="8305560" cy="25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trains cause a change in i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ar strains cause a change in i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ummarize, state of strain at a point requires specifying 3 normal strains;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3 shear strains of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yz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x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71D7-90B1-4C63-80BC-7861474E9B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9600" y="1066680"/>
            <a:ext cx="8453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mall strain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ngineering design involves applications for which on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mall deform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all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assume that deformations that take place within a body are almost infinitesimal, s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rmal str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ccurring within material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ry sm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ared to 1, i.e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&lt;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75960" y="5079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98ECA-67BD-4CBB-A8AE-3135D2C6A0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3008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mall strain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ssumption is widely applied in practical engineering problems, and is referred to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mall strain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it can be used to approxim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s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an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provided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sm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75960" y="5079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FB00-21AC-40F0-AF67-F56E2BBF6F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92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5553000" cy="379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75F3-A191-4915-BBF4-030F8142BB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529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when a force is applied to a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highly visible or practically unnotice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occur when temperature of a body is 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not uniform throughout a body’s volume, thus change in geometry of any line segment within body may vary along its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1 DE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811F-FD01-46B8-B444-F08F447110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9240" y="1066320"/>
            <a:ext cx="8529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implify study of de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lines to be very short and located in neighborhood of a point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into account the orientation of the line segment at the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1 DE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ED39-F70A-43F0-AD1A-1B026D8DFD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9600" y="1066680"/>
            <a:ext cx="8453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ormal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as the elongation or contraction of a line segment per unit of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l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igure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deformation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s to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40360" y="3200400"/>
            <a:ext cx="242712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55760" y="3276720"/>
            <a:ext cx="20876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A721-FF6E-4200-9EB4-735E2715EC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4535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ormal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verage normal s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psil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0,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694240" y="2133720"/>
            <a:ext cx="3492000" cy="1143000"/>
            <a:chOff x="2694240" y="2133720"/>
            <a:chExt cx="3492000" cy="1143000"/>
          </a:xfrm>
        </p:grpSpPr>
        <p:sp>
          <p:nvSpPr>
            <p:cNvPr id="60" name=""/>
            <p:cNvSpPr/>
            <p:nvPr/>
          </p:nvSpPr>
          <p:spPr>
            <a:xfrm>
              <a:off x="2971800" y="2133720"/>
              <a:ext cx="2971800" cy="1143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2694240" y="2211480"/>
              <a:ext cx="3492000" cy="971280"/>
              <a:chOff x="2694240" y="2211480"/>
              <a:chExt cx="3492000" cy="971280"/>
            </a:xfrm>
          </p:grpSpPr>
          <p:sp>
            <p:nvSpPr>
              <p:cNvPr id="62" name=""/>
              <p:cNvSpPr/>
              <p:nvPr/>
            </p:nvSpPr>
            <p:spPr>
              <a:xfrm>
                <a:off x="2694240" y="2442960"/>
                <a:ext cx="1988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avg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69120" y="2211480"/>
                <a:ext cx="2517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800" spc="-1" strike="noStrike">
                    <a:solidFill>
                      <a:srgbClr val="000000"/>
                    </a:solidFill>
                    <a:latin typeface="Times New Roman"/>
                  </a:rPr>
                  <a:t>Δ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 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− </a:t>
                </a:r>
                <a:r>
                  <a:rPr b="0" lang="el-GR" sz="2800" spc="-1" strike="noStrike">
                    <a:solidFill>
                      <a:srgbClr val="000000"/>
                    </a:solidFill>
                    <a:latin typeface="Times New Roman"/>
                  </a:rPr>
                  <a:t>Δ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’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55760" y="2662200"/>
                <a:ext cx="1614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533520" indent="-53352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800" spc="-1" strike="noStrike">
                    <a:solidFill>
                      <a:srgbClr val="000000"/>
                    </a:solidFill>
                    <a:latin typeface="Times New Roman"/>
                  </a:rPr>
                  <a:t>Δ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206600" y="2687400"/>
                <a:ext cx="14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1907640" y="4165560"/>
            <a:ext cx="5110920" cy="1320840"/>
            <a:chOff x="1907640" y="4165560"/>
            <a:chExt cx="5110920" cy="1320840"/>
          </a:xfrm>
        </p:grpSpPr>
        <p:sp>
          <p:nvSpPr>
            <p:cNvPr id="67" name=""/>
            <p:cNvSpPr/>
            <p:nvPr/>
          </p:nvSpPr>
          <p:spPr>
            <a:xfrm>
              <a:off x="2133720" y="4165560"/>
              <a:ext cx="4800600" cy="1320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07640" y="4500720"/>
              <a:ext cx="169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54640" y="4267080"/>
              <a:ext cx="25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− </a:t>
              </a:r>
              <a:r>
                <a:rPr b="0" lang="el-GR" sz="2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s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62520" y="4718160"/>
              <a:ext cx="166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29200" y="4745160"/>
              <a:ext cx="14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94360" y="4243320"/>
              <a:ext cx="324108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→A along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2779-612A-4256-8116-C8461B249E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9600" y="1066320"/>
            <a:ext cx="8453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Normal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rmal stra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known, use the equation to obtain approx. final length of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ne segment in direc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ter de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, whe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is positive, initial line will elongate, if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egative, the line con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75960" y="50472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754360" y="3276720"/>
            <a:ext cx="3508200" cy="838080"/>
            <a:chOff x="2754360" y="3276720"/>
            <a:chExt cx="3508200" cy="838080"/>
          </a:xfrm>
        </p:grpSpPr>
        <p:sp>
          <p:nvSpPr>
            <p:cNvPr id="76" name=""/>
            <p:cNvSpPr/>
            <p:nvPr/>
          </p:nvSpPr>
          <p:spPr>
            <a:xfrm>
              <a:off x="3162240" y="3276720"/>
              <a:ext cx="2857320" cy="838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54360" y="3429000"/>
              <a:ext cx="350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’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≈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1 +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609E-645D-45D8-9FCC-71DABFAB82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06440" y="1066680"/>
            <a:ext cx="8051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Un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train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mensionless quant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it’s a ratio of two leng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common practice to state it in terms of meters/meter (m/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mall for most engineering applications, so is normally expressed as micrometers per met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/m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expressed as a percentag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.001 m/m = 0.1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2FAD-89B0-485E-BEA9-B5B4284796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2 S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066320"/>
            <a:ext cx="820404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hear st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a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nge in a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occurs between two line segments that were original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pendic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gle is denoted by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amma) and measured in radians (ra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873B-854B-4029-A645-56AF230338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8:57:51Z</dcterms:created>
  <dc:creator>MCA</dc:creator>
  <dc:description/>
  <dc:language>en-US</dc:language>
  <cp:lastModifiedBy>UNgCH</cp:lastModifiedBy>
  <dcterms:modified xsi:type="dcterms:W3CDTF">2005-05-24T08:55:19Z</dcterms:modified>
  <cp:revision>147</cp:revision>
  <dc:subject/>
  <dc:title>Chapter 1</dc:title>
</cp:coreProperties>
</file>