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0A89-7A77-47FF-9308-84E1D0983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D93A-A90A-4040-8B9A-E4955C46C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2337-6EF7-4261-9351-7CBD4186A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E0F9-2E50-472A-8C82-F6CC89220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8F39-E75B-42E5-9484-F1AC9F9C6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D1BF-D848-45FE-AE07-A8116C804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0F0B-BCCC-402A-9D34-5F3C09F89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BD94-222E-4049-83DF-B291E8922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38BE-8C88-4C67-9643-EC2C2B61D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5AE1-7FB9-4D22-BDD5-C03AE868F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A092-4E95-4A97-A458-6C2987BBB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7178-C3E6-4D6E-AD6D-5A175B902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751-3154-406E-8E69-F0670BF2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and shear strain in engineer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1A85-4853-477D-92A5-62F4EA365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066680"/>
            <a:ext cx="835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ting from sam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body, and directed along the perpendicu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lines become curves, such that angle between them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819520" cy="2652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17476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9CCA-316E-4BBE-B0C5-DAC38B9F58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066320"/>
            <a:ext cx="8432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, shear strain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xe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small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shear strain is positi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wise, shear strain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2590920"/>
            <a:ext cx="422892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2919240"/>
            <a:ext cx="185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03720" y="2658960"/>
            <a:ext cx="1442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2800" y="2705040"/>
            <a:ext cx="2966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→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9560" y="2986200"/>
            <a:ext cx="15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17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70640" y="2911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9B89-4C40-402D-A10A-D4CF4CE95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7480" y="1066320"/>
            <a:ext cx="8737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bove definitions of normal and shear strain, we show how they describe the deformation of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596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18280" y="4343400"/>
            <a:ext cx="14162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2210040" cy="20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1080" y="29592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ody into small elements with undeformed dimension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843D-6A9C-44C9-858B-1CF875A48D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7680" y="2133720"/>
            <a:ext cx="2741400" cy="2390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lement is very small, deformed shape of element is a paralle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lengths of sides of parallelepiped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5229360"/>
            <a:ext cx="7848720" cy="761760"/>
            <a:chOff x="838080" y="5229360"/>
            <a:chExt cx="7848720" cy="761760"/>
          </a:xfrm>
        </p:grpSpPr>
        <p:sp>
          <p:nvSpPr>
            <p:cNvPr id="103" name=""/>
            <p:cNvSpPr/>
            <p:nvPr/>
          </p:nvSpPr>
          <p:spPr>
            <a:xfrm>
              <a:off x="838080" y="5229360"/>
              <a:ext cx="746784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27220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5E86-45A2-4DD0-9089-E57761F030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2133720"/>
            <a:ext cx="7086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angles between the sid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8640" y="2004840"/>
            <a:ext cx="7830720" cy="1047240"/>
            <a:chOff x="458640" y="2004840"/>
            <a:chExt cx="7830720" cy="1047240"/>
          </a:xfrm>
        </p:grpSpPr>
        <p:sp>
          <p:nvSpPr>
            <p:cNvPr id="110" name=""/>
            <p:cNvSpPr/>
            <p:nvPr/>
          </p:nvSpPr>
          <p:spPr>
            <a:xfrm>
              <a:off x="458640" y="200484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000" y="2297160"/>
              <a:ext cx="187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7760" y="2536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976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0540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28880" y="2547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928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2456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040" y="2547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3316320"/>
            <a:ext cx="83055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ze, state of strain at a point requires specifying 3 normal strains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3 shear strain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2BB-4182-43C4-84A8-4FFAA1E5B8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design involves applications for which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de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assume that deformations that take place within a body are almost infinitesimal, 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ring within material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d to 1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6F93-BC68-47D9-A001-CC3F9E32FE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ssumption is widely applied in practical engineering problems, and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t can be used to approxim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ovide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A3A4-FD75-4B11-9F36-1F6510C99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53000" cy="37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8999-AEED-45F8-BC31-99FC4AC29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 force is applied to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ighly visible or practically unnoti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occur when temperature of a body i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uniform throughout a body’s volume, thus change in geometry of any line segment within body may vary along it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3378-5BBF-49D8-818C-DC5FF4906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implify study of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s to be very short and located in neighborhood of a point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to account the orientation of the line segment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F4C7-6B70-4BAF-A444-D9B109F14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elongation or contraction of a line segment per unit of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20040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55760" y="3276720"/>
            <a:ext cx="20876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ED1E-4CD6-41DF-8838-51B85CEA5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sil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94240" y="2133720"/>
            <a:ext cx="3492000" cy="1143000"/>
            <a:chOff x="2694240" y="2133720"/>
            <a:chExt cx="3492000" cy="1143000"/>
          </a:xfrm>
        </p:grpSpPr>
        <p:sp>
          <p:nvSpPr>
            <p:cNvPr id="60" name=""/>
            <p:cNvSpPr/>
            <p:nvPr/>
          </p:nvSpPr>
          <p:spPr>
            <a:xfrm>
              <a:off x="2971800" y="2133720"/>
              <a:ext cx="2971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94240" y="2211480"/>
              <a:ext cx="3492000" cy="971280"/>
              <a:chOff x="2694240" y="2211480"/>
              <a:chExt cx="3492000" cy="971280"/>
            </a:xfrm>
          </p:grpSpPr>
          <p:sp>
            <p:nvSpPr>
              <p:cNvPr id="62" name=""/>
              <p:cNvSpPr/>
              <p:nvPr/>
            </p:nvSpPr>
            <p:spPr>
              <a:xfrm>
                <a:off x="2694240" y="2442960"/>
                <a:ext cx="198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69120" y="2211480"/>
                <a:ext cx="251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 </a:t>
                </a: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55760" y="2662200"/>
                <a:ext cx="161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06600" y="2687400"/>
                <a:ext cx="14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907640" y="4165560"/>
            <a:ext cx="5110920" cy="1320840"/>
            <a:chOff x="1907640" y="4165560"/>
            <a:chExt cx="5110920" cy="1320840"/>
          </a:xfrm>
        </p:grpSpPr>
        <p:sp>
          <p:nvSpPr>
            <p:cNvPr id="67" name=""/>
            <p:cNvSpPr/>
            <p:nvPr/>
          </p:nvSpPr>
          <p:spPr>
            <a:xfrm>
              <a:off x="2133720" y="4165560"/>
              <a:ext cx="4800600" cy="1320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7640" y="450072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4267080"/>
              <a:ext cx="25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520" y="471816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47451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4360" y="4243320"/>
              <a:ext cx="3241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→A along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176F-37F5-4435-87A0-41BD0396FE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, use the equation to obtain approx. final length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e segment in dir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d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wh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positive, initial line will elongate,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, the lin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54360" y="3276720"/>
            <a:ext cx="3508200" cy="838080"/>
            <a:chOff x="2754360" y="3276720"/>
            <a:chExt cx="3508200" cy="838080"/>
          </a:xfrm>
        </p:grpSpPr>
        <p:sp>
          <p:nvSpPr>
            <p:cNvPr id="76" name=""/>
            <p:cNvSpPr/>
            <p:nvPr/>
          </p:nvSpPr>
          <p:spPr>
            <a:xfrm>
              <a:off x="3162240" y="3276720"/>
              <a:ext cx="285732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3429000"/>
              <a:ext cx="35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’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92A2-5BFB-48D5-8B31-792D590A72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805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mensionless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it’s a ratio of two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mon practice to state it in terms of meters/meter (m/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mall for most engineering applications, so is normally expressed as micrometers per 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d as a percen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01 m/m = 0.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559B-C5B3-4E4F-94B2-0A019D79F4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066320"/>
            <a:ext cx="82040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between two line segments that were origin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denoted b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mma) and measured in radians (r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FC4E-0536-4A69-A84E-E4653CBAD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5:19Z</dcterms:modified>
  <cp:revision>147</cp:revision>
  <dc:subject/>
  <dc:title>Chapter 1</dc:title>
</cp:coreProperties>
</file>