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0C2F-B967-49E4-A68B-69C5722D4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EE85-0294-40BC-B108-2E2474E95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EC61-1DFF-4DE1-A1ED-CCB6FF60F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AD35-F1DA-40CD-9C75-9F25E1B172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8A48-F6B9-4B5D-BBEF-2C34188F4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83F1-EE50-4088-A6F7-9F4408422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B9FF-E21A-4E51-84FA-90BAA8A1A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C234-A744-4BAA-9A7E-029660BAE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563F-D5D5-4905-8084-4F2EAF421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E384-A1F7-43C4-8C0B-244D78285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6D13-1830-414B-B0C8-4477885DE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4D23-BBB1-4F24-8EF3-8C1FD142F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48BC-1088-435A-ACEB-6A4DA9DB6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tr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 below is subjected to temperature increase along its axis, creating a normal strain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−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1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given in 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590920"/>
            <a:ext cx="5638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displacement of e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rod due to temperature increas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average normal strain in the r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15240" y="2438280"/>
            <a:ext cx="18478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818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strain at a point is described by six strain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normal strains: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hear strains: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mponents depend upon the orientation of the line segments and their location 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 is a geometrical quantity measur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erimental techn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tress in body is then determined from material property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746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ngineering materials undergo small deformations, so normal stra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&lt; 1. This assumption of “small strain analysis” allows us to simplify calculations for normal strain, since first-order approximations can be made about thei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normal strain reported at each point along the rod, a differential seg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cated at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deformed l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22480" y="2681280"/>
            <a:ext cx="48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[1 + 4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−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total of these segments along axis yields deformed length of the rod, i.e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38080" y="1905120"/>
            <a:ext cx="5943600" cy="1783800"/>
            <a:chOff x="838080" y="1905120"/>
            <a:chExt cx="5943600" cy="1783800"/>
          </a:xfrm>
        </p:grpSpPr>
        <p:sp>
          <p:nvSpPr>
            <p:cNvPr id="53" name=""/>
            <p:cNvSpPr/>
            <p:nvPr/>
          </p:nvSpPr>
          <p:spPr>
            <a:xfrm>
              <a:off x="838080" y="2019240"/>
              <a:ext cx="5943600" cy="16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7760"/>
                  <a:tab algn="l" pos="1262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∫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[1 + 4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−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/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7760"/>
                  <a:tab algn="l" pos="1262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 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−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(⅔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/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7760"/>
                  <a:tab algn="l" pos="1262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20239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67760" y="1905120"/>
              <a:ext cx="1797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0.2 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04960" y="2519280"/>
              <a:ext cx="852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0.2 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19000" y="3768840"/>
            <a:ext cx="586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of end of ro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20239 m − 0.2 m = 2.39 mm 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rod or “line segment” has original length of 200 mm and a change in length of 2.39 mm. He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2743200"/>
            <a:ext cx="7551720" cy="973080"/>
            <a:chOff x="914400" y="2743200"/>
            <a:chExt cx="7551720" cy="973080"/>
          </a:xfrm>
        </p:grpSpPr>
        <p:sp>
          <p:nvSpPr>
            <p:cNvPr id="60" name=""/>
            <p:cNvSpPr/>
            <p:nvPr/>
          </p:nvSpPr>
          <p:spPr>
            <a:xfrm>
              <a:off x="914400" y="296208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8800" y="27432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’ −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9680" y="3195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57240" y="3219480"/>
              <a:ext cx="14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20960" y="29480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33920" y="27478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39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3186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0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20976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59480" y="2948040"/>
              <a:ext cx="380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0119 mm/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4582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is deformed as shown in figure. In this deformed shape, horizontal lines on the on plate remain horizontal and do not change their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584440"/>
            <a:ext cx="426708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ormal strain along s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hear strain in the plate relativ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525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3800" y="1066320"/>
            <a:ext cx="8584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incident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, becomes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after deformation. Length of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78800" y="2209680"/>
            <a:ext cx="7049880" cy="520560"/>
            <a:chOff x="478800" y="2209680"/>
            <a:chExt cx="7049880" cy="520560"/>
          </a:xfrm>
        </p:grpSpPr>
        <p:sp>
          <p:nvSpPr>
            <p:cNvPr id="76" name=""/>
            <p:cNvSpPr/>
            <p:nvPr/>
          </p:nvSpPr>
          <p:spPr>
            <a:xfrm>
              <a:off x="478800" y="2209680"/>
              <a:ext cx="70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√ (250 − 2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(3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= 248.018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6800" y="22716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218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3800" y="1066320"/>
            <a:ext cx="858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verage normal strain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2960" y="1828800"/>
            <a:ext cx="8023680" cy="1652400"/>
            <a:chOff x="372960" y="1828800"/>
            <a:chExt cx="8023680" cy="1652400"/>
          </a:xfrm>
        </p:grpSpPr>
        <p:sp>
          <p:nvSpPr>
            <p:cNvPr id="82" name=""/>
            <p:cNvSpPr/>
            <p:nvPr/>
          </p:nvSpPr>
          <p:spPr>
            <a:xfrm>
              <a:off x="1503720" y="2960640"/>
              <a:ext cx="44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7.93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−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mm/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2960" y="2031840"/>
              <a:ext cx="251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90320" y="2251080"/>
              <a:ext cx="168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15840" y="1828800"/>
              <a:ext cx="260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9080" y="1831680"/>
              <a:ext cx="459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48.018 mm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25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70520" y="2246040"/>
              <a:ext cx="242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5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35320" y="23032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43400" y="20462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59240" y="2303280"/>
              <a:ext cx="35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41320" y="3672000"/>
            <a:ext cx="39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sign means strain causes a contraction of 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18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3800" y="1066320"/>
            <a:ext cx="8127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isplacemen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, angle BAC referenced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 changes to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2 −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93200" y="2681280"/>
            <a:ext cx="7516440" cy="977760"/>
            <a:chOff x="493200" y="2681280"/>
            <a:chExt cx="7516440" cy="977760"/>
          </a:xfrm>
        </p:grpSpPr>
        <p:sp>
          <p:nvSpPr>
            <p:cNvPr id="96" name=""/>
            <p:cNvSpPr/>
            <p:nvPr/>
          </p:nvSpPr>
          <p:spPr>
            <a:xfrm>
              <a:off x="493200" y="2930760"/>
              <a:ext cx="261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ta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6600" y="2724120"/>
              <a:ext cx="206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47840" y="3138480"/>
              <a:ext cx="361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50 mm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2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1440" y="2938680"/>
              <a:ext cx="30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0121 r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9280" y="3195720"/>
              <a:ext cx="246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49760" y="2691000"/>
              <a:ext cx="14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50120" y="2681280"/>
              <a:ext cx="14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3606840"/>
            <a:ext cx="3087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cause bodies to deform, thus points in the body will underg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placements or changes 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asure of elongation or contraction of small line segment 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ar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asure of the change in angle that occurs between two small line segments that are originally perpendicular to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3:05:27Z</dcterms:created>
  <dc:creator>Ng Family</dc:creator>
  <dc:description/>
  <dc:language>en-US</dc:language>
  <cp:lastModifiedBy>Ng Family</cp:lastModifiedBy>
  <dcterms:modified xsi:type="dcterms:W3CDTF">2005-05-05T04:59:15Z</dcterms:modified>
  <cp:revision>3</cp:revision>
  <dc:subject/>
  <dc:title>EXAMPLE 2.1</dc:title>
</cp:coreProperties>
</file>