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8703-BE0F-4E29-916E-6A0BA8C0A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8F17-8B9B-4E6F-AB1E-B1913C751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1B32-6469-43D0-82A9-26148F10D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48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6000" y="1143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96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48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6000" y="3969000"/>
            <a:ext cx="281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7045-6D76-445A-8E78-DD3B984995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199D-2610-4A02-A6F6-F816D8CEC8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0C30-CE98-4C49-BF8F-6448605B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C138-9F0E-4754-921E-DBE1939AB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3976-6165-4308-A3CD-A373AF8CA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6880" y="495360"/>
            <a:ext cx="87627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23E6-7761-436D-9725-9F68F3477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E09C-D9B3-49C7-A0B9-DDA4780D3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4280" y="3969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36CD-F694-4889-8110-BEC269286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880" y="463680"/>
            <a:ext cx="87627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96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4280" y="1143000"/>
            <a:ext cx="42638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960" y="3969000"/>
            <a:ext cx="8737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3176-C9A3-480D-AC76-CEF587F0D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57200"/>
            <a:ext cx="9144000" cy="5475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4680" y="0"/>
            <a:ext cx="914400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880" y="495360"/>
            <a:ext cx="87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6960" y="1143000"/>
            <a:ext cx="8737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0099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5549-B1C1-43BB-9E0F-23F268E58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80" y="6629400"/>
            <a:ext cx="2509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5 Pearson Education South Asia Pte Lt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7520" y="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St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 below is subjected to temperature increase along its axis, creating a normal strain of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1/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given in me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590920"/>
            <a:ext cx="5638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displacement of e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rod due to temperature increas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average normal strain in the r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15240" y="2438280"/>
            <a:ext cx="18478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818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of strain at a point is described by six strain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normal strains: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hear strains: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xz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omponents depend upon the orientation of the line segments and their location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n is a geometrical quantity measur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tress in body is then determined from material property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7746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engineering materials undergo small deformations, so normal stra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&lt; 1. This assumption of “small strain analysis” allows us to simplify calculations for normal strain, since first-order approximations can be made about their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normal strain reported at each point along the rod, a differential segm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cated at posi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deformed l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22480" y="2681280"/>
            <a:ext cx="48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= [1 + 40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−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total of these segments along axis yields deformed length of the rod, i.e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38080" y="1905120"/>
            <a:ext cx="5943600" cy="1783800"/>
            <a:chOff x="838080" y="1905120"/>
            <a:chExt cx="5943600" cy="1783800"/>
          </a:xfrm>
        </p:grpSpPr>
        <p:sp>
          <p:nvSpPr>
            <p:cNvPr id="53" name=""/>
            <p:cNvSpPr/>
            <p:nvPr/>
          </p:nvSpPr>
          <p:spPr>
            <a:xfrm>
              <a:off x="838080" y="2019240"/>
              <a:ext cx="5943600" cy="16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∫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[1 + 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1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]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z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z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0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(⅔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3/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347760"/>
                  <a:tab algn="l" pos="1262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20239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67760" y="1905120"/>
              <a:ext cx="179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04960" y="2519280"/>
              <a:ext cx="852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0.2 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19000" y="3768840"/>
            <a:ext cx="5867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of end of rod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.20239 m − 0.2 m = 2.39 mm 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1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rod or “line segment” has original length of 200 mm and a change in length of 2.39 mm. H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14400" y="2743200"/>
            <a:ext cx="7551720" cy="973080"/>
            <a:chOff x="914400" y="2743200"/>
            <a:chExt cx="7551720" cy="973080"/>
          </a:xfrm>
        </p:grpSpPr>
        <p:sp>
          <p:nvSpPr>
            <p:cNvPr id="60" name=""/>
            <p:cNvSpPr/>
            <p:nvPr/>
          </p:nvSpPr>
          <p:spPr>
            <a:xfrm>
              <a:off x="914400" y="2962080"/>
              <a:ext cx="1143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28800" y="27432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’ − </a:t>
              </a: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9680" y="31957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57240" y="321948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0960" y="29480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33920" y="274788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.39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3186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20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20976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59480" y="2948040"/>
              <a:ext cx="38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19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074600"/>
            <a:ext cx="8458200" cy="15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 is deformed as shown in figure. In this deformed shape, horizontal lines on the on plate remain horizontal and do not change their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584440"/>
            <a:ext cx="42670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normal strain along si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shear strain in the plate relativ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525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inciden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is, becomes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after deformation. Length of l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78800" y="2209680"/>
            <a:ext cx="7049880" cy="520560"/>
            <a:chOff x="478800" y="2209680"/>
            <a:chExt cx="7049880" cy="520560"/>
          </a:xfrm>
        </p:grpSpPr>
        <p:sp>
          <p:nvSpPr>
            <p:cNvPr id="76" name=""/>
            <p:cNvSpPr/>
            <p:nvPr/>
          </p:nvSpPr>
          <p:spPr>
            <a:xfrm>
              <a:off x="478800" y="2209680"/>
              <a:ext cx="70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 (250 − 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(3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248.018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6800" y="22716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72200" y="304812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58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verage normal strai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2960" y="1828800"/>
            <a:ext cx="8023680" cy="1652400"/>
            <a:chOff x="372960" y="1828800"/>
            <a:chExt cx="8023680" cy="1652400"/>
          </a:xfrm>
        </p:grpSpPr>
        <p:sp>
          <p:nvSpPr>
            <p:cNvPr id="82" name=""/>
            <p:cNvSpPr/>
            <p:nvPr/>
          </p:nvSpPr>
          <p:spPr>
            <a:xfrm>
              <a:off x="1503720" y="2960640"/>
              <a:ext cx="446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7.93(10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−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mm/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2960" y="2031840"/>
              <a:ext cx="251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avg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90320" y="2251080"/>
              <a:ext cx="168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5840" y="1828800"/>
              <a:ext cx="260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’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9080" y="1831680"/>
              <a:ext cx="459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48.018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70520" y="2246040"/>
              <a:ext cx="242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35320" y="23032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43400" y="20462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59240" y="2303280"/>
              <a:ext cx="35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841320" y="36720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ign means strain causes a contraction of A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18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 2.3 (SOL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3800" y="1066320"/>
            <a:ext cx="8127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isplacemen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, angle BAC referenced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xes changes to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2 − 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93200" y="2681280"/>
            <a:ext cx="7516440" cy="977760"/>
            <a:chOff x="493200" y="2681280"/>
            <a:chExt cx="7516440" cy="977760"/>
          </a:xfrm>
        </p:grpSpPr>
        <p:sp>
          <p:nvSpPr>
            <p:cNvPr id="96" name=""/>
            <p:cNvSpPr/>
            <p:nvPr/>
          </p:nvSpPr>
          <p:spPr>
            <a:xfrm>
              <a:off x="493200" y="2930760"/>
              <a:ext cx="261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8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= tan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6600" y="2724120"/>
              <a:ext cx="206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47840" y="3138480"/>
              <a:ext cx="361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50 mm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− 2 m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1440" y="2938680"/>
              <a:ext cx="30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0.0121 r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89280" y="3195720"/>
              <a:ext cx="246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49760" y="269100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50120" y="2681280"/>
              <a:ext cx="1476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533520" indent="-533520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606840"/>
            <a:ext cx="308772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RE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54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cause bodies to deform, thus points in the body will underg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placements or change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rmal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elongation or contraction of small line segment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ear st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easure of the change in angle that occurs between two small line segments that are originally perpendicular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13:05:27Z</dcterms:created>
  <dc:creator>Ng Family</dc:creator>
  <dc:description/>
  <dc:language>en-US</dc:language>
  <cp:lastModifiedBy>Ng Family</cp:lastModifiedBy>
  <dcterms:modified xsi:type="dcterms:W3CDTF">2005-05-05T04:59:15Z</dcterms:modified>
  <cp:revision>3</cp:revision>
  <dc:subject/>
  <dc:title>EXAMPLE 2.1</dc:title>
</cp:coreProperties>
</file>