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C52A8-6A81-4BD7-B227-586D164EB2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DBDD4-1746-424F-AC0D-9BBE2B4712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67F05-A942-4848-9022-5CFDB1AF06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148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696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148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18988-9747-429D-B65A-134987D73D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A6EDA-5091-4D0D-8FD3-32E193354A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98ADC-DEE0-4769-A055-1FABC5B5B7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FC1BE-0DD6-4466-8363-8FDD8F6146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9E531-95D7-45F0-BA49-83F26B3A00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6880" y="495360"/>
            <a:ext cx="87627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D95D1-A8F1-4CF7-80F4-8C21338BC3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A71AF-F20D-4C32-892F-08602E7B1E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31759-065F-43DA-B1CD-F847AD5A2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0D2CF-73C9-49D8-96E9-73D2A9E676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9144000" cy="5475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0"/>
            <a:ext cx="914400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1134-8FF4-4C1D-BDB3-F665FCCD1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280" y="6629400"/>
            <a:ext cx="250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 Pearson Education South Asia Pte Lt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7520" y="0"/>
            <a:ext cx="15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Str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2.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d below is subjected to temperature increase along its axis, creating a normal strain of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0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−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1/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given in me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590920"/>
            <a:ext cx="5638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displacement of e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rod due to temperature increas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average normal strain in the r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915240" y="2438280"/>
            <a:ext cx="184788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7818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of strain at a point is described by six strain compon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normal strains: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shear strains: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x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xz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y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omponents depend upon the orientation of the line segments and their location in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in is a geometrical quantity measur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perimental techniq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Stress in body is then determined from material property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7746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engineering materials undergo small deformations, so normal stra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&lt; 1. This assumption of “small strain analysis” allows us to simplify calculations for normal strain, since first-order approximations can be made about their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2.1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normal strain reported at each point along the rod, a differential seg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located at posi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a deformed l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22480" y="2681280"/>
            <a:ext cx="483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[1 + 40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−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2.1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 total of these segments along axis yields deformed length of the rod, i.e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38080" y="1905120"/>
            <a:ext cx="5943600" cy="1783800"/>
            <a:chOff x="838080" y="1905120"/>
            <a:chExt cx="5943600" cy="1783800"/>
          </a:xfrm>
        </p:grpSpPr>
        <p:sp>
          <p:nvSpPr>
            <p:cNvPr id="53" name=""/>
            <p:cNvSpPr/>
            <p:nvPr/>
          </p:nvSpPr>
          <p:spPr>
            <a:xfrm>
              <a:off x="838080" y="2019240"/>
              <a:ext cx="5943600" cy="16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347760"/>
                  <a:tab algn="l" pos="1262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= ∫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[1 + 40(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−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/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]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347760"/>
                  <a:tab algn="l" pos="1262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= z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0(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−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(⅔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3/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|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347760"/>
                  <a:tab algn="l" pos="1262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0.20239 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67760" y="1905120"/>
              <a:ext cx="17978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0.2 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04960" y="2519280"/>
              <a:ext cx="8524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0.2 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819000" y="3768840"/>
            <a:ext cx="5867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cement of end of rod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20239 m − 0.2 m = 2.39 mm 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2.1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381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rod or “line segment” has original length of 200 mm and a change in length of 2.39 mm. Hen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914400" y="2743200"/>
            <a:ext cx="7551720" cy="973080"/>
            <a:chOff x="914400" y="2743200"/>
            <a:chExt cx="7551720" cy="973080"/>
          </a:xfrm>
        </p:grpSpPr>
        <p:sp>
          <p:nvSpPr>
            <p:cNvPr id="60" name=""/>
            <p:cNvSpPr/>
            <p:nvPr/>
          </p:nvSpPr>
          <p:spPr>
            <a:xfrm>
              <a:off x="914400" y="2962080"/>
              <a:ext cx="11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v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28800" y="274320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’ − </a:t>
              </a: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09680" y="31957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57240" y="3219480"/>
              <a:ext cx="14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20960" y="294804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733920" y="27478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39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318600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00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33920" y="3209760"/>
              <a:ext cx="14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59480" y="2948040"/>
              <a:ext cx="380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0.0119 mm/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2.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074600"/>
            <a:ext cx="84582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e is deformed as shown in figure. In this deformed shape, horizontal lines on the on plate remain horizontal and do not change their 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2584440"/>
            <a:ext cx="426708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normal strain along si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shear strain in the plate relative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257800" y="2590920"/>
            <a:ext cx="3525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2.3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3800" y="1066320"/>
            <a:ext cx="8584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Li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oincident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is, becomes li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 after deformation. Length of li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78800" y="2209680"/>
            <a:ext cx="7049880" cy="520560"/>
            <a:chOff x="478800" y="2209680"/>
            <a:chExt cx="7049880" cy="520560"/>
          </a:xfrm>
        </p:grpSpPr>
        <p:sp>
          <p:nvSpPr>
            <p:cNvPr id="76" name=""/>
            <p:cNvSpPr/>
            <p:nvPr/>
          </p:nvSpPr>
          <p:spPr>
            <a:xfrm>
              <a:off x="478800" y="2209680"/>
              <a:ext cx="704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√ (250 − 2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(3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= 248.018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06800" y="227160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72200" y="3048120"/>
            <a:ext cx="218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2.3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3800" y="1066320"/>
            <a:ext cx="8584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average normal strain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72960" y="1828800"/>
            <a:ext cx="8023680" cy="1652400"/>
            <a:chOff x="372960" y="1828800"/>
            <a:chExt cx="8023680" cy="1652400"/>
          </a:xfrm>
        </p:grpSpPr>
        <p:sp>
          <p:nvSpPr>
            <p:cNvPr id="82" name=""/>
            <p:cNvSpPr/>
            <p:nvPr/>
          </p:nvSpPr>
          <p:spPr>
            <a:xfrm>
              <a:off x="1503720" y="2960640"/>
              <a:ext cx="44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−7.93(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−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mm/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2960" y="2031840"/>
              <a:ext cx="2511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v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90320" y="2251080"/>
              <a:ext cx="168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15840" y="1828800"/>
              <a:ext cx="260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−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99080" y="1831680"/>
              <a:ext cx="459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48.018 mm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− 250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70520" y="2246040"/>
              <a:ext cx="242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50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35320" y="23032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43400" y="204624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359240" y="2303280"/>
              <a:ext cx="356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841320" y="3672000"/>
            <a:ext cx="395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sign means strain causes a contraction of A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477120" y="3200400"/>
            <a:ext cx="218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2.3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3800" y="1066320"/>
            <a:ext cx="8127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displacement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, angle BAC referenced 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es changes to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/2 −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93200" y="2681280"/>
            <a:ext cx="7516440" cy="977760"/>
            <a:chOff x="493200" y="2681280"/>
            <a:chExt cx="7516440" cy="977760"/>
          </a:xfrm>
        </p:grpSpPr>
        <p:sp>
          <p:nvSpPr>
            <p:cNvPr id="96" name=""/>
            <p:cNvSpPr/>
            <p:nvPr/>
          </p:nvSpPr>
          <p:spPr>
            <a:xfrm>
              <a:off x="493200" y="2930760"/>
              <a:ext cx="2617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γ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x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tan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−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26600" y="2724120"/>
              <a:ext cx="2066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47840" y="3138480"/>
              <a:ext cx="361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50 mm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− 2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51440" y="2938680"/>
              <a:ext cx="305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0.0121 r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89280" y="3195720"/>
              <a:ext cx="246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49760" y="2691000"/>
              <a:ext cx="1476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50120" y="2681280"/>
              <a:ext cx="1476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638680" y="3606840"/>
            <a:ext cx="308772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54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cause bodies to deform, thus points in the body will underg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placements or changes in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rmal str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measure of elongation or contraction of small line segment in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ear str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measure of the change in angle that occurs between two small line segments that are originally perpendicular to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3:05:27Z</dcterms:created>
  <dc:creator>Ng Family</dc:creator>
  <dc:description/>
  <dc:language>en-US</dc:language>
  <cp:lastModifiedBy>Ng Family</cp:lastModifiedBy>
  <dcterms:modified xsi:type="dcterms:W3CDTF">2005-05-05T04:59:15Z</dcterms:modified>
  <cp:revision>3</cp:revision>
  <dc:subject/>
  <dc:title>EXAMPLE 2.1</dc:title>
</cp:coreProperties>
</file>