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7B887-1451-41AF-989A-0BB13C2B67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6960" y="3969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1F8A8-A7C7-47D3-BBEF-33A146987E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428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F4170-72E8-4BB7-B8FA-0CDFB8C828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1148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600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696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1148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600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CA997-9F65-451F-9CC0-C7B2CA593D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F8A67-EBAC-4FDD-B93F-1FA912A031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6346A-BA84-44F9-A3C2-AF9F62BA5E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AF1AB-58F9-4528-9F4A-5A30AD5AC8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1669F-158D-4D88-BAAD-E365C8B040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6880" y="495360"/>
            <a:ext cx="87627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79876-9A41-4B3C-AA9E-BFB7B1DDDB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09124-7ED1-4147-A249-47CDDC9053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428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AD464-786A-444E-9349-E5ED7BD6DC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67B20-1230-4193-A570-1743107A8A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9144000" cy="5475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4680" y="0"/>
            <a:ext cx="914400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0099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9A6C-EA5A-410C-9644-9098785F0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280" y="6629400"/>
            <a:ext cx="250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 Pearson Education South Asia Pte Lt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Mechanical Properties of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OBJEC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relationship of stress and strain using experimental methods to determine stress-strain diagram of a specific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behavior described in the diagram for commonly used engineering mate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560920" y="1143000"/>
            <a:ext cx="3506760" cy="3506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10552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mechanical properties and other test related to the development of mechanics of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6EB9B-8133-4BB7-801B-37A21D03339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4114800" cy="35258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51920" y="1066680"/>
            <a:ext cx="8605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nventional stress-strain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2 STRESS-STRAIN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1523880"/>
            <a:ext cx="4419720" cy="29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astic beh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raight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ss is proportional to strain, i.e., linearly ela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per stress limit,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portional li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σ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4540320"/>
            <a:ext cx="4800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load is removed upon reaching elastic limit, specimen will return to its original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52880" y="3124080"/>
            <a:ext cx="914400" cy="12193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06A17-634F-4F85-9A8B-E854892E85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51920" y="1066680"/>
            <a:ext cx="8605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nventional stress-strain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2 STRESS-STRAIN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89280" y="2940120"/>
            <a:ext cx="287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 3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1523880"/>
            <a:ext cx="441972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iel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al deforms permanently; yielding; plastic de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ield stress,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4038480"/>
            <a:ext cx="868680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yield point reached, specimen continues to elongate (strain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ithout any increase in 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figure not drawn to scale, otherwise induced strains is 10-40 times larger than in elastic li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al is referred to as be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erfectly pla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972040" y="1447920"/>
            <a:ext cx="2943360" cy="2522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248520" y="2286000"/>
            <a:ext cx="914400" cy="12193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F3955-C120-416E-999C-979D1A2867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51920" y="1066680"/>
            <a:ext cx="8605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nventional stress-strain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2 STRESS-STRAIN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89280" y="2940120"/>
            <a:ext cx="287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 3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1600200"/>
            <a:ext cx="4267440" cy="28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ain harde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timate stress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specimen is elongating, its x-sectional area will de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4387680"/>
            <a:ext cx="5105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 in area is fairly uniform over entire gauge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4114800" cy="3525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943600" y="2362320"/>
            <a:ext cx="1981080" cy="20574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97E40-6A22-4F61-A95F-99B2FAB094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51920" y="1066680"/>
            <a:ext cx="8605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nventional stress-strain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2 STRESS-STRAIN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9280" y="2940120"/>
            <a:ext cx="287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 3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1600200"/>
            <a:ext cx="426744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c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ultimate stress, x-sectional area begins to decrease in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caliz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3809880"/>
            <a:ext cx="4800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 result, a constriction or “neck” tends to form in this region as specimen elongates fur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4114800" cy="3525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315200" y="2286000"/>
            <a:ext cx="1219320" cy="22096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5715000"/>
            <a:ext cx="800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men finally breaks at fracture stress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B9FB3-A7DB-45E5-85D1-557228BA9D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51920" y="1066680"/>
            <a:ext cx="8605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nventional stress-strain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2 STRESS-STRAIN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89280" y="2940120"/>
            <a:ext cx="287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 3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1600200"/>
            <a:ext cx="4267440" cy="15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c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men finally breaks at fracture stress,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514840" y="1752480"/>
            <a:ext cx="2943360" cy="25225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848720" y="2095560"/>
            <a:ext cx="761760" cy="799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57200" y="4572000"/>
            <a:ext cx="7238880" cy="17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593C3-7BF4-4A5F-A2DD-B811AAA477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51920" y="1066680"/>
            <a:ext cx="8605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True stress-strain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2 STRESS-STRAIN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1600200"/>
            <a:ext cx="8534520" cy="27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 of us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rigi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ross-sectional area and length, we can use the actual cross-sectional area and length at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st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load is measu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 of stress and strain thus calculated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ue str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ue str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a plot of their values i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ue stress-strain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62464-FCDD-4DC7-8FCA-681912790C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51920" y="1066680"/>
            <a:ext cx="8605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True stress-strain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2 STRESS-STRAIN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1600200"/>
            <a:ext cx="853452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train-hardening range, conventio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agram shows specimen support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creasing lo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ile true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agram shows material to be sustain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creasing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E4450-0920-4868-8CD6-9DF5D7451D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51920" y="1066680"/>
            <a:ext cx="8605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True stress-strain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75960" y="5000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2 STRESS-STRAIN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1600200"/>
            <a:ext cx="8534520" cy="33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hough both diagrams are different, most engineering design is done within elastic range provi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342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al is “stiff,” like most me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342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in to elastic limit remains s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5160" indent="-342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in using engineering values of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very small (0.1 %) compared to true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27178-C305-469C-9861-FDBF3BA7BFF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9600" y="1066320"/>
            <a:ext cx="8453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Ductile mate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as any material that can be subjected to large strains before it ruptures, e.g., mild st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materials are used because it is capable of absorbing shock or energy, and if before becoming overloaded, will exhibit large deformation before fa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ctility of material is to report its percent elongation or percent reduction in area at time of fra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76320" y="504720"/>
            <a:ext cx="9067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3 STRESS-STRAIN BEHAVIOR OF DUCTILE &amp; BRITTLE MATERIA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E1712-5A67-4B9F-A9DA-69D3985DB3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9600" y="1066680"/>
            <a:ext cx="84535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Ductile mate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cent elong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specimen’s fracture strain expressed as a per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cent reduction in are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defined within necking region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3 STRESS-STRAIN BEHAVIOR OF DUCTILE &amp; BRITTLE MATERIA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04920" y="2514600"/>
            <a:ext cx="6851520" cy="1079640"/>
            <a:chOff x="304920" y="2514600"/>
            <a:chExt cx="6851520" cy="1079640"/>
          </a:xfrm>
        </p:grpSpPr>
        <p:sp>
          <p:nvSpPr>
            <p:cNvPr id="132" name=""/>
            <p:cNvSpPr/>
            <p:nvPr/>
          </p:nvSpPr>
          <p:spPr>
            <a:xfrm>
              <a:off x="685800" y="2514600"/>
              <a:ext cx="6172200" cy="10666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4920" y="2787480"/>
              <a:ext cx="419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ercent elongation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20440" y="2563920"/>
              <a:ext cx="2221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− L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12120" y="3014640"/>
              <a:ext cx="1549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62160" y="3054240"/>
              <a:ext cx="14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40200" y="2789280"/>
              <a:ext cx="231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100%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81960" y="4876920"/>
            <a:ext cx="7764840" cy="1079640"/>
            <a:chOff x="381960" y="4876920"/>
            <a:chExt cx="7764840" cy="1079640"/>
          </a:xfrm>
        </p:grpSpPr>
        <p:sp>
          <p:nvSpPr>
            <p:cNvPr id="139" name=""/>
            <p:cNvSpPr/>
            <p:nvPr/>
          </p:nvSpPr>
          <p:spPr>
            <a:xfrm>
              <a:off x="762120" y="4876920"/>
              <a:ext cx="7010280" cy="10666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1960" y="5164200"/>
              <a:ext cx="507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ercent reduction in area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11880" y="4925880"/>
              <a:ext cx="2258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− A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03200" y="5376960"/>
              <a:ext cx="1567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38480" y="5416560"/>
              <a:ext cx="14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830560" y="5151600"/>
              <a:ext cx="231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100%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47D2B-65BE-4E15-AC41-B5BD8202DE8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OUT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sion and Compression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ss-Strain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ss-Strain Behavior of Ductile and Brittle Mate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ke’s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in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ssion’s Rat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ar Stress-Strain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*Failure of Materials Due to Creep and Fatig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38617-F273-445E-9950-B4532408DE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9600" y="1066680"/>
            <a:ext cx="84535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Ductile mate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metals do not exhibi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stant yiel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havior beyond the elastic range, e.g. alumin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does not have well-defined yield point, thus it is standard practice to define it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ield streng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ing a graphical procedure called the offset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3 STRESS-STRAIN BEHAVIOR OF DUCTILE &amp; BRITTLE MATERIA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73709-2CC6-4B12-9447-54836B7A2BF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9240" y="1066320"/>
            <a:ext cx="776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Ductile mate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set method to determine yield str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3 STRESS-STRAIN BEHAVIOR OF DUCTILE &amp; BRITTLE MATERIA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2057400"/>
            <a:ext cx="495288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ly, a 0.2 % strain is chos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is point on th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xis, a line parallel to initial straight-line portion of stress-strain diagram is dra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int where this line intersects the curve defines the yield str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334120" y="2681280"/>
            <a:ext cx="3641760" cy="341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290AD-704D-47A7-B3D3-E31800A5B9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09600" y="1081080"/>
            <a:ext cx="79963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Brittle Mate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al that exhibit little or no yielding before failure are referred to as brittle materials, e.g., gray cast i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ttle materials do not have a well-defined tensile fracture stress, since appearance of initial cracks in a specimen is quite rand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3 STRESS-STRAIN BEHAVIOR OF DUCTILE &amp; BRITTLE MATERIA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52480" y="4724280"/>
            <a:ext cx="4343400" cy="15796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238880" y="3886200"/>
            <a:ext cx="1608120" cy="289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3C0D7-5186-48F2-AD67-D782BA114C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09600" y="1080720"/>
            <a:ext cx="8453520" cy="16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Brittle Mate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,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acture stress from a set of observed tests is generally re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3 STRESS-STRAIN BEHAVIOR OF DUCTILE &amp; BRITTLE MATERIA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638360" y="2629080"/>
            <a:ext cx="5829120" cy="377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16542-2DC6-49B6-936D-6D8B57EB77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44520" y="4190760"/>
            <a:ext cx="8453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presents the constant of proportionality, also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dulus of elastic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ng’s modu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units of stress, i.e., pascals, MPa or GP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4 HOOKE’S LA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1066680"/>
            <a:ext cx="861048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engineering materials exhibit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near relation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stress and strain with the elastic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vered by Robert Hooke in 1676 using springs, known 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oke’s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52400" y="3505320"/>
            <a:ext cx="2209680" cy="685800"/>
            <a:chOff x="3452400" y="3505320"/>
            <a:chExt cx="2209680" cy="685800"/>
          </a:xfrm>
        </p:grpSpPr>
        <p:sp>
          <p:nvSpPr>
            <p:cNvPr id="162" name=""/>
            <p:cNvSpPr/>
            <p:nvPr/>
          </p:nvSpPr>
          <p:spPr>
            <a:xfrm>
              <a:off x="3733920" y="3505320"/>
              <a:ext cx="1676160" cy="685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52400" y="356544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σ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E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A2931-E911-48B2-9700-DA30B52748A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5486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shown above, most grades of steel have same modulus of elasticity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00 G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us of elasticity is a mechanical property that indicate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iffn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als that are still have larg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lues, while spongy materials (vulcanized rubber) have low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4 HOOKE’S LA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757840" y="1371600"/>
            <a:ext cx="3138480" cy="38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66D6D-866E-4545-90EF-DD86283C61A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10480" cy="3048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us of elastic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an be used only if a material has linear-elastic behav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if stress in material is greater than the proportional limit, the stress-strain diagram ceases to be a straight line and the equation is not val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4 HOOKE’S LA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A7B9B-80E8-4F79-A006-C80F7862B25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train hard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specimen of ductile material (steel) is loaded into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lastic reg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hen unloade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lastic str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recovered as material returns to its equilibrium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lastic str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mains, thus material is subjected to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ermanent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4 HOOKE’S LA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424E1-EDD3-4C0E-9B6A-82F0F055E87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train hard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men loaded beyond yield po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-atomic forces have to be overcome to elongate specim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lastically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se same forces pull atoms back together when load is rem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4 HOOKE’S LA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3657600"/>
            <a:ext cx="43052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same, slope of l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’A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same as lin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715000" y="3276720"/>
            <a:ext cx="2803680" cy="335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48D2A-D324-4C46-95CA-85314F75765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86104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train hard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 reapplied, atoms will be displaced until yielding occurs at or ne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stress-strain diagram continues along same path as bef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21960" y="5335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4 HOOKE’S LA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2895480"/>
            <a:ext cx="430524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stress-strain diagram h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ig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ield point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a result of strain-hard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men ha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reater elastic reg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ss duc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562720" y="2971800"/>
            <a:ext cx="305748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AF5A5-6949-4B82-94F9-8F865D38D06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5920" y="1066320"/>
            <a:ext cx="8377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 of a material can only be determin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st used by engineers i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nsion or compression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test is used primarily to determine the relationship between the average normal stress and average normal strain in common engineering materials, such as metals, ceramics, polymers and compo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75960" y="49068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1 TENSION &amp; COMPRESSION TE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65DC5-85D2-4DDE-BA34-63544E4E81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86104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train hard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specimen is unloaded and loaded, heat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y b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area between the curves represents lost energy and is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chanical hyster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21960" y="5335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4 HOOKE’S LA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3429000"/>
            <a:ext cx="43052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an important consideration when selecting materials to serve as dampers for vibrating structures an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326200" y="3429000"/>
            <a:ext cx="2598480" cy="312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5C988-1875-4BB6-A02D-0DD4B48EF4E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9240" y="1066320"/>
            <a:ext cx="860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ing the tension or compression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men of material is made into “standard” shape and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testing, 2 small punch marks identified along specimen’s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ments are taken of both specimen’s initial x-sectional are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gauge-length dista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 between the two ma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t the specimen into a testing machine shown be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1 TENSION &amp; COMPRESSION TE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105520" y="5410080"/>
            <a:ext cx="3654360" cy="122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3C088-C9EA-4CAF-B4ED-C26896789F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34120" y="1924200"/>
            <a:ext cx="3733560" cy="33336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09240" y="1066680"/>
            <a:ext cx="8605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ing the tension or compression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t the specimen into a testing machine shown be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75960" y="49068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1 TENSION &amp; COMPRESSION TE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2593800"/>
            <a:ext cx="4952880" cy="27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chine will stretch specimen at slow constant rate until breaking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frequent intervals during test, data is recorded of the applied load 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1A99C-9162-4EE6-B083-B9DC4804F3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09240" y="1066320"/>
            <a:ext cx="8605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ing the tension or compression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ongation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measured using either a caliper or an extensome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used to calculate the normal strain in the speci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metimes, strain can also be read directly using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lectrical-resistance strain gau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1 TENSION &amp; COMPRESSION TE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248520" y="4495680"/>
            <a:ext cx="2447640" cy="2117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62120" y="4495680"/>
            <a:ext cx="266688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CEF15-01B2-4B43-A424-FA8C0E0E15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09600" y="1066320"/>
            <a:ext cx="8453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ress-strain diagr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obtained by plotting the various values of the stress and corresponding strain in the speci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nventional stress-strain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recorded data, we can determine nominal or engineering stres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2 STRESS-STRAIN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581280" y="3962520"/>
            <a:ext cx="2035440" cy="1218960"/>
            <a:chOff x="3581280" y="3962520"/>
            <a:chExt cx="2035440" cy="1218960"/>
          </a:xfrm>
        </p:grpSpPr>
        <p:sp>
          <p:nvSpPr>
            <p:cNvPr id="65" name=""/>
            <p:cNvSpPr/>
            <p:nvPr/>
          </p:nvSpPr>
          <p:spPr>
            <a:xfrm>
              <a:off x="3581280" y="3962520"/>
              <a:ext cx="1981080" cy="1218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3886200" y="4038480"/>
              <a:ext cx="1730520" cy="1095120"/>
              <a:chOff x="3886200" y="4038480"/>
              <a:chExt cx="1730520" cy="1095120"/>
            </a:xfrm>
          </p:grpSpPr>
          <p:sp>
            <p:nvSpPr>
              <p:cNvPr id="67" name=""/>
              <p:cNvSpPr/>
              <p:nvPr/>
            </p:nvSpPr>
            <p:spPr>
              <a:xfrm>
                <a:off x="4048920" y="4038480"/>
                <a:ext cx="1567800" cy="10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886200" y="4266720"/>
                <a:ext cx="1066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l-GR" sz="2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σ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=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571640" y="452412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" name=""/>
          <p:cNvSpPr/>
          <p:nvPr/>
        </p:nvSpPr>
        <p:spPr>
          <a:xfrm>
            <a:off x="533520" y="5302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ption: Stress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st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ver the x-section and throughout region between gauge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393EA-2039-4EAF-A037-5D2F647C90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09240" y="1066320"/>
            <a:ext cx="8605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nventional Stress-Strain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wise, nominal or engineering strain is found directly from strain gauge reading, or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2 STRESS-STRAIN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3886200" y="2666880"/>
            <a:ext cx="1864440" cy="1218960"/>
            <a:chOff x="3886200" y="2666880"/>
            <a:chExt cx="1864440" cy="1218960"/>
          </a:xfrm>
        </p:grpSpPr>
        <p:sp>
          <p:nvSpPr>
            <p:cNvPr id="74" name=""/>
            <p:cNvSpPr/>
            <p:nvPr/>
          </p:nvSpPr>
          <p:spPr>
            <a:xfrm>
              <a:off x="3886200" y="2666880"/>
              <a:ext cx="1371600" cy="1218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4038480" y="2742840"/>
              <a:ext cx="1712160" cy="1095120"/>
              <a:chOff x="4038480" y="2742840"/>
              <a:chExt cx="1712160" cy="1095120"/>
            </a:xfrm>
          </p:grpSpPr>
          <p:sp>
            <p:nvSpPr>
              <p:cNvPr id="76" name=""/>
              <p:cNvSpPr/>
              <p:nvPr/>
            </p:nvSpPr>
            <p:spPr>
              <a:xfrm>
                <a:off x="4201200" y="2742840"/>
                <a:ext cx="1549440" cy="109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800" spc="-1" strike="noStrike">
                    <a:solidFill>
                      <a:srgbClr val="000000"/>
                    </a:solidFill>
                    <a:latin typeface="Times New Roman"/>
                  </a:rPr>
                  <a:t>δ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038480" y="297144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l-GR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724280" y="32288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533520" y="3962520"/>
            <a:ext cx="800100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ption: Strain is constant throughout region between gauge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plot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rdinate) again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bscissa), we get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ventional stress-strain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AC607-0885-4BFC-9266-A64ADF0B76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09600" y="1066320"/>
            <a:ext cx="84535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onventional stress-strain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 shows the characteristic stress-strain diagram for steel, a commonly used material for structural members and mechanical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2 STRESS-STRAIN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362320" y="2938320"/>
            <a:ext cx="4572000" cy="391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FDA9A-6608-4C84-9E62-F4AF54B662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0T08:57:51Z</dcterms:created>
  <dc:creator>MCA</dc:creator>
  <dc:description/>
  <dc:language>en-US</dc:language>
  <cp:lastModifiedBy>Ng Family</cp:lastModifiedBy>
  <dcterms:modified xsi:type="dcterms:W3CDTF">2005-05-05T05:01:48Z</dcterms:modified>
  <cp:revision>181</cp:revision>
  <dc:subject/>
  <dc:title>Chapter 1</dc:title>
</cp:coreProperties>
</file>