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F861-0599-4836-BF14-3C94BBA95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7DE0-3544-4713-981B-26FB3FACF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8C72-07F1-40E9-A60B-9E5101C0B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C2E1-60A5-4977-B95F-0EFC9C616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E8C0-A3CE-4280-8BE8-A692D8D40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C0D0-7EB7-4B4A-B97A-3AC5BFF20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083A-FA4A-46FA-9E9D-BEC4B31F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EA2A-6B36-47CA-BFCF-B0914737B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2E9C-DBA8-424D-9FC9-45EDBA73D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63CD-9D43-499B-B9C1-BF1F7D87B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FFF4-0ACC-43D3-87A6-9B510C51F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B4D6-4C6B-4C32-98AB-833FA9495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1C56-3B35-4A33-85CF-7C9CAFCFA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echanical Properties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relationship of stress and strain using experimental methods to determine stress-strain diagram of a specif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behavior described in the diagram for commonly used engineer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0920" y="1143000"/>
            <a:ext cx="3506760" cy="350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mechanical properties and other test related to the development of mechanics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05EB-FE2F-4FB1-ABAD-493E7C9E9E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352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523880"/>
            <a:ext cx="4419720" cy="29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is proportional to strain, i.e., linearl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stress limit,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rtional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454032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ad is removed upon reaching elastic limit, specimen will return to its original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3124080"/>
            <a:ext cx="914400" cy="12193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F54C-43BF-433A-97B5-2CCA6722F2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523880"/>
            <a:ext cx="441972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deforms permanently; yielding; plastic d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stress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038480"/>
            <a:ext cx="86868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ield point reached, specimen continues to elongate (strai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out any increas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figure not drawn to scale, otherwise induced strains is 10-40 times larger than in elastic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is referred to as be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fectly p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2040" y="1447920"/>
            <a:ext cx="2943360" cy="252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48520" y="2286000"/>
            <a:ext cx="914400" cy="12193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0EFA-ACF2-464B-BD9E-957949556D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42674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in hard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stres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pecimen is elongating, its x-sectional area will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38768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area is fairly uniform over entire gaug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3525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2362320"/>
            <a:ext cx="198108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576C-B08A-4278-AC87-8F62D22C4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600200"/>
            <a:ext cx="42674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ultimate stress, x-sectional area begins to decrease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98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a constriction or “neck” tends to form in this region as specimen elongates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352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15200" y="2286000"/>
            <a:ext cx="1219320" cy="22096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715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finally breaks at fracture stres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652F-CD90-4AF7-946F-368D0023F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600200"/>
            <a:ext cx="426744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finally breaks at fracture stress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14840" y="1752480"/>
            <a:ext cx="2943360" cy="2522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848720" y="2095560"/>
            <a:ext cx="761760" cy="799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FAC8-32D0-4871-AE0E-1BB9E4C34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600200"/>
            <a:ext cx="85345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ig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-sectional area and length, we can use the actual cross-sectional area and length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oad is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stress and strain thus calculated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plot of their value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A2BF-92B5-4ED2-AA86-DF7A7D4AC6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600200"/>
            <a:ext cx="8534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rain-hardening range, conven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agram shows specimen suppor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ing 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le tru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 shows material to be susta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ing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D7C8-F291-4DA7-9134-CD9944A343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600200"/>
            <a:ext cx="853452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both diagrams are different, most engineering design is done within elastic rang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is “stiff,” like most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to elastic limit remain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in using engineering value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very small (0.1 %) compared to tru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35FF-4985-4472-9D05-6420142459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any material that can be subjected to large strains before it ruptures, e.g., mild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aterials are used because it is capable of absorbing shock or energy, and if before becoming overloaded, will exhibit large deformation before f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ctility of material is to report its percent elongation or percent reduction in area at time of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320" y="5047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EEC8-A106-4E54-A874-27CC1DB9D4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elon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imen’s fracture strain expressed as a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reduction in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within necking regio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920" y="2514600"/>
            <a:ext cx="6851520" cy="1079640"/>
            <a:chOff x="304920" y="2514600"/>
            <a:chExt cx="6851520" cy="1079640"/>
          </a:xfrm>
        </p:grpSpPr>
        <p:sp>
          <p:nvSpPr>
            <p:cNvPr id="132" name=""/>
            <p:cNvSpPr/>
            <p:nvPr/>
          </p:nvSpPr>
          <p:spPr>
            <a:xfrm>
              <a:off x="685800" y="2514600"/>
              <a:ext cx="617220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920" y="2787480"/>
              <a:ext cx="41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cent elongation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0440" y="2563920"/>
              <a:ext cx="222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12120" y="3014640"/>
              <a:ext cx="1549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160" y="305424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0200" y="2789280"/>
              <a:ext cx="23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00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960" y="4876920"/>
            <a:ext cx="7764840" cy="1079640"/>
            <a:chOff x="381960" y="4876920"/>
            <a:chExt cx="7764840" cy="1079640"/>
          </a:xfrm>
        </p:grpSpPr>
        <p:sp>
          <p:nvSpPr>
            <p:cNvPr id="139" name=""/>
            <p:cNvSpPr/>
            <p:nvPr/>
          </p:nvSpPr>
          <p:spPr>
            <a:xfrm>
              <a:off x="762120" y="4876920"/>
              <a:ext cx="701028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960" y="5164200"/>
              <a:ext cx="507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cent reduction in area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1880" y="4925880"/>
              <a:ext cx="225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03200" y="5376960"/>
              <a:ext cx="156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8480" y="54165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30560" y="5151600"/>
              <a:ext cx="23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00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465D-BD77-448B-8F5C-B0937ABAFA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and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-Strain Behavior of Ductile and Britt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sion’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Failure of Materials Due to Creep and 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F5B6-477B-4E2D-9AF1-C0554DAAFF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do not exhi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 yiel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havior beyond the elastic range, e.g. alumi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have well-defined yield point, thus it is standard practice to define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ield 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 graphical procedure called the offse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7DDB-3909-4834-9834-C864430167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set method to determine yiel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057400"/>
            <a:ext cx="49528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, a 0.2 % strain is cho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point on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a line parallel to initial straight-line portion of stress-strain diagram is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where this line intersects the curve defines the yield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2681280"/>
            <a:ext cx="3641760" cy="34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901B-D149-4081-924A-316BDC6057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9600" y="1081080"/>
            <a:ext cx="79963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ritt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that exhibit little or no yielding before failure are referred to as brittle materials, e.g., gray cast i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tle materials do not have a well-defined tensile fracture stress, since appearance of initial cracks in a specimen is quite 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4343400" cy="157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60812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027C-4CF2-41CD-AC1A-6ADF28122D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9600" y="1080720"/>
            <a:ext cx="845352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ritt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cture stress from a set of observed tests is generally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38360" y="2629080"/>
            <a:ext cx="5829120" cy="37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F11F-E39A-49FA-9CEC-DCBAEB0F96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4520" y="4190760"/>
            <a:ext cx="8453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constant of proportionality, 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us of el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ng’s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units of stress, i.e., pascals, MPa or G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066680"/>
            <a:ext cx="8610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materials exhibit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stress and strain with the elast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by Robert Hooke in 1676 using springs,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52400" y="3505320"/>
            <a:ext cx="2209680" cy="685800"/>
            <a:chOff x="3452400" y="3505320"/>
            <a:chExt cx="2209680" cy="685800"/>
          </a:xfrm>
        </p:grpSpPr>
        <p:sp>
          <p:nvSpPr>
            <p:cNvPr id="162" name=""/>
            <p:cNvSpPr/>
            <p:nvPr/>
          </p:nvSpPr>
          <p:spPr>
            <a:xfrm>
              <a:off x="3733920" y="3505320"/>
              <a:ext cx="167616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52400" y="356544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7386-ACFC-4FCF-BC2B-45736D06EF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hown above, most grades of steel have same modulus of elasticit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of elasticity is a mechanical property that indicat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ff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that are still have lar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, while spongy materials (vulcanized rubber) have low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57840" y="1371600"/>
            <a:ext cx="31384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23D1-19CB-46BD-BF98-84D4416815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of elastic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be used only if a material has linear-elastic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f stress in material is greater than the proportional limit, the stress-strain diagram ceases to be a straight line and the equation is not 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5A7A-2441-4FAD-9C6C-CD69C692F0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pecimen of ductile material (steel) is loaded i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unloade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covered as material returns to its equilibriu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s, thus material is subjec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manent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1065-AB9E-4332-8A11-512E7F4485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loaded beyond yield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atomic forces have to be overcome to elongate specim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ally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same forces pull atoms back together when load is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657600"/>
            <a:ext cx="4305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, slope of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’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as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280368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5C50-C8D6-4C02-80E1-A5453A7F86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reapplied, atoms will be displaced until yielding occurs at or n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stress-strain diagram continues along same path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895480"/>
            <a:ext cx="4305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ress-strain diagram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ield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result of strain-h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eater elastic reg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s duc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0574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8FB2-EEF3-4580-A2BC-C4516996BE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5920" y="1066320"/>
            <a:ext cx="8377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a material can only be determin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st used by engineer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st is used primarily to determine the relationship between the average normal stress and average normal strain in common engineering materials, such as metals, ceramics, polymers and compo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D1F2-8BBB-4FF2-9F1B-0F4F71E7A0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pecimen is unloaded and loaded, hea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area between the curves represents lost energy and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chanical hyste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429000"/>
            <a:ext cx="430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n important consideration when selecting materials to serve as dampers for vibrating structure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26200" y="3429000"/>
            <a:ext cx="25984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EE02-A7D8-4A5C-8E3A-ACFA1B8013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the 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of material is made into “standard” shape and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esting, 2 small punch marks identified along specimen’s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s are taken of both specimen’s initial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gauge-length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 between the two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 the specimen into a testing machine shown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5410080"/>
            <a:ext cx="3654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3C07-3C3F-46B4-94F2-BDC129863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1924200"/>
            <a:ext cx="373356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the 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 the specimen into a testing machine shown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593800"/>
            <a:ext cx="495288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ne will stretch specimen at slow constant rate until break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requent intervals during test, data is recorded of the applied load 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4752-DA5A-4011-9A34-2EB41EEA6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the 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using either a caliper or an extensome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to calculate the normal strain in the spec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, strain can also be read directly us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ical-resistance strain ga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447640" cy="2117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266688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04B6-F3E6-4602-B690-20F01F84D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ss-strain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btained by plotting the various values of the stress and corresponding strain in the spec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corded data, we can determine nominal or engineering stre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81280" y="3962520"/>
            <a:ext cx="2035440" cy="1218960"/>
            <a:chOff x="3581280" y="3962520"/>
            <a:chExt cx="2035440" cy="1218960"/>
          </a:xfrm>
        </p:grpSpPr>
        <p:sp>
          <p:nvSpPr>
            <p:cNvPr id="65" name=""/>
            <p:cNvSpPr/>
            <p:nvPr/>
          </p:nvSpPr>
          <p:spPr>
            <a:xfrm>
              <a:off x="3581280" y="3962520"/>
              <a:ext cx="198108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886200" y="4038480"/>
              <a:ext cx="1730520" cy="1095120"/>
              <a:chOff x="3886200" y="4038480"/>
              <a:chExt cx="1730520" cy="1095120"/>
            </a:xfrm>
          </p:grpSpPr>
          <p:sp>
            <p:nvSpPr>
              <p:cNvPr id="67" name=""/>
              <p:cNvSpPr/>
              <p:nvPr/>
            </p:nvSpPr>
            <p:spPr>
              <a:xfrm>
                <a:off x="4048920" y="4038480"/>
                <a:ext cx="156780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6200" y="426672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σ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71640" y="45241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533520" y="5302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: Stre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the x-section and throughout region between gau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0AE9-11C4-4EF7-A35B-578DA8CEC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, nominal or engineering strain is found directly from strain gauge reading, o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86200" y="2666880"/>
            <a:ext cx="1864440" cy="1218960"/>
            <a:chOff x="3886200" y="2666880"/>
            <a:chExt cx="1864440" cy="1218960"/>
          </a:xfrm>
        </p:grpSpPr>
        <p:sp>
          <p:nvSpPr>
            <p:cNvPr id="74" name=""/>
            <p:cNvSpPr/>
            <p:nvPr/>
          </p:nvSpPr>
          <p:spPr>
            <a:xfrm>
              <a:off x="3886200" y="2666880"/>
              <a:ext cx="13716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038480" y="2742840"/>
              <a:ext cx="1712160" cy="1095120"/>
              <a:chOff x="4038480" y="2742840"/>
              <a:chExt cx="1712160" cy="1095120"/>
            </a:xfrm>
          </p:grpSpPr>
          <p:sp>
            <p:nvSpPr>
              <p:cNvPr id="76" name=""/>
              <p:cNvSpPr/>
              <p:nvPr/>
            </p:nvSpPr>
            <p:spPr>
              <a:xfrm>
                <a:off x="4201200" y="2742840"/>
                <a:ext cx="15494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38480" y="29714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4280" y="3228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533520" y="3962520"/>
            <a:ext cx="8001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: Strain is constant throughout region between gau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lot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dinate) agai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bscissa), we get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0F98-7B47-4CC6-8251-E1C9F9FD8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shows the characteristic stress-strain diagram for steel, a commonly used material for structural members and mechanic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62320" y="2938320"/>
            <a:ext cx="4572000" cy="391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BA7F-46F1-4B0E-A2D2-59360A406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5T05:01:48Z</dcterms:modified>
  <cp:revision>181</cp:revision>
  <dc:subject/>
  <dc:title>Chapter 1</dc:title>
</cp:coreProperties>
</file>