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C89C-0E2E-46E9-B129-09996CD9C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38CC-4E08-4D72-B2D2-253F181C5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4631-D86E-4FC5-BB20-205FF150A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E89F-4618-40A1-BCB2-694D18013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5E98-5537-4112-A6BD-F48D18BFD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A3C0-8206-494C-BBD2-9A0E5FCB98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EE03-D5A1-4F33-B82B-6DBBDB705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5AC0-944D-4845-8F52-93C77FB1D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D9BC-02E8-43F3-A3AE-28AE7B9DC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F53A-EB01-4481-B093-9D35D029E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ABF2-FDF2-4C71-ADB1-5698EFF00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9EA1-50C0-43E1-85CA-E36C63036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FE8B-8DA3-486C-8BA1-B7A47991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chanical Properties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 is deformed by external loading, energy is stor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out its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nergy is also referred to as stra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evelops a for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16495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61160" y="3124080"/>
            <a:ext cx="4472640" cy="838440"/>
            <a:chOff x="461160" y="3124080"/>
            <a:chExt cx="4472640" cy="838440"/>
          </a:xfrm>
        </p:grpSpPr>
        <p:sp>
          <p:nvSpPr>
            <p:cNvPr id="47" name=""/>
            <p:cNvSpPr/>
            <p:nvPr/>
          </p:nvSpPr>
          <p:spPr>
            <a:xfrm>
              <a:off x="762120" y="3124080"/>
              <a:ext cx="3809880" cy="838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1160" y="3195720"/>
              <a:ext cx="44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F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ody subjected to axial tensile force, it elongates and contracts late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ly, it will contract and its sides expand laterally when subjected to an axial compressiv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1960" y="48744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3672000"/>
            <a:ext cx="4343400" cy="21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1907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s of the bar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1960" y="4888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33320" y="1600200"/>
            <a:ext cx="5376960" cy="1295280"/>
            <a:chOff x="1633320" y="1600200"/>
            <a:chExt cx="5376960" cy="1295280"/>
          </a:xfrm>
        </p:grpSpPr>
        <p:sp>
          <p:nvSpPr>
            <p:cNvPr id="120" name=""/>
            <p:cNvSpPr/>
            <p:nvPr/>
          </p:nvSpPr>
          <p:spPr>
            <a:xfrm>
              <a:off x="1752480" y="1600200"/>
              <a:ext cx="525780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33320" y="1676520"/>
              <a:ext cx="2480040" cy="1036080"/>
              <a:chOff x="1633320" y="1676520"/>
              <a:chExt cx="2480040" cy="1036080"/>
            </a:xfrm>
          </p:grpSpPr>
          <p:sp>
            <p:nvSpPr>
              <p:cNvPr id="122" name=""/>
              <p:cNvSpPr/>
              <p:nvPr/>
            </p:nvSpPr>
            <p:spPr>
              <a:xfrm>
                <a:off x="1633320" y="1919520"/>
                <a:ext cx="2058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lon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667600" y="1676520"/>
                <a:ext cx="144576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00400" y="2190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4591080" y="1752480"/>
              <a:ext cx="1961640" cy="1036080"/>
              <a:chOff x="4591080" y="1752480"/>
              <a:chExt cx="1961640" cy="1036080"/>
            </a:xfrm>
          </p:grpSpPr>
          <p:sp>
            <p:nvSpPr>
              <p:cNvPr id="126" name=""/>
              <p:cNvSpPr/>
              <p:nvPr/>
            </p:nvSpPr>
            <p:spPr>
              <a:xfrm>
                <a:off x="4591080" y="1969920"/>
                <a:ext cx="18972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lat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941800" y="1752480"/>
                <a:ext cx="610920" cy="10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948280" y="224604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"/>
          <p:cNvGrpSpPr/>
          <p:nvPr/>
        </p:nvGrpSpPr>
        <p:grpSpPr>
          <a:xfrm>
            <a:off x="1941840" y="4495680"/>
            <a:ext cx="5014080" cy="1447920"/>
            <a:chOff x="1941840" y="4495680"/>
            <a:chExt cx="5014080" cy="1447920"/>
          </a:xfrm>
        </p:grpSpPr>
        <p:sp>
          <p:nvSpPr>
            <p:cNvPr id="130" name=""/>
            <p:cNvSpPr/>
            <p:nvPr/>
          </p:nvSpPr>
          <p:spPr>
            <a:xfrm>
              <a:off x="2286000" y="4495680"/>
              <a:ext cx="4572000" cy="1447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1840" y="4944960"/>
              <a:ext cx="43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sson’s ratio,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ν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5440" y="4586400"/>
              <a:ext cx="177048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a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lo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760" y="52149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28600" y="2895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1800s, S.D. Poisson realized that within elastic range, ration of the two strains is a constant value, since both are propor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niqu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mogen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otrop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y negative sig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ngitudinal elongation cause lateral contraction (-ve strain) and vice 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strain is the same in all lateral (radial)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son’s ratio is dimensionless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≤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1960" y="4888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POISSON’S RAT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074240"/>
            <a:ext cx="84582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is made of A-36 steel and behaves ela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hange in its length and change in dimensions of its cross section after load is appli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819520"/>
            <a:ext cx="65534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3800" y="1066680"/>
            <a:ext cx="8584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ess in the bar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8120" y="1600200"/>
            <a:ext cx="4642200" cy="1036080"/>
            <a:chOff x="618120" y="1600200"/>
            <a:chExt cx="4642200" cy="1036080"/>
          </a:xfrm>
        </p:grpSpPr>
        <p:sp>
          <p:nvSpPr>
            <p:cNvPr id="142" name=""/>
            <p:cNvSpPr/>
            <p:nvPr/>
          </p:nvSpPr>
          <p:spPr>
            <a:xfrm>
              <a:off x="618120" y="1846440"/>
              <a:ext cx="1831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05520" y="160020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59840" y="1857240"/>
              <a:ext cx="330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16.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20960" y="21128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57040" y="2666880"/>
            <a:ext cx="8582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abl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00 GPa, strain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rec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19200" y="3200400"/>
            <a:ext cx="5348520" cy="1154160"/>
            <a:chOff x="619200" y="3200400"/>
            <a:chExt cx="5348520" cy="1154160"/>
          </a:xfrm>
        </p:grpSpPr>
        <p:sp>
          <p:nvSpPr>
            <p:cNvPr id="148" name=""/>
            <p:cNvSpPr/>
            <p:nvPr/>
          </p:nvSpPr>
          <p:spPr>
            <a:xfrm>
              <a:off x="619200" y="3440160"/>
              <a:ext cx="1810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z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7120" y="3200400"/>
              <a:ext cx="16027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70280" y="3457440"/>
              <a:ext cx="39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8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20960" y="371304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57040" y="4267080"/>
            <a:ext cx="8582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al elongation of the bar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95480" y="4952880"/>
            <a:ext cx="7286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[8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1.5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3800" y="1066680"/>
            <a:ext cx="8584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.32, contraction strains in bo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rection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1160" y="2895480"/>
            <a:ext cx="8581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 changes in dimensions of cross-sectio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8800" y="2057400"/>
            <a:ext cx="752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0.3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8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28800" y="3733920"/>
            <a:ext cx="7286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[25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0.1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.6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4495680"/>
            <a:ext cx="7286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[25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](0.05 m)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28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4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n-tube specimens and subject it to torsional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easurements of applied torque and resulting angle of tw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196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895480" cy="2455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31244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8534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will exhibit linear-elastic behavior till its proportional limit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-hardening continues till it reaches ultimate shear stress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loses shear strength till it fractures, at stres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75960" y="5191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187800" y="3543480"/>
            <a:ext cx="4203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6 SHEAR STRESS-STRAIN DIA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479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e’s law for s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9760" y="1600200"/>
            <a:ext cx="2180520" cy="914400"/>
            <a:chOff x="2669760" y="1600200"/>
            <a:chExt cx="2180520" cy="914400"/>
          </a:xfrm>
        </p:grpSpPr>
        <p:sp>
          <p:nvSpPr>
            <p:cNvPr id="171" name=""/>
            <p:cNvSpPr/>
            <p:nvPr/>
          </p:nvSpPr>
          <p:spPr>
            <a:xfrm>
              <a:off x="2971800" y="1600200"/>
              <a:ext cx="1600200" cy="9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69760" y="1752480"/>
              <a:ext cx="21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2590920"/>
            <a:ext cx="4343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hear modulus of elasticity or modulus of rig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8960" y="3962520"/>
            <a:ext cx="8520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measured as slope of line on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e material consta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rela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92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974320" y="5473800"/>
            <a:ext cx="3119760" cy="1155240"/>
            <a:chOff x="2974320" y="5473800"/>
            <a:chExt cx="3119760" cy="1155240"/>
          </a:xfrm>
        </p:grpSpPr>
        <p:sp>
          <p:nvSpPr>
            <p:cNvPr id="177" name=""/>
            <p:cNvSpPr/>
            <p:nvPr/>
          </p:nvSpPr>
          <p:spPr>
            <a:xfrm>
              <a:off x="3352680" y="5486400"/>
              <a:ext cx="2438280" cy="114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4320" y="573084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19800" y="5473800"/>
              <a:ext cx="2474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(1 +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ν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38280" y="5972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61722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men of titanium alloy tested in torsion &amp; shear stress-strain diagram show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hear modulu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portional limit, and ultimate shear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2971800" cy="1844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400800" y="1173240"/>
            <a:ext cx="2590920" cy="2332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3352680"/>
            <a:ext cx="60195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determine the max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the top of the block shown, could be displaced horizontally if material behaves elastically when acted upon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ind magnitud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cessary to cause this displac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-energy density is strain energy per unit volume of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592800" y="1676520"/>
            <a:ext cx="3399480" cy="1295280"/>
            <a:chOff x="3592800" y="1676520"/>
            <a:chExt cx="3399480" cy="1295280"/>
          </a:xfrm>
        </p:grpSpPr>
        <p:sp>
          <p:nvSpPr>
            <p:cNvPr id="52" name=""/>
            <p:cNvSpPr/>
            <p:nvPr/>
          </p:nvSpPr>
          <p:spPr>
            <a:xfrm>
              <a:off x="4038480" y="1676520"/>
              <a:ext cx="259092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92800" y="204768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78240" y="1803240"/>
              <a:ext cx="17812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5120" y="1785960"/>
              <a:ext cx="157716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0800" y="20476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86280" y="23241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76640" y="2324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30481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aterial behavior is linear elastic, Hooke’s law app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592800" y="3886200"/>
            <a:ext cx="3820680" cy="1295280"/>
            <a:chOff x="3592800" y="3886200"/>
            <a:chExt cx="3820680" cy="1295280"/>
          </a:xfrm>
        </p:grpSpPr>
        <p:sp>
          <p:nvSpPr>
            <p:cNvPr id="61" name=""/>
            <p:cNvSpPr/>
            <p:nvPr/>
          </p:nvSpPr>
          <p:spPr>
            <a:xfrm>
              <a:off x="4038480" y="3886200"/>
              <a:ext cx="304812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92800" y="425772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76800" y="4014720"/>
              <a:ext cx="1511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71160" y="4002120"/>
              <a:ext cx="16423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11880" y="42577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0600" y="453384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4519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2560" y="4011480"/>
              <a:ext cx="1423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40240" y="453852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2560" y="4109760"/>
              <a:ext cx="1991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074600"/>
            <a:ext cx="861048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ar mod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ed from the slope of the straight-line por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iagram. Coordinat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(0.008 rad, 360 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8415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612360" y="3276720"/>
            <a:ext cx="3704760" cy="1552320"/>
            <a:chOff x="612360" y="3276720"/>
            <a:chExt cx="3704760" cy="1552320"/>
          </a:xfrm>
        </p:grpSpPr>
        <p:sp>
          <p:nvSpPr>
            <p:cNvPr id="190" name=""/>
            <p:cNvSpPr/>
            <p:nvPr/>
          </p:nvSpPr>
          <p:spPr>
            <a:xfrm>
              <a:off x="612360" y="353376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7680" y="4308480"/>
              <a:ext cx="33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45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9360" y="3276720"/>
              <a:ext cx="2753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60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.008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9160" y="378936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074240"/>
            <a:ext cx="861048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portional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graph ceases to be linear at point A, th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572000" y="2101680"/>
            <a:ext cx="4267080" cy="3841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53200" y="2438280"/>
            <a:ext cx="322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60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429000"/>
            <a:ext cx="4038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ltimat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grap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72640" y="4876920"/>
            <a:ext cx="316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504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5 (SOLN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86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imum elastic displacement and shea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spection, graph ceases to be linear at point A, th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334200" y="2133720"/>
            <a:ext cx="28098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154080" y="2133720"/>
            <a:ext cx="6473880" cy="1036080"/>
            <a:chOff x="154080" y="2133720"/>
            <a:chExt cx="6473880" cy="1036080"/>
          </a:xfrm>
        </p:grpSpPr>
        <p:sp>
          <p:nvSpPr>
            <p:cNvPr id="204" name=""/>
            <p:cNvSpPr/>
            <p:nvPr/>
          </p:nvSpPr>
          <p:spPr>
            <a:xfrm>
              <a:off x="154080" y="2362320"/>
              <a:ext cx="535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n (0.008 rad) ≈ 0.008 rad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83360" y="2133720"/>
              <a:ext cx="22446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52880" y="26337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32040" y="3138480"/>
            <a:ext cx="28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278280" y="3921120"/>
            <a:ext cx="2485440" cy="1036080"/>
            <a:chOff x="-278280" y="3921120"/>
            <a:chExt cx="2485440" cy="1036080"/>
          </a:xfrm>
        </p:grpSpPr>
        <p:sp>
          <p:nvSpPr>
            <p:cNvPr id="209" name=""/>
            <p:cNvSpPr/>
            <p:nvPr/>
          </p:nvSpPr>
          <p:spPr>
            <a:xfrm>
              <a:off x="-278280" y="4178160"/>
              <a:ext cx="201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τ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vg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3040" y="3921120"/>
              <a:ext cx="146412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19320" y="44355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059560" y="3914640"/>
            <a:ext cx="5558400" cy="1801440"/>
            <a:chOff x="2059560" y="3914640"/>
            <a:chExt cx="5558400" cy="1801440"/>
          </a:xfrm>
        </p:grpSpPr>
        <p:sp>
          <p:nvSpPr>
            <p:cNvPr id="213" name=""/>
            <p:cNvSpPr/>
            <p:nvPr/>
          </p:nvSpPr>
          <p:spPr>
            <a:xfrm>
              <a:off x="2059560" y="4190760"/>
              <a:ext cx="28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60 MPa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723120" y="3914640"/>
              <a:ext cx="38948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75 mm)(100 mm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09920" y="4438440"/>
              <a:ext cx="27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6600" y="5195520"/>
              <a:ext cx="307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2700 k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45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material supports a load for very long period of time, and continues to deform until a sudden fracture or usefulness is im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ly considered when metals and ceramics are used for structural members or mechanical parts subjected to high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aterials (such as polymers &amp; composites) are also affected by creep without influence of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and/or temperature significantly affects the rate of creep of a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eep str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ighest initial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material can withstand dur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ven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a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ied creep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ple method to determine 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everal specimen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nstant temperature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pecimen subjected to different axial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r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mple method to determine 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time taken to produce allowable strain or rupture strain for each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tress vs.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3073320"/>
            <a:ext cx="4194000" cy="33274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5200" y="3533760"/>
            <a:ext cx="427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ep strength inversely proportional to temperature and applied st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9600" y="1066680"/>
            <a:ext cx="8377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a metal subjected to repeated cycles of stress and strain, breaking down structurally, before fr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accounted for in design of connecting rods (e.g. steam/gas turbine blades, connections/supports for bridges, railroad wheels/axles and parts subjected to cyclic loa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occurs at a str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ss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the material’s yield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839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*3.7 FAILURE OF MATERIALS DUE TO CREEP &amp; FATIG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5920" y="1066320"/>
            <a:ext cx="8377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eferred to as the endurance or fatigu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 to get value of 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series of specimens to specified stress and cycled to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552920" cy="31161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11120" y="3657600"/>
            <a:ext cx="4008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stress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gainst number of cycles-to-fail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-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agram) on logarithmic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nsion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ost important test for determining material strengths. Results of normal stress and normal strain can then be plot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ngineering materials behave in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ear-ela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ner, where stress is proportional to strain, defined by Hooke’s law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</a:t>
            </a:r>
            <a:r>
              <a:rPr b="0" i="1" lang="el-GR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odulus of elasticity, and is measured from slope of a stress-strai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 stressed beyond yield point, permanent deformation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hardening causes further yielding of material with increasing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ultimate stress, localized region on specimen begin to constrict, and sta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necking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Fracture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ct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exhibit both plastic and elastic behavior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ct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by permanent elongation to failure or by the permanent reduction in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it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rials exhibit little or no yielding befor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ulus of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tress reaches proportional limit, strain-energy-energy density is called modulus of resil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4038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erial’s resilience represents its ability to absorb energy without any permanent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075400" y="2666880"/>
            <a:ext cx="3764160" cy="1295280"/>
            <a:chOff x="2075400" y="2666880"/>
            <a:chExt cx="3764160" cy="1295280"/>
          </a:xfrm>
        </p:grpSpPr>
        <p:sp>
          <p:nvSpPr>
            <p:cNvPr id="75" name=""/>
            <p:cNvSpPr/>
            <p:nvPr/>
          </p:nvSpPr>
          <p:spPr>
            <a:xfrm>
              <a:off x="2514600" y="2666880"/>
              <a:ext cx="3047760" cy="12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400" y="3038400"/>
              <a:ext cx="183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720" y="2788920"/>
              <a:ext cx="2055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Arial"/>
                </a:rPr>
                <a:t>pl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34600" y="2782800"/>
              <a:ext cx="170496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σ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pl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2880" y="305748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6360" y="331452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05200" y="3300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319200"/>
              <a:ext cx="36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50080" y="3048120"/>
            <a:ext cx="30398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point for material can be increas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in harde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y applying load great enough to cause increase in stress causing yielding, then releasing the load. The larger stress produced becomes the new yield point for th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s of material under load ca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in 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stored. Strain energy per unit volume/strain energy density is equivalent to area under stress-strain cur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ea up to the yield point of stress-strain diagram i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resil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tire area under the stress-strain diagram is referred to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isson’s rat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dimensionless property that measures the lateral strain to the longitudinal strain [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hear stress vs. strain diagram: within elastic region,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hearing mod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found from the slope of the line within elastic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an also be obtained from the relationship of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/[2(1+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materials are in service for long periods of tim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ep is the time rate of deformation, which occurs at high stress and/or high temperature. Design the material not to exceed a predetermined stres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eep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atig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material undergoes a large number of cycles of loading. Will cause micro-cracks to occur and lead to brittle fail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ess in material must not exceed specifi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durance or fatigu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54100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of toughnes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ndicates the strain-energy density of material before it fra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960" y="50148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5 STRAIN ENERG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27672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d area under stress-strain diagram is the modulus of t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05520" y="1219320"/>
            <a:ext cx="3062160" cy="3200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280" y="4648320"/>
            <a:ext cx="8610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designing members that may be accidentally over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referable as distortion is noticeable befor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sion test for a steel alloy results in the stress-strain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modulus of elasticity and the yield strength based on a 0.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552840" y="2209680"/>
            <a:ext cx="53625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ulus of elast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slope of initial straight-line portion of the graph. Use magnified curve and scale shown in light blue, line extend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coordinates (0.0016 mm, 345 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3200400"/>
            <a:ext cx="4343400" cy="325584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139320" y="3706920"/>
            <a:ext cx="4127040" cy="1628640"/>
            <a:chOff x="139320" y="3706920"/>
            <a:chExt cx="4127040" cy="1628640"/>
          </a:xfrm>
        </p:grpSpPr>
        <p:sp>
          <p:nvSpPr>
            <p:cNvPr id="96" name=""/>
            <p:cNvSpPr/>
            <p:nvPr/>
          </p:nvSpPr>
          <p:spPr>
            <a:xfrm>
              <a:off x="139320" y="3953160"/>
              <a:ext cx="179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E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7720" y="3706920"/>
              <a:ext cx="35186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45 M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.0016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9720" y="4815000"/>
              <a:ext cx="27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215 GP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71600" y="421956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ield str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0.2% strain, extrapolate line (dashed) parallel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ll it intersects stress-strain curve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181480" cy="3884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73160" y="3200400"/>
            <a:ext cx="331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69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ltimat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t peak of graph,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486400" cy="4113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6400" y="2286000"/>
            <a:ext cx="3463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745.2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cture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pecimen strained to maximum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23 mm/mm, fractures occur at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14800" y="2954160"/>
            <a:ext cx="4800600" cy="3598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0040" y="3200400"/>
            <a:ext cx="315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21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42696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3.1 (SOL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2:40:37Z</dcterms:created>
  <dc:creator>Ng Family</dc:creator>
  <dc:description/>
  <dc:language>en-US</dc:language>
  <cp:lastModifiedBy>Ng Family</cp:lastModifiedBy>
  <dcterms:modified xsi:type="dcterms:W3CDTF">2005-05-05T05:10:50Z</dcterms:modified>
  <cp:revision>12</cp:revision>
  <dc:subject/>
  <dc:title>3.5 STRAIN ENERGY</dc:title>
</cp:coreProperties>
</file>