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1B62-E721-49D1-9AD5-4654994D6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4F5E-3C3F-4909-9AC1-516AD57B3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A1C3-C9EA-41FD-806B-142EF84F7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6E92-3215-49F0-9A88-449148A8D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B236-3AAE-419E-A928-A5AE6CE4C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E6DA-8DE9-4C60-8825-7097117CA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AD1E-E3C0-4E7B-8B8E-5C5A966FE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6AD-464D-4091-BDD2-49451AB2B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E585-AF4F-4DEB-BE8A-07DFA4348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CE82-B05E-4B4C-BC2F-2AAA76104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120E-FDCB-4F14-AEF4-9FB08A54A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03FF-2932-4A3C-A0B3-0B7B77512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1C1-92AC-454C-9440-BE3A1AA8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chanical Properties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 is deformed by external loading, energy is stor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its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nergy is also referred to as str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evelops a fo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6495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61160" y="3124080"/>
            <a:ext cx="4472640" cy="838440"/>
            <a:chOff x="461160" y="3124080"/>
            <a:chExt cx="4472640" cy="838440"/>
          </a:xfrm>
        </p:grpSpPr>
        <p:sp>
          <p:nvSpPr>
            <p:cNvPr id="47" name=""/>
            <p:cNvSpPr/>
            <p:nvPr/>
          </p:nvSpPr>
          <p:spPr>
            <a:xfrm>
              <a:off x="762120" y="3124080"/>
              <a:ext cx="3809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1160" y="3195720"/>
              <a:ext cx="44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ody subjected to axial tensile force, it elongates and contracts lat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it will contract and its sides expand laterally when subjected to an axial compressiv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1960" y="4874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3672000"/>
            <a:ext cx="4343400" cy="21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1907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s of the bar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1960" y="4888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33320" y="1600200"/>
            <a:ext cx="5376960" cy="1295280"/>
            <a:chOff x="1633320" y="1600200"/>
            <a:chExt cx="5376960" cy="1295280"/>
          </a:xfrm>
        </p:grpSpPr>
        <p:sp>
          <p:nvSpPr>
            <p:cNvPr id="120" name=""/>
            <p:cNvSpPr/>
            <p:nvPr/>
          </p:nvSpPr>
          <p:spPr>
            <a:xfrm>
              <a:off x="1752480" y="1600200"/>
              <a:ext cx="52578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33320" y="1676520"/>
              <a:ext cx="2480040" cy="1036080"/>
              <a:chOff x="1633320" y="1676520"/>
              <a:chExt cx="2480040" cy="103608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3320" y="1919520"/>
                <a:ext cx="2058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lon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67600" y="1676520"/>
                <a:ext cx="144576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00400" y="2190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591080" y="1752480"/>
              <a:ext cx="1961640" cy="1036080"/>
              <a:chOff x="4591080" y="1752480"/>
              <a:chExt cx="1961640" cy="1036080"/>
            </a:xfrm>
          </p:grpSpPr>
          <p:sp>
            <p:nvSpPr>
              <p:cNvPr id="126" name=""/>
              <p:cNvSpPr/>
              <p:nvPr/>
            </p:nvSpPr>
            <p:spPr>
              <a:xfrm>
                <a:off x="4591080" y="1969920"/>
                <a:ext cx="189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lat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41800" y="1752480"/>
                <a:ext cx="6109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48280" y="22460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941840" y="4495680"/>
            <a:ext cx="5014080" cy="1447920"/>
            <a:chOff x="1941840" y="4495680"/>
            <a:chExt cx="5014080" cy="1447920"/>
          </a:xfrm>
        </p:grpSpPr>
        <p:sp>
          <p:nvSpPr>
            <p:cNvPr id="130" name=""/>
            <p:cNvSpPr/>
            <p:nvPr/>
          </p:nvSpPr>
          <p:spPr>
            <a:xfrm>
              <a:off x="2286000" y="4495680"/>
              <a:ext cx="457200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1840" y="4944960"/>
              <a:ext cx="43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sson’s ratio,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ν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5440" y="4586400"/>
              <a:ext cx="177048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o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760" y="52149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8600" y="2895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, S.D. Poisson realized that within elastic range, ration of the two strains is a constant value, since both are propor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niqu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trop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negative sig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ngitudinal elongation cause lateral contraction (-ve strain) and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strain is the same in all lateral (radial)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on’s ratio is dimensionles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≤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1960" y="4888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074240"/>
            <a:ext cx="84582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is made of A-36 steel and behaves ela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hange in its length and change in dimensions of its cross section after load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55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3800" y="1066680"/>
            <a:ext cx="8584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ess in the ba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8120" y="1600200"/>
            <a:ext cx="4642200" cy="1036080"/>
            <a:chOff x="618120" y="1600200"/>
            <a:chExt cx="4642200" cy="1036080"/>
          </a:xfrm>
        </p:grpSpPr>
        <p:sp>
          <p:nvSpPr>
            <p:cNvPr id="142" name=""/>
            <p:cNvSpPr/>
            <p:nvPr/>
          </p:nvSpPr>
          <p:spPr>
            <a:xfrm>
              <a:off x="618120" y="1846440"/>
              <a:ext cx="183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5520" y="160020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9840" y="1857240"/>
              <a:ext cx="33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.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0960" y="21128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7040" y="2666880"/>
            <a:ext cx="8582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abl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00 GPa, strain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r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19200" y="3200400"/>
            <a:ext cx="5348520" cy="1154160"/>
            <a:chOff x="619200" y="3200400"/>
            <a:chExt cx="5348520" cy="1154160"/>
          </a:xfrm>
        </p:grpSpPr>
        <p:sp>
          <p:nvSpPr>
            <p:cNvPr id="148" name=""/>
            <p:cNvSpPr/>
            <p:nvPr/>
          </p:nvSpPr>
          <p:spPr>
            <a:xfrm>
              <a:off x="619200" y="3440160"/>
              <a:ext cx="18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7120" y="3200400"/>
              <a:ext cx="16027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0280" y="3457440"/>
              <a:ext cx="39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8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20960" y="37130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7040" y="4267080"/>
            <a:ext cx="85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al elongation of the bar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95480" y="4952880"/>
            <a:ext cx="72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8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1.5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3800" y="1066680"/>
            <a:ext cx="8584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.32, contraction strains in bo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rection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895480"/>
            <a:ext cx="85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changes in dimensions of cross-sectio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800" y="2057400"/>
            <a:ext cx="75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0.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8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28800" y="3733920"/>
            <a:ext cx="72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[25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0.1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495680"/>
            <a:ext cx="728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[25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0.05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28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n-tube specimens and subject it to torsio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easurements of applied torque and resulting 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196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895480" cy="245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31244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will exhibit linear-elastic behavior till its proportional limit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-hardening continues till it reaches ultimate shear stress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loses shear strength till it fractures, at stres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7596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87800" y="3543480"/>
            <a:ext cx="4203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479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 for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9760" y="1600200"/>
            <a:ext cx="2180520" cy="914400"/>
            <a:chOff x="2669760" y="1600200"/>
            <a:chExt cx="2180520" cy="914400"/>
          </a:xfrm>
        </p:grpSpPr>
        <p:sp>
          <p:nvSpPr>
            <p:cNvPr id="171" name=""/>
            <p:cNvSpPr/>
            <p:nvPr/>
          </p:nvSpPr>
          <p:spPr>
            <a:xfrm>
              <a:off x="2971800" y="1600200"/>
              <a:ext cx="160020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9760" y="1752480"/>
              <a:ext cx="21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2590920"/>
            <a:ext cx="4343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hear modulus of elasticity or modulus of rig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8960" y="3962520"/>
            <a:ext cx="85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measured as slope of line 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material 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rela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92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974320" y="5473800"/>
            <a:ext cx="3119760" cy="1155240"/>
            <a:chOff x="2974320" y="5473800"/>
            <a:chExt cx="3119760" cy="1155240"/>
          </a:xfrm>
        </p:grpSpPr>
        <p:sp>
          <p:nvSpPr>
            <p:cNvPr id="177" name=""/>
            <p:cNvSpPr/>
            <p:nvPr/>
          </p:nvSpPr>
          <p:spPr>
            <a:xfrm>
              <a:off x="3352680" y="5486400"/>
              <a:ext cx="2438280" cy="114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4320" y="573084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9800" y="5473800"/>
              <a:ext cx="2474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1 +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8280" y="5972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61722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of titanium alloy tested in torsion &amp; shear stress-strain diagram show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hear modul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portional limit, and ultimate shear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971800" cy="1844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00800" y="1173240"/>
            <a:ext cx="2590920" cy="2332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3352680"/>
            <a:ext cx="60195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determine the max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top of the block shown, could be displaced horizontally if material behaves elastically when acted upon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nd magnitud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to cause this dis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-energy density is strain energy per unit volume of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92800" y="1676520"/>
            <a:ext cx="3399480" cy="1295280"/>
            <a:chOff x="3592800" y="1676520"/>
            <a:chExt cx="3399480" cy="1295280"/>
          </a:xfrm>
        </p:grpSpPr>
        <p:sp>
          <p:nvSpPr>
            <p:cNvPr id="52" name=""/>
            <p:cNvSpPr/>
            <p:nvPr/>
          </p:nvSpPr>
          <p:spPr>
            <a:xfrm>
              <a:off x="4038480" y="1676520"/>
              <a:ext cx="259092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2800" y="204768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78240" y="1803240"/>
              <a:ext cx="1781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5120" y="1785960"/>
              <a:ext cx="15771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0800" y="20476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86280" y="2324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76640" y="2324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30481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behavior is linear elastic, Hooke’s law app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592800" y="3886200"/>
            <a:ext cx="3820680" cy="1295280"/>
            <a:chOff x="3592800" y="3886200"/>
            <a:chExt cx="3820680" cy="1295280"/>
          </a:xfrm>
        </p:grpSpPr>
        <p:sp>
          <p:nvSpPr>
            <p:cNvPr id="61" name=""/>
            <p:cNvSpPr/>
            <p:nvPr/>
          </p:nvSpPr>
          <p:spPr>
            <a:xfrm>
              <a:off x="4038480" y="3886200"/>
              <a:ext cx="304812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92800" y="425772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76800" y="4014720"/>
              <a:ext cx="1511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71160" y="4002120"/>
              <a:ext cx="16423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1880" y="42577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45338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4519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2560" y="4011480"/>
              <a:ext cx="1423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40240" y="4538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2560" y="4109760"/>
              <a:ext cx="1991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mod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from the slope of the straight-line por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.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(0.008 rad, 360 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8415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612360" y="3276720"/>
            <a:ext cx="3704760" cy="1552320"/>
            <a:chOff x="612360" y="3276720"/>
            <a:chExt cx="3704760" cy="1552320"/>
          </a:xfrm>
        </p:grpSpPr>
        <p:sp>
          <p:nvSpPr>
            <p:cNvPr id="190" name=""/>
            <p:cNvSpPr/>
            <p:nvPr/>
          </p:nvSpPr>
          <p:spPr>
            <a:xfrm>
              <a:off x="612360" y="353376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7680" y="4308480"/>
              <a:ext cx="33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45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9360" y="3276720"/>
              <a:ext cx="2753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0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8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9160" y="3789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074240"/>
            <a:ext cx="861048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portional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graph ceases to be linear at point A, th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0" y="2101680"/>
            <a:ext cx="4267080" cy="3841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53200" y="2438280"/>
            <a:ext cx="32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6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29000"/>
            <a:ext cx="403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ltimat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rap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2640" y="4876920"/>
            <a:ext cx="316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04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6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elastic displacement and shea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graph ceases to be linear at point A, th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334200" y="2133720"/>
            <a:ext cx="28098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154080" y="2133720"/>
            <a:ext cx="6473880" cy="1036080"/>
            <a:chOff x="154080" y="2133720"/>
            <a:chExt cx="6473880" cy="1036080"/>
          </a:xfrm>
        </p:grpSpPr>
        <p:sp>
          <p:nvSpPr>
            <p:cNvPr id="204" name=""/>
            <p:cNvSpPr/>
            <p:nvPr/>
          </p:nvSpPr>
          <p:spPr>
            <a:xfrm>
              <a:off x="154080" y="2362320"/>
              <a:ext cx="535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n (0.008 rad) ≈ 0.008 rad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83360" y="213372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52880" y="26337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32040" y="3138480"/>
            <a:ext cx="28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278280" y="3921120"/>
            <a:ext cx="2485440" cy="1036080"/>
            <a:chOff x="-278280" y="3921120"/>
            <a:chExt cx="2485440" cy="1036080"/>
          </a:xfrm>
        </p:grpSpPr>
        <p:sp>
          <p:nvSpPr>
            <p:cNvPr id="209" name=""/>
            <p:cNvSpPr/>
            <p:nvPr/>
          </p:nvSpPr>
          <p:spPr>
            <a:xfrm>
              <a:off x="-278280" y="4178160"/>
              <a:ext cx="201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3040" y="392112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44355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59560" y="3914640"/>
            <a:ext cx="5558400" cy="1801440"/>
            <a:chOff x="2059560" y="3914640"/>
            <a:chExt cx="5558400" cy="1801440"/>
          </a:xfrm>
        </p:grpSpPr>
        <p:sp>
          <p:nvSpPr>
            <p:cNvPr id="213" name=""/>
            <p:cNvSpPr/>
            <p:nvPr/>
          </p:nvSpPr>
          <p:spPr>
            <a:xfrm>
              <a:off x="2059560" y="4190760"/>
              <a:ext cx="28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60 MPa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3120" y="3914640"/>
              <a:ext cx="38948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5 mm)(10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09920" y="443844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6600" y="5195520"/>
              <a:ext cx="30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2700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material supports a load for very long period of time, and continues to deform until a sudden fracture or usefulness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ly considered when metals and ceramics are used for structural members or mechanical parts subjected to high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aterials (such as polymers &amp; composites) are also affected by creep without influence of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/or temperature significantly affects the rate of creep of a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ep 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st initial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aterial can withstand du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ve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a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ied creep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ple method to determine 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everal specime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nstant temperature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pecimen subjected to different axi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ple method to determine 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ime taken to produce allowable strain or rupture strain for each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tress vs.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3073320"/>
            <a:ext cx="4194000" cy="3327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5200" y="3533760"/>
            <a:ext cx="427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ep strength inversely proportional to temperature and applied st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a metal subjected to repeated cycles of stress and strain, breaking down structurally, before fr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accounted for in design of connecting rods (e.g. steam/gas turbine blades, connections/supports for bridges, railroad wheels/axles and parts subjected to cyclic lo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occurs at a st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he material’s yiel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5920" y="1066320"/>
            <a:ext cx="8377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ferred to as the endurance or fatigu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 to get value of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series of specimens to specified stress and cycled to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52920" cy="3116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11120" y="3657600"/>
            <a:ext cx="400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tress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gainst number of cycles-to-fail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) on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sion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important test for determining material strengths. Results of normal stress and normal strain can then be plo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ngineering materials behave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-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ner, where stress is proportional to strain, defined by Hooke’s law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odulus of elasticity, and is measured from slope of a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 stressed beyond yield point, permanent deforma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hardening causes further yielding of material with increasing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ultimate stress, localized region on specimen begin to constrict, and st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necking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racture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c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exhibit both plastic and elastic behavior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ct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by permanent elongation to failure or by the permanent reduction in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exhibit little or no yielding befor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ulus of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tress reaches proportional limit, strain-energy-energy density is called modulus of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038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erial’s resilience represents its ability to absorb energy without any permanen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075400" y="2666880"/>
            <a:ext cx="3764160" cy="1295280"/>
            <a:chOff x="2075400" y="2666880"/>
            <a:chExt cx="3764160" cy="1295280"/>
          </a:xfrm>
        </p:grpSpPr>
        <p:sp>
          <p:nvSpPr>
            <p:cNvPr id="75" name=""/>
            <p:cNvSpPr/>
            <p:nvPr/>
          </p:nvSpPr>
          <p:spPr>
            <a:xfrm>
              <a:off x="2514600" y="2666880"/>
              <a:ext cx="304776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400" y="3038400"/>
              <a:ext cx="183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720" y="2788920"/>
              <a:ext cx="2055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rial"/>
                </a:rPr>
                <a:t>p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34600" y="2782800"/>
              <a:ext cx="1704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2880" y="30574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6360" y="3314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05200" y="3300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31920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50080" y="3048120"/>
            <a:ext cx="3039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point for material can be increa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in harde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applying load great enough to cause increase in stress causing yielding, then releasing the load. The larger stress produced becomes the new yield point for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s of material under load c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in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stored. Strain energy per unit volume/strain energy density is equivalent to area under stress-strain cu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ea up to the yield point of stress-strain diagram i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resil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area under the stress-strain diagram i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isson’s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dimensionless property that measures the lateral strain to the longitudinal strain [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hear stress vs. strain diagram: within elastic region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aring mod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found from the slope of the line within elas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an also be obtained from the relationship of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/[2(1+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s are in service for long periods of tim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ep is the time rate of deformation, which occurs at high stress and/or high temperature. Design the material not to exceed a predetermined stres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material undergoes a large number of cycles of loading. Will cause micro-cracks to occur and lead to brittle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ess in material must not exceed specifi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durance or fatigu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5410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toughn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dicates the strain-energy density of material before it f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2767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d area under stress-strain diagram is the 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05520" y="1219320"/>
            <a:ext cx="306216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648320"/>
            <a:ext cx="8610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esigning members that may be accidentally over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ferable as distortion is noticeable befor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test for a steel alloy results in the stress-strain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modulus of elasticity and the yield strength based on a 0.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52840" y="2209680"/>
            <a:ext cx="53625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us of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slope of initial straight-line portion of the graph. Use magnified curve and scale shown in light blue, line extend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ordinates (0.0016 mm, 345 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343400" cy="32558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39320" y="3706920"/>
            <a:ext cx="4127040" cy="1628640"/>
            <a:chOff x="139320" y="3706920"/>
            <a:chExt cx="4127040" cy="1628640"/>
          </a:xfrm>
        </p:grpSpPr>
        <p:sp>
          <p:nvSpPr>
            <p:cNvPr id="96" name=""/>
            <p:cNvSpPr/>
            <p:nvPr/>
          </p:nvSpPr>
          <p:spPr>
            <a:xfrm>
              <a:off x="139320" y="395316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7720" y="3706920"/>
              <a:ext cx="3518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45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.0016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9720" y="4815000"/>
              <a:ext cx="27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15 G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4219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iel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0.2% strain, extrapolate line (dashed) paralle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ll it intersects stress-strain curv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181480" cy="3884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3160" y="3200400"/>
            <a:ext cx="33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9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ltimat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t peak of graph,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486400" cy="411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6400" y="2286000"/>
            <a:ext cx="34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45.2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ctur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pecimen strained to maximum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3 mm/mm, fractures occur at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14800" y="2954160"/>
            <a:ext cx="4800600" cy="359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040" y="3200400"/>
            <a:ext cx="315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21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2:40:37Z</dcterms:created>
  <dc:creator>Ng Family</dc:creator>
  <dc:description/>
  <dc:language>en-US</dc:language>
  <cp:lastModifiedBy>Ng Family</cp:lastModifiedBy>
  <dcterms:modified xsi:type="dcterms:W3CDTF">2005-05-05T05:10:50Z</dcterms:modified>
  <cp:revision>12</cp:revision>
  <dc:subject/>
  <dc:title>3.5 STRAIN ENERGY</dc:title>
</cp:coreProperties>
</file>