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E755-37F7-432F-9970-B917C1656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3E0F-983E-4C8A-A55E-9E5CB5962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B2F1-C3D5-4757-83F2-DDCC22ECD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66CE-8831-4CE6-8CA6-85CF186D8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9A12-655A-4B6B-96A8-FE066FD0A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6788-0A1C-43C2-8B6C-545AA4024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00C6-3F99-4BF2-8834-B22B7BB3D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E19D-6B3D-4A00-B93B-E4AC8F6F8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D5C9-02AA-4AA2-B8BC-6B1D822E7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7BD8-F7CB-4DEB-B1B0-8E1A80D93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0711-AAA7-4BF8-B694-4ACE47B60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2D22-BDA8-434C-9B5D-B5B08680B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398-2225-478C-8F70-94207E9F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Ax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deformation of axially loade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method to find support reactions when it cannot be determined from equilibrium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8862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effects of thermal stress, stress concentrations, inelastic deformations, and residu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83212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9D88-9AB5-4B8F-8BF2-CAC0887023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9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1717560"/>
          <a:ext cx="7467480" cy="1623960"/>
        </p:xfrm>
        <a:graphic>
          <a:graphicData uri="http://schemas.openxmlformats.org/drawingml/2006/table">
            <a:tbl>
              <a:tblPr/>
              <a:tblGrid>
                <a:gridCol w="2133360"/>
                <a:gridCol w="2438280"/>
                <a:gridCol w="289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 (+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on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4038480" cy="146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3962160" cy="15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21D1-7379-48CB-96A9-D827974897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22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ethod of sections to determine internal axial for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force varies along member’s strength, section made at the arbitrary loc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one end of member and force represented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ver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 extern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 on member, internal force in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etween two external forces, must then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6431-692D-46AB-87E2-0063523651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22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segment, internal tensile force is positive and internal compressive force is negative. Results of loading can be shown graphically by constructing the normal-force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ember’s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its axis, the area should be expressed as a function of its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7DB7-85B7-4618-85EE-A144D18F1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00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-sectional area, modulus of elasticity, or internal loading suddenly changes, then Eqn 4-2 should be applied to each segment for which the qty ar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ubstituting data into equations, account for proper sign for P, tensile loadings +ve, compre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. Use consistent set of units. If result is +ve, elongation occur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 means it’s a con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E052-11D3-413C-9F9C-50B7555B27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77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A-36 steel bar shown made from two segments AB and BD.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2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438280"/>
            <a:ext cx="4572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vertical displacement of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1990440" cy="46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35E8-7897-41E0-97DB-03B0F629A5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external loadings, internal axial forces in reg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019400" y="2819520"/>
            <a:ext cx="16956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57760" cy="3124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75580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method of sections and equation of vertical force equilibrium as shown. Variation is also plo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760E-F75F-4E6C-A6BF-C661FCB0D4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able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1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ign convention, vertical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ve to fixed suppor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3025800"/>
            <a:ext cx="7669440" cy="3605040"/>
            <a:chOff x="533520" y="3025800"/>
            <a:chExt cx="7669440" cy="3605040"/>
          </a:xfrm>
        </p:grpSpPr>
        <p:sp>
          <p:nvSpPr>
            <p:cNvPr id="135" name=""/>
            <p:cNvSpPr/>
            <p:nvPr/>
          </p:nvSpPr>
          <p:spPr>
            <a:xfrm>
              <a:off x="533520" y="331308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2480" y="3048120"/>
              <a:ext cx="168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22600" y="358164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9280" y="3124440"/>
              <a:ext cx="163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6680" y="3025800"/>
              <a:ext cx="53247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+75 kN](1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6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7360" y="33242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00000" y="3962520"/>
              <a:ext cx="5502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+35 kN](0.75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89320" y="42339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00000" y="5105520"/>
              <a:ext cx="5502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 kN](0.5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0240" y="53769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31320" y="6110280"/>
              <a:ext cx="299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+0.61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67040" y="3581640"/>
              <a:ext cx="42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87880" y="4496040"/>
              <a:ext cx="429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2840" y="5639040"/>
              <a:ext cx="42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2800-9FBC-4CCF-B3A4-BBF75422ED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result is positive, the bar elongates and so displacement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p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Equation 4-2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81040" y="3178080"/>
            <a:ext cx="7241040" cy="1699920"/>
            <a:chOff x="581040" y="3178080"/>
            <a:chExt cx="7241040" cy="1699920"/>
          </a:xfrm>
        </p:grpSpPr>
        <p:sp>
          <p:nvSpPr>
            <p:cNvPr id="152" name=""/>
            <p:cNvSpPr/>
            <p:nvPr/>
          </p:nvSpPr>
          <p:spPr>
            <a:xfrm>
              <a:off x="581040" y="346536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5200" y="3200400"/>
              <a:ext cx="22381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42800" y="37335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9120" y="3178080"/>
              <a:ext cx="5502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+35 kN](0.75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51200" y="34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56240" y="4357440"/>
              <a:ext cx="317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+0.104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4560" y="3733560"/>
              <a:ext cx="42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5073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away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segment elon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3D31-4036-4AC9-B480-7E63A3C7C2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ubdividing the load into components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le of 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at the resultant stress or displacement at the point can be determined by first finding the stress or displacement caused by each component load a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stress/displacement determined algebraically by adding the contributions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 PRINCIPLE OF SUPER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DA8D-F291-4646-958F-219AAAD36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ing must be linearly related to the stress or displacement that is to be deter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ing must not significantly change the original geometry or configuration of the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en to ignore deform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oaded members will produce deformations  so small that change in position and direction of  loading will be insignificant and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to this rule is a column carrying axial load, discussed in Chapter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 PRINCIPLE OF SUPER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63ED-1767-4763-A9FC-E3CE28E58C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nt-Venant’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formation of an Axially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 of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ally Indeterminate Axially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ethod of Analysis for Axially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Inelastic Axial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sidu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11E3-297B-4975-9424-AFDB5ADA1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bar fixed-supported at one end, equilibrium equations is sufficient to find the reaction at the support. Such a problem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de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r is fixed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h e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wo unknown axial reactions occur, and the ba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inde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03760" y="3352680"/>
            <a:ext cx="2077920" cy="3353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238880" y="3352680"/>
            <a:ext cx="1562400" cy="3048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3240" y="4038480"/>
            <a:ext cx="28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↑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45040" y="4724280"/>
            <a:ext cx="3494520" cy="914400"/>
            <a:chOff x="545040" y="4724280"/>
            <a:chExt cx="3494520" cy="914400"/>
          </a:xfrm>
        </p:grpSpPr>
        <p:sp>
          <p:nvSpPr>
            <p:cNvPr id="170" name=""/>
            <p:cNvSpPr/>
            <p:nvPr/>
          </p:nvSpPr>
          <p:spPr>
            <a:xfrm>
              <a:off x="762120" y="4724280"/>
              <a:ext cx="297180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040" y="4800600"/>
              <a:ext cx="349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B3E8-9372-4E07-AA66-8F4968381F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ablish addition equation, consider geometry of deformation. Such an equation is referred to as a compatibility or kinematic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relative displacement of one end of bar to the other end is equal to zero, since end supports fix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95480" y="3962520"/>
            <a:ext cx="1844640" cy="609480"/>
            <a:chOff x="2895480" y="3962520"/>
            <a:chExt cx="1844640" cy="609480"/>
          </a:xfrm>
        </p:grpSpPr>
        <p:sp>
          <p:nvSpPr>
            <p:cNvPr id="175" name=""/>
            <p:cNvSpPr/>
            <p:nvPr/>
          </p:nvSpPr>
          <p:spPr>
            <a:xfrm>
              <a:off x="2895480" y="3962520"/>
              <a:ext cx="167652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3962520"/>
              <a:ext cx="161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/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04920" y="464832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quation can be expressed in terms of applied loads us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ad-displacement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depends on the materi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1E2E-280D-47D6-93F4-F37BBDAE2F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near elastic behavior, compatibility equation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168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E is constant, solve equations simultaneous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7600" y="1909800"/>
            <a:ext cx="4114800" cy="1143000"/>
            <a:chOff x="3657600" y="1909800"/>
            <a:chExt cx="4114800" cy="1143000"/>
          </a:xfrm>
        </p:grpSpPr>
        <p:sp>
          <p:nvSpPr>
            <p:cNvPr id="182" name=""/>
            <p:cNvSpPr/>
            <p:nvPr/>
          </p:nvSpPr>
          <p:spPr>
            <a:xfrm>
              <a:off x="3657600" y="1909800"/>
              <a:ext cx="411480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683880" y="1930320"/>
              <a:ext cx="4011840" cy="1104480"/>
              <a:chOff x="3683880" y="1930320"/>
              <a:chExt cx="4011840" cy="1104480"/>
            </a:xfrm>
          </p:grpSpPr>
          <p:sp>
            <p:nvSpPr>
              <p:cNvPr id="184" name=""/>
              <p:cNvSpPr/>
              <p:nvPr/>
            </p:nvSpPr>
            <p:spPr>
              <a:xfrm>
                <a:off x="6933960" y="22111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3880" y="1930320"/>
                <a:ext cx="21009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9160" y="1939680"/>
                <a:ext cx="21009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95720" y="24732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33760" y="22302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−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14640" y="24732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1828800" y="4419720"/>
            <a:ext cx="6247800" cy="1295280"/>
            <a:chOff x="1828800" y="4419720"/>
            <a:chExt cx="6247800" cy="1295280"/>
          </a:xfrm>
        </p:grpSpPr>
        <p:sp>
          <p:nvSpPr>
            <p:cNvPr id="191" name=""/>
            <p:cNvSpPr/>
            <p:nvPr/>
          </p:nvSpPr>
          <p:spPr>
            <a:xfrm>
              <a:off x="1828800" y="4419720"/>
              <a:ext cx="59436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981080" y="4530960"/>
              <a:ext cx="2657160" cy="1095120"/>
              <a:chOff x="1981080" y="4530960"/>
              <a:chExt cx="2657160" cy="1095120"/>
            </a:xfrm>
          </p:grpSpPr>
          <p:sp>
            <p:nvSpPr>
              <p:cNvPr id="193" name=""/>
              <p:cNvSpPr/>
              <p:nvPr/>
            </p:nvSpPr>
            <p:spPr>
              <a:xfrm>
                <a:off x="2674080" y="453096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00400" y="50641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81080" y="4821480"/>
                <a:ext cx="137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57720" y="4591080"/>
                <a:ext cx="2180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414760" y="4496040"/>
              <a:ext cx="2661840" cy="1095120"/>
              <a:chOff x="5414760" y="4496040"/>
              <a:chExt cx="2661840" cy="1095120"/>
            </a:xfrm>
          </p:grpSpPr>
          <p:sp>
            <p:nvSpPr>
              <p:cNvPr id="198" name=""/>
              <p:cNvSpPr/>
              <p:nvPr/>
            </p:nvSpPr>
            <p:spPr>
              <a:xfrm>
                <a:off x="6120360" y="449604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1360" y="50385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4760" y="4789440"/>
                <a:ext cx="137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96080" y="4594320"/>
                <a:ext cx="2180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101A-7782-43A7-86BF-DD491F65FC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of member to identigy all forces acting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known reactions on free-body diagram greater than no. of equations, then problem is statically inde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s of equilibrium for the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5CE6-D064-485A-A2BD-02F40F3247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diagram to investigate elongation or contraction of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compatibility conditions in terms of displacements caused by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oad-displacement relations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L/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to relate unknown displacements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equations. If result is negative, this means the force acts in opposite direction of that indicated on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6DEC-E427-476F-81ED-C04EB0CD67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4582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rod shown has diameter of 5 mm. Attached to fixed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before it is loaded, there is a gap between the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rod of 1 m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action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rod is subjected to axial for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 size of collar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0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4662720" cy="20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DC63-5078-42EC-AA0E-30DB978265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4160" y="1066680"/>
            <a:ext cx="88898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 enough to cause rod’s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act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quilibrium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68000" y="3976560"/>
            <a:ext cx="32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/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2666880"/>
            <a:ext cx="4253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0" y="5105520"/>
            <a:ext cx="3581280" cy="84276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533520" y="2666880"/>
            <a:ext cx="1523880" cy="533520"/>
            <a:chOff x="533520" y="2666880"/>
            <a:chExt cx="1523880" cy="533520"/>
          </a:xfrm>
        </p:grpSpPr>
        <p:sp>
          <p:nvSpPr>
            <p:cNvPr id="215" name=""/>
            <p:cNvSpPr/>
            <p:nvPr/>
          </p:nvSpPr>
          <p:spPr>
            <a:xfrm>
              <a:off x="609480" y="2666880"/>
              <a:ext cx="1447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5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30120" y="3505320"/>
            <a:ext cx="843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3414-68F1-4D6E-A0E9-376BBF8671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352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0.4 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0.8 m) = 3927.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0120" y="1066680"/>
            <a:ext cx="8433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oad-displacement equations (Eqn 4-2), appl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562720" y="4129200"/>
            <a:ext cx="3197160" cy="82368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944280" y="2209680"/>
            <a:ext cx="5949000" cy="1104840"/>
            <a:chOff x="944280" y="2209680"/>
            <a:chExt cx="5949000" cy="1104840"/>
          </a:xfrm>
        </p:grpSpPr>
        <p:sp>
          <p:nvSpPr>
            <p:cNvPr id="223" name=""/>
            <p:cNvSpPr/>
            <p:nvPr/>
          </p:nvSpPr>
          <p:spPr>
            <a:xfrm>
              <a:off x="944280" y="2509920"/>
              <a:ext cx="35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/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.001 m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41240" y="2209680"/>
              <a:ext cx="2100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92320" y="2219400"/>
              <a:ext cx="2100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7920" y="25048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2160" y="2766960"/>
              <a:ext cx="10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9720" y="2766960"/>
              <a:ext cx="10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-226440" y="4052880"/>
            <a:ext cx="49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multaneous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8006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6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39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BCFD-01D8-43DE-9533-1B31C1C369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2680" y="1066680"/>
            <a:ext cx="8377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zed deformation occurs at each end, and the deformations decrease as measurements are taken further away from the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ress reaches almost uniform value as compar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-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 SAINT-VENANT’S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3259080" cy="358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3703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ufficiently far enough away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localized deformation “vanishes”, i.e., minimum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5306-437B-4E75-8B80-4BB51F0FC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1066320"/>
            <a:ext cx="845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min. distance is at least equ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st dimen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oaded x-section. For the bar, the min. distance is equal to width of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havior discovered by Barré de Saint-Venant in 1855, this the name of th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nt-Venant Principle state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ized 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d by any load acting on the body, wi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sipate/smooth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regions that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fficiently rem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location of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no need to study stress distributions at that points near application loads or support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 SAINT-VENANT’S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DAFB-84D0-4587-BF05-2AD38A4783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displacement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of one end of bar with respect to other end caused by this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Saint-Venant’s Principle, ignore localized deformations at points of concentrated loading and where x-section suddenl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7480" y="3886200"/>
            <a:ext cx="6629400" cy="21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4194-69C4-4C36-8B6E-5755AAF5B4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1612800"/>
            <a:ext cx="2486160" cy="204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method of sections, and draw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2680" y="1523880"/>
            <a:ext cx="2498040" cy="1036080"/>
            <a:chOff x="382680" y="1523880"/>
            <a:chExt cx="2498040" cy="1036080"/>
          </a:xfrm>
        </p:grpSpPr>
        <p:sp>
          <p:nvSpPr>
            <p:cNvPr id="62" name=""/>
            <p:cNvSpPr/>
            <p:nvPr/>
          </p:nvSpPr>
          <p:spPr>
            <a:xfrm>
              <a:off x="382680" y="1819440"/>
              <a:ext cx="17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21680" y="1523880"/>
              <a:ext cx="1859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40080" y="2076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593440" y="1482840"/>
            <a:ext cx="2205360" cy="1036080"/>
            <a:chOff x="2593440" y="1482840"/>
            <a:chExt cx="2205360" cy="1036080"/>
          </a:xfrm>
        </p:grpSpPr>
        <p:sp>
          <p:nvSpPr>
            <p:cNvPr id="66" name=""/>
            <p:cNvSpPr/>
            <p:nvPr/>
          </p:nvSpPr>
          <p:spPr>
            <a:xfrm>
              <a:off x="2593440" y="1752480"/>
              <a:ext cx="16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8320" y="1482840"/>
              <a:ext cx="159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33920" y="202860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465720" y="3595680"/>
            <a:ext cx="21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635200"/>
            <a:ext cx="63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roportional limit not exceeded, thus apply Hook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10600" y="4219560"/>
            <a:ext cx="3488040" cy="1042560"/>
            <a:chOff x="2910600" y="4219560"/>
            <a:chExt cx="3488040" cy="1042560"/>
          </a:xfrm>
        </p:grpSpPr>
        <p:sp>
          <p:nvSpPr>
            <p:cNvPr id="72" name=""/>
            <p:cNvSpPr/>
            <p:nvPr/>
          </p:nvSpPr>
          <p:spPr>
            <a:xfrm>
              <a:off x="2910600" y="4219560"/>
              <a:ext cx="1859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9000" y="4772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92160" y="450540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19440" y="4226040"/>
              <a:ext cx="159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5040" y="477216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88320" y="4302360"/>
              <a:ext cx="2110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753000" y="5445000"/>
            <a:ext cx="2566080" cy="1036080"/>
            <a:chOff x="3753000" y="5445000"/>
            <a:chExt cx="2566080" cy="1036080"/>
          </a:xfrm>
        </p:grpSpPr>
        <p:sp>
          <p:nvSpPr>
            <p:cNvPr id="79" name=""/>
            <p:cNvSpPr/>
            <p:nvPr/>
          </p:nvSpPr>
          <p:spPr>
            <a:xfrm>
              <a:off x="3753000" y="5709960"/>
              <a:ext cx="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6680" y="5445000"/>
              <a:ext cx="2282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x) 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(x) 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11880" y="597852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14A4-BA18-4D41-8233-AFFA9DACC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2322360" cy="1909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38280" y="1219320"/>
            <a:ext cx="3123360" cy="1447560"/>
            <a:chOff x="2438280" y="1219320"/>
            <a:chExt cx="3123360" cy="1447560"/>
          </a:xfrm>
        </p:grpSpPr>
        <p:sp>
          <p:nvSpPr>
            <p:cNvPr id="85" name=""/>
            <p:cNvSpPr/>
            <p:nvPr/>
          </p:nvSpPr>
          <p:spPr>
            <a:xfrm>
              <a:off x="2438280" y="1219320"/>
              <a:ext cx="2971800" cy="1447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743200" y="1406520"/>
              <a:ext cx="2818440" cy="1036080"/>
              <a:chOff x="2743200" y="1406520"/>
              <a:chExt cx="2818440" cy="103608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1676160"/>
                <a:ext cx="95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76720" y="1523880"/>
                <a:ext cx="952560" cy="83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79240" y="1406520"/>
                <a:ext cx="2282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(x) 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(x) 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54440" y="1939680"/>
                <a:ext cx="12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57440" y="155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80880" y="2900520"/>
            <a:ext cx="845820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isplacement of one pt relative to another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istance between the two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nternal axial force at the section, located a distance x from on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-sectional area of the bar, expressed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odulus of elasticity for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360" y="1701720"/>
            <a:ext cx="2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n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92C3-59A0-4114-ADA5-B74487EA6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ant load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nstant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homogenous materi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onstant external force P, applied at each end, then internal force P throughout length of bar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integrating Eqn 4-1 will 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78240" y="4267080"/>
            <a:ext cx="4560840" cy="122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81080" y="4191120"/>
            <a:ext cx="2030760" cy="1371600"/>
            <a:chOff x="1981080" y="4191120"/>
            <a:chExt cx="2030760" cy="1371600"/>
          </a:xfrm>
        </p:grpSpPr>
        <p:sp>
          <p:nvSpPr>
            <p:cNvPr id="98" name=""/>
            <p:cNvSpPr/>
            <p:nvPr/>
          </p:nvSpPr>
          <p:spPr>
            <a:xfrm>
              <a:off x="1981080" y="4191120"/>
              <a:ext cx="190512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4608720"/>
              <a:ext cx="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31360" y="4343760"/>
              <a:ext cx="168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4876920"/>
              <a:ext cx="64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160" y="4597560"/>
            <a:ext cx="2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n. 4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62B0-0A6E-4C3E-8B96-C8EBC4C6F1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ant load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r subjected to several different axial forces, or x-sectional area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constant, then the equation can be applied to each segment  of the bar and added algebraically to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2160" y="5105520"/>
            <a:ext cx="48196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581280" y="3276720"/>
            <a:ext cx="2359800" cy="1371600"/>
            <a:chOff x="3581280" y="3276720"/>
            <a:chExt cx="2359800" cy="1371600"/>
          </a:xfrm>
        </p:grpSpPr>
        <p:sp>
          <p:nvSpPr>
            <p:cNvPr id="107" name=""/>
            <p:cNvSpPr/>
            <p:nvPr/>
          </p:nvSpPr>
          <p:spPr>
            <a:xfrm>
              <a:off x="3581280" y="3276720"/>
              <a:ext cx="190512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694320"/>
              <a:ext cx="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0600" y="3429000"/>
              <a:ext cx="168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70360" y="396252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7400" y="3505320"/>
              <a:ext cx="163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FB27-11B5-4CE2-A80C-F12050EA8D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3:20Z</dcterms:modified>
  <cp:revision>239</cp:revision>
  <dc:subject/>
  <dc:title>Chapter 1</dc:title>
</cp:coreProperties>
</file>