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13450-6651-4B48-ABE8-65CC28489F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68A0-4ABD-477D-A463-433C53DC4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AE3C-29D9-4301-927D-A30F7A3368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148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96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148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69C0D-ED83-4E43-9343-53232A1F06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57B83-0469-4E27-90C4-DF2FE9E5A4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11EF1-8028-4D3A-904E-EF16A9072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3C4F2-6E85-446B-B590-057260DB3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490B-BAB8-4AAF-A68A-5BE215C51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6880" y="495360"/>
            <a:ext cx="87627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68BAF-2DF7-4D73-AA79-A6AC111B5D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C33B-8A2B-4A20-A8F9-20AC78E13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ED9F-8A86-44F5-8BAD-25783ACA2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E97DD-93E7-4B48-ACF7-4F69D9920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9144000" cy="547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0"/>
            <a:ext cx="91440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624E-55FC-4796-B349-DB2B903C1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80" y="6629400"/>
            <a:ext cx="250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 Pearson Education South Asia Pte Lt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Axial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56386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deformation of axially loaded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method to find support reactions when it cannot be determined from equilibrium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388620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the effects of thermal stress, stress concentrations, inelastic deformations, and residual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5880" y="1143000"/>
            <a:ext cx="2832120" cy="283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BEAE9-2EE8-40D2-9328-CEFD31658E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.2 ELASTIC DEFORMATION OF AN AXIALLY LOADED ME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92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ign con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14400" y="1717560"/>
          <a:ext cx="7467480" cy="1623960"/>
        </p:xfrm>
        <a:graphic>
          <a:graphicData uri="http://schemas.openxmlformats.org/drawingml/2006/table">
            <a:tbl>
              <a:tblPr/>
              <a:tblGrid>
                <a:gridCol w="2133360"/>
                <a:gridCol w="2438280"/>
                <a:gridCol w="2895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lac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ve (+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ong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−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s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" y="4343400"/>
            <a:ext cx="4038480" cy="1460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876920" y="4191120"/>
            <a:ext cx="3962160" cy="15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14F9-C6FB-4A4F-BC5F-E69F6A2D95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9240" y="1066320"/>
            <a:ext cx="8224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ethod of sections to determine internal axial for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force varies along member’s strength, section made at the arbitrary loca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one end of member and force represented as a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.e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evera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tant external fo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 on member, internal force in ea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etween two external forces, must then be determ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.2 ELASTIC DEFORMATION OF AN AXIALLY LOADED ME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D8F95-64C8-4564-A38E-3C9B317F22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9240" y="1066320"/>
            <a:ext cx="8224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y segment, internal tensile force is positive and internal compressive force is negative. Results of loading can be shown graphically by constructing the normal-force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s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member’s x-sectional are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ong its axis, the area should be expressed as a function of its posi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.e.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.2 ELASTIC DEFORMATION OF AN AXIALLY LOADED ME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7535-A779-489C-9C89-2A199FB2BD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9600" y="1066320"/>
            <a:ext cx="8300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s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-sectional area, modulus of elasticity, or internal loading suddenly changes, then Eqn 4-2 should be applied to each segment for which the qty are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ubstituting data into equations, account for proper sign for P, tensile loadings +ve, compressi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. Use consistent set of units. If result is +ve, elongation occurs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 means it’s a con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.2 ELASTIC DEFORMATION OF AN AXIALLY LOADED ME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45E6A-6F71-40A8-A0B7-0E8B4188B5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0773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e A-36 steel bar shown made from two segments AB and BD. Are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00 m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200 m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438280"/>
            <a:ext cx="4572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vertical displacement of e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displacemen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ative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019920" y="1905120"/>
            <a:ext cx="1990440" cy="466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437FD-0C86-442A-8CBD-7CF777E1C9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fo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external loadings, internal axial forces in regio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019400" y="2819520"/>
            <a:ext cx="1695600" cy="3581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867280" y="2590920"/>
            <a:ext cx="2957760" cy="3124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755800"/>
            <a:ext cx="3505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method of sections and equation of vertical force equilibrium as shown. Variation is also plot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980B8-3724-4C45-9A42-0C9C7667E1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582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s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ables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10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P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ign convention, vertical displacemen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ative to fixed suppor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33520" y="3025800"/>
            <a:ext cx="7669440" cy="3605040"/>
            <a:chOff x="533520" y="3025800"/>
            <a:chExt cx="7669440" cy="3605040"/>
          </a:xfrm>
        </p:grpSpPr>
        <p:sp>
          <p:nvSpPr>
            <p:cNvPr id="135" name=""/>
            <p:cNvSpPr/>
            <p:nvPr/>
          </p:nvSpPr>
          <p:spPr>
            <a:xfrm>
              <a:off x="533520" y="3313080"/>
              <a:ext cx="952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12480" y="3048120"/>
              <a:ext cx="16804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22600" y="358164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9280" y="3124440"/>
              <a:ext cx="163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36680" y="3025800"/>
              <a:ext cx="532476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+75 kN](1 m)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600 mm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(210)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kN/m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27360" y="332424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00000" y="3962520"/>
              <a:ext cx="550296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+35 kN](0.75 m)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1200 mm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(210)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kN/m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89320" y="423396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00000" y="5105520"/>
              <a:ext cx="550296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4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 kN](0.5 m)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1200 mm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(210)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kN/m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70240" y="537696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31320" y="6110280"/>
              <a:ext cx="299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+0.61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67040" y="3581640"/>
              <a:ext cx="42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87880" y="4496040"/>
              <a:ext cx="429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82840" y="5639040"/>
              <a:ext cx="42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1B4A4-98D1-47E0-8535-88E09CE930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1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s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result is positive, the bar elongates and so displacement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up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Equation 4-2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81040" y="3178080"/>
            <a:ext cx="7241040" cy="1699920"/>
            <a:chOff x="581040" y="3178080"/>
            <a:chExt cx="7241040" cy="1699920"/>
          </a:xfrm>
        </p:grpSpPr>
        <p:sp>
          <p:nvSpPr>
            <p:cNvPr id="152" name=""/>
            <p:cNvSpPr/>
            <p:nvPr/>
          </p:nvSpPr>
          <p:spPr>
            <a:xfrm>
              <a:off x="581040" y="3465360"/>
              <a:ext cx="952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5200" y="3200400"/>
              <a:ext cx="223812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C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C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42800" y="3733560"/>
              <a:ext cx="11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9120" y="3178080"/>
              <a:ext cx="550296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+35 kN](0.75 m)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[1200 mm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(210)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kN/m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51200" y="34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56240" y="4357440"/>
              <a:ext cx="317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+0.104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14560" y="3733560"/>
              <a:ext cx="42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33520" y="50734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ves away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ince segment elon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28883-0B3C-47E8-9FF8-5BB8C6D0C3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subdividing the load into components,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inciple of super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s that the resultant stress or displacement at the point can be determined by first finding the stress or displacement caused by each component load act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parat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he me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ant stress/displacement determined algebraically by adding the contributions of each 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21960" y="5335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 PRINCIPLE OF SUPER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25C9-9F6F-49D8-B794-70116587BE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ading must be linearly related to the stress or displacement that is to be determ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ading must not significantly change the original geometry or configuration of the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When to ignore deform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loaded members will produce deformations  so small that change in position and direction of  loading will be insignificant and can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 to this rule is a column carrying axial load, discussed in Chapter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21960" y="5335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3 PRINCIPLE OF SUPER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403A-D03B-44C6-84B8-7D80CB96F0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OUT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int-Venant’s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stic Deformation of an Axially Loaded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le of Super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ally Indeterminate Axially Loaded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Method of Analysis for Axially Loaded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al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Concent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*Inelastic Axial De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*Residual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DEECB-DF18-4769-BEF3-5E80D2B198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10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bar fixed-supported at one end, equilibrium equations is sufficient to find the reaction at the support. Such a problem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tically determ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ar is fixed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th e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two unknown axial reactions occur, and the bar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tically indeterm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21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.4 STATICALLY INDETERMINATE AXIALLY LOADED ME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703760" y="3352680"/>
            <a:ext cx="2077920" cy="3353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238880" y="3352680"/>
            <a:ext cx="1562400" cy="3048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63240" y="4038480"/>
            <a:ext cx="283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↑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45040" y="4724280"/>
            <a:ext cx="3494520" cy="914400"/>
            <a:chOff x="545040" y="4724280"/>
            <a:chExt cx="3494520" cy="914400"/>
          </a:xfrm>
        </p:grpSpPr>
        <p:sp>
          <p:nvSpPr>
            <p:cNvPr id="170" name=""/>
            <p:cNvSpPr/>
            <p:nvPr/>
          </p:nvSpPr>
          <p:spPr>
            <a:xfrm>
              <a:off x="762120" y="4724280"/>
              <a:ext cx="2971800" cy="9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5040" y="4800600"/>
              <a:ext cx="3494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−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AB06B-1EB5-45CA-BD2D-B9B885B9B9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10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stablish addition equation, consider geometry of deformation. Such an equation is referred to as a compatibility or kinematic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relative displacement of one end of bar to the other end is equal to zero, since end supports fixe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21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.4 STATICALLY INDETERMINATE AXIALLY LOADED ME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895480" y="3962520"/>
            <a:ext cx="1844640" cy="609480"/>
            <a:chOff x="2895480" y="3962520"/>
            <a:chExt cx="1844640" cy="609480"/>
          </a:xfrm>
        </p:grpSpPr>
        <p:sp>
          <p:nvSpPr>
            <p:cNvPr id="175" name=""/>
            <p:cNvSpPr/>
            <p:nvPr/>
          </p:nvSpPr>
          <p:spPr>
            <a:xfrm>
              <a:off x="2895480" y="3962520"/>
              <a:ext cx="1676520" cy="609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24080" y="3962520"/>
              <a:ext cx="1616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/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04920" y="4648320"/>
            <a:ext cx="853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equation can be expressed in terms of applied loads using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ad-displacement relation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depends on the material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E26D4-8FEF-485D-ADFD-E0D00A4798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inear elastic behavior, compatibility equation can be written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21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.4 STATICALLY INDETERMINATE AXIALLY LOADED ME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31687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AE is constant, solve equations simultaneous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657600" y="1909800"/>
            <a:ext cx="4114800" cy="1143000"/>
            <a:chOff x="3657600" y="1909800"/>
            <a:chExt cx="4114800" cy="1143000"/>
          </a:xfrm>
        </p:grpSpPr>
        <p:sp>
          <p:nvSpPr>
            <p:cNvPr id="182" name=""/>
            <p:cNvSpPr/>
            <p:nvPr/>
          </p:nvSpPr>
          <p:spPr>
            <a:xfrm>
              <a:off x="3657600" y="1909800"/>
              <a:ext cx="4114800" cy="1143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683880" y="1930320"/>
              <a:ext cx="4011840" cy="1104480"/>
              <a:chOff x="3683880" y="1930320"/>
              <a:chExt cx="4011840" cy="1104480"/>
            </a:xfrm>
          </p:grpSpPr>
          <p:sp>
            <p:nvSpPr>
              <p:cNvPr id="184" name=""/>
              <p:cNvSpPr/>
              <p:nvPr/>
            </p:nvSpPr>
            <p:spPr>
              <a:xfrm>
                <a:off x="6933960" y="2211120"/>
                <a:ext cx="761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 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683880" y="1930320"/>
                <a:ext cx="210096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A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A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49160" y="1939680"/>
                <a:ext cx="210096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B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C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095720" y="24732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333760" y="22302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−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14640" y="24732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"/>
          <p:cNvGrpSpPr/>
          <p:nvPr/>
        </p:nvGrpSpPr>
        <p:grpSpPr>
          <a:xfrm>
            <a:off x="1828800" y="4419720"/>
            <a:ext cx="6247800" cy="1295280"/>
            <a:chOff x="1828800" y="4419720"/>
            <a:chExt cx="6247800" cy="1295280"/>
          </a:xfrm>
        </p:grpSpPr>
        <p:sp>
          <p:nvSpPr>
            <p:cNvPr id="191" name=""/>
            <p:cNvSpPr/>
            <p:nvPr/>
          </p:nvSpPr>
          <p:spPr>
            <a:xfrm>
              <a:off x="1828800" y="4419720"/>
              <a:ext cx="5943600" cy="12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1981080" y="4530960"/>
              <a:ext cx="2657160" cy="1095120"/>
              <a:chOff x="1981080" y="4530960"/>
              <a:chExt cx="2657160" cy="1095120"/>
            </a:xfrm>
          </p:grpSpPr>
          <p:sp>
            <p:nvSpPr>
              <p:cNvPr id="193" name=""/>
              <p:cNvSpPr/>
              <p:nvPr/>
            </p:nvSpPr>
            <p:spPr>
              <a:xfrm>
                <a:off x="2674080" y="4530960"/>
                <a:ext cx="170784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C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200400" y="506412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981080" y="4821480"/>
                <a:ext cx="1371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 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457720" y="4591080"/>
                <a:ext cx="21805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(    )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5414760" y="4496040"/>
              <a:ext cx="2661840" cy="1095120"/>
              <a:chOff x="5414760" y="4496040"/>
              <a:chExt cx="2661840" cy="1095120"/>
            </a:xfrm>
          </p:grpSpPr>
          <p:sp>
            <p:nvSpPr>
              <p:cNvPr id="198" name=""/>
              <p:cNvSpPr/>
              <p:nvPr/>
            </p:nvSpPr>
            <p:spPr>
              <a:xfrm>
                <a:off x="6120360" y="4496040"/>
                <a:ext cx="170784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A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51360" y="503856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414760" y="4789440"/>
                <a:ext cx="1371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 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896080" y="4594320"/>
                <a:ext cx="21805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(    )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65E4B-462D-47E7-8DAC-756DC7B201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quilibr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free-body diagram of member to identigy all forces acting o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unknown reactions on free-body diagram greater than no. of equations, then problem is statically indeterm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equations of equilibrium for the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21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.4 STATICALLY INDETERMINATE AXIALLY LOADED ME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0C48-D090-4C29-B478-7D699C647D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diagram to investigate elongation or contraction of loaded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 compatibility conditions in terms of displacements caused by fo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load-displacement relations 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PL/A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to relate unknown displacements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the equations. If result is negative, this means the force acts in opposite direction of that indicated on free-body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21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.4 STATICALLY INDETERMINATE AXIALLY LOADED ME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881CA-2A4B-4644-94BC-0D18238E7E3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074600"/>
            <a:ext cx="8458200" cy="28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l rod shown has diameter of 5 mm. Attached to fixed wall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before it is loaded, there is a gap between the wall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rod of 1 m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reactions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rod is subjected to axial forc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0 k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lect size of collar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00 G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09680" y="3962520"/>
            <a:ext cx="4662720" cy="20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EC314-9278-4F34-BD56-17DE83AAE8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5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4160" y="1066680"/>
            <a:ext cx="88898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quilibr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for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rge enough to cause rod’s e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ontact wall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Equilibrium requ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068000" y="3976560"/>
            <a:ext cx="3262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/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001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66880" y="2666880"/>
            <a:ext cx="4253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0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N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86000" y="5105520"/>
            <a:ext cx="3581280" cy="842760"/>
          </a:xfrm>
          <a:prstGeom prst="rect">
            <a:avLst/>
          </a:prstGeom>
          <a:ln w="0">
            <a:noFill/>
          </a:ln>
        </p:spPr>
      </p:pic>
      <p:grpSp>
        <p:nvGrpSpPr>
          <p:cNvPr id="214" name=""/>
          <p:cNvGrpSpPr/>
          <p:nvPr/>
        </p:nvGrpSpPr>
        <p:grpSpPr>
          <a:xfrm>
            <a:off x="533520" y="2666880"/>
            <a:ext cx="1523880" cy="533520"/>
            <a:chOff x="533520" y="2666880"/>
            <a:chExt cx="1523880" cy="533520"/>
          </a:xfrm>
        </p:grpSpPr>
        <p:sp>
          <p:nvSpPr>
            <p:cNvPr id="215" name=""/>
            <p:cNvSpPr/>
            <p:nvPr/>
          </p:nvSpPr>
          <p:spPr>
            <a:xfrm>
              <a:off x="609480" y="2666880"/>
              <a:ext cx="14479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0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335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330120" y="3505320"/>
            <a:ext cx="8433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ility eq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FB67-5789-4518-9AF2-A678D2D7A4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4.5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19320" y="335268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0.4 m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0.8 m) = 3927.0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0120" y="1066680"/>
            <a:ext cx="8433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load-displacement equations (Eqn 4-2), apply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562720" y="4129200"/>
            <a:ext cx="3197160" cy="82368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944280" y="2209680"/>
            <a:ext cx="5949000" cy="1104840"/>
            <a:chOff x="944280" y="2209680"/>
            <a:chExt cx="5949000" cy="1104840"/>
          </a:xfrm>
        </p:grpSpPr>
        <p:sp>
          <p:nvSpPr>
            <p:cNvPr id="223" name=""/>
            <p:cNvSpPr/>
            <p:nvPr/>
          </p:nvSpPr>
          <p:spPr>
            <a:xfrm>
              <a:off x="944280" y="2509920"/>
              <a:ext cx="3550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B/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0.001 m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41240" y="2209680"/>
              <a:ext cx="210096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92320" y="2219400"/>
              <a:ext cx="210096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17920" y="250488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62160" y="2766960"/>
              <a:ext cx="10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19720" y="2766960"/>
              <a:ext cx="100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-226440" y="4052880"/>
            <a:ext cx="49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simultaneous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4800600"/>
            <a:ext cx="594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6.6 k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.39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491D3-7C66-479F-9FD1-8F8DAD905E1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2680" y="1066680"/>
            <a:ext cx="8377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ized deformation occurs at each end, and the deformations decrease as measurements are taken further away from the 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se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-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tress reaches almost uniform value as compared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-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-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75960" y="49068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1 SAINT-VENANT’S PRINCI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715000" y="2895480"/>
            <a:ext cx="3259080" cy="3581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337032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-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ufficiently far enough away fr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 that localized deformation “vanishes”, i.e., minimum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037C2-30FC-4EA4-85FA-22B875A977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2680" y="1066320"/>
            <a:ext cx="8456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rule: min. distance is at least equal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rgest dimen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loaded x-section. For the bar, the min. distance is equal to width of b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behavior discovered by Barré de Saint-Venant in 1855, this the name of the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int-Venant Principle states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calized effe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used by any load acting on the body, wi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sipate/smooth 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in regions that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fficiently remov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location of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no need to study stress distributions at that points near application loads or support 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75960" y="49068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1 SAINT-VENANT’S PRINCI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4A552-89FB-4617-8D01-A467FD7435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9240" y="1066680"/>
            <a:ext cx="8605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displacement 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of one end of bar with respect to other end caused by this 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Saint-Venant’s Principle, ignore localized deformations at points of concentrated loading and where x-section suddenly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.2 ELASTIC DEFORMATION OF AN AXIALLY LOADED ME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57480" y="3886200"/>
            <a:ext cx="6629400" cy="21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B65B-BB4B-46B2-B8FD-27787350D2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324480" y="1612800"/>
            <a:ext cx="2486160" cy="2044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9240" y="1066680"/>
            <a:ext cx="8605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method of sections, and draw free-body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.2 ELASTIC DEFORMATION OF AN AXIALLY LOADED ME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82680" y="1523880"/>
            <a:ext cx="2498040" cy="1036080"/>
            <a:chOff x="382680" y="1523880"/>
            <a:chExt cx="2498040" cy="1036080"/>
          </a:xfrm>
        </p:grpSpPr>
        <p:sp>
          <p:nvSpPr>
            <p:cNvPr id="62" name=""/>
            <p:cNvSpPr/>
            <p:nvPr/>
          </p:nvSpPr>
          <p:spPr>
            <a:xfrm>
              <a:off x="382680" y="1819440"/>
              <a:ext cx="171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21680" y="1523880"/>
              <a:ext cx="185904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(x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(x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40080" y="20764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593440" y="1482840"/>
            <a:ext cx="2205360" cy="1036080"/>
            <a:chOff x="2593440" y="1482840"/>
            <a:chExt cx="2205360" cy="1036080"/>
          </a:xfrm>
        </p:grpSpPr>
        <p:sp>
          <p:nvSpPr>
            <p:cNvPr id="66" name=""/>
            <p:cNvSpPr/>
            <p:nvPr/>
          </p:nvSpPr>
          <p:spPr>
            <a:xfrm>
              <a:off x="2593440" y="1752480"/>
              <a:ext cx="169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08320" y="1482840"/>
              <a:ext cx="15904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33920" y="2028600"/>
              <a:ext cx="59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465720" y="3595680"/>
            <a:ext cx="21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9680" y="2635200"/>
            <a:ext cx="63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proportional limit not exceeded, thus apply Hooke’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910600" y="4219560"/>
            <a:ext cx="3488040" cy="1042560"/>
            <a:chOff x="2910600" y="4219560"/>
            <a:chExt cx="3488040" cy="1042560"/>
          </a:xfrm>
        </p:grpSpPr>
        <p:sp>
          <p:nvSpPr>
            <p:cNvPr id="72" name=""/>
            <p:cNvSpPr/>
            <p:nvPr/>
          </p:nvSpPr>
          <p:spPr>
            <a:xfrm>
              <a:off x="2910600" y="4219560"/>
              <a:ext cx="185904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(x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(x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29000" y="47721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92160" y="4505400"/>
              <a:ext cx="179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19440" y="4226040"/>
              <a:ext cx="15904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45040" y="4772160"/>
              <a:ext cx="59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88320" y="4302360"/>
              <a:ext cx="2110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(   )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753000" y="5445000"/>
            <a:ext cx="2566080" cy="1036080"/>
            <a:chOff x="3753000" y="5445000"/>
            <a:chExt cx="2566080" cy="1036080"/>
          </a:xfrm>
        </p:grpSpPr>
        <p:sp>
          <p:nvSpPr>
            <p:cNvPr id="79" name=""/>
            <p:cNvSpPr/>
            <p:nvPr/>
          </p:nvSpPr>
          <p:spPr>
            <a:xfrm>
              <a:off x="3753000" y="5709960"/>
              <a:ext cx="95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36680" y="5445000"/>
              <a:ext cx="22824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(x) d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(x) 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11880" y="5978520"/>
              <a:ext cx="127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797EB-1916-4A1E-852F-6E483C7769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629400" y="1066680"/>
            <a:ext cx="2322360" cy="1909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.2 ELASTIC DEFORMATION OF AN AXIALLY LOADED ME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438280" y="1219320"/>
            <a:ext cx="3123360" cy="1447560"/>
            <a:chOff x="2438280" y="1219320"/>
            <a:chExt cx="3123360" cy="1447560"/>
          </a:xfrm>
        </p:grpSpPr>
        <p:sp>
          <p:nvSpPr>
            <p:cNvPr id="85" name=""/>
            <p:cNvSpPr/>
            <p:nvPr/>
          </p:nvSpPr>
          <p:spPr>
            <a:xfrm>
              <a:off x="2438280" y="1219320"/>
              <a:ext cx="2971800" cy="1447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2743200" y="1406520"/>
              <a:ext cx="2818440" cy="1036080"/>
              <a:chOff x="2743200" y="1406520"/>
              <a:chExt cx="2818440" cy="1036080"/>
            </a:xfrm>
          </p:grpSpPr>
          <p:sp>
            <p:nvSpPr>
              <p:cNvPr id="87" name=""/>
              <p:cNvSpPr/>
              <p:nvPr/>
            </p:nvSpPr>
            <p:spPr>
              <a:xfrm>
                <a:off x="2743200" y="1676160"/>
                <a:ext cx="952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2800" spc="-1" strike="noStrike">
                    <a:solidFill>
                      <a:srgbClr val="000000"/>
                    </a:solidFill>
                    <a:latin typeface="Times New Roman"/>
                  </a:rPr>
                  <a:t>δ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276720" y="1523880"/>
                <a:ext cx="952560" cy="83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4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∫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279240" y="1406520"/>
                <a:ext cx="2282400" cy="10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(x) d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(x) 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754440" y="1939680"/>
                <a:ext cx="127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457440" y="1552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380880" y="2900520"/>
            <a:ext cx="8458200" cy="34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0320" indent="-1030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displacement of one pt relative to another 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30320" indent="-1030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distance between the two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30320" indent="-1030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internal axial force at the section, located a distance x from one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30320" indent="-1030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x-sectional area of the bar, expressed as a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30320" indent="-1030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modulus of elasticity for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9360" y="1701720"/>
            <a:ext cx="25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n. 4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2C5F7-6E2D-4400-9C05-678DD45425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9240" y="1066680"/>
            <a:ext cx="8605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stant load and X-sectional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onstant x-sectional are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homogenous material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constant external force P, applied at each end, then internal force P throughout length of bar is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integrating Eqn 4-1 will y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75960" y="49068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.2 ELASTIC DEFORMATION OF AN AXIALLY LOADED ME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78240" y="4267080"/>
            <a:ext cx="4560840" cy="1224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1981080" y="4191120"/>
            <a:ext cx="2030760" cy="1371600"/>
            <a:chOff x="1981080" y="4191120"/>
            <a:chExt cx="2030760" cy="1371600"/>
          </a:xfrm>
        </p:grpSpPr>
        <p:sp>
          <p:nvSpPr>
            <p:cNvPr id="98" name=""/>
            <p:cNvSpPr/>
            <p:nvPr/>
          </p:nvSpPr>
          <p:spPr>
            <a:xfrm>
              <a:off x="1981080" y="4191120"/>
              <a:ext cx="1905120" cy="1371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09680" y="4608720"/>
              <a:ext cx="95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31360" y="4343760"/>
              <a:ext cx="16804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35000" y="4876920"/>
              <a:ext cx="64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160" y="4597560"/>
            <a:ext cx="25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n. 4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145D-2054-453E-8495-27CD8C5153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9240" y="1066320"/>
            <a:ext cx="8605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stant load and X-sectional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ar subjected to several different axial forces, or x-sectional area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constant, then the equation can be applied to each segment  of the bar and added algebraically to 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75960" y="49068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.2 ELASTIC DEFORMATION OF AN AXIALLY LOADED MEMB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62160" y="5105520"/>
            <a:ext cx="4819680" cy="129384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3581280" y="3276720"/>
            <a:ext cx="2359800" cy="1371600"/>
            <a:chOff x="3581280" y="3276720"/>
            <a:chExt cx="2359800" cy="1371600"/>
          </a:xfrm>
        </p:grpSpPr>
        <p:sp>
          <p:nvSpPr>
            <p:cNvPr id="107" name=""/>
            <p:cNvSpPr/>
            <p:nvPr/>
          </p:nvSpPr>
          <p:spPr>
            <a:xfrm>
              <a:off x="3581280" y="3276720"/>
              <a:ext cx="1905120" cy="1371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9880" y="3694320"/>
              <a:ext cx="95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60600" y="3429000"/>
              <a:ext cx="16804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70360" y="396252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67400" y="3505320"/>
              <a:ext cx="163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9A51C-24C5-496B-8DC8-C535586748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08:57:51Z</dcterms:created>
  <dc:creator>MCA</dc:creator>
  <dc:description/>
  <dc:language>en-US</dc:language>
  <cp:lastModifiedBy>UNgCH</cp:lastModifiedBy>
  <dcterms:modified xsi:type="dcterms:W3CDTF">2005-05-24T08:53:20Z</dcterms:modified>
  <cp:revision>239</cp:revision>
  <dc:subject/>
  <dc:title>Chapter 1</dc:title>
</cp:coreProperties>
</file>