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9106B-2C16-4E53-8315-05BDFF5CC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08BF-EA29-45D6-B31A-F67D9CE9F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0C24-EB61-436C-A44D-ECBE21337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C731-949C-47E0-9E1F-DC47CD52BA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63CE-DC14-430F-8C4B-D5A7F0A46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142F-1D23-45FE-BC8B-88A96A504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EE9A-BCB5-40AE-A73F-AE3AEBF29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C2FB-EAD0-4464-8B86-6E7AA86F8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7990-7335-4DB1-B342-4A811E2CE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82C2-A403-4187-8401-6E4682BD5F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EA05F-EB21-4989-BC0B-ADDCB1C4A7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E035B-CFAB-4DD8-BD64-D4AF3B743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FE22-445E-4A31-BB6F-097E4CB92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Ax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also solve statically indeterminate problems by using superposition of the forces acting on the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choose any one of the two supports as “redundant” and remove its effect on th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e bar becomes statically deter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principle of superposition and solve the equation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 THERM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sion or contraction of material is linearly  related to temperature increase or decrease that occurs (for homogenous and isotropic mater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xperiment, deformation of a member having leng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747960" y="3048120"/>
            <a:ext cx="2880000" cy="838080"/>
            <a:chOff x="3747960" y="3048120"/>
            <a:chExt cx="2880000" cy="838080"/>
          </a:xfrm>
        </p:grpSpPr>
        <p:sp>
          <p:nvSpPr>
            <p:cNvPr id="92" name=""/>
            <p:cNvSpPr/>
            <p:nvPr/>
          </p:nvSpPr>
          <p:spPr>
            <a:xfrm>
              <a:off x="4038480" y="3048120"/>
              <a:ext cx="220968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47960" y="3200400"/>
              <a:ext cx="2880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 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7200" y="3962520"/>
            <a:ext cx="84582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liner coefficient of thermal expansion. Unit measure strain per degree of temperatur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elsius) 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elv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ebraic change in temperature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lgebraic change in length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6 THERM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7320" y="1143000"/>
            <a:ext cx="8681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indeterm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mber, the thermal displacements can be constrained by the supports, producing thermal stresses that must be considered in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6760" y="2743200"/>
            <a:ext cx="25765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36 steel bar shown is constrained to just fit between two fixed supports w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0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emperature is rais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termine the average normal thermal stress developed in the 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1442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0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hown in free-body diagr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37240" y="2071800"/>
            <a:ext cx="297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45440" y="2057400"/>
            <a:ext cx="30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29600" y="4419720"/>
            <a:ext cx="100008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610480" y="1143000"/>
            <a:ext cx="258840" cy="3505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74320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is statically indeterminate since the force cannot be determined from equilibr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3817800"/>
            <a:ext cx="74674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A/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0, thermal displacement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. Thus compatibility conditio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69840" y="5519880"/>
            <a:ext cx="16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33880" y="5576760"/>
            <a:ext cx="376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/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0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3080" y="3429000"/>
            <a:ext cx="727704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magnitude o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it’s clear that changes in temperature causes large reaction forces in statically indeterminate memb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erage normal compressive str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43800" y="2743200"/>
            <a:ext cx="1379520" cy="3048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43080" y="10666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rmal and load-displacement relationsh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80600" y="1863720"/>
            <a:ext cx="3798360" cy="1036080"/>
            <a:chOff x="1380600" y="1863720"/>
            <a:chExt cx="3798360" cy="1036080"/>
          </a:xfrm>
        </p:grpSpPr>
        <p:sp>
          <p:nvSpPr>
            <p:cNvPr id="116" name=""/>
            <p:cNvSpPr/>
            <p:nvPr/>
          </p:nvSpPr>
          <p:spPr>
            <a:xfrm>
              <a:off x="1380600" y="2139840"/>
              <a:ext cx="3195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  =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L 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6840" y="1863720"/>
              <a:ext cx="1662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2240" y="241128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81400" y="2895480"/>
            <a:ext cx="50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 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… = 7.2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35160" y="5257800"/>
            <a:ext cx="4495680" cy="1036080"/>
            <a:chOff x="2135160" y="5257800"/>
            <a:chExt cx="4495680" cy="1036080"/>
          </a:xfrm>
        </p:grpSpPr>
        <p:sp>
          <p:nvSpPr>
            <p:cNvPr id="121" name=""/>
            <p:cNvSpPr/>
            <p:nvPr/>
          </p:nvSpPr>
          <p:spPr>
            <a:xfrm>
              <a:off x="2786400" y="5257800"/>
              <a:ext cx="1464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5160" y="5519880"/>
              <a:ext cx="17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23880" y="5776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7920" y="5519880"/>
              <a:ext cx="338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… = 72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7 STRESS CONCENT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ce equilibr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quires magnitude of resultant force developed by the stress distribution to be equal to P. In other wor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5200" y="3048120"/>
            <a:ext cx="831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gral represents graphicall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each of the stress-distribution diagram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154680" y="2438280"/>
            <a:ext cx="2833200" cy="762120"/>
            <a:chOff x="3154680" y="2438280"/>
            <a:chExt cx="2833200" cy="762120"/>
          </a:xfrm>
        </p:grpSpPr>
        <p:sp>
          <p:nvSpPr>
            <p:cNvPr id="129" name=""/>
            <p:cNvSpPr/>
            <p:nvPr/>
          </p:nvSpPr>
          <p:spPr>
            <a:xfrm>
              <a:off x="3505320" y="2438280"/>
              <a:ext cx="213336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54680" y="2514600"/>
              <a:ext cx="283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895840" cy="2492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30481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7 STRESS CONCENT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5920" y="1066320"/>
            <a:ext cx="8377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ngineering practice, actual stress distribution not needed,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um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se sections must be known. Member is designed to resist this stress when axial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as a ratio of the maximum stress to the average stress acting at the smallest cross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50640" y="3997440"/>
            <a:ext cx="2740680" cy="1336680"/>
            <a:chOff x="3050640" y="3997440"/>
            <a:chExt cx="2740680" cy="1336680"/>
          </a:xfrm>
        </p:grpSpPr>
        <p:sp>
          <p:nvSpPr>
            <p:cNvPr id="136" name=""/>
            <p:cNvSpPr/>
            <p:nvPr/>
          </p:nvSpPr>
          <p:spPr>
            <a:xfrm>
              <a:off x="3276720" y="4038840"/>
              <a:ext cx="25146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50640" y="3997440"/>
              <a:ext cx="2692800" cy="1154160"/>
              <a:chOff x="3050640" y="3997440"/>
              <a:chExt cx="2692800" cy="1154160"/>
            </a:xfrm>
          </p:grpSpPr>
          <p:sp>
            <p:nvSpPr>
              <p:cNvPr id="138" name=""/>
              <p:cNvSpPr/>
              <p:nvPr/>
            </p:nvSpPr>
            <p:spPr>
              <a:xfrm>
                <a:off x="3050640" y="4340520"/>
                <a:ext cx="1811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K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77280" y="3997440"/>
                <a:ext cx="176616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σ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σ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v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43760" y="4611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1145520" y="4346640"/>
            <a:ext cx="21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 4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7 STRESS CONCENT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ndependent of the bar’s geometry and the type of discontinuity, only on the bar’s geometry and the type of discontin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iz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iscontinuity is decreased, stress concentration is incr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use stress-concentration factors in design when using brittle materials, but not necessary for ductil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 also cause failure structural members or mechanical elements subject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gue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074240"/>
            <a:ext cx="83818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bar shown below has allowable str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5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 largest axial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bar can ca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23558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10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re is a shoulder fillet, stress-concentrating factor determined using the graph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4460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, we can determine the reaction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781360" cy="2895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676680" y="2666880"/>
            <a:ext cx="2571840" cy="230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566040" y="2666880"/>
            <a:ext cx="2577960" cy="2590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33526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2000" y="3230640"/>
            <a:ext cx="164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ng the necessary geometric parameters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3284640"/>
            <a:ext cx="861048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from the graph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ess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-sec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7240" y="1981080"/>
            <a:ext cx="3808440" cy="1036080"/>
            <a:chOff x="687240" y="1981080"/>
            <a:chExt cx="3808440" cy="1036080"/>
          </a:xfrm>
        </p:grpSpPr>
        <p:sp>
          <p:nvSpPr>
            <p:cNvPr id="154" name=""/>
            <p:cNvSpPr/>
            <p:nvPr/>
          </p:nvSpPr>
          <p:spPr>
            <a:xfrm>
              <a:off x="687240" y="1981080"/>
              <a:ext cx="1425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2520" y="224316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78000" y="1981080"/>
              <a:ext cx="224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22287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19320" y="25002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5120" y="2490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940280" y="2057400"/>
            <a:ext cx="3213000" cy="1036080"/>
            <a:chOff x="4940280" y="2057400"/>
            <a:chExt cx="3213000" cy="1036080"/>
          </a:xfrm>
        </p:grpSpPr>
        <p:sp>
          <p:nvSpPr>
            <p:cNvPr id="161" name=""/>
            <p:cNvSpPr/>
            <p:nvPr/>
          </p:nvSpPr>
          <p:spPr>
            <a:xfrm>
              <a:off x="4940280" y="2057400"/>
              <a:ext cx="1483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7920" y="2057400"/>
              <a:ext cx="224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232884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19520" y="258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38720" y="258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16400" y="233352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37280" y="4302000"/>
            <a:ext cx="7100280" cy="1036080"/>
            <a:chOff x="737280" y="4302000"/>
            <a:chExt cx="7100280" cy="1036080"/>
          </a:xfrm>
        </p:grpSpPr>
        <p:sp>
          <p:nvSpPr>
            <p:cNvPr id="168" name=""/>
            <p:cNvSpPr/>
            <p:nvPr/>
          </p:nvSpPr>
          <p:spPr>
            <a:xfrm>
              <a:off x="1654920" y="4302000"/>
              <a:ext cx="3716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20 mm)(1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280" y="4559400"/>
              <a:ext cx="2049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35240" y="4816440"/>
              <a:ext cx="24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85000" y="4540320"/>
              <a:ext cx="36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05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N/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qn 4-7 wit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61240" y="1676520"/>
            <a:ext cx="538524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K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 N/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4(0.00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43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 = 16.43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76920" y="3809880"/>
            <a:ext cx="4038480" cy="26830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8 INELASTIC AXIAL DE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77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a member is designed so that the loading causes the material to yield and thereby permanently de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mbers are made from highly ductile material such as annealed low-carbon steel having a stress-strain diagram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39625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aterial is referred to as be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 perfectly p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op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8 INELASTIC AXIAL DE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ximum load that an elastoplastic member ca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3886200" cy="3087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66680" y="2438280"/>
            <a:ext cx="1673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bar shown assumed to be elastic perfectly plastic wit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(a) maximum value of applied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can be applied without causing the steel to yield, (b) the maximum valu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bar can support. Sketch the stress distribution at the critical section for each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0640" y="4295880"/>
            <a:ext cx="5562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When material behaves elastically, we must use a stress-concentration that is unique for the bar’s geo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73080" y="1828800"/>
            <a:ext cx="5061240" cy="1036080"/>
            <a:chOff x="1873080" y="1828800"/>
            <a:chExt cx="5061240" cy="1036080"/>
          </a:xfrm>
        </p:grpSpPr>
        <p:sp>
          <p:nvSpPr>
            <p:cNvPr id="189" name=""/>
            <p:cNvSpPr/>
            <p:nvPr/>
          </p:nvSpPr>
          <p:spPr>
            <a:xfrm>
              <a:off x="1873080" y="1828800"/>
              <a:ext cx="1425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8360" y="209052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65280" y="1828800"/>
              <a:ext cx="3677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40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8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6400" y="207936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1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05160" y="2347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90960" y="2338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30960" y="2971800"/>
            <a:ext cx="4874760" cy="1036080"/>
            <a:chOff x="1830960" y="2971800"/>
            <a:chExt cx="4874760" cy="1036080"/>
          </a:xfrm>
        </p:grpSpPr>
        <p:sp>
          <p:nvSpPr>
            <p:cNvPr id="196" name=""/>
            <p:cNvSpPr/>
            <p:nvPr/>
          </p:nvSpPr>
          <p:spPr>
            <a:xfrm>
              <a:off x="1830960" y="2971800"/>
              <a:ext cx="14839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21000" y="2971800"/>
              <a:ext cx="3677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40 mm − 8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86400" y="32432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.2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09840" y="3500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029040" y="3500280"/>
              <a:ext cx="238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07080" y="3247920"/>
              <a:ext cx="148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4920" y="41148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normal stress i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96480" y="4802040"/>
            <a:ext cx="305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43280" y="4495680"/>
            <a:ext cx="157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530080" y="4668840"/>
            <a:ext cx="2986560" cy="712800"/>
            <a:chOff x="2530080" y="4668840"/>
            <a:chExt cx="2986560" cy="712800"/>
          </a:xfrm>
        </p:grpSpPr>
        <p:sp>
          <p:nvSpPr>
            <p:cNvPr id="206" name=""/>
            <p:cNvSpPr/>
            <p:nvPr/>
          </p:nvSpPr>
          <p:spPr>
            <a:xfrm>
              <a:off x="2530080" y="4802040"/>
              <a:ext cx="2183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70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06760" y="4668840"/>
              <a:ext cx="20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rot="5400000">
            <a:off x="2962800" y="5267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2080" y="5724360"/>
            <a:ext cx="3101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calculated using the smallest x-section. Resulting stress distribution is shown. For equilibrium, the “volume” contained within this distribution must equ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4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971800" y="3162240"/>
            <a:ext cx="3429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load sustained by the bar causes all material at smallest x-section to yield. 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ncreased to plastic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ress distribution changes as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74796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normal stress i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120" y="4419720"/>
            <a:ext cx="305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44880" y="4114800"/>
            <a:ext cx="1578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731680" y="4259160"/>
            <a:ext cx="3000960" cy="741600"/>
            <a:chOff x="2731680" y="4259160"/>
            <a:chExt cx="3000960" cy="741600"/>
          </a:xfrm>
        </p:grpSpPr>
        <p:sp>
          <p:nvSpPr>
            <p:cNvPr id="220" name=""/>
            <p:cNvSpPr/>
            <p:nvPr/>
          </p:nvSpPr>
          <p:spPr>
            <a:xfrm>
              <a:off x="2731680" y="4421160"/>
              <a:ext cx="2183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686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2760" y="4259160"/>
              <a:ext cx="20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(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 rot="5400000">
            <a:off x="3164400" y="48103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81280" y="5105520"/>
            <a:ext cx="311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0000" y="5607000"/>
            <a:ext cx="83404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ls the “volume” contained within the stress distribution, 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438640" cy="12193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486400" y="2612880"/>
            <a:ext cx="2590920" cy="1197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962520" y="2743200"/>
            <a:ext cx="1218960" cy="533520"/>
          </a:xfrm>
          <a:prstGeom prst="rightArrow">
            <a:avLst>
              <a:gd name="adj1" fmla="val 50000"/>
              <a:gd name="adj2" fmla="val 571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9 RESIDU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9240" y="1066680"/>
            <a:ext cx="8224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xially loaded member or group of such members, that form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indetermi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 that can support both tensile and compressive loa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excessive external loadings which cause yielding of the material, creates residual stresses in the members when loads are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 reco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material during un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4.9 RESIDUAL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9240" y="1066320"/>
            <a:ext cx="8224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such problem, complete cycle of loading and unloading of member is considered as the superposition of a positive load (loading) on a negative load (unload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sults in a plastic stre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oad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sults only in elastic stre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3833640" cy="24004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04920" y="4384800"/>
            <a:ext cx="48006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perposi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loads to cancel, however, stress distributions will not cancel, thus residual stress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one of the supports as redundant and write the equation of compati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displacement at redundant support (usually zero), equated to displacement at support cau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external loads acting on the me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placement at the support caus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the redundant reaction acting on the me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rod has radius of 5 mm, made from an elastic-perfectly plastic material for which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0 MP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0 GP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ied to rod and then removed, determine residual stress in rod and permanent displacement of collar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57200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rod statically indetermi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astic analysis (discussed in 4.4) produ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544920" cy="866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95280" y="2209680"/>
            <a:ext cx="452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5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5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160" y="3000240"/>
            <a:ext cx="45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this result in str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837360" y="3583080"/>
            <a:ext cx="7084080" cy="1201320"/>
            <a:chOff x="837360" y="3583080"/>
            <a:chExt cx="7084080" cy="1201320"/>
          </a:xfrm>
        </p:grpSpPr>
        <p:sp>
          <p:nvSpPr>
            <p:cNvPr id="244" name=""/>
            <p:cNvSpPr/>
            <p:nvPr/>
          </p:nvSpPr>
          <p:spPr>
            <a:xfrm>
              <a:off x="837360" y="3787560"/>
              <a:ext cx="90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A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40320" y="3583080"/>
              <a:ext cx="18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5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05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13120" y="3778200"/>
              <a:ext cx="410832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573 MP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compression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&gt; </a:t>
              </a:r>
              <a:r>
                <a:rPr b="0" i="1" lang="el-GR" sz="2800" spc="-1" strike="noStrike">
                  <a:solidFill>
                    <a:srgbClr val="ff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 = 420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03240" y="404964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00640" y="5106960"/>
            <a:ext cx="4683240" cy="947160"/>
            <a:chOff x="800640" y="5106960"/>
            <a:chExt cx="4683240" cy="947160"/>
          </a:xfrm>
        </p:grpSpPr>
        <p:sp>
          <p:nvSpPr>
            <p:cNvPr id="249" name=""/>
            <p:cNvSpPr/>
            <p:nvPr/>
          </p:nvSpPr>
          <p:spPr>
            <a:xfrm>
              <a:off x="800640" y="5311800"/>
              <a:ext cx="90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03600" y="5106960"/>
              <a:ext cx="18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5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05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66520" y="5573880"/>
              <a:ext cx="19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21320" y="5303880"/>
              <a:ext cx="176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91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83040" y="45864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yield, assu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come plastic, whi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s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70480" y="2057400"/>
            <a:ext cx="3544920" cy="8668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35200" y="2071800"/>
            <a:ext cx="400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33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960" y="2995560"/>
            <a:ext cx="571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 k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3.0 kN = 27.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48880" y="3787920"/>
            <a:ext cx="531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01000" y="4344840"/>
            <a:ext cx="6535440" cy="1142640"/>
            <a:chOff x="801000" y="4344840"/>
            <a:chExt cx="6535440" cy="1142640"/>
          </a:xfrm>
        </p:grpSpPr>
        <p:sp>
          <p:nvSpPr>
            <p:cNvPr id="261" name=""/>
            <p:cNvSpPr/>
            <p:nvPr/>
          </p:nvSpPr>
          <p:spPr>
            <a:xfrm>
              <a:off x="801000" y="4549680"/>
              <a:ext cx="90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03960" y="4344840"/>
              <a:ext cx="188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05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66880" y="481176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22040" y="4540320"/>
              <a:ext cx="361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344 MPa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tension)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</a:rPr>
                <a:t>&lt; 420 MPa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(OK!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124080" y="2889360"/>
            <a:ext cx="5867640" cy="34351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idual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onds elast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327240" y="2914560"/>
            <a:ext cx="39045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3240" indent="-63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240" indent="-63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+0.004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99840" y="2025720"/>
            <a:ext cx="4752360" cy="1006200"/>
            <a:chOff x="699840" y="2025720"/>
            <a:chExt cx="4752360" cy="1006200"/>
          </a:xfrm>
        </p:grpSpPr>
        <p:sp>
          <p:nvSpPr>
            <p:cNvPr id="270" name=""/>
            <p:cNvSpPr/>
            <p:nvPr/>
          </p:nvSpPr>
          <p:spPr>
            <a:xfrm>
              <a:off x="699840" y="2289240"/>
              <a:ext cx="781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519560" y="2025720"/>
              <a:ext cx="10706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1920" y="2556000"/>
              <a:ext cx="11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40960" y="2268720"/>
              <a:ext cx="28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... = 0.001474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-113760" y="4464000"/>
            <a:ext cx="3467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1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5562720" cy="32576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sidual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2880" y="1676520"/>
            <a:ext cx="606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0 MPa + 573 MPa = 153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2880" y="2362320"/>
            <a:ext cx="5864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44 MP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91 MPa = 153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040" y="3048120"/>
            <a:ext cx="2835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tensile stress is the same, which is to be exp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7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ermanent Dis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idual strain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7160" y="2147760"/>
            <a:ext cx="411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00221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2360" y="3581280"/>
            <a:ext cx="682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2185(300 mm) = 0.656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040" y="281952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permanent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4267080"/>
            <a:ext cx="82454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solution is to determine residual str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... = 0.656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oad applied on a body, a stress distribution is created within the body that becomes more uniformly distributed at regions farther from point of application. Thi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int-Venant’s princi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displacement at end of axially loaded member relative to other end is determ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ries of constant external forces are applied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, th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981080" y="4114800"/>
            <a:ext cx="2890080" cy="1066680"/>
            <a:chOff x="1981080" y="4114800"/>
            <a:chExt cx="2890080" cy="1066680"/>
          </a:xfrm>
        </p:grpSpPr>
        <p:sp>
          <p:nvSpPr>
            <p:cNvPr id="290" name=""/>
            <p:cNvSpPr/>
            <p:nvPr/>
          </p:nvSpPr>
          <p:spPr>
            <a:xfrm>
              <a:off x="1981080" y="4191120"/>
              <a:ext cx="2438640" cy="99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052720" y="4114800"/>
              <a:ext cx="2818440" cy="1036080"/>
              <a:chOff x="2052720" y="4114800"/>
              <a:chExt cx="2818440" cy="1036080"/>
            </a:xfrm>
          </p:grpSpPr>
          <p:sp>
            <p:nvSpPr>
              <p:cNvPr id="292" name=""/>
              <p:cNvSpPr/>
              <p:nvPr/>
            </p:nvSpPr>
            <p:spPr>
              <a:xfrm>
                <a:off x="2052720" y="4384440"/>
                <a:ext cx="95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86240" y="4232160"/>
                <a:ext cx="952560" cy="83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588760" y="4114800"/>
                <a:ext cx="2282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x) 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(x) 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63960" y="4647960"/>
                <a:ext cx="12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766960" y="42606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5062680" y="5597640"/>
            <a:ext cx="2173680" cy="1108080"/>
            <a:chOff x="5062680" y="5597640"/>
            <a:chExt cx="2173680" cy="1108080"/>
          </a:xfrm>
        </p:grpSpPr>
        <p:sp>
          <p:nvSpPr>
            <p:cNvPr id="298" name=""/>
            <p:cNvSpPr/>
            <p:nvPr/>
          </p:nvSpPr>
          <p:spPr>
            <a:xfrm>
              <a:off x="5105520" y="5638680"/>
              <a:ext cx="175248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062680" y="5597640"/>
              <a:ext cx="2173680" cy="1036080"/>
              <a:chOff x="5062680" y="5597640"/>
              <a:chExt cx="2173680" cy="1036080"/>
            </a:xfrm>
          </p:grpSpPr>
          <p:sp>
            <p:nvSpPr>
              <p:cNvPr id="300" name=""/>
              <p:cNvSpPr/>
              <p:nvPr/>
            </p:nvSpPr>
            <p:spPr>
              <a:xfrm>
                <a:off x="5105520" y="5862600"/>
                <a:ext cx="95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55880" y="5597640"/>
                <a:ext cx="16804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066000" y="613080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062680" y="5673600"/>
                <a:ext cx="163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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200400" y="5562720"/>
            <a:ext cx="17524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o use sign convention for internal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at material does not yield, but remains linear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position of load &amp; displacement is possible provided material remains linear elastic and no changes in geometr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 on statically indeterminate bar determined using equilibrium and compatibility conditions that specify displacement at the supports. Use the load-displacement relationship, 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PL/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343400" y="1981080"/>
            <a:ext cx="1600200" cy="38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1320" y="5486400"/>
            <a:ext cx="205740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temperature can cause member made from homogenous isotropic material to change its length b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L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member is confined, expansion will produce thermal stress in th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es and sharp transitions at x-section create stress concentrations. For design, obtain stress concentration fa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graph, which is determined empirically. The K value is multiplied by average stress to obtain maximum stress at x-section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ading in bar causes material to yield, then stress distribution that’s produced can be determined from the strain distribution and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erfectly plastic material, yielding causes stress distribution at x-section of hole or transition to even out and become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ember is constrained and external loading causes yielding, then when load is released, it will cause residual stress in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external load and redundant displacements in terms of the loadings using load-displacemen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mpatibility equation to solve for magnitude of redundan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and write appropriate equations of equilibrium for member using calculated result for redundan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equations for other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.5 FORCE METHOD OF ANALYSIS FOR AXIALLY LOADED MEMB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3818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36 steel rod shown has diameter of 5 mm. It’s attached to fixed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before it is loaded, there’s a gap between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od of 1 m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action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32448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upport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redund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nciple of superposi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4284720" cy="3562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26400" y="2438280"/>
            <a:ext cx="6990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1 m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qua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20760" y="2438280"/>
            <a:ext cx="1890720" cy="520560"/>
            <a:chOff x="1220760" y="2438280"/>
            <a:chExt cx="1890720" cy="520560"/>
          </a:xfrm>
        </p:grpSpPr>
        <p:sp>
          <p:nvSpPr>
            <p:cNvPr id="66" name=""/>
            <p:cNvSpPr/>
            <p:nvPr/>
          </p:nvSpPr>
          <p:spPr>
            <a:xfrm>
              <a:off x="1220760" y="2438280"/>
              <a:ext cx="18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+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5120" y="2805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lection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etermined from Eqn. 4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2027160"/>
            <a:ext cx="2819520" cy="23446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76560" y="2133720"/>
            <a:ext cx="5793480" cy="1095120"/>
            <a:chOff x="376560" y="2133720"/>
            <a:chExt cx="5793480" cy="1095120"/>
          </a:xfrm>
        </p:grpSpPr>
        <p:sp>
          <p:nvSpPr>
            <p:cNvPr id="72" name=""/>
            <p:cNvSpPr/>
            <p:nvPr/>
          </p:nvSpPr>
          <p:spPr>
            <a:xfrm>
              <a:off x="376560" y="2424240"/>
              <a:ext cx="182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P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7400" y="2133720"/>
              <a:ext cx="19242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4200" y="2681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13560" y="2424240"/>
              <a:ext cx="40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… = 0.002037 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26520" y="3311640"/>
            <a:ext cx="6122160" cy="1095120"/>
            <a:chOff x="326520" y="3311640"/>
            <a:chExt cx="6122160" cy="1095120"/>
          </a:xfrm>
        </p:grpSpPr>
        <p:sp>
          <p:nvSpPr>
            <p:cNvPr id="77" name=""/>
            <p:cNvSpPr/>
            <p:nvPr/>
          </p:nvSpPr>
          <p:spPr>
            <a:xfrm>
              <a:off x="326520" y="3581280"/>
              <a:ext cx="1953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78920" y="3311640"/>
              <a:ext cx="208872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08120" y="38386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93760" y="3581280"/>
              <a:ext cx="435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… = 0.3056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-151200" y="4495680"/>
            <a:ext cx="68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ng into Equation 1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040" y="5105520"/>
            <a:ext cx="69548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001 m = 0.002037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305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 = 3.4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9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77800" y="2244600"/>
            <a:ext cx="52898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 k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40 kN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6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3446640" cy="915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66240" y="2211480"/>
            <a:ext cx="274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610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35:22Z</dcterms:created>
  <dc:creator>Ng Family</dc:creator>
  <dc:description/>
  <dc:language>en-US</dc:language>
  <cp:lastModifiedBy>Ng Family</cp:lastModifiedBy>
  <dcterms:modified xsi:type="dcterms:W3CDTF">2005-05-05T05:39:25Z</dcterms:modified>
  <cp:revision>34</cp:revision>
  <dc:subject/>
  <dc:title>4.5 FORCE METHOD OF ANALYSIS FOR AXIALLY LOADED MEMBERS</dc:title>
</cp:coreProperties>
</file>