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9DD82-6BE7-47FA-8E2A-F5508324C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CE8A-D4BB-49F4-B8C6-07E5F50F2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9755-C6C7-4D14-8859-A0AAF2A7E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747C-D01B-4BDE-A1E2-955C5AE78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BA34-7BAF-458F-BDE3-010DEC5542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573D-14B3-4695-ABBC-EBA2877D7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EC0E-BDE3-4226-B4DA-17A0C9FD2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4059-BC2D-4053-9E5F-B93ADAAD4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B9F5-67A6-4C09-A796-D06A34FE6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7782-7A5C-48AF-999A-B95373F2F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2826-697A-44DE-9B37-B48D96D8F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EAE5-3260-4BCC-8985-A7D067E14B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4CDC-F031-422C-B6A5-64083B89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To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6091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effects of applying torsional loading to a long straight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tress distribution within the member under torsional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581280"/>
            <a:ext cx="86868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ngle of twist when material behaves in a linear-elastic and inelas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tatically indeterminate analysis of shafts and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stress distributions and residual stress caused by torsional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14300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DFFE-DC59-4852-8555-4CFF627F2C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898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bsolute maximum torsion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location where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torque diagram (internal torqu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sh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Convention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, by right-hand rule, is directed outward from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ternal torque throughout shaft is determined, maximum ratio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C0CA-CA9D-41E7-A0AB-7F40D7EA67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shaft perpendicular to its axis at point where shear stress is to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ree-body diagram and equations of equilibrium to obtain internal torque a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polar moment of inertia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ec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E415-8781-484E-9C5A-188CC65CB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radial distanc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sured from centre of x-section to point where shear stress is to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rsion formula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cts on x-section in direction that is always perpendicular to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33E9-7004-434A-AEB8-4C8D5C922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82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ft shown supported by two bearings and subjected to three torq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hear stress developed at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haf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6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05520" y="3124080"/>
            <a:ext cx="3657600" cy="28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A1C7-0BC1-4793-8F99-903338B535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reactions on shaf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shaft weight assumed to be negligible. Applied torques satisfy moment equilibrium about shaft’s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rque 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from free-body diagram of left seg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4120" y="3657600"/>
            <a:ext cx="320040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DCA8D-9AAA-48BB-96ED-21276E3973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0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234360" y="1584360"/>
            <a:ext cx="2607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65280" y="1585800"/>
            <a:ext cx="641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5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00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5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960" y="2666880"/>
            <a:ext cx="830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69520" y="3290760"/>
            <a:ext cx="61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(75 m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97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886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63760" y="5029200"/>
            <a:ext cx="491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1.89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ADD1-25FB-4E2A-BEA7-7CF0197E82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 for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63400" y="2209680"/>
            <a:ext cx="523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377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276720"/>
            <a:ext cx="419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 of the stresses on ele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stablished from direction of resultant internal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425772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C613-7FD5-4F18-B181-110D1569EA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work performed per uni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power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shaft’s angular velocit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can also express power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270680" y="1752480"/>
            <a:ext cx="3103560" cy="761760"/>
            <a:chOff x="4270680" y="1752480"/>
            <a:chExt cx="3103560" cy="761760"/>
          </a:xfrm>
        </p:grpSpPr>
        <p:sp>
          <p:nvSpPr>
            <p:cNvPr id="150" name=""/>
            <p:cNvSpPr/>
            <p:nvPr/>
          </p:nvSpPr>
          <p:spPr>
            <a:xfrm>
              <a:off x="4648320" y="1752480"/>
              <a:ext cx="228600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70680" y="1828440"/>
              <a:ext cx="310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270320" y="3124080"/>
            <a:ext cx="2282400" cy="762120"/>
            <a:chOff x="4270320" y="3124080"/>
            <a:chExt cx="2282400" cy="762120"/>
          </a:xfrm>
        </p:grpSpPr>
        <p:sp>
          <p:nvSpPr>
            <p:cNvPr id="153" name=""/>
            <p:cNvSpPr/>
            <p:nvPr/>
          </p:nvSpPr>
          <p:spPr>
            <a:xfrm>
              <a:off x="4648320" y="3124080"/>
              <a:ext cx="167616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70320" y="3200400"/>
              <a:ext cx="22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04920" y="3886200"/>
            <a:ext cx="8305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shaft’s rotation is often reported. It measures the number of cycles per second and since 1 cycle = 2 radians, and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69960" y="5410080"/>
            <a:ext cx="2599560" cy="762120"/>
            <a:chOff x="4269960" y="5410080"/>
            <a:chExt cx="2599560" cy="762120"/>
          </a:xfrm>
        </p:grpSpPr>
        <p:sp>
          <p:nvSpPr>
            <p:cNvPr id="157" name=""/>
            <p:cNvSpPr/>
            <p:nvPr/>
          </p:nvSpPr>
          <p:spPr>
            <a:xfrm>
              <a:off x="4648320" y="5410080"/>
              <a:ext cx="167652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69960" y="5486400"/>
              <a:ext cx="25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804320" y="556272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5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1165-B1F6-48BD-BE87-04FD32B80C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af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ower transmitted by shaft and its frequency of rotation is known, torque is determined from Eqn 5-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llowable shear stress for material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pplying torsion formul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881440" y="4038480"/>
            <a:ext cx="2525400" cy="1447920"/>
            <a:chOff x="2881440" y="4038480"/>
            <a:chExt cx="2525400" cy="1447920"/>
          </a:xfrm>
        </p:grpSpPr>
        <p:sp>
          <p:nvSpPr>
            <p:cNvPr id="163" name=""/>
            <p:cNvSpPr/>
            <p:nvPr/>
          </p:nvSpPr>
          <p:spPr>
            <a:xfrm>
              <a:off x="3048120" y="4038480"/>
              <a:ext cx="213336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881440" y="4191120"/>
              <a:ext cx="2525400" cy="1120680"/>
              <a:chOff x="2881440" y="4191120"/>
              <a:chExt cx="2525400" cy="1120680"/>
            </a:xfrm>
          </p:grpSpPr>
          <p:sp>
            <p:nvSpPr>
              <p:cNvPr id="165" name=""/>
              <p:cNvSpPr/>
              <p:nvPr/>
            </p:nvSpPr>
            <p:spPr>
              <a:xfrm>
                <a:off x="2881440" y="4191120"/>
                <a:ext cx="14047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544920" y="4216680"/>
                <a:ext cx="18619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06880" y="447696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52680" y="4734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14800" y="4734000"/>
                <a:ext cx="80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8C42-EEC9-4BC4-AA08-1E0FA619B3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aft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haft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ular shaft,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)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3 POWER TRANSMI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7BE2-0096-4A53-B785-2107D02A3F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Deformation of a Circula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rsion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Indeterminate Torque-Loade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Solid Noncircular 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Thin-Walled Tubes Having Closed Cross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To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E392-98C7-44F2-B12F-02DE3E5746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teel shaft shown used to transmi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750 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ttached mo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haft rotates 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75 rp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tee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quired diameter of shaft to nearest m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3581280"/>
            <a:ext cx="4121280" cy="28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99C0-7F98-40EE-B7E5-F896F97D48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4160" y="1066680"/>
            <a:ext cx="8889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on shaft determined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75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0120" y="3124080"/>
            <a:ext cx="843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4.6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19360" y="2016000"/>
            <a:ext cx="6510240" cy="1112400"/>
            <a:chOff x="1719360" y="2016000"/>
            <a:chExt cx="6510240" cy="1112400"/>
          </a:xfrm>
        </p:grpSpPr>
        <p:sp>
          <p:nvSpPr>
            <p:cNvPr id="179" name=""/>
            <p:cNvSpPr/>
            <p:nvPr/>
          </p:nvSpPr>
          <p:spPr>
            <a:xfrm>
              <a:off x="4261680" y="2124000"/>
              <a:ext cx="249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19360" y="2333520"/>
              <a:ext cx="65102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397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8.33 rad/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64800" y="2092320"/>
              <a:ext cx="23252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75 re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1200" y="2057400"/>
              <a:ext cx="2163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re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65440" y="2016000"/>
              <a:ext cx="20678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 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0 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9800" y="2133360"/>
              <a:ext cx="266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 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4600" y="26193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33920" y="25956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59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454480" y="3581280"/>
            <a:ext cx="3643200" cy="1095120"/>
            <a:chOff x="2454480" y="3581280"/>
            <a:chExt cx="3643200" cy="1095120"/>
          </a:xfrm>
        </p:grpSpPr>
        <p:sp>
          <p:nvSpPr>
            <p:cNvPr id="189" name=""/>
            <p:cNvSpPr/>
            <p:nvPr/>
          </p:nvSpPr>
          <p:spPr>
            <a:xfrm>
              <a:off x="3395880" y="3885840"/>
              <a:ext cx="2547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3974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454480" y="3628800"/>
              <a:ext cx="1404720" cy="1036080"/>
              <a:chOff x="2454480" y="3628800"/>
              <a:chExt cx="1404720" cy="1036080"/>
            </a:xfrm>
          </p:grpSpPr>
          <p:sp>
            <p:nvSpPr>
              <p:cNvPr id="191" name=""/>
              <p:cNvSpPr/>
              <p:nvPr/>
            </p:nvSpPr>
            <p:spPr>
              <a:xfrm>
                <a:off x="2454480" y="3628800"/>
                <a:ext cx="14047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971800" y="4155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252240" y="3622320"/>
              <a:ext cx="1792080" cy="1036080"/>
              <a:chOff x="3252240" y="3622320"/>
              <a:chExt cx="1792080" cy="1036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252240" y="3622320"/>
                <a:ext cx="17920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67400" y="4160520"/>
                <a:ext cx="73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4235760" y="3581280"/>
              <a:ext cx="1861920" cy="1095120"/>
              <a:chOff x="4235760" y="3581280"/>
              <a:chExt cx="1861920" cy="1095120"/>
            </a:xfrm>
          </p:grpSpPr>
          <p:sp>
            <p:nvSpPr>
              <p:cNvPr id="197" name=""/>
              <p:cNvSpPr/>
              <p:nvPr/>
            </p:nvSpPr>
            <p:spPr>
              <a:xfrm>
                <a:off x="4235760" y="3581280"/>
                <a:ext cx="186192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16440" y="4155840"/>
                <a:ext cx="82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 rot="5400000">
            <a:off x="3882960" y="457380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60120" y="502920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9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5562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1.84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lect shaft with diameter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F930-FCEC-4FC9-90D3-B53F9ADF98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gle of tw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mportant when analyzing reactions on statically indeterminate sha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497320" y="2133720"/>
            <a:ext cx="3215880" cy="1295280"/>
            <a:chOff x="2497320" y="2133720"/>
            <a:chExt cx="3215880" cy="1295280"/>
          </a:xfrm>
        </p:grpSpPr>
        <p:sp>
          <p:nvSpPr>
            <p:cNvPr id="205" name=""/>
            <p:cNvSpPr/>
            <p:nvPr/>
          </p:nvSpPr>
          <p:spPr>
            <a:xfrm>
              <a:off x="2819520" y="2133720"/>
              <a:ext cx="27432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497320" y="2210040"/>
              <a:ext cx="3215880" cy="1036080"/>
              <a:chOff x="2497320" y="2210040"/>
              <a:chExt cx="3215880" cy="1036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497320" y="2446560"/>
                <a:ext cx="180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448800" y="2210040"/>
                <a:ext cx="2264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(x) 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94280" y="2751480"/>
                <a:ext cx="10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114360" y="2335320"/>
                <a:ext cx="1490040" cy="7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86440" y="2275200"/>
                <a:ext cx="138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365040" y="3413160"/>
            <a:ext cx="855036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ngle of twist, in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ternal torque at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und from method of sections and equation of moment equilibrium applied about shaft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lar moment of inertia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3080" indent="-97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hear modulus of elasticity for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DFDFD-4CA6-437F-83DE-D221C6415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398680" cy="2143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torque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127320" y="1752480"/>
            <a:ext cx="2433240" cy="1295640"/>
            <a:chOff x="3127320" y="1752480"/>
            <a:chExt cx="2433240" cy="1295640"/>
          </a:xfrm>
        </p:grpSpPr>
        <p:sp>
          <p:nvSpPr>
            <p:cNvPr id="217" name=""/>
            <p:cNvSpPr/>
            <p:nvPr/>
          </p:nvSpPr>
          <p:spPr>
            <a:xfrm>
              <a:off x="3429000" y="1752480"/>
              <a:ext cx="198108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27320" y="209088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99880" y="182880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373640" y="23702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276720"/>
            <a:ext cx="855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aft is subjected to several different torques, or x-sectional area or shear modulus changes suddenly from one region of the shaft to the next, then apply Eqn 5-15 to each segment before vectorially adding each segment’s angle of twi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108760" y="5105520"/>
            <a:ext cx="2661480" cy="1295280"/>
            <a:chOff x="5108760" y="5105520"/>
            <a:chExt cx="2661480" cy="1295280"/>
          </a:xfrm>
        </p:grpSpPr>
        <p:sp>
          <p:nvSpPr>
            <p:cNvPr id="223" name=""/>
            <p:cNvSpPr/>
            <p:nvPr/>
          </p:nvSpPr>
          <p:spPr>
            <a:xfrm>
              <a:off x="5486400" y="5105520"/>
              <a:ext cx="20574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541800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09560" y="518148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9640" y="5694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16800" y="5351400"/>
              <a:ext cx="15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62E2-66EE-4458-AD34-1CFB8A86A0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09680" y="2583000"/>
            <a:ext cx="5715000" cy="4046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1676520"/>
            <a:ext cx="855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ight-hand rule: torque and angle of twist are positive when thumb is directed outward from the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EAEF-D387-4133-AEB6-3882611B83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1523880"/>
            <a:ext cx="855036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and equation of moment equilibrium applied along shaft’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rque varies along shaft’s length, section made at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shaft is represen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veral constant external torques act on shaft between its ends, internal torque in each segment must be determined and shown as a torqu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A859-D695-4502-BD71-A7579257AC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4 ANGLE OF TWI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523880"/>
            <a:ext cx="855036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ircular x-sectional area varies along shaft’s axis, polar moment of inertia expressed as a function of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its axi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internal torque suddenly changes between ends of shaft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(x)G) 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applied to each segment for whi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tinuous or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sistent sign convention for internal torque and also the set of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449F-9E52-4197-9EC7-D79647BE838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-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ameter solid cast-iron post shown is buri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0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oil. Determine maximum shear stress in the post and angle of twist at its top. Assume torque about to turn the post, and soil exerts uniform torsional resistan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/mm along its 600 mm buried length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221520" y="3429000"/>
            <a:ext cx="24159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447C-5126-46E9-B72B-0786801C54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4419360" cy="31593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18680" y="2057400"/>
            <a:ext cx="779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0 N(300 mm) = 3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952F0-FAE8-4256-9314-3E2E35A003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the uniform distribution of torque along buried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from equilibrium of the entire p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910120" y="2666880"/>
            <a:ext cx="2934000" cy="3962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66920" y="3200400"/>
            <a:ext cx="15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2640" y="3962520"/>
            <a:ext cx="64339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N(300 m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00 mm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D5DC-DABF-4066-BFE9-2F7D9EC270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2680" y="1066680"/>
            <a:ext cx="8377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 is a moment that twists/deforms a member about its longitudin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observation, if angle of rotation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ngth of sh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us remain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 TORSIONAL DEFORMATION OF A CIRCULAR SH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415120" y="3200400"/>
            <a:ext cx="3271680" cy="342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29782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F50A-CD3C-44AD-ABDD-3AC14D7D3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66680"/>
            <a:ext cx="8428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from free-body diagram of a section of the post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e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6920" y="2590920"/>
            <a:ext cx="15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20080" y="3200400"/>
            <a:ext cx="30704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19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46AA-5749-45C0-B7A2-B7A9E7CA84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shear stress occurs in reg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torque largest ther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 for the post. Applying tors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803240" y="3083040"/>
            <a:ext cx="6261840" cy="1095120"/>
            <a:chOff x="1803240" y="3083040"/>
            <a:chExt cx="6261840" cy="1095120"/>
          </a:xfrm>
        </p:grpSpPr>
        <p:sp>
          <p:nvSpPr>
            <p:cNvPr id="258" name=""/>
            <p:cNvSpPr/>
            <p:nvPr/>
          </p:nvSpPr>
          <p:spPr>
            <a:xfrm>
              <a:off x="1803240" y="3359160"/>
              <a:ext cx="6261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1.22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26240" y="3083040"/>
              <a:ext cx="19044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86040" y="3635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2147-6236-4076-972F-25F378D48F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066680"/>
            <a:ext cx="842832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at the top can be determined relative to the bottom of the post, since it is fixed and yet is about to turn. Both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ist,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29240" y="3443400"/>
            <a:ext cx="5276880" cy="2057400"/>
            <a:chOff x="1929240" y="3443400"/>
            <a:chExt cx="5276880" cy="2057400"/>
          </a:xfrm>
        </p:grpSpPr>
        <p:grpSp>
          <p:nvGrpSpPr>
            <p:cNvPr id="264" name=""/>
            <p:cNvGrpSpPr/>
            <p:nvPr/>
          </p:nvGrpSpPr>
          <p:grpSpPr>
            <a:xfrm>
              <a:off x="1929240" y="3443400"/>
              <a:ext cx="5276880" cy="1172880"/>
              <a:chOff x="1929240" y="3443400"/>
              <a:chExt cx="5276880" cy="1172880"/>
            </a:xfrm>
          </p:grpSpPr>
          <p:sp>
            <p:nvSpPr>
              <p:cNvPr id="265" name=""/>
              <p:cNvSpPr/>
              <p:nvPr/>
            </p:nvSpPr>
            <p:spPr>
              <a:xfrm>
                <a:off x="1929240" y="3776760"/>
                <a:ext cx="389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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82240" y="3478320"/>
                <a:ext cx="21952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476520" y="4030560"/>
                <a:ext cx="11430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059440" y="3521160"/>
                <a:ext cx="21466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 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J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345200" y="3595680"/>
                <a:ext cx="1435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11160" y="4200480"/>
                <a:ext cx="137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81360" y="3443400"/>
                <a:ext cx="15786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562720" y="40528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rot="5400000">
              <a:off x="2602080" y="4368960"/>
              <a:ext cx="174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07160" y="4815000"/>
              <a:ext cx="363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.00147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AC0BE-DCDD-4333-BAAF-D1E50DB0B5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orsionally loaded shaft is statically indeterminate if moment equation of equilibrium, applied about axis of shaft, is not enough to determine unknown torques acting on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4876920" cy="316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8BEE-95ED-4530-A094-BD3A7C4552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0" y="2133720"/>
            <a:ext cx="27432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5181480"/>
            <a:ext cx="1523880" cy="9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reactive torques at supports A and B are unknown,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553080" y="1752480"/>
            <a:ext cx="2367000" cy="327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17120" y="2209680"/>
            <a:ext cx="397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81952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problem is statically indeterminate, formulate the condition of compatibility; end supports are fixed, thus angle of twist of both ends should sum 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15880" y="5334120"/>
            <a:ext cx="22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014E-49AE-4DB4-BC25-FF4E4657351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00200" y="2590920"/>
            <a:ext cx="35812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ar-elastic behavior, and using load-displacement relationship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compatibility equation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367000" cy="327636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1824120" y="2666880"/>
            <a:ext cx="4078440" cy="1095120"/>
            <a:chOff x="1824120" y="2666880"/>
            <a:chExt cx="4078440" cy="1095120"/>
          </a:xfrm>
        </p:grpSpPr>
        <p:sp>
          <p:nvSpPr>
            <p:cNvPr id="291" name=""/>
            <p:cNvSpPr/>
            <p:nvPr/>
          </p:nvSpPr>
          <p:spPr>
            <a:xfrm>
              <a:off x="1824120" y="2666880"/>
              <a:ext cx="15238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01240" y="2666880"/>
              <a:ext cx="20826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98600" y="2909880"/>
              <a:ext cx="36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6400" y="32144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40160" y="3214440"/>
              <a:ext cx="105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52280" y="3657600"/>
            <a:ext cx="5943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the equations simultaneously, and realizing that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08040" y="5105520"/>
            <a:ext cx="3180240" cy="1295280"/>
            <a:chOff x="608040" y="5105520"/>
            <a:chExt cx="3180240" cy="1295280"/>
          </a:xfrm>
        </p:grpSpPr>
        <p:sp>
          <p:nvSpPr>
            <p:cNvPr id="298" name=""/>
            <p:cNvSpPr/>
            <p:nvPr/>
          </p:nvSpPr>
          <p:spPr>
            <a:xfrm>
              <a:off x="990720" y="510552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608040" y="5187960"/>
              <a:ext cx="3180240" cy="1095120"/>
              <a:chOff x="608040" y="5187960"/>
              <a:chExt cx="3180240" cy="1095120"/>
            </a:xfrm>
          </p:grpSpPr>
          <p:sp>
            <p:nvSpPr>
              <p:cNvPr id="300" name=""/>
              <p:cNvSpPr/>
              <p:nvPr/>
            </p:nvSpPr>
            <p:spPr>
              <a:xfrm>
                <a:off x="608040" y="5477040"/>
                <a:ext cx="218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848960" y="518796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603080" y="5410080"/>
                <a:ext cx="218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(  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348280" y="574848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3595680" y="5181480"/>
            <a:ext cx="3107160" cy="1295640"/>
            <a:chOff x="3595680" y="5181480"/>
            <a:chExt cx="3107160" cy="1295640"/>
          </a:xfrm>
        </p:grpSpPr>
        <p:sp>
          <p:nvSpPr>
            <p:cNvPr id="305" name=""/>
            <p:cNvSpPr/>
            <p:nvPr/>
          </p:nvSpPr>
          <p:spPr>
            <a:xfrm>
              <a:off x="3962520" y="5181480"/>
              <a:ext cx="228600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595680" y="5195880"/>
              <a:ext cx="3107160" cy="1095120"/>
              <a:chOff x="3595680" y="5195880"/>
              <a:chExt cx="3107160" cy="1095120"/>
            </a:xfrm>
          </p:grpSpPr>
          <p:sp>
            <p:nvSpPr>
              <p:cNvPr id="307" name=""/>
              <p:cNvSpPr/>
              <p:nvPr/>
            </p:nvSpPr>
            <p:spPr>
              <a:xfrm>
                <a:off x="3595680" y="5486400"/>
                <a:ext cx="2184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772880" y="519588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17640" y="5410080"/>
                <a:ext cx="2185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(     )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72200" y="57625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2002-107B-4550-B6D8-39882D70298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09480" y="5076720"/>
            <a:ext cx="16765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.5 STATICALLY INDETERMINATE TORQUE-LOADED ME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quations of equilibrium about axis of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ompatibility conditions in terms of rotational displacement caused by reactive tor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rque-displacement relationship, such as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quilibrium and compatibility equations for unknown tor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0A66-6BD3-4DAD-B2EF-8AF8F47333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teel shaft shown has a diameter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it is subjected to two torques, determine reactions at fixed suppor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286000" y="2590920"/>
            <a:ext cx="45054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69C8-F04A-4ADC-AF0F-ABE94C0516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310200" cy="255132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6477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problem is statically indetermin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7640" y="2666880"/>
            <a:ext cx="152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320" y="3352680"/>
            <a:ext cx="511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0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00 N·m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962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nds of shaft are fixed, sum of angles of twist for both ends equal to zero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15880" y="5638680"/>
            <a:ext cx="2294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52A56-7218-45F5-BA04-DEE6FF572A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05880" y="3367080"/>
            <a:ext cx="303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 is expressed using the load-displacement relationship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791320" y="2666880"/>
            <a:ext cx="3233520" cy="3489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 rot="5400000">
            <a:off x="2144880" y="2668680"/>
            <a:ext cx="174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-73800" y="4129200"/>
            <a:ext cx="61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multaneously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42360" y="4952880"/>
            <a:ext cx="649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4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4CF7-F937-47FF-85D0-783827ABE3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82240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1 TORSIONAL DEFORMATION OF A CIRCULAR SHA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320" y="1066320"/>
            <a:ext cx="510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inition, shear strai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8288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438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510440" y="1038240"/>
            <a:ext cx="3710160" cy="1103040"/>
            <a:chOff x="4510440" y="1038240"/>
            <a:chExt cx="3710160" cy="1103040"/>
          </a:xfrm>
        </p:grpSpPr>
        <p:sp>
          <p:nvSpPr>
            <p:cNvPr id="59" name=""/>
            <p:cNvSpPr/>
            <p:nvPr/>
          </p:nvSpPr>
          <p:spPr>
            <a:xfrm>
              <a:off x="4510440" y="1038240"/>
              <a:ext cx="36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2)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lim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32320" y="1442880"/>
              <a:ext cx="19882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 along 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imes New Roman"/>
                </a:rPr>
                <a:t>A along 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193760" y="3019320"/>
            <a:ext cx="2633400" cy="1036080"/>
            <a:chOff x="1193760" y="3019320"/>
            <a:chExt cx="2633400" cy="1036080"/>
          </a:xfrm>
        </p:grpSpPr>
        <p:sp>
          <p:nvSpPr>
            <p:cNvPr id="62" name=""/>
            <p:cNvSpPr/>
            <p:nvPr/>
          </p:nvSpPr>
          <p:spPr>
            <a:xfrm>
              <a:off x="1193760" y="3305160"/>
              <a:ext cx="21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16880" y="3019320"/>
              <a:ext cx="1610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66960" y="3581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70000" y="4403880"/>
            <a:ext cx="493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447640" y="5105520"/>
            <a:ext cx="3682080" cy="1218960"/>
            <a:chOff x="2447640" y="5105520"/>
            <a:chExt cx="3682080" cy="1218960"/>
          </a:xfrm>
        </p:grpSpPr>
        <p:sp>
          <p:nvSpPr>
            <p:cNvPr id="67" name=""/>
            <p:cNvSpPr/>
            <p:nvPr/>
          </p:nvSpPr>
          <p:spPr>
            <a:xfrm>
              <a:off x="3048120" y="5105520"/>
              <a:ext cx="25146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2447640" y="5140440"/>
              <a:ext cx="3682080" cy="1036080"/>
              <a:chOff x="2447640" y="5140440"/>
              <a:chExt cx="3682080" cy="1036080"/>
            </a:xfrm>
          </p:grpSpPr>
          <p:sp>
            <p:nvSpPr>
              <p:cNvPr id="69" name=""/>
              <p:cNvSpPr/>
              <p:nvPr/>
            </p:nvSpPr>
            <p:spPr>
              <a:xfrm>
                <a:off x="2447640" y="5445000"/>
                <a:ext cx="3682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54640" y="5140440"/>
                <a:ext cx="14428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48280" y="573084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292920" y="5292720"/>
                <a:ext cx="19580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(  )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388080" y="563868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5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6E27-B7CF-4761-8FF4-C143C31A6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3962520" cy="330192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6 SOLID NONCIRCULAR SH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fts with noncircular x-section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axi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such, their x-sections w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l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r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it is twis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analysis is complicated and thus is not considered for this tex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85632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4A49-0148-4C1E-A553-0DE4D88F5A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6 SOLID NONCIRCULAR SH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414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analysis for square, triangular and elliptical x-sections are shown in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915080" y="1219320"/>
            <a:ext cx="3997080" cy="53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A1C5-FA63-4FB5-9D85-E1943784AB4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61-T6 aluminum shaft shown has x-sectional area in the shape of equilateral triangle. Determine largest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be applied to end of shaft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6 MPa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2 ra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 G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torque can be applied to a shaft of circular x-section made from same amount of mater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200400" y="3886200"/>
            <a:ext cx="3276720" cy="28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EB84-6AAB-4288-A204-6E1C02FB9E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resultant internal torque at any x-section along shaft’s axis is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formulas from Table 5-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080" y="2575080"/>
            <a:ext cx="663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79.2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20" y="3214800"/>
            <a:ext cx="7553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4.12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-75240" y="4038480"/>
            <a:ext cx="966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mparison, torque is limited due to angle of tw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C0219-65D4-4BB1-9A4B-72F917931B2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3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ircular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calculate radius of the x-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60" y="2063880"/>
            <a:ext cx="667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ria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4.85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27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ations of stress and angle of twist re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-355320" y="3352680"/>
            <a:ext cx="681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88.06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920" y="4038480"/>
            <a:ext cx="663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3.1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473868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, torque is limited by angle of tw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both results, we can see that a shaft of circular x-section can suppor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torque than a triangula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6011-4629-42E3-A5A2-AC8A2A2712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lid shaft, shear stress varies from zero at shaft’s longitudinal axis to maximum value at its outer su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proportionality of triangles, or using Hooke’s law and Eqn 5-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08680" y="2971800"/>
            <a:ext cx="3056040" cy="358128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452600" y="3159000"/>
            <a:ext cx="3735360" cy="1036080"/>
            <a:chOff x="1452600" y="3159000"/>
            <a:chExt cx="3735360" cy="1036080"/>
          </a:xfrm>
        </p:grpSpPr>
        <p:sp>
          <p:nvSpPr>
            <p:cNvPr id="78" name=""/>
            <p:cNvSpPr/>
            <p:nvPr/>
          </p:nvSpPr>
          <p:spPr>
            <a:xfrm>
              <a:off x="1452600" y="3463920"/>
              <a:ext cx="3735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31880" y="3159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25520" y="374940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70520" y="3311280"/>
              <a:ext cx="1958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5400000">
            <a:off x="2458080" y="4224600"/>
            <a:ext cx="15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11200" y="4530600"/>
            <a:ext cx="4218840" cy="1095120"/>
            <a:chOff x="1411200" y="4530600"/>
            <a:chExt cx="4218840" cy="1095120"/>
          </a:xfrm>
        </p:grpSpPr>
        <p:sp>
          <p:nvSpPr>
            <p:cNvPr id="84" name=""/>
            <p:cNvSpPr/>
            <p:nvPr/>
          </p:nvSpPr>
          <p:spPr>
            <a:xfrm>
              <a:off x="1411200" y="4835520"/>
              <a:ext cx="269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0240" y="4530600"/>
              <a:ext cx="18453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14720" y="5121360"/>
              <a:ext cx="25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25240" y="4724280"/>
              <a:ext cx="2404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0F9D-D30D-4BE2-8A54-4C72935275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758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in the equation can be represented as the polar moment of inert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shaft’s x-sectional area computed about its longitudin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702160" y="2502000"/>
            <a:ext cx="2588760" cy="1155600"/>
            <a:chOff x="2702160" y="2502000"/>
            <a:chExt cx="2588760" cy="1155600"/>
          </a:xfrm>
        </p:grpSpPr>
        <p:sp>
          <p:nvSpPr>
            <p:cNvPr id="91" name=""/>
            <p:cNvSpPr/>
            <p:nvPr/>
          </p:nvSpPr>
          <p:spPr>
            <a:xfrm>
              <a:off x="2971800" y="2514600"/>
              <a:ext cx="22096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2160" y="2757600"/>
              <a:ext cx="2096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88200" y="2502000"/>
              <a:ext cx="1602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34040" y="302904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80880" y="3657600"/>
            <a:ext cx="8534520" cy="29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. shear stress in shaft, at the outer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torque acting at x-section, from method of sections &amp; equation of moment equilibrium applied about longitudin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 moment of inertia at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radius pf the shaf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8A1C-F650-4EF5-B667-05C78EA38D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7320" y="1142640"/>
            <a:ext cx="8758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t intermediate distance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25880" y="1600200"/>
            <a:ext cx="2184120" cy="1036080"/>
            <a:chOff x="3125880" y="1600200"/>
            <a:chExt cx="2184120" cy="1036080"/>
          </a:xfrm>
        </p:grpSpPr>
        <p:sp>
          <p:nvSpPr>
            <p:cNvPr id="99" name=""/>
            <p:cNvSpPr/>
            <p:nvPr/>
          </p:nvSpPr>
          <p:spPr>
            <a:xfrm>
              <a:off x="3429000" y="1619280"/>
              <a:ext cx="1752480" cy="990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5880" y="1847880"/>
              <a:ext cx="1702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69120" y="1600200"/>
              <a:ext cx="1640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34040" y="21337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0880" y="2590920"/>
            <a:ext cx="8534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ove two equations are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rsion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ly if shaft is circular, its material homogenous, and it behaves in an linear-elastic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9812-78C1-46DB-8C5E-A372BD0532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986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olid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using area element in the form of a differential ring or annulus having thicknes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ircumfere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ring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 = 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321360" y="3429000"/>
            <a:ext cx="2484000" cy="1038240"/>
            <a:chOff x="3321360" y="3429000"/>
            <a:chExt cx="2484000" cy="1038240"/>
          </a:xfrm>
        </p:grpSpPr>
        <p:sp>
          <p:nvSpPr>
            <p:cNvPr id="107" name=""/>
            <p:cNvSpPr/>
            <p:nvPr/>
          </p:nvSpPr>
          <p:spPr>
            <a:xfrm>
              <a:off x="3657600" y="3476520"/>
              <a:ext cx="1752480" cy="990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321360" y="3705120"/>
              <a:ext cx="248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19680" y="3429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86320" y="39621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495680"/>
            <a:ext cx="839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geometric property of the circular area and is always positive. Common units used for its measurement 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958080" y="2743200"/>
            <a:ext cx="171612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6FDD-B2BE-4DFD-A829-AD25220D95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2 THE TORSION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8986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ubula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929320" y="1295280"/>
            <a:ext cx="3490200" cy="1066680"/>
            <a:chOff x="2929320" y="1295280"/>
            <a:chExt cx="3490200" cy="1066680"/>
          </a:xfrm>
        </p:grpSpPr>
        <p:sp>
          <p:nvSpPr>
            <p:cNvPr id="116" name=""/>
            <p:cNvSpPr/>
            <p:nvPr/>
          </p:nvSpPr>
          <p:spPr>
            <a:xfrm>
              <a:off x="2971800" y="1295280"/>
              <a:ext cx="31240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29320" y="1566720"/>
              <a:ext cx="349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62480" y="129528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9120" y="18288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815328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50B9-5714-4DC3-BBC7-AF0A0B590B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16:58:38Z</dcterms:modified>
  <cp:revision>377</cp:revision>
  <dc:subject/>
  <dc:title>Chapter 1</dc:title>
</cp:coreProperties>
</file>