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D96E-E4ED-4F12-9185-4EA79B4F9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1014-0C59-4DF1-BCC5-71E4AC9D1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CF5B-CF3B-4E14-BD7D-7119A965D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4D69-ACD9-4EFE-A76C-AD94EE74B8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7ACF-7797-4C10-A5D2-B2776551E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A0DA-D697-439A-88D7-C346EB9FF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3BE6-C8F6-4D68-9B56-B3608745A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DD89-A62A-4255-AA49-5B45B7A8E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CD08-1755-40CF-A133-F687CCC78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0101-D571-4718-B5F5-03A858A7A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569D-8F1E-40F2-8B94-16850871A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0D0C-2BDA-4716-A755-CADC945A8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92EF-56FF-4BED-A64E-5E1C109B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To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609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effects of applying torsional loading to a long straight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tress distribution within the member under torsional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581280"/>
            <a:ext cx="86868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ngle of twist when material behaves in a linear-elastic and inelastic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statically indeterminate analysis of shafts and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stress distributions and residual stress caused by torsional lo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9969-26D1-42EE-8002-21EDD88BAC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6960" y="1142640"/>
            <a:ext cx="898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bsolute maximum torsion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nd location where rati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/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torque diagram (internal torqu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sha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Conven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ositive, by right-hand rule, is directed outward from the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internal torque throughout shaft is determined, maximum ratio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/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A4FE-957E-401F-8B5D-3C2A461016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00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shaft perpendicular to its axis at point where shear stress is to be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ree-body diagram and equations of equilibrium to obtain internal torque at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tion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polar moment of inertia and x-section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lid sec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7765-5210-4133-9F71-AA97178F2F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77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radial distanc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asured from centre of x-section to point where shear stress is to be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orsion formula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acts on x-section in direction that is always perpendicular to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08F4-CB07-44B7-8645-A914A95D85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82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ft shown supported by two bearings and subjected to three tor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hear stress developed at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cated at s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ha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6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3657600" cy="28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0D42-7C86-48FC-B219-AF29ED7D90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3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00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ing reactions on sha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f shaft weight assumed to be negligible. Applied torques satisfy moment equilibrium about shaft’s 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torque at s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d from free-body diagram of left seg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3657600"/>
            <a:ext cx="3200400" cy="24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1342-F8CE-4A4E-A49E-6BB3A8548B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3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0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234360" y="1584360"/>
            <a:ext cx="26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5280" y="1585800"/>
            <a:ext cx="6412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50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000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250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8960" y="2666880"/>
            <a:ext cx="830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tio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69520" y="3290760"/>
            <a:ext cx="61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(75 m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97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3760" y="5029200"/>
            <a:ext cx="491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1.89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82EE-701F-4321-82DB-B1FAD746DE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3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 for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63400" y="2209680"/>
            <a:ext cx="523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0.377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276720"/>
            <a:ext cx="4190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 of the stresses on elem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ablished from direction of resultant internal torq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257720" cy="31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1AEA-9995-4D2E-8341-234BDCB13C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as work performed per unit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aneous power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shaft’s angular velocit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can also express power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7596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 POWER TRANSMI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270680" y="1752480"/>
            <a:ext cx="3103560" cy="761760"/>
            <a:chOff x="4270680" y="1752480"/>
            <a:chExt cx="3103560" cy="761760"/>
          </a:xfrm>
        </p:grpSpPr>
        <p:sp>
          <p:nvSpPr>
            <p:cNvPr id="150" name=""/>
            <p:cNvSpPr/>
            <p:nvPr/>
          </p:nvSpPr>
          <p:spPr>
            <a:xfrm>
              <a:off x="4648320" y="1752480"/>
              <a:ext cx="2286000" cy="76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70680" y="1828440"/>
              <a:ext cx="310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270320" y="3124080"/>
            <a:ext cx="2282400" cy="762120"/>
            <a:chOff x="4270320" y="3124080"/>
            <a:chExt cx="2282400" cy="762120"/>
          </a:xfrm>
        </p:grpSpPr>
        <p:sp>
          <p:nvSpPr>
            <p:cNvPr id="153" name=""/>
            <p:cNvSpPr/>
            <p:nvPr/>
          </p:nvSpPr>
          <p:spPr>
            <a:xfrm>
              <a:off x="4648320" y="3124080"/>
              <a:ext cx="167616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70320" y="3200400"/>
              <a:ext cx="22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04920" y="3886200"/>
            <a:ext cx="8305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equenc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shaft’s rotation is often reported. It measures the number of cycles per second and since 1 cycle = 2 radians, and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269960" y="5410080"/>
            <a:ext cx="2599560" cy="762120"/>
            <a:chOff x="4269960" y="5410080"/>
            <a:chExt cx="2599560" cy="762120"/>
          </a:xfrm>
        </p:grpSpPr>
        <p:sp>
          <p:nvSpPr>
            <p:cNvPr id="157" name=""/>
            <p:cNvSpPr/>
            <p:nvPr/>
          </p:nvSpPr>
          <p:spPr>
            <a:xfrm>
              <a:off x="4648320" y="5410080"/>
              <a:ext cx="167652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9960" y="5486400"/>
              <a:ext cx="259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804320" y="556272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5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2025-BAE7-4DF2-A52F-86B2C49FBA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aft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wer transmitted by shaft and its frequency of rotation is known, torque is determined from Eqn 5-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llowable shear stress for material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pplying torsion formul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7596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 POWER TRANSMI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881440" y="4038480"/>
            <a:ext cx="2525400" cy="1447920"/>
            <a:chOff x="2881440" y="4038480"/>
            <a:chExt cx="2525400" cy="1447920"/>
          </a:xfrm>
        </p:grpSpPr>
        <p:sp>
          <p:nvSpPr>
            <p:cNvPr id="163" name=""/>
            <p:cNvSpPr/>
            <p:nvPr/>
          </p:nvSpPr>
          <p:spPr>
            <a:xfrm>
              <a:off x="3048120" y="4038480"/>
              <a:ext cx="2133360" cy="1447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881440" y="4191120"/>
              <a:ext cx="2525400" cy="1120680"/>
              <a:chOff x="2881440" y="4191120"/>
              <a:chExt cx="2525400" cy="1120680"/>
            </a:xfrm>
          </p:grpSpPr>
          <p:sp>
            <p:nvSpPr>
              <p:cNvPr id="165" name=""/>
              <p:cNvSpPr/>
              <p:nvPr/>
            </p:nvSpPr>
            <p:spPr>
              <a:xfrm>
                <a:off x="2881440" y="4191120"/>
                <a:ext cx="140472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44920" y="4216680"/>
                <a:ext cx="186192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llo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06880" y="447696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52680" y="47340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14800" y="4734000"/>
                <a:ext cx="80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01E3-9DF8-44BA-95FC-E6AD06E945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aft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lid shaft, substit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ular shaft, substit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96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 POWER TRANSMI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26B7-73F6-4A07-84E0-CA2B1E2474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al Deformation of a Circular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rsion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Tw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ally Indeterminate Torque-Loade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Solid Noncircular 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Thin-Walled Tubes Having Closed Cross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Concen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Inelastic To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Residu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3114-DC55-47ED-9D71-2ED46E65EF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teel shaft shown used to transm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50 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ttached mo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haft rotates a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75 rp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tee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0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quired diameter of shaft to nearest m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0" y="3581280"/>
            <a:ext cx="4121280" cy="28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5BB4-AF1C-4042-ACBD-F38B452406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4160" y="1066680"/>
            <a:ext cx="8889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que on shaft determined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75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0120" y="3124080"/>
            <a:ext cx="843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4.6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19360" y="2016000"/>
            <a:ext cx="6510240" cy="1112400"/>
            <a:chOff x="1719360" y="2016000"/>
            <a:chExt cx="6510240" cy="1112400"/>
          </a:xfrm>
        </p:grpSpPr>
        <p:sp>
          <p:nvSpPr>
            <p:cNvPr id="179" name=""/>
            <p:cNvSpPr/>
            <p:nvPr/>
          </p:nvSpPr>
          <p:spPr>
            <a:xfrm>
              <a:off x="4261680" y="2124000"/>
              <a:ext cx="249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(   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19360" y="2333520"/>
              <a:ext cx="6510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397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8.33 rad/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64800" y="2092320"/>
              <a:ext cx="23252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5 re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1200" y="2057400"/>
              <a:ext cx="2163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r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 re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65440" y="2016000"/>
              <a:ext cx="20678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 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 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99800" y="2133360"/>
              <a:ext cx="266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(    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4600" y="26193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33920" y="25956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2590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454480" y="3581280"/>
            <a:ext cx="3643200" cy="1095120"/>
            <a:chOff x="2454480" y="3581280"/>
            <a:chExt cx="3643200" cy="1095120"/>
          </a:xfrm>
        </p:grpSpPr>
        <p:sp>
          <p:nvSpPr>
            <p:cNvPr id="189" name=""/>
            <p:cNvSpPr/>
            <p:nvPr/>
          </p:nvSpPr>
          <p:spPr>
            <a:xfrm>
              <a:off x="3395880" y="3885840"/>
              <a:ext cx="2547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397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454480" y="3628800"/>
              <a:ext cx="1404720" cy="1036080"/>
              <a:chOff x="2454480" y="3628800"/>
              <a:chExt cx="1404720" cy="1036080"/>
            </a:xfrm>
          </p:grpSpPr>
          <p:sp>
            <p:nvSpPr>
              <p:cNvPr id="191" name=""/>
              <p:cNvSpPr/>
              <p:nvPr/>
            </p:nvSpPr>
            <p:spPr>
              <a:xfrm>
                <a:off x="2454480" y="3628800"/>
                <a:ext cx="140472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71800" y="4155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252240" y="3622320"/>
              <a:ext cx="1792080" cy="1036080"/>
              <a:chOff x="3252240" y="3622320"/>
              <a:chExt cx="1792080" cy="1036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252240" y="3622320"/>
                <a:ext cx="17920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67400" y="4160520"/>
                <a:ext cx="73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235760" y="3581280"/>
              <a:ext cx="1861920" cy="1095120"/>
              <a:chOff x="4235760" y="3581280"/>
              <a:chExt cx="1861920" cy="1095120"/>
            </a:xfrm>
          </p:grpSpPr>
          <p:sp>
            <p:nvSpPr>
              <p:cNvPr id="197" name=""/>
              <p:cNvSpPr/>
              <p:nvPr/>
            </p:nvSpPr>
            <p:spPr>
              <a:xfrm>
                <a:off x="4235760" y="3581280"/>
                <a:ext cx="186192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llo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16440" y="4155840"/>
                <a:ext cx="82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 rot="5400000">
            <a:off x="3882960" y="4573800"/>
            <a:ext cx="17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60120" y="502920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.9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55627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1.84 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lect shaft with diamete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2501-D97E-4A53-A2E3-74E9F824A6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4 ANGLE OF TW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8758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gle of tw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mportant when analyzing reactions on statically indeterminate 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497320" y="2133720"/>
            <a:ext cx="3215880" cy="1295280"/>
            <a:chOff x="2497320" y="2133720"/>
            <a:chExt cx="3215880" cy="1295280"/>
          </a:xfrm>
        </p:grpSpPr>
        <p:sp>
          <p:nvSpPr>
            <p:cNvPr id="205" name=""/>
            <p:cNvSpPr/>
            <p:nvPr/>
          </p:nvSpPr>
          <p:spPr>
            <a:xfrm>
              <a:off x="2819520" y="2133720"/>
              <a:ext cx="27432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497320" y="2210040"/>
              <a:ext cx="3215880" cy="1036080"/>
              <a:chOff x="2497320" y="2210040"/>
              <a:chExt cx="3215880" cy="1036080"/>
            </a:xfrm>
          </p:grpSpPr>
          <p:sp>
            <p:nvSpPr>
              <p:cNvPr id="207" name=""/>
              <p:cNvSpPr/>
              <p:nvPr/>
            </p:nvSpPr>
            <p:spPr>
              <a:xfrm>
                <a:off x="2497320" y="2446560"/>
                <a:ext cx="180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48800" y="2210040"/>
                <a:ext cx="226440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(x) d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(x) 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94280" y="2751480"/>
                <a:ext cx="10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14360" y="2335320"/>
                <a:ext cx="14900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∫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86440" y="2275200"/>
                <a:ext cx="138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365040" y="3413160"/>
            <a:ext cx="855036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3080" indent="-97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ngle of twist, in ra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3080" indent="-97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nternal torque at arbitrary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und from method of sections and equation of moment equilibrium applied about shaft’s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3080" indent="-97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lar moment of inertia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3080" indent="-97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hear modulus of elasticity for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9469-4BDB-4D1A-B653-CB9DF21A7E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398680" cy="2143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4 ANGLE OF TW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ant torque and x-section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127320" y="1752480"/>
            <a:ext cx="2433240" cy="1295640"/>
            <a:chOff x="3127320" y="1752480"/>
            <a:chExt cx="2433240" cy="1295640"/>
          </a:xfrm>
        </p:grpSpPr>
        <p:sp>
          <p:nvSpPr>
            <p:cNvPr id="217" name=""/>
            <p:cNvSpPr/>
            <p:nvPr/>
          </p:nvSpPr>
          <p:spPr>
            <a:xfrm>
              <a:off x="3429000" y="1752480"/>
              <a:ext cx="1981080" cy="129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27320" y="2090880"/>
              <a:ext cx="180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99880" y="1828800"/>
              <a:ext cx="16606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73640" y="237024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276720"/>
            <a:ext cx="855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haft is subjected to several different torques, or x-sectional area or shear modulus changes suddenly from one region of the shaft to the next, then apply Eqn 5-15 to each segment before vectorially adding each segment’s angle of twi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108760" y="5105520"/>
            <a:ext cx="2661480" cy="1295280"/>
            <a:chOff x="5108760" y="5105520"/>
            <a:chExt cx="2661480" cy="1295280"/>
          </a:xfrm>
        </p:grpSpPr>
        <p:sp>
          <p:nvSpPr>
            <p:cNvPr id="223" name=""/>
            <p:cNvSpPr/>
            <p:nvPr/>
          </p:nvSpPr>
          <p:spPr>
            <a:xfrm>
              <a:off x="5486400" y="5105520"/>
              <a:ext cx="20574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5418000"/>
              <a:ext cx="180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9560" y="5181480"/>
              <a:ext cx="16606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59640" y="56944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6800" y="5351400"/>
              <a:ext cx="15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3DCC-288A-4DB3-96EE-091D26555F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09680" y="2583000"/>
            <a:ext cx="5715000" cy="40464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4 ANGLE OF TW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ign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67652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ight-hand rule: torque and angle of twist are positive when thumb is directed outward from the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36F5-94A0-49BD-AE5A-6D1F0BEE06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4 ANGLE OF TW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758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1523880"/>
            <a:ext cx="855036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ethod of sections and equation of moment equilibrium applied along shaft’s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orque varies along shaft’s length, section made at arbitrary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shaft is represen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veral constant external torques act on shaft between its ends, internal torque in each segment must be determined and shown as a torqu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9A57-CFE3-4331-81B4-9C73F378A2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4 ANGLE OF TW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758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523880"/>
            <a:ext cx="855036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gle of t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ircular x-sectional area varies along shaft’s axis, polar moment of inertia expressed as a function of its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its axi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internal torque suddenly changes between ends of shaft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∫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(x)G) d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applied to each segment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tinuous or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nsistent sign convention for internal torque and also the set of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8C43-5EEB-4A16-B712-778AE4F75D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-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iameter solid cast-iron post shown is buri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oil. Determine maximum shear stress in the post and angle of twist at its top. Assume torque about to turn the post, and soil exerts uniform torsional resistanc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/mm along its 600 mm buried length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221520" y="3429000"/>
            <a:ext cx="24159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0806-36F8-4639-ABAB-4BEEF58970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ree-bod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4419360" cy="3159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18680" y="2057400"/>
            <a:ext cx="779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0 N(300 mm) = 3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16DA-4D37-46B0-BF4B-11F98D2030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66680"/>
            <a:ext cx="842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of the uniform distribution of torque along buried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termined from equilibrium of the entire p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910120" y="2666880"/>
            <a:ext cx="2934000" cy="3962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66920" y="3200400"/>
            <a:ext cx="15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2640" y="3962520"/>
            <a:ext cx="6433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N(300 m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00 mm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9C42-E0C4-4126-B6B0-B6E05AC7A3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2680" y="1066680"/>
            <a:ext cx="8377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 is a moment that twists/deforms a member about its longitudin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observation, if angle of rota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ngth of sha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us remain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 TORSIONAL DEFORMATION OF A CIRCULAR SHA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5120" y="3200400"/>
            <a:ext cx="32716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297828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FE7E-18A1-454C-92AD-0C2A251F29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66680"/>
            <a:ext cx="84283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, from free-body diagram of a section of the post located at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reg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6920" y="2590920"/>
            <a:ext cx="15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20080" y="3200400"/>
            <a:ext cx="307044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19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00D3-46A9-4F00-93AF-83505176A3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066680"/>
            <a:ext cx="842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shear stress occurs in reg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ince torque largest there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 for the post. Applying torsion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803240" y="3083040"/>
            <a:ext cx="6261840" cy="1095120"/>
            <a:chOff x="1803240" y="3083040"/>
            <a:chExt cx="6261840" cy="1095120"/>
          </a:xfrm>
        </p:grpSpPr>
        <p:sp>
          <p:nvSpPr>
            <p:cNvPr id="258" name=""/>
            <p:cNvSpPr/>
            <p:nvPr/>
          </p:nvSpPr>
          <p:spPr>
            <a:xfrm>
              <a:off x="1803240" y="3359160"/>
              <a:ext cx="6261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... = 1.22 N/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26240" y="3083040"/>
              <a:ext cx="19044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86040" y="3635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98D3-74A5-4815-8034-4FA7E6CC15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066680"/>
            <a:ext cx="842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gle of t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twist at the top can be determined relative to the bottom of the post, since it is fixed and yet is about to turn. Both segm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wist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929240" y="3443400"/>
            <a:ext cx="5276880" cy="2057400"/>
            <a:chOff x="1929240" y="3443400"/>
            <a:chExt cx="5276880" cy="2057400"/>
          </a:xfrm>
        </p:grpSpPr>
        <p:grpSp>
          <p:nvGrpSpPr>
            <p:cNvPr id="264" name=""/>
            <p:cNvGrpSpPr/>
            <p:nvPr/>
          </p:nvGrpSpPr>
          <p:grpSpPr>
            <a:xfrm>
              <a:off x="1929240" y="3443400"/>
              <a:ext cx="5276880" cy="1172880"/>
              <a:chOff x="1929240" y="3443400"/>
              <a:chExt cx="5276880" cy="1172880"/>
            </a:xfrm>
          </p:grpSpPr>
          <p:sp>
            <p:nvSpPr>
              <p:cNvPr id="265" name=""/>
              <p:cNvSpPr/>
              <p:nvPr/>
            </p:nvSpPr>
            <p:spPr>
              <a:xfrm>
                <a:off x="1929240" y="3776760"/>
                <a:ext cx="389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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82240" y="3478320"/>
                <a:ext cx="21952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B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3476520" y="4030560"/>
                <a:ext cx="114300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59440" y="3521160"/>
                <a:ext cx="21466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C 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45200" y="3595680"/>
                <a:ext cx="1435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∫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11160" y="4200480"/>
                <a:ext cx="137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81360" y="3443400"/>
                <a:ext cx="15786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62720" y="4052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rot="5400000">
              <a:off x="2602080" y="4368960"/>
              <a:ext cx="17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07160" y="4815000"/>
              <a:ext cx="3634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.00147 r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657D-1338-47CF-9C01-D1F09B3747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5 STATICALLY INDETERMINATE TORQUE-LOADED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sionally loaded shaft is statically indeterminate if moment equation of equilibrium, applied about axis of shaft, is not enough to determine unknown torques acting on the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4876920" cy="316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048A-4DFB-4519-9FBD-144A8CA295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86000" y="2133720"/>
            <a:ext cx="27432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5181480"/>
            <a:ext cx="1523880" cy="9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5 STATICALLY INDETERMINATE TORQUE-LOADED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ree-body diagram, reactive torques at supports A and B are unknown, Th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553080" y="1752480"/>
            <a:ext cx="2367000" cy="327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17120" y="2209680"/>
            <a:ext cx="397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2819520"/>
            <a:ext cx="624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problem is statically indeterminate, formulate the condition of compatibility; end supports are fixed, thus angle of twist of both ends should sum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15880" y="5334120"/>
            <a:ext cx="22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8691-A1AA-47F2-8AB8-356D394F6F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00200" y="2590920"/>
            <a:ext cx="358128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5 STATICALLY INDETERMINATE TORQUE-LOADED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875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linear-elastic behavior, and using load-displacement relationship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us compatibility equation can be writte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553080" y="2590920"/>
            <a:ext cx="2367000" cy="327636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1824120" y="2666880"/>
            <a:ext cx="4078440" cy="1095120"/>
            <a:chOff x="1824120" y="2666880"/>
            <a:chExt cx="4078440" cy="1095120"/>
          </a:xfrm>
        </p:grpSpPr>
        <p:sp>
          <p:nvSpPr>
            <p:cNvPr id="291" name=""/>
            <p:cNvSpPr/>
            <p:nvPr/>
          </p:nvSpPr>
          <p:spPr>
            <a:xfrm>
              <a:off x="1824120" y="2666880"/>
              <a:ext cx="15238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01240" y="2666880"/>
              <a:ext cx="2082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98600" y="2909880"/>
              <a:ext cx="36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76400" y="3214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40160" y="3214440"/>
              <a:ext cx="105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52280" y="3657600"/>
            <a:ext cx="5943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465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the equations simultaneously, and realizing that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08040" y="5105520"/>
            <a:ext cx="3180240" cy="1295280"/>
            <a:chOff x="608040" y="5105520"/>
            <a:chExt cx="3180240" cy="1295280"/>
          </a:xfrm>
        </p:grpSpPr>
        <p:sp>
          <p:nvSpPr>
            <p:cNvPr id="298" name=""/>
            <p:cNvSpPr/>
            <p:nvPr/>
          </p:nvSpPr>
          <p:spPr>
            <a:xfrm>
              <a:off x="990720" y="5105520"/>
              <a:ext cx="22860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08040" y="5187960"/>
              <a:ext cx="3180240" cy="1095120"/>
              <a:chOff x="608040" y="5187960"/>
              <a:chExt cx="3180240" cy="1095120"/>
            </a:xfrm>
          </p:grpSpPr>
          <p:sp>
            <p:nvSpPr>
              <p:cNvPr id="300" name=""/>
              <p:cNvSpPr/>
              <p:nvPr/>
            </p:nvSpPr>
            <p:spPr>
              <a:xfrm>
                <a:off x="608040" y="5477040"/>
                <a:ext cx="218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 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848960" y="5187960"/>
                <a:ext cx="17078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603080" y="5410080"/>
                <a:ext cx="218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(     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348280" y="57484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3595680" y="5181480"/>
            <a:ext cx="3107160" cy="1295640"/>
            <a:chOff x="3595680" y="5181480"/>
            <a:chExt cx="3107160" cy="1295640"/>
          </a:xfrm>
        </p:grpSpPr>
        <p:sp>
          <p:nvSpPr>
            <p:cNvPr id="305" name=""/>
            <p:cNvSpPr/>
            <p:nvPr/>
          </p:nvSpPr>
          <p:spPr>
            <a:xfrm>
              <a:off x="3962520" y="5181480"/>
              <a:ext cx="2286000" cy="129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595680" y="5195880"/>
              <a:ext cx="3107160" cy="1095120"/>
              <a:chOff x="3595680" y="5195880"/>
              <a:chExt cx="3107160" cy="1095120"/>
            </a:xfrm>
          </p:grpSpPr>
          <p:sp>
            <p:nvSpPr>
              <p:cNvPr id="307" name=""/>
              <p:cNvSpPr/>
              <p:nvPr/>
            </p:nvSpPr>
            <p:spPr>
              <a:xfrm>
                <a:off x="3595680" y="5486400"/>
                <a:ext cx="218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 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72880" y="5195880"/>
                <a:ext cx="17078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17640" y="5410080"/>
                <a:ext cx="218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(     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72200" y="57625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DF29-0B76-4C83-BDE3-7E0E0BCD9C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09480" y="5076720"/>
            <a:ext cx="16765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5 STATICALLY INDETERMINATE TORQUE-LOADED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8453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ree-bod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equations of equilibrium about axis of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compatibility conditions in terms of rotational displacement caused by reactive tor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rque-displacement relationship, such a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equilibrium and compatibility equations for unknown tor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808F-9668-4FF4-9BF7-40D5F32BE4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teel shaft shown has a diameter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f it is subjected to two torques, determine reactions at fixed suppor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5054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4D80-735B-479C-A49F-7C02ED2994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310200" cy="25513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6477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ree-body diagram, problem is statically indetermin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7640" y="2666880"/>
            <a:ext cx="152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320" y="3352680"/>
            <a:ext cx="511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0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00 N·m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39625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ends of shaft are fixed, sum of angles of twist for both ends equal to zero. He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15880" y="5638680"/>
            <a:ext cx="22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BE8D-C033-4483-B1B8-416DBB7A32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05880" y="3367080"/>
            <a:ext cx="303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 is expressed using the load-displacement relationship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3233520" cy="3489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 rot="5400000">
            <a:off x="2144880" y="2668680"/>
            <a:ext cx="17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-73800" y="4129200"/>
            <a:ext cx="61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multaneously,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2360" y="4952880"/>
            <a:ext cx="649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5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45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53A2-AE53-4621-85F8-FCA933EE5C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8224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 TORSIONAL DEFORMATION OF A CIRCULAR SHA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320" y="1066320"/>
            <a:ext cx="510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efinition, shear strai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8288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24382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10440" y="1038240"/>
            <a:ext cx="3710160" cy="1103040"/>
            <a:chOff x="4510440" y="1038240"/>
            <a:chExt cx="3710160" cy="1103040"/>
          </a:xfrm>
        </p:grpSpPr>
        <p:sp>
          <p:nvSpPr>
            <p:cNvPr id="59" name=""/>
            <p:cNvSpPr/>
            <p:nvPr/>
          </p:nvSpPr>
          <p:spPr>
            <a:xfrm>
              <a:off x="4510440" y="1038240"/>
              <a:ext cx="36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2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lim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32320" y="1442880"/>
              <a:ext cx="1988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A along 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A along 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193760" y="3019320"/>
            <a:ext cx="2633400" cy="1036080"/>
            <a:chOff x="1193760" y="3019320"/>
            <a:chExt cx="2633400" cy="1036080"/>
          </a:xfrm>
        </p:grpSpPr>
        <p:sp>
          <p:nvSpPr>
            <p:cNvPr id="62" name=""/>
            <p:cNvSpPr/>
            <p:nvPr/>
          </p:nvSpPr>
          <p:spPr>
            <a:xfrm>
              <a:off x="1193760" y="3305160"/>
              <a:ext cx="211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16880" y="3019320"/>
              <a:ext cx="16102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6960" y="3581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70000" y="4403880"/>
            <a:ext cx="493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447640" y="5105520"/>
            <a:ext cx="3682080" cy="1218960"/>
            <a:chOff x="2447640" y="5105520"/>
            <a:chExt cx="3682080" cy="1218960"/>
          </a:xfrm>
        </p:grpSpPr>
        <p:sp>
          <p:nvSpPr>
            <p:cNvPr id="67" name=""/>
            <p:cNvSpPr/>
            <p:nvPr/>
          </p:nvSpPr>
          <p:spPr>
            <a:xfrm>
              <a:off x="3048120" y="5105520"/>
              <a:ext cx="251460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447640" y="5140440"/>
              <a:ext cx="3682080" cy="1036080"/>
              <a:chOff x="2447640" y="5140440"/>
              <a:chExt cx="3682080" cy="1036080"/>
            </a:xfrm>
          </p:grpSpPr>
          <p:sp>
            <p:nvSpPr>
              <p:cNvPr id="69" name=""/>
              <p:cNvSpPr/>
              <p:nvPr/>
            </p:nvSpPr>
            <p:spPr>
              <a:xfrm>
                <a:off x="2447640" y="5445000"/>
                <a:ext cx="3682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54640" y="5140440"/>
                <a:ext cx="14428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48280" y="573084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292920" y="5292720"/>
                <a:ext cx="1958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(  )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388080" y="563868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 5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2B8E-11E1-42B1-A1A6-DBD861842B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3962520" cy="33019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6 SOLID NONCIRCULAR SHAF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fts with noncircular x-section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axi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such, their x-sections wi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l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it is twis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al analysis is complicated and thus is not considered for this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385632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E7AD-658F-474A-BC03-3D16375D7B8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6 SOLID NONCIRCULAR SHAF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41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analysis for square, triangular and elliptical x-sections are shown in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915080" y="1219320"/>
            <a:ext cx="3997080" cy="53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642D-0003-428A-A061-745814762FC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61-T6 aluminum shaft shown has x-sectional area in the shape of equilateral triangle. Determine largest torq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n be applied to end of shaft i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6 MPa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2 ra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6 G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torque can be applied to a shaft of circular x-section made from same amount of mater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200400" y="3886200"/>
            <a:ext cx="3276720" cy="28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FFE1-59E7-4C51-80D0-FB961784326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3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resultant internal torque at any x-section along shaft’s axis is als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Using formulas from Table 5-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080" y="2575080"/>
            <a:ext cx="663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79.2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20" y="3214800"/>
            <a:ext cx="755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4.12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75240" y="4038480"/>
            <a:ext cx="96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arison, torque is limited due to angle of tw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CF60-CC25-44D9-A297-8E7F039A315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3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ircular x-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calculate radius of the x-s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60" y="2063880"/>
            <a:ext cx="667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ri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4.85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27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of stress and angle of twist re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-355320" y="3352680"/>
            <a:ext cx="68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88.06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920" y="4038480"/>
            <a:ext cx="663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3.1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4738680"/>
            <a:ext cx="82296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torque is limited by angle of tw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both results, we can see that a shaft of circular x-section can suppor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torque than a triangular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34D5-BDA3-4FF8-A218-5DE09814470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8758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lid shaft, shear stress varies from zero at shaft’s longitudinal axis to maximum value at its outer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proportionality of triangles, or using Hooke’s law and Eqn 5-2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08680" y="2971800"/>
            <a:ext cx="3056040" cy="358128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452600" y="3159000"/>
            <a:ext cx="3735360" cy="1036080"/>
            <a:chOff x="1452600" y="3159000"/>
            <a:chExt cx="3735360" cy="1036080"/>
          </a:xfrm>
        </p:grpSpPr>
        <p:sp>
          <p:nvSpPr>
            <p:cNvPr id="78" name=""/>
            <p:cNvSpPr/>
            <p:nvPr/>
          </p:nvSpPr>
          <p:spPr>
            <a:xfrm>
              <a:off x="1452600" y="3463920"/>
              <a:ext cx="3735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31880" y="3159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25520" y="3749400"/>
              <a:ext cx="25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70520" y="3311280"/>
              <a:ext cx="1958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(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5400000">
            <a:off x="2458080" y="4224600"/>
            <a:ext cx="15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11200" y="4530600"/>
            <a:ext cx="4218840" cy="1095120"/>
            <a:chOff x="1411200" y="4530600"/>
            <a:chExt cx="4218840" cy="1095120"/>
          </a:xfrm>
        </p:grpSpPr>
        <p:sp>
          <p:nvSpPr>
            <p:cNvPr id="84" name=""/>
            <p:cNvSpPr/>
            <p:nvPr/>
          </p:nvSpPr>
          <p:spPr>
            <a:xfrm>
              <a:off x="1411200" y="4835520"/>
              <a:ext cx="26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50240" y="4530600"/>
              <a:ext cx="18453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14720" y="5121360"/>
              <a:ext cx="25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25240" y="4724280"/>
              <a:ext cx="2404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5933-2110-4DBE-A2EA-7CC0A1A904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8758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ral in the equation can be represented as the polar moment of inert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shaft’s x-sectional area computed about its longitudin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702160" y="2502000"/>
            <a:ext cx="2588760" cy="1155600"/>
            <a:chOff x="2702160" y="2502000"/>
            <a:chExt cx="2588760" cy="1155600"/>
          </a:xfrm>
        </p:grpSpPr>
        <p:sp>
          <p:nvSpPr>
            <p:cNvPr id="91" name=""/>
            <p:cNvSpPr/>
            <p:nvPr/>
          </p:nvSpPr>
          <p:spPr>
            <a:xfrm>
              <a:off x="2971800" y="2514600"/>
              <a:ext cx="220968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02160" y="2757600"/>
              <a:ext cx="2096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88200" y="2502000"/>
              <a:ext cx="1602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34040" y="302904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80880" y="3657600"/>
            <a:ext cx="8534520" cy="29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 shear stress in shaft, at the outer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internal torque acting at x-section, from method of sections &amp; equation of moment equilibrium applied about longitudin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 moment of inertia at x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radius pf the sha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42E8-1996-4408-B320-5558C7D1E1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at intermediate distance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25880" y="1600200"/>
            <a:ext cx="2184120" cy="1036080"/>
            <a:chOff x="3125880" y="1600200"/>
            <a:chExt cx="2184120" cy="1036080"/>
          </a:xfrm>
        </p:grpSpPr>
        <p:sp>
          <p:nvSpPr>
            <p:cNvPr id="99" name=""/>
            <p:cNvSpPr/>
            <p:nvPr/>
          </p:nvSpPr>
          <p:spPr>
            <a:xfrm>
              <a:off x="3429000" y="1619280"/>
              <a:ext cx="1752480" cy="990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5880" y="1847880"/>
              <a:ext cx="170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69120" y="1600200"/>
              <a:ext cx="1640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34040" y="21337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0880" y="2590920"/>
            <a:ext cx="85345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ove two equations are referred to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rsion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only if shaft is circular, its material homogenous, and it behaves in an linear-elastic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BD50-3D70-44A2-BBA1-E65C8D376E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986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olid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termined using area element in the form of a differential ring or annulus having thicknes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ircumfer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ring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A = 2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21360" y="3429000"/>
            <a:ext cx="2484000" cy="1038240"/>
            <a:chOff x="3321360" y="3429000"/>
            <a:chExt cx="2484000" cy="1038240"/>
          </a:xfrm>
        </p:grpSpPr>
        <p:sp>
          <p:nvSpPr>
            <p:cNvPr id="107" name=""/>
            <p:cNvSpPr/>
            <p:nvPr/>
          </p:nvSpPr>
          <p:spPr>
            <a:xfrm>
              <a:off x="3657600" y="3476520"/>
              <a:ext cx="1752480" cy="990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21360" y="3705120"/>
              <a:ext cx="24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19680" y="3429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86320" y="396216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449568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eometric property of the circular area and is always positive. Common units used for its measurement 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58080" y="2743200"/>
            <a:ext cx="171612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B89A-4942-4FC1-9761-10B88E3325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6960" y="1142640"/>
            <a:ext cx="8986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ubular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929320" y="1295280"/>
            <a:ext cx="3490200" cy="1066680"/>
            <a:chOff x="2929320" y="1295280"/>
            <a:chExt cx="3490200" cy="1066680"/>
          </a:xfrm>
        </p:grpSpPr>
        <p:sp>
          <p:nvSpPr>
            <p:cNvPr id="116" name=""/>
            <p:cNvSpPr/>
            <p:nvPr/>
          </p:nvSpPr>
          <p:spPr>
            <a:xfrm>
              <a:off x="2971800" y="1295280"/>
              <a:ext cx="312408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29320" y="1566720"/>
              <a:ext cx="349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62480" y="129528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29120" y="182880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8153280" cy="38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05AF-978B-4E29-83AD-9076D988C4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Ng Family</cp:lastModifiedBy>
  <dcterms:modified xsi:type="dcterms:W3CDTF">2005-05-05T16:58:38Z</dcterms:modified>
  <cp:revision>377</cp:revision>
  <dc:subject/>
  <dc:title>Chapter 1</dc:title>
</cp:coreProperties>
</file>