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E0EA-5094-4036-83A9-BC3E8CB18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5B14-2192-42FE-8ADA-791E2B436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1CEE-230D-4FCB-BBF2-D87C80F98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0BDE-1083-486C-B695-251127F349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8766-41C1-4AE1-BF4A-423D43B259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FEC3-985B-409D-A762-FC0E17907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19C7-4B45-4A02-80EF-003398A10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0E4E-3923-46DF-8581-53FAC6B7A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A32E-6275-4072-86D0-79C1D88A7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6EA6-48FC-4F18-9563-960E7876A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11FC-D8EE-4B0A-B775-50DEC38C4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0525-C66C-4A3D-A4F0-1378B7106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3A5D-2AEF-4579-91E9-B1E04642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To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5298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-walled tubes of noncircular shape are used to construct lightweight frameworks such as those in air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ction will analyze such shafts with a closed x-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alls are thin, we assume stres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formly distribu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the thickness of the t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F11D-073A-49B1-87E4-5A30A163B4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 STRESS CONCEN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558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s on x-section indicate where maximum shear stress will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ximum shear stress can be determined from torsional stress-concentration facto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91040" y="1219320"/>
            <a:ext cx="3252960" cy="51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3B57-EE51-4322-B915-FEBF82943F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 STRESS CONCEN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464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n be obtained from a graph as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geometric rati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/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ppropriate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bsciss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/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lculated,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und along 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shear stress is then determined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4190760" cy="41022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083600" y="5410080"/>
            <a:ext cx="3219480" cy="838440"/>
            <a:chOff x="1083600" y="5410080"/>
            <a:chExt cx="3219480" cy="838440"/>
          </a:xfrm>
        </p:grpSpPr>
        <p:sp>
          <p:nvSpPr>
            <p:cNvPr id="122" name=""/>
            <p:cNvSpPr/>
            <p:nvPr/>
          </p:nvSpPr>
          <p:spPr>
            <a:xfrm>
              <a:off x="1371600" y="5410080"/>
              <a:ext cx="274320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83600" y="5470560"/>
              <a:ext cx="321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1F0A-D4D9-48AB-8EC5-9F91CE775C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 STRESS CONCEN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4535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ss concent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hafts occur at points of sudden x-sectional change. The more severe the change, the larger the stress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sign/analysis, not necessary to know exact shear-stress distribution on x-section. Instead, obtain maximum shear stress using stress concentration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erial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subject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adings, then stress concentrations need to be considered in design/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EC6F-5BBA-4EEA-935B-703FCF9278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ped shaft shown is supported at bearings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Determine maximum stress in the shaft due to applied torques. Fillet at junction of each shaft has radi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 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5032440" cy="32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EB63-E6BA-4020-B050-6152E1C124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8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moment equilibrium about axis of shaft is satisfied. Since maximum shear stress occurs at rooted ends of smaller diameter shafts, internal torque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found by applying method of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3352680" cy="19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2A56-0ACF-4AB5-B63D-FAACFF8586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8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haft geometry,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21640" y="2120760"/>
            <a:ext cx="4663440" cy="2117160"/>
            <a:chOff x="1421640" y="2120760"/>
            <a:chExt cx="4663440" cy="2117160"/>
          </a:xfrm>
        </p:grpSpPr>
        <p:sp>
          <p:nvSpPr>
            <p:cNvPr id="135" name=""/>
            <p:cNvSpPr/>
            <p:nvPr/>
          </p:nvSpPr>
          <p:spPr>
            <a:xfrm>
              <a:off x="1421640" y="2122560"/>
              <a:ext cx="1503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7800" y="3201840"/>
              <a:ext cx="1425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8400" y="2120760"/>
              <a:ext cx="2660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(4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(2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8400" y="3189240"/>
              <a:ext cx="2660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(2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64200" y="2381400"/>
              <a:ext cx="40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3480" y="3448080"/>
              <a:ext cx="452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3200" y="37339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26668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8960" y="3719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2652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-73800" y="441972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from the grap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960" y="5165640"/>
            <a:ext cx="561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... = 3.1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3526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D446-D306-4C88-8983-8FF8543D8E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8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xperimental evidence, actual stress distribution along radial line of x-section at critical section looks similar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267080" y="2711520"/>
            <a:ext cx="4038840" cy="36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0577-4BD8-4DC0-A059-B426419D6D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558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erform a “plastic analysis” for a material that has yielded, the following conditions must be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23240" y="1143000"/>
            <a:ext cx="202860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2895480"/>
            <a:ext cx="64008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ains in material must vary linearly from zero at center of shaft to its maximum at outer boundar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geo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torque at section must be equivalent to torque caused by entire shear-stress distribution over the x-se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loa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607C-A82B-4EB8-81E1-F2215EC73D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02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ng the loading condition mathematically, we g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55920" cy="260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657520" cy="24861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918160" y="2819520"/>
            <a:ext cx="3551040" cy="990360"/>
            <a:chOff x="2918160" y="2819520"/>
            <a:chExt cx="3551040" cy="990360"/>
          </a:xfrm>
        </p:grpSpPr>
        <p:sp>
          <p:nvSpPr>
            <p:cNvPr id="160" name=""/>
            <p:cNvSpPr/>
            <p:nvPr/>
          </p:nvSpPr>
          <p:spPr>
            <a:xfrm>
              <a:off x="3200400" y="2819520"/>
              <a:ext cx="2971800" cy="99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18160" y="3062160"/>
              <a:ext cx="35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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42360" y="31240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 5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4101-348F-4D73-96C8-65DDB27945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6701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. Maximum e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ximu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ar str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outer boundary of the shaft, shear-strain distribution along radial line will look like diagram 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Eqn 5-23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098360" y="3733920"/>
            <a:ext cx="3305880" cy="914400"/>
            <a:chOff x="1098360" y="3733920"/>
            <a:chExt cx="3305880" cy="914400"/>
          </a:xfrm>
        </p:grpSpPr>
        <p:sp>
          <p:nvSpPr>
            <p:cNvPr id="166" name=""/>
            <p:cNvSpPr/>
            <p:nvPr/>
          </p:nvSpPr>
          <p:spPr>
            <a:xfrm>
              <a:off x="1371600" y="3733920"/>
              <a:ext cx="281952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8360" y="3900600"/>
              <a:ext cx="330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2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218916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13520" y="1143000"/>
            <a:ext cx="1932120" cy="2438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1840" y="4857840"/>
            <a:ext cx="311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qn 5-1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47920" y="5410080"/>
            <a:ext cx="2819160" cy="914400"/>
            <a:chOff x="1447920" y="5410080"/>
            <a:chExt cx="2819160" cy="914400"/>
          </a:xfrm>
        </p:grpSpPr>
        <p:sp>
          <p:nvSpPr>
            <p:cNvPr id="172" name=""/>
            <p:cNvSpPr/>
            <p:nvPr/>
          </p:nvSpPr>
          <p:spPr>
            <a:xfrm>
              <a:off x="1447920" y="5410080"/>
              <a:ext cx="28191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76520" y="557676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211B-0EA0-4C69-A403-04E1EC916F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81080" y="2895480"/>
            <a:ext cx="182880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3124080" cy="257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5938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equilibrium requires the forces shown to be of equal magnitude but opposite direction, th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duc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fl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can be express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4022640"/>
            <a:ext cx="2819520" cy="26830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855080" y="4495680"/>
            <a:ext cx="2395440" cy="838440"/>
            <a:chOff x="1855080" y="4495680"/>
            <a:chExt cx="2395440" cy="838440"/>
          </a:xfrm>
        </p:grpSpPr>
        <p:sp>
          <p:nvSpPr>
            <p:cNvPr id="51" name=""/>
            <p:cNvSpPr/>
            <p:nvPr/>
          </p:nvSpPr>
          <p:spPr>
            <a:xfrm>
              <a:off x="1981080" y="4495680"/>
              <a:ext cx="213372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55080" y="4572000"/>
              <a:ext cx="239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8600" y="5454720"/>
            <a:ext cx="67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low measures force per unit length along tube’s x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8A90-23E2-4953-A822-CF338069B8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15080" y="1143000"/>
            <a:ext cx="2219400" cy="2438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6777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. Elastic-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material starts yielding, and the yield boundary moves inward toward the shaft’s centre, produc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outer portion of shaft form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tic annu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ula for elastic-plastic material behavio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7040" y="5105520"/>
            <a:ext cx="4366440" cy="914400"/>
            <a:chOff x="617040" y="5105520"/>
            <a:chExt cx="4366440" cy="914400"/>
          </a:xfrm>
        </p:grpSpPr>
        <p:sp>
          <p:nvSpPr>
            <p:cNvPr id="178" name=""/>
            <p:cNvSpPr/>
            <p:nvPr/>
          </p:nvSpPr>
          <p:spPr>
            <a:xfrm>
              <a:off x="838080" y="5105520"/>
              <a:ext cx="403884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040" y="5272200"/>
              <a:ext cx="436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6) (4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553080" y="3886200"/>
            <a:ext cx="23241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F8E5-36E4-4411-BA15-B8C76D3605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453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. Elastic-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increas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shrink the radius of elastic core till all the material has yiel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largest possible plastic torqu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475000" y="3352680"/>
            <a:ext cx="3457800" cy="914400"/>
            <a:chOff x="2475000" y="3352680"/>
            <a:chExt cx="3457800" cy="914400"/>
          </a:xfrm>
        </p:grpSpPr>
        <p:sp>
          <p:nvSpPr>
            <p:cNvPr id="184" name=""/>
            <p:cNvSpPr/>
            <p:nvPr/>
          </p:nvSpPr>
          <p:spPr>
            <a:xfrm>
              <a:off x="2743200" y="3352680"/>
              <a:ext cx="28191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75000" y="3519360"/>
              <a:ext cx="345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3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3280" y="4400640"/>
            <a:ext cx="7075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with maximum elastic torq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43040" y="4952880"/>
            <a:ext cx="2894760" cy="914400"/>
            <a:chOff x="2543040" y="4952880"/>
            <a:chExt cx="2894760" cy="914400"/>
          </a:xfrm>
        </p:grpSpPr>
        <p:sp>
          <p:nvSpPr>
            <p:cNvPr id="188" name=""/>
            <p:cNvSpPr/>
            <p:nvPr/>
          </p:nvSpPr>
          <p:spPr>
            <a:xfrm>
              <a:off x="2819520" y="4952880"/>
              <a:ext cx="243828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43040" y="5126040"/>
              <a:ext cx="289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4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/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06000" y="5943600"/>
            <a:ext cx="722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uniquely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4014-DC02-4EF2-BDFC-0C927EA427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453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. Ultimate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termined “graphically” by integrating Eqn 5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663800" cy="424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0A25-1758-4531-95B7-BE1C3561BF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5638680"/>
            <a:ext cx="259092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85000" y="4191120"/>
            <a:ext cx="2259000" cy="2361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2103480" cy="2133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487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. Ultimate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shaft into finite number of 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of ring is multiplied by shear stress to obtain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orque with the product of the force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of all torques for entire x-section results in the ultimate torque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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031160" y="1143000"/>
            <a:ext cx="19540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1147-0CE8-40E7-B6D7-C0413C3135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377200" cy="541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-strain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radial line on shaft based on geometric considerations and is always remain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-stress distribution must be determined from material behavior or shear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shear-stress distribution established, the torque about the axis is equivalent to resultant torque acting on x-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plastic behavior assumes shear-stress distribution is constant and the torqu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F69C-7965-4D5C-9D19-19802BA1B8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1818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ular shaft made of aluminum alloy with elastic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 as sh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(a) maximum torque that can be applied without causing material to y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maximum torque or plastic torque that can be applied to the shaf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the minimum shear strain at outer radius be in order to develop a plastic torq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640480" y="1143000"/>
            <a:ext cx="3427200" cy="54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EEC1-EEB0-4C5B-9875-CF19A9D4F3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5410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e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at outer fiber to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Using torsion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662440" y="1752480"/>
            <a:ext cx="3267360" cy="4849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208440" y="2681280"/>
            <a:ext cx="61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/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42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635280"/>
            <a:ext cx="4800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t tube’s inner wall are obtained by pro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7821-9C50-444D-AC3D-66DAFD528D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-stress distribution shown below. Apply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qn 5-2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7113600" cy="2295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99280" y="2514600"/>
            <a:ext cx="41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4.10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200400"/>
            <a:ext cx="822960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tub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a 20% increase in torque capacity compared to elastic torq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A699-6785-4244-A5D9-F1F560DC6A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er radius 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e becomes fully plastic when shear strain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ner w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omes 0.286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ad. Since shear str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ins lin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x-section, plastic strain at outer fibers determined by propo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7113600" cy="2295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635560" y="3276720"/>
            <a:ext cx="46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0.477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7C98-6AF7-4490-A732-CE033436ED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10 RESIDUAL ST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 stress distribution is calculated using principles of superposition and elastic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5543640" cy="436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0707-BF0E-41F1-99BC-5515580012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2084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93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819520"/>
            <a:ext cx="6629400" cy="39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age shear stress acting over thickness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ultant internal torque at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ickness of tube 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ean area enclosed within boundar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nter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ube’s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3352680"/>
            <a:ext cx="2438280" cy="21322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7880" y="1704960"/>
            <a:ext cx="2806200" cy="1114560"/>
            <a:chOff x="407880" y="1704960"/>
            <a:chExt cx="2806200" cy="1114560"/>
          </a:xfrm>
        </p:grpSpPr>
        <p:sp>
          <p:nvSpPr>
            <p:cNvPr id="60" name=""/>
            <p:cNvSpPr/>
            <p:nvPr/>
          </p:nvSpPr>
          <p:spPr>
            <a:xfrm>
              <a:off x="762120" y="1752480"/>
              <a:ext cx="2286000" cy="106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407880" y="1704960"/>
              <a:ext cx="2806200" cy="1095120"/>
              <a:chOff x="407880" y="1704960"/>
              <a:chExt cx="2806200" cy="1095120"/>
            </a:xfrm>
          </p:grpSpPr>
          <p:sp>
            <p:nvSpPr>
              <p:cNvPr id="62" name=""/>
              <p:cNvSpPr/>
              <p:nvPr/>
            </p:nvSpPr>
            <p:spPr>
              <a:xfrm>
                <a:off x="407880" y="1981080"/>
                <a:ext cx="2078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v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24800" y="1704960"/>
                <a:ext cx="18892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A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05120" y="22431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8FD8-0179-4671-83F3-120E9B3DEF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e made from brass alloy with length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x-sectional area shown. Material has elastic-plastic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 show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2 GP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57720" y="2057400"/>
            <a:ext cx="3652920" cy="4419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0880" y="2438280"/>
            <a:ext cx="457200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plastic torq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What are the residual-shear-stress distribution and permanent twist of the tube that remain 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 just after tube becomes fully plast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2D51-319D-45A2-9A2F-6B9AD8E62A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2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Eqn 5-23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3419640" cy="2344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80880" y="3532320"/>
            <a:ext cx="815364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ube is fully plastic, yielding started at inner radi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5 mm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2 r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 angle of twist for entire tub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2120" y="2300400"/>
            <a:ext cx="510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19.24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560" y="4815000"/>
            <a:ext cx="544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... = 0.120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029200" y="4648320"/>
            <a:ext cx="262080" cy="761760"/>
          </a:xfrm>
          <a:custGeom>
            <a:avLst/>
            <a:gdLst>
              <a:gd name="textAreaLeft" fmla="*/ 34920 w 262080"/>
              <a:gd name="textAreaRight" fmla="*/ 227160 w 26208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DCD6-B526-4A80-BB88-D95E9D9071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2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810160" cy="1927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095880" y="3165480"/>
            <a:ext cx="2955960" cy="1940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06560" y="4800600"/>
            <a:ext cx="567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J = ... = 104.52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1143000"/>
            <a:ext cx="579096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 then “fictitious” linear shear-stress distribution in figure (c) must be superimposed on figure (b). Thus, maximum shear stress or modulus of rupture computed from torsion formu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320" y="5424480"/>
            <a:ext cx="836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04.52 MPa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5 mm/50 mm) = 52.26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9719-F2FA-4578-946B-1062432F62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2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010200" y="4267080"/>
            <a:ext cx="3133800" cy="2148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33000" y="2224080"/>
            <a:ext cx="617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(JG) = ... = 0.0747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143000"/>
            <a:ext cx="6324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on removal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2960" y="4343400"/>
            <a:ext cx="63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12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747 = 0.0453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2133720"/>
            <a:ext cx="261720" cy="761760"/>
          </a:xfrm>
          <a:custGeom>
            <a:avLst/>
            <a:gdLst>
              <a:gd name="textAreaLeft" fmla="*/ 34920 w 261720"/>
              <a:gd name="textAreaRight" fmla="*/ 226800 w 2617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139320" y="2971800"/>
            <a:ext cx="86572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-shear-stress distribution is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otation of tube af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32800" y="4267080"/>
            <a:ext cx="261720" cy="762120"/>
          </a:xfrm>
          <a:custGeom>
            <a:avLst/>
            <a:gdLst>
              <a:gd name="textAreaLeft" fmla="*/ 34920 w 261720"/>
              <a:gd name="textAreaRight" fmla="*/ 226800 w 2617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019920" y="4266360"/>
            <a:ext cx="261720" cy="762120"/>
          </a:xfrm>
          <a:custGeom>
            <a:avLst/>
            <a:gdLst>
              <a:gd name="textAreaLeft" fmla="*/ 34920 w 261720"/>
              <a:gd name="textAreaRight" fmla="*/ 226800 w 2617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4A5C-3354-4515-9FEA-CA2689C878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0" y="3352680"/>
            <a:ext cx="16765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4267080"/>
            <a:ext cx="25146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5181480"/>
            <a:ext cx="129528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 causes a shaft with circular x-section to twist, such that shear strain in shaft is proportional to its radial distance from its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that material is homogeneous and Hooke’s law applies, shear stress determined from torsion formula,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shaft requires finding the geometric parameter,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/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generated by rotating shaft is reported, from which torque is derived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P = T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F6B2-2267-4BA5-A34B-9FFA200505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 of circular shaft determined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torque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tant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pplication, use a sign convention for internal torque and be sure material does not yield, but remains linear 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822400" y="3048120"/>
            <a:ext cx="2661840" cy="1066680"/>
            <a:chOff x="2822400" y="3048120"/>
            <a:chExt cx="2661840" cy="1066680"/>
          </a:xfrm>
        </p:grpSpPr>
        <p:sp>
          <p:nvSpPr>
            <p:cNvPr id="256" name=""/>
            <p:cNvSpPr/>
            <p:nvPr/>
          </p:nvSpPr>
          <p:spPr>
            <a:xfrm>
              <a:off x="3200400" y="3048120"/>
              <a:ext cx="205740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22400" y="3284640"/>
              <a:ext cx="180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23560" y="3048120"/>
              <a:ext cx="16606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73640" y="3560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30800" y="3218040"/>
              <a:ext cx="15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3800" y="1523880"/>
            <a:ext cx="3347640" cy="1143000"/>
            <a:chOff x="2593800" y="1523880"/>
            <a:chExt cx="3347640" cy="1143000"/>
          </a:xfrm>
        </p:grpSpPr>
        <p:sp>
          <p:nvSpPr>
            <p:cNvPr id="262" name=""/>
            <p:cNvSpPr/>
            <p:nvPr/>
          </p:nvSpPr>
          <p:spPr>
            <a:xfrm>
              <a:off x="2971800" y="1523880"/>
              <a:ext cx="266688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93800" y="1760400"/>
              <a:ext cx="180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7040" y="1523880"/>
              <a:ext cx="2264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(x) 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97320" y="2036880"/>
              <a:ext cx="11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4440" y="1703520"/>
              <a:ext cx="1534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81840" y="1550880"/>
              <a:ext cx="141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6D39-5DD8-4D70-AF7B-EA71446C76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800600" y="2362320"/>
            <a:ext cx="167652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haft is statically indeterminate, reactive torques determined from equilibrium, compatibility of twist, and torque-twist relationships, such as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/J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noncircular shafts tend to warp out of plane when subjected to torque. Formulas are available to determine elastic shear stress and twist for thes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in tubes determined by considering shear flow. Assumes that shear stress across each thickness of tube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C674-C50D-492E-BCC5-BF34F10A4A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90720" y="1523880"/>
            <a:ext cx="182880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3733920"/>
            <a:ext cx="22860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in tubes determined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T/2t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s occur in shafts when x-section suddenly changes. Maximum shear stress determined using stress concentration facto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und by experiment and represented in graphical form).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/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lied torque causes material to exceed elastic limit, then stress distribution is not proportional to radial distance from centerline of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E941-C42A-4AAE-A4B1-8F107ACA67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such applied torque is related to stress distribution using the shear-stress-shear-strain diagram and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haft is subjected to plastic torque, and then released, it will cause material to respond elastically, causing residual shear stress to be developed in the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0175-5085-43C9-8E85-DB4CC73A0E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93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388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hear flow throughout the x-se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881360" y="2209680"/>
            <a:ext cx="2426040" cy="1114560"/>
            <a:chOff x="1881360" y="2209680"/>
            <a:chExt cx="2426040" cy="1114560"/>
          </a:xfrm>
        </p:grpSpPr>
        <p:sp>
          <p:nvSpPr>
            <p:cNvPr id="69" name=""/>
            <p:cNvSpPr/>
            <p:nvPr/>
          </p:nvSpPr>
          <p:spPr>
            <a:xfrm>
              <a:off x="2286000" y="2257200"/>
              <a:ext cx="1752480" cy="106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1360" y="2492280"/>
              <a:ext cx="180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7120" y="2209680"/>
              <a:ext cx="17902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7760" y="2747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04920" y="3505320"/>
            <a:ext cx="8305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termined using energy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89320" y="4724280"/>
            <a:ext cx="3886560" cy="1371600"/>
            <a:chOff x="1489320" y="4724280"/>
            <a:chExt cx="3886560" cy="1371600"/>
          </a:xfrm>
        </p:grpSpPr>
        <p:sp>
          <p:nvSpPr>
            <p:cNvPr id="75" name=""/>
            <p:cNvSpPr/>
            <p:nvPr/>
          </p:nvSpPr>
          <p:spPr>
            <a:xfrm>
              <a:off x="2133720" y="4724280"/>
              <a:ext cx="2895480" cy="137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9320" y="4838760"/>
              <a:ext cx="374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1640" y="4800600"/>
              <a:ext cx="21499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0960" y="4800600"/>
              <a:ext cx="15649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1800" y="5334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2560" y="53341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0080" y="5037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D394-93F1-4DDB-A156-A1488C282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529840" cy="426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l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duct of tube’s thickness and average shear stress. This valu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ll points along tube’s x-section. Th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hear stress occurs where tube’s thicknes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hear flow and average shear stress a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all of tube at all points in a direction to contribute to resultant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5FF5-F0F7-4A31-A3BA-EDFF8E82B5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626080" cy="3934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aluminum tube as sh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verage shear stress in the tube at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is subjected to a torqu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lso, compute angle of twist due to this lo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6 G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4F12-2DD6-4395-A912-6CEFC2159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91916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77120" y="1219320"/>
            <a:ext cx="2438280" cy="231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920" y="1600200"/>
            <a:ext cx="629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50 mm)(50 mm) = 2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-254160" y="2133720"/>
            <a:ext cx="6083640" cy="1095120"/>
            <a:chOff x="-254160" y="2133720"/>
            <a:chExt cx="6083640" cy="1095120"/>
          </a:xfrm>
        </p:grpSpPr>
        <p:sp>
          <p:nvSpPr>
            <p:cNvPr id="93" name=""/>
            <p:cNvSpPr/>
            <p:nvPr/>
          </p:nvSpPr>
          <p:spPr>
            <a:xfrm>
              <a:off x="-254160" y="2409840"/>
              <a:ext cx="6083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... = 1.7 N/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43560" y="2133720"/>
              <a:ext cx="18892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267192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80880" y="3352680"/>
            <a:ext cx="64008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 except at corners, average shear stress is same at all points on x-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 upward on darker-shaded face, since it contributes to internal resultant torq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6EF9-C999-4AF3-B1A4-EAFEDCFB2E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2262240" cy="2144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81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integral represents length around centerline boundary of tube,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-339480" y="1940040"/>
            <a:ext cx="3886560" cy="1095120"/>
            <a:chOff x="-339480" y="1940040"/>
            <a:chExt cx="3886560" cy="1095120"/>
          </a:xfrm>
        </p:grpSpPr>
        <p:sp>
          <p:nvSpPr>
            <p:cNvPr id="102" name=""/>
            <p:cNvSpPr/>
            <p:nvPr/>
          </p:nvSpPr>
          <p:spPr>
            <a:xfrm>
              <a:off x="-339480" y="1978200"/>
              <a:ext cx="374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480" y="1940040"/>
              <a:ext cx="21499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2160" y="1940040"/>
              <a:ext cx="15649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2473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33400" y="247356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1280" y="21765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509560" y="2224080"/>
            <a:ext cx="5159880" cy="520560"/>
            <a:chOff x="2509560" y="2224080"/>
            <a:chExt cx="5159880" cy="520560"/>
          </a:xfrm>
        </p:grpSpPr>
        <p:sp>
          <p:nvSpPr>
            <p:cNvPr id="109" name=""/>
            <p:cNvSpPr/>
            <p:nvPr/>
          </p:nvSpPr>
          <p:spPr>
            <a:xfrm>
              <a:off x="2509560" y="2224080"/>
              <a:ext cx="515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... = 0.196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∫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27040" y="2311560"/>
              <a:ext cx="14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83600" y="4251240"/>
            <a:ext cx="83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.196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4(50 mm)] = 3.92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0202-B2D8-4399-B390-B53502F276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 STRESS CONCEN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558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ommon discontinuities of the x-secti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connecting 2 collinear shaft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connect gears or pulleys to a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er fil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fabricate a single collinear shaft from 2 shafts with different di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91040" y="1219320"/>
            <a:ext cx="3252960" cy="51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4C3F-93EE-4E0D-A995-6927D3DC60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Ng Family</cp:lastModifiedBy>
  <dcterms:modified xsi:type="dcterms:W3CDTF">2005-05-05T16:58:57Z</dcterms:modified>
  <cp:revision>377</cp:revision>
  <dc:subject/>
  <dc:title>Chapter 1</dc:title>
</cp:coreProperties>
</file>