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50A69-D10D-4796-B91D-EBE7FABD5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3C67-CE35-4153-A691-EE2CA4141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7E59-97D2-4346-B2B6-62AA068D0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6F2B-0B14-475F-8035-FB205AD9B9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2216-BDCB-46DB-9C51-1FFE869E8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6BAE-CA05-42D8-BBFE-D6365E8D6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A5C0-AB5B-4253-AF06-2D275A5F5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5F5E-906B-408C-80B0-FEDDDA167C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2B68-F268-4F71-88C3-B58CA3A88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F7E7-D57F-4F1A-85B1-FA11CABDA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6A41-C474-41B3-85C3-C7B35A6D9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DC87-79FD-41EE-84D5-08BD91E99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5978-D91D-40BD-90F3-69A538EC2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To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5298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-walled tubes of noncircular shape are used to construct lightweight frameworks such as those in air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ection will analyze such shafts with a closed x-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alls are thin, we assume stres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formly distribu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the thickness of the t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5E29-C035-4273-8602-EA37B5255F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 STRESS CONCEN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558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s on x-section indicate where maximum shear stress will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aximum shear stress can be determined from torsional stress-concentration facto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91040" y="1219320"/>
            <a:ext cx="3252960" cy="51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9D68-A066-4992-8B59-12E9193A0A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 STRESS CONCEN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464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n be obtained from a graph as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geometric rati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/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ppropriate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bsciss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/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lculated, valu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und along 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shear stress is then determined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76920" y="1143000"/>
            <a:ext cx="4190760" cy="41022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1083600" y="5410080"/>
            <a:ext cx="3219480" cy="838440"/>
            <a:chOff x="1083600" y="5410080"/>
            <a:chExt cx="3219480" cy="838440"/>
          </a:xfrm>
        </p:grpSpPr>
        <p:sp>
          <p:nvSpPr>
            <p:cNvPr id="122" name=""/>
            <p:cNvSpPr/>
            <p:nvPr/>
          </p:nvSpPr>
          <p:spPr>
            <a:xfrm>
              <a:off x="1371600" y="5410080"/>
              <a:ext cx="274320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83600" y="5470560"/>
              <a:ext cx="321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2802E-68ED-436B-8F11-8976C45D2B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 STRESS CONCEN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453520" cy="5257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ss concent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shafts occur at points of sudden x-sectional change. The more severe the change, the larger the stress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esign/analysis, not necessary to know exact shear-stress distribution on x-section. Instead, obtain maximum shear stress using stress concentration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erial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subject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adings, then stress concentrations need to be considered in design/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420D-8524-4217-A2E6-10A95163C5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ped shaft shown is supported at bearings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Determine maximum stress in the shaft due to applied torques. Fillet at junction of each shaft has radi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 m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5032440" cy="32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FECD-1DEA-4FEC-B650-2055E07124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8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moment equilibrium about axis of shaft is satisfied. Since maximum shear stress occurs at rooted ends of smaller diameter shafts, internal torque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an be found by applying method of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3352680" cy="19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E827-E433-4C5C-9A88-F4EEF4A8F4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8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haft geometry,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21640" y="2120760"/>
            <a:ext cx="4663440" cy="2117160"/>
            <a:chOff x="1421640" y="2120760"/>
            <a:chExt cx="4663440" cy="2117160"/>
          </a:xfrm>
        </p:grpSpPr>
        <p:sp>
          <p:nvSpPr>
            <p:cNvPr id="135" name=""/>
            <p:cNvSpPr/>
            <p:nvPr/>
          </p:nvSpPr>
          <p:spPr>
            <a:xfrm>
              <a:off x="1421640" y="2122560"/>
              <a:ext cx="15037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7800" y="3201840"/>
              <a:ext cx="1425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8400" y="2120760"/>
              <a:ext cx="2660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(4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(2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38400" y="3189240"/>
              <a:ext cx="2660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(2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64200" y="2381400"/>
              <a:ext cx="40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3480" y="3448080"/>
              <a:ext cx="452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3200" y="37339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266688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8960" y="3719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1080" y="26528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-73800" y="441972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from the grap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9960" y="5165640"/>
            <a:ext cx="561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... = 3.1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33526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54C2-444A-45AE-B332-AF196B773D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8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xperimental evidence, actual stress distribution along radial line of x-section at critical section looks similar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267080" y="2711520"/>
            <a:ext cx="4038840" cy="36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9B3D-9244-46F7-87E3-E7FA76A612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558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erform a “plastic analysis” for a material that has yielded, the following conditions must be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023240" y="1143000"/>
            <a:ext cx="2028600" cy="2514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2895480"/>
            <a:ext cx="64008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ains in material must vary linearly from zero at center of shaft to its maximum at outer boundar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geo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torque at section must be equivalent to torque caused by entire shear-stress distribution over the x-se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loa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575D-3DDE-4B38-8F86-A2AE534953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02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ng the loading condition mathematically, we g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55920" cy="26067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248520" y="1143000"/>
            <a:ext cx="2657520" cy="24861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2918160" y="2819520"/>
            <a:ext cx="3551040" cy="990360"/>
            <a:chOff x="2918160" y="2819520"/>
            <a:chExt cx="3551040" cy="990360"/>
          </a:xfrm>
        </p:grpSpPr>
        <p:sp>
          <p:nvSpPr>
            <p:cNvPr id="160" name=""/>
            <p:cNvSpPr/>
            <p:nvPr/>
          </p:nvSpPr>
          <p:spPr>
            <a:xfrm>
              <a:off x="3200400" y="2819520"/>
              <a:ext cx="2971800" cy="99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18160" y="3062160"/>
              <a:ext cx="3551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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42360" y="31240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 5-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80E7-D7D0-483A-9106-3D89208F0B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6701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. Maximum e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aximu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ear str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outer boundary of the shaft, shear-strain distribution along radial line will look like diagram 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Eqn 5-23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098360" y="3733920"/>
            <a:ext cx="3305880" cy="914400"/>
            <a:chOff x="1098360" y="3733920"/>
            <a:chExt cx="3305880" cy="914400"/>
          </a:xfrm>
        </p:grpSpPr>
        <p:sp>
          <p:nvSpPr>
            <p:cNvPr id="166" name=""/>
            <p:cNvSpPr/>
            <p:nvPr/>
          </p:nvSpPr>
          <p:spPr>
            <a:xfrm>
              <a:off x="1371600" y="3733920"/>
              <a:ext cx="281952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98360" y="3900600"/>
              <a:ext cx="3305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2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218916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13520" y="1143000"/>
            <a:ext cx="1932120" cy="2438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31840" y="4857840"/>
            <a:ext cx="311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qn 5-1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47920" y="5410080"/>
            <a:ext cx="2819160" cy="914400"/>
            <a:chOff x="1447920" y="5410080"/>
            <a:chExt cx="2819160" cy="914400"/>
          </a:xfrm>
        </p:grpSpPr>
        <p:sp>
          <p:nvSpPr>
            <p:cNvPr id="172" name=""/>
            <p:cNvSpPr/>
            <p:nvPr/>
          </p:nvSpPr>
          <p:spPr>
            <a:xfrm>
              <a:off x="1447920" y="5410080"/>
              <a:ext cx="28191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76520" y="557676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BFDE-DA74-4AD6-B1B3-B8889F3334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81080" y="2895480"/>
            <a:ext cx="182880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3124080" cy="257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5938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equilibrium requires the forces shown to be of equal magnitude but opposite direction, th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oduct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fl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can be express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4022640"/>
            <a:ext cx="2819520" cy="268308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1855080" y="4495680"/>
            <a:ext cx="2395440" cy="838440"/>
            <a:chOff x="1855080" y="4495680"/>
            <a:chExt cx="2395440" cy="838440"/>
          </a:xfrm>
        </p:grpSpPr>
        <p:sp>
          <p:nvSpPr>
            <p:cNvPr id="51" name=""/>
            <p:cNvSpPr/>
            <p:nvPr/>
          </p:nvSpPr>
          <p:spPr>
            <a:xfrm>
              <a:off x="1981080" y="4495680"/>
              <a:ext cx="213372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55080" y="4572000"/>
              <a:ext cx="239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28600" y="5454720"/>
            <a:ext cx="67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low measures force per unit length along tube’s x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07E0E-E5F3-47C7-B1C4-133E2F8398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15080" y="1143000"/>
            <a:ext cx="2219400" cy="2438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6777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. Elastic-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material starts yielding, and the yield boundary moves inward toward the shaft’s centre, produc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outer portion of shaft form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tic annu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423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ula for elastic-plastic material behavio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7040" y="5105520"/>
            <a:ext cx="4366440" cy="914400"/>
            <a:chOff x="617040" y="5105520"/>
            <a:chExt cx="4366440" cy="914400"/>
          </a:xfrm>
        </p:grpSpPr>
        <p:sp>
          <p:nvSpPr>
            <p:cNvPr id="178" name=""/>
            <p:cNvSpPr/>
            <p:nvPr/>
          </p:nvSpPr>
          <p:spPr>
            <a:xfrm>
              <a:off x="838080" y="5105520"/>
              <a:ext cx="403884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040" y="5272200"/>
              <a:ext cx="4366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6) (4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553080" y="3886200"/>
            <a:ext cx="23241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DECEE-F8D3-44F6-8739-608BF5A798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453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. Elastic-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increas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shrink the radius of elastic core till all the material has yiel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largest possible plastic torqu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475000" y="3352680"/>
            <a:ext cx="3457800" cy="914400"/>
            <a:chOff x="2475000" y="3352680"/>
            <a:chExt cx="3457800" cy="914400"/>
          </a:xfrm>
        </p:grpSpPr>
        <p:sp>
          <p:nvSpPr>
            <p:cNvPr id="184" name=""/>
            <p:cNvSpPr/>
            <p:nvPr/>
          </p:nvSpPr>
          <p:spPr>
            <a:xfrm>
              <a:off x="2743200" y="3352680"/>
              <a:ext cx="28191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75000" y="3519360"/>
              <a:ext cx="345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2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3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3280" y="4400640"/>
            <a:ext cx="7075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with maximum elastic torqu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543040" y="4952880"/>
            <a:ext cx="2894760" cy="914400"/>
            <a:chOff x="2543040" y="4952880"/>
            <a:chExt cx="2894760" cy="914400"/>
          </a:xfrm>
        </p:grpSpPr>
        <p:sp>
          <p:nvSpPr>
            <p:cNvPr id="188" name=""/>
            <p:cNvSpPr/>
            <p:nvPr/>
          </p:nvSpPr>
          <p:spPr>
            <a:xfrm>
              <a:off x="2819520" y="4952880"/>
              <a:ext cx="243828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43040" y="5126040"/>
              <a:ext cx="2894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 4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/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06000" y="5943600"/>
            <a:ext cx="722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uniquely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5E9A-483D-467D-B56A-F837963048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453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. Ultimate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tud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termined “graphically” by integrating Eqn 5-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663800" cy="424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593F-C4ED-4E12-AEBA-8B153037EB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5638680"/>
            <a:ext cx="259092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85000" y="4191120"/>
            <a:ext cx="2259000" cy="2361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2103480" cy="2133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487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. Ultimate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shaft into finite number of 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of ring is multiplied by shear stress to obtain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orque with the product of the force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 of all torques for entire x-section results in the ultimate torque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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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031160" y="1143000"/>
            <a:ext cx="195408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258E-B184-4954-941B-4EA4BC1460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9 INELASTIC TOR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377200" cy="541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0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-strain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radial line on shaft based on geometric considerations and is always remain li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-stress distribution must be determined from material behavior or shear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shear-stress distribution established, the torque about the axis is equivalent to resultant torque acting on x-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ectly plastic behavior assumes shear-stress distribution is constant and the torque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CD6A-8105-49E1-B4D4-FEE336BB46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1818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ular shaft made of aluminum alloy with elastic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 as sh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(a) maximum torque that can be applied without causing material to y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maximum torque or plastic torque that can be applied to the shaf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the minimum shear strain at outer radius be in order to develop a plastic torq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640480" y="1143000"/>
            <a:ext cx="3427200" cy="54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9E4F-8E77-4E7F-88EA-CAD0A70A2C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5410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e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at outer fiber to b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Using torsion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662440" y="1752480"/>
            <a:ext cx="3267360" cy="4849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208440" y="2681280"/>
            <a:ext cx="6187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/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42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3635280"/>
            <a:ext cx="4800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at tube’s inner wall are obtained by propor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9EAB-0E70-4F4C-B133-BF27B78E78C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-stress distribution shown below. Apply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qn 5-2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7113600" cy="2295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99280" y="2514600"/>
            <a:ext cx="41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4.10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200400"/>
            <a:ext cx="822960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is tub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a 20% increase in torque capacity compared to elastic torq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9F8A4-0010-4E36-BA8C-B7C643D1DC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9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ter radius 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e becomes fully plastic when shear strain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ner w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omes 0.286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ad. Since shear str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ins lin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x-section, plastic strain at outer fibers determined by propo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7113600" cy="2295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635560" y="3276720"/>
            <a:ext cx="46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76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0.477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7162-21F9-42E2-AA89-73F1411595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5.10 RESIDUAL ST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 stress distribution is calculated using principles of superposition and elastic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5543640" cy="436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EC3D-E206-4F41-997A-5D87314D54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0800" y="1066680"/>
            <a:ext cx="2666880" cy="2084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93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819520"/>
            <a:ext cx="6629400" cy="39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age shear stress acting over thickness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ultant internal torque at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ickness of tube 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ean area enclosed within boundary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nter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ube’s th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3352680"/>
            <a:ext cx="2438280" cy="21322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407880" y="1704960"/>
            <a:ext cx="2806200" cy="1114560"/>
            <a:chOff x="407880" y="1704960"/>
            <a:chExt cx="2806200" cy="1114560"/>
          </a:xfrm>
        </p:grpSpPr>
        <p:sp>
          <p:nvSpPr>
            <p:cNvPr id="60" name=""/>
            <p:cNvSpPr/>
            <p:nvPr/>
          </p:nvSpPr>
          <p:spPr>
            <a:xfrm>
              <a:off x="762120" y="1752480"/>
              <a:ext cx="2286000" cy="106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407880" y="1704960"/>
              <a:ext cx="2806200" cy="1095120"/>
              <a:chOff x="407880" y="1704960"/>
              <a:chExt cx="2806200" cy="1095120"/>
            </a:xfrm>
          </p:grpSpPr>
          <p:sp>
            <p:nvSpPr>
              <p:cNvPr id="62" name=""/>
              <p:cNvSpPr/>
              <p:nvPr/>
            </p:nvSpPr>
            <p:spPr>
              <a:xfrm>
                <a:off x="407880" y="1981080"/>
                <a:ext cx="2078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v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24800" y="1704960"/>
                <a:ext cx="18892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tA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05120" y="22431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2493-7209-4D47-8B85-ADF077013C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2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e made from brass alloy with length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x-sectional area shown. Material has elastic-plastic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 show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2 GP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157720" y="2057400"/>
            <a:ext cx="3652920" cy="4419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0880" y="2438280"/>
            <a:ext cx="4572000" cy="25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plastic torq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What are the residual-shear-stress distribution and permanent twist of the tube that remain 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 just after tube becomes fully plast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A8EB-A669-4B4F-8045-DAB43B596D3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2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Eqn 5-23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3419640" cy="2344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80880" y="3532320"/>
            <a:ext cx="815364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ube is fully plastic, yielding started at inner radiu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5 mm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2 r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 angle of twist for entire tub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2120" y="2300400"/>
            <a:ext cx="5103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19.24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560" y="4815000"/>
            <a:ext cx="544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... = 0.120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029200" y="4648320"/>
            <a:ext cx="262080" cy="761760"/>
          </a:xfrm>
          <a:custGeom>
            <a:avLst/>
            <a:gdLst>
              <a:gd name="textAreaLeft" fmla="*/ 34920 w 262080"/>
              <a:gd name="textAreaRight" fmla="*/ 227160 w 26208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4E84-4DAE-45ED-9B7A-938B737B19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2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810160" cy="1927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6095880" y="3165480"/>
            <a:ext cx="2955960" cy="19400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06560" y="4800600"/>
            <a:ext cx="567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J = ... = 104.52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1143000"/>
            <a:ext cx="579096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 then “fictitious” linear shear-stress distribution in figure (c) must be superimposed on figure (b). Thus, maximum shear stress or modulus of rupture computed from torsion formul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320" y="5424480"/>
            <a:ext cx="836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04.52 MPa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5 mm/50 mm) = 52.26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3FF1-017B-4712-9567-0AB3903B84D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2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010200" y="4267080"/>
            <a:ext cx="3133800" cy="21481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33000" y="2224080"/>
            <a:ext cx="617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/(JG) = ... = 0.0747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143000"/>
            <a:ext cx="63244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lastic to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pon removal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2960" y="4343400"/>
            <a:ext cx="63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12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747 = 0.0453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2133720"/>
            <a:ext cx="261720" cy="761760"/>
          </a:xfrm>
          <a:custGeom>
            <a:avLst/>
            <a:gdLst>
              <a:gd name="textAreaLeft" fmla="*/ 34920 w 261720"/>
              <a:gd name="textAreaRight" fmla="*/ 226800 w 2617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-139320" y="2971800"/>
            <a:ext cx="86572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-shear-stress distribution is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rotation of tube af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move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532800" y="4267080"/>
            <a:ext cx="261720" cy="762120"/>
          </a:xfrm>
          <a:custGeom>
            <a:avLst/>
            <a:gdLst>
              <a:gd name="textAreaLeft" fmla="*/ 34920 w 261720"/>
              <a:gd name="textAreaRight" fmla="*/ 226800 w 2617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019920" y="4266360"/>
            <a:ext cx="261720" cy="762120"/>
          </a:xfrm>
          <a:custGeom>
            <a:avLst/>
            <a:gdLst>
              <a:gd name="textAreaLeft" fmla="*/ 34920 w 261720"/>
              <a:gd name="textAreaRight" fmla="*/ 226800 w 2617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1D88-365E-4E84-BA10-E068CBFF219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0" y="3352680"/>
            <a:ext cx="16765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4267080"/>
            <a:ext cx="25146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5181480"/>
            <a:ext cx="129528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que causes a shaft with circular x-section to twist, such that shear strain in shaft is proportional to its radial distance from its cen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that material is homogeneous and Hooke’s law applies, shear stress determined from torsion formula,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/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shaft requires finding the geometric parameter,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/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generated by rotating shaft is reported, from which torque is derived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P = T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83A5-A301-4DEF-8407-45E377A2E0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of twist of circular shaft determined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torque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onstant,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pplication, use a sign convention for internal torque and be sure material does not yield, but remains linear e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822400" y="3048120"/>
            <a:ext cx="2661840" cy="1066680"/>
            <a:chOff x="2822400" y="3048120"/>
            <a:chExt cx="2661840" cy="1066680"/>
          </a:xfrm>
        </p:grpSpPr>
        <p:sp>
          <p:nvSpPr>
            <p:cNvPr id="256" name=""/>
            <p:cNvSpPr/>
            <p:nvPr/>
          </p:nvSpPr>
          <p:spPr>
            <a:xfrm>
              <a:off x="3200400" y="3048120"/>
              <a:ext cx="205740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22400" y="3284640"/>
              <a:ext cx="180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23560" y="3048120"/>
              <a:ext cx="16606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73640" y="3560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30800" y="3218040"/>
              <a:ext cx="154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3800" y="1523880"/>
            <a:ext cx="3347640" cy="1143000"/>
            <a:chOff x="2593800" y="1523880"/>
            <a:chExt cx="3347640" cy="1143000"/>
          </a:xfrm>
        </p:grpSpPr>
        <p:sp>
          <p:nvSpPr>
            <p:cNvPr id="262" name=""/>
            <p:cNvSpPr/>
            <p:nvPr/>
          </p:nvSpPr>
          <p:spPr>
            <a:xfrm>
              <a:off x="2971800" y="1523880"/>
              <a:ext cx="266688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93800" y="1760400"/>
              <a:ext cx="180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7040" y="1523880"/>
              <a:ext cx="2264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(x) 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J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97320" y="2036880"/>
              <a:ext cx="11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4440" y="1703520"/>
              <a:ext cx="1534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4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81840" y="1550880"/>
              <a:ext cx="141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3913-BF87-4677-8457-E82854A57D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800600" y="2362320"/>
            <a:ext cx="167652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haft is statically indeterminate, reactive torques determined from equilibrium, compatibility of twist, and torque-twist relationships, such as 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/J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noncircular shafts tend to warp out of plane when subjected to torque. Formulas are available to determine elastic shear stress and twist for thes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in tubes determined by considering shear flow. Assumes that shear stress across each thickness of tube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C64F-14B6-4451-89B8-D8D7DEC1A9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90720" y="1523880"/>
            <a:ext cx="182880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3733920"/>
            <a:ext cx="22860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in tubes determined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T/2t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s occur in shafts when x-section suddenly changes. Maximum shear stress determined using stress concentration factor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und by experiment and represented in graphical form).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/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pplied torque causes material to exceed elastic limit, then stress distribution is not proportional to radial distance from centerline of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B4D6-8D8B-48D8-88FA-2E47701FE1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such applied torque is related to stress distribution using the shear-stress-shear-strain diagram and 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haft is subjected to plastic torque, and then released, it will cause material to respond elastically, causing residual shear stress to be developed in the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BB3A-353C-423A-8B9B-B4443BF3B2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93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3880"/>
            <a:ext cx="8153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hear flow throughout the x-se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881360" y="2209680"/>
            <a:ext cx="2426040" cy="1114560"/>
            <a:chOff x="1881360" y="2209680"/>
            <a:chExt cx="2426040" cy="1114560"/>
          </a:xfrm>
        </p:grpSpPr>
        <p:sp>
          <p:nvSpPr>
            <p:cNvPr id="69" name=""/>
            <p:cNvSpPr/>
            <p:nvPr/>
          </p:nvSpPr>
          <p:spPr>
            <a:xfrm>
              <a:off x="2286000" y="2257200"/>
              <a:ext cx="1752480" cy="106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81360" y="2492280"/>
              <a:ext cx="180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17120" y="2209680"/>
              <a:ext cx="17902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7760" y="2747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04920" y="3505320"/>
            <a:ext cx="8305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termined using energy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489320" y="4724280"/>
            <a:ext cx="3886560" cy="1371600"/>
            <a:chOff x="1489320" y="4724280"/>
            <a:chExt cx="3886560" cy="1371600"/>
          </a:xfrm>
        </p:grpSpPr>
        <p:sp>
          <p:nvSpPr>
            <p:cNvPr id="75" name=""/>
            <p:cNvSpPr/>
            <p:nvPr/>
          </p:nvSpPr>
          <p:spPr>
            <a:xfrm>
              <a:off x="2133720" y="4724280"/>
              <a:ext cx="2895480" cy="137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9320" y="4838760"/>
              <a:ext cx="374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21640" y="4800600"/>
              <a:ext cx="21499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10960" y="4800600"/>
              <a:ext cx="15649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1800" y="53341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2560" y="533412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30080" y="503712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5741-9C99-4969-8116-1F94D08559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5.7 THIN-WALLED TUBES HAVING CLOSED CROSS S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529840" cy="426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low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duct of tube’s thickness and average shear stress. This valu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ll points along tube’s x-section. Thu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hear stress occurs where tube’s thicknes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hear flow and average shear stress ac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all of tube at all points in a direction to contribute to resultant tor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ACC9-8738-4F77-BADE-39A39EB863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5626080" cy="3934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aluminum tube as sho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verage shear stress in the tube at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 is subjected to a torque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5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Also, compute angle of twist due to this loa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6 G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AA26-8D18-411D-9496-9AC69F853A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91916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77120" y="1219320"/>
            <a:ext cx="2438280" cy="231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920" y="1600200"/>
            <a:ext cx="6290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50 mm)(50 mm) = 2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-254160" y="2133720"/>
            <a:ext cx="6083640" cy="1095120"/>
            <a:chOff x="-254160" y="2133720"/>
            <a:chExt cx="6083640" cy="1095120"/>
          </a:xfrm>
        </p:grpSpPr>
        <p:sp>
          <p:nvSpPr>
            <p:cNvPr id="93" name=""/>
            <p:cNvSpPr/>
            <p:nvPr/>
          </p:nvSpPr>
          <p:spPr>
            <a:xfrm>
              <a:off x="-254160" y="2409840"/>
              <a:ext cx="6083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... = 1.7 N/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43560" y="2133720"/>
              <a:ext cx="18892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3880" y="267192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80880" y="3352680"/>
            <a:ext cx="640080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 except at corners, average shear stress is same at all points on x-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 upward on darker-shaded face, since it contributes to internal resultant torq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603F-A0AA-4349-9779-AAF42DE762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2262240" cy="21448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5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gle of tw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30481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integral represents length around centerline boundary of tube,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-339480" y="1940040"/>
            <a:ext cx="3886560" cy="1095120"/>
            <a:chOff x="-339480" y="1940040"/>
            <a:chExt cx="3886560" cy="1095120"/>
          </a:xfrm>
        </p:grpSpPr>
        <p:sp>
          <p:nvSpPr>
            <p:cNvPr id="102" name=""/>
            <p:cNvSpPr/>
            <p:nvPr/>
          </p:nvSpPr>
          <p:spPr>
            <a:xfrm>
              <a:off x="-339480" y="1978200"/>
              <a:ext cx="374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4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480" y="1940040"/>
              <a:ext cx="21499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2160" y="1940040"/>
              <a:ext cx="15649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43000" y="24735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33400" y="2473560"/>
              <a:ext cx="3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1280" y="2176560"/>
              <a:ext cx="148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509560" y="2224080"/>
            <a:ext cx="5159880" cy="520560"/>
            <a:chOff x="2509560" y="2224080"/>
            <a:chExt cx="5159880" cy="520560"/>
          </a:xfrm>
        </p:grpSpPr>
        <p:sp>
          <p:nvSpPr>
            <p:cNvPr id="109" name=""/>
            <p:cNvSpPr/>
            <p:nvPr/>
          </p:nvSpPr>
          <p:spPr>
            <a:xfrm>
              <a:off x="2509560" y="2224080"/>
              <a:ext cx="515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... = 0.196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∫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27040" y="2311560"/>
              <a:ext cx="14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83600" y="4251240"/>
            <a:ext cx="83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0.196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4(50 mm)] = 3.92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E738-EBFA-4F43-9392-D6F1E1E042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8 STRESS CONCEN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5558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ommon discontinuities of the x-section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connecting 2 collinear shaft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wa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connect gears or pulleys to a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ulder fil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d to fabricate a single collinear shaft from 2 shafts with different di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891040" y="1219320"/>
            <a:ext cx="3252960" cy="510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519E-3CA2-48B0-90FE-D569341470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Ng Family</cp:lastModifiedBy>
  <dcterms:modified xsi:type="dcterms:W3CDTF">2005-05-05T16:58:57Z</dcterms:modified>
  <cp:revision>377</cp:revision>
  <dc:subject/>
  <dc:title>Chapter 1</dc:title>
</cp:coreProperties>
</file>