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F928-CA55-4AA4-B5B8-9CA41CF50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3CB1-6CC1-41A8-9917-9DD026F6D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CC62-247F-409A-8563-3A2AFCA4A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8F4D-C520-47FE-BC19-F3E5AC854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F50D-FBB2-4549-9B40-20B631168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58A9-C176-4574-922F-DF305FDA7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92BC-0B96-4497-88AA-431FEC3A5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FA35-BEA7-4388-A8E7-78A537F57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FE0A-9396-484E-BC26-508FDB695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E962-E12C-4A4E-ADBC-B7D61FD4E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3998-2CD7-4E95-8E07-B8C7E5EAE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9A02-453B-4C6D-8BA4-C2E7BE0EA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21E9-F993-4047-9F80-17C012FFA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B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586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tress in members caused by b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how to establish shear and moment diagrams for a beam or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581280"/>
            <a:ext cx="86868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largest shear and moment in a member, and specify where the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members that are straight, symmetric x-section and homogeneous linear-elas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066680"/>
            <a:ext cx="2603520" cy="260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B79D-112D-4F41-96FC-819057FDC3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beam perpendicular to its axis at each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ree-body diagram of one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hown acting in positive sense, according to sign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forces perpendicular to beam’s axis to get sh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moments about the sectioned end of segment to get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ACAF-7DAC-47C1-9CAF-EA247F29AB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shear diagram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moment diagram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umerical values are positive, values are plotted above axis, otherwise, negative values are plotted below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nvenient to show the shear and moment diagrams directly below the free-bod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8F79-F5D6-48A0-921B-B990616CCF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845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ar and moment diagrams for beam shown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907320" cy="343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2068-0EDA-41DA-88BB-7308402E41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00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n in free-body dia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re is a discontinuity of distributed load and a concentrated load at beam’s center, two regio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consi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232920" y="3519360"/>
            <a:ext cx="31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840" y="4205160"/>
            <a:ext cx="60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↑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.75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1440" y="5029200"/>
            <a:ext cx="7053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 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5.7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0)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02920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382840" cy="17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0923-5D29-48AC-86E8-C2BC6D2775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9240" y="1066680"/>
            <a:ext cx="5938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209160" y="1690560"/>
            <a:ext cx="370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92320" y="2529000"/>
            <a:ext cx="741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↑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5.7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400" y="3519360"/>
            <a:ext cx="88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 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5.7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92.5)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50532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24480" y="106668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49760" y="4510080"/>
            <a:ext cx="93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esults by apply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 = dV/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 = dM/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77B1-A361-48BE-8869-63D0BE70DF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0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35480" y="1143000"/>
            <a:ext cx="359244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3DCF-FDB1-4E27-A250-07EB8A56DC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r method to construct shear and moment diagram, one that is based on two differential equations that exist among distributed load, shear and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5337000" cy="36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22D6-720E-4C85-9E7E-79001DE485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05520" y="1676520"/>
            <a:ext cx="3809880" cy="3962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76520"/>
            <a:ext cx="4419720" cy="3962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5920" y="1066680"/>
            <a:ext cx="8300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gions of distributed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1120" y="1719360"/>
            <a:ext cx="1642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8400" y="196524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25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93400" y="1676520"/>
            <a:ext cx="172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51040" y="19288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643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9000" y="3036960"/>
            <a:ext cx="1828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of shear diagram at eac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318276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of moment diagram at eac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304812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load intensity at eac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318276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hear at eac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D91D-EBEC-401D-83DD-7FDB268AEA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676520"/>
            <a:ext cx="4191120" cy="281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1676520"/>
            <a:ext cx="4191120" cy="281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5920" y="1066680"/>
            <a:ext cx="8300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gions of distributed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080" y="1752480"/>
            <a:ext cx="34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5440" y="1843200"/>
            <a:ext cx="33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3623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482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2362320"/>
            <a:ext cx="243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under distributed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2514600"/>
            <a:ext cx="190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rea under shear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6486-BC68-4BA2-B992-341ED93C44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5920" y="1066680"/>
            <a:ext cx="8300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gions of concentrated force and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7A9F-092D-4157-AA9C-D8F1C757DE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6960" y="1142640"/>
            <a:ext cx="586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pecial cases of unsymmetrical bending and members made of composit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curved members, stress concentrations, inelastic bending, and residual st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515D-B0E0-43A4-8B80-0C8993B6FB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920" y="1066680"/>
            <a:ext cx="8300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gions of concentrated force and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1600200"/>
            <a:ext cx="8610480" cy="4297320"/>
            <a:chOff x="228600" y="1600200"/>
            <a:chExt cx="8610480" cy="42973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28600" y="1905120"/>
              <a:ext cx="8610480" cy="39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228600" y="1600200"/>
              <a:ext cx="8610480" cy="3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5F29-9C70-40EE-B8D9-37F7825466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upport reactions and resolve forces acting on the beam into components that are perpendicular and parallel to beam’s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known values of shear at two ends of the b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C42E-5990-43F4-8C46-9E36F82BA8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V/dx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lope of the shear diagram at any point is equal to the (-ve) intensity of the distributed loading at that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numerical value of shear at a point, use method of sections and equation of equilibrium or by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∫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change in the shear between any two points is equal to (-ve) area under the load diagram between the two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F59C-DFE3-41F7-A1F9-C87C3B1FA2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(x) must be integrated to obta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, then if w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urve of degree 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a curve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men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 and plot known values of the moment at the ends of the b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M/dx =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lope of the moment diagram at any point is equal to the shear at th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F1CD-30FB-425B-A1BD-92B1CF7038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men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point where shear is zero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M/dx 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refore this will be a point of maximum or minimum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umerical value of moment is to be determined at the point, use method of sections and equation of equilibrium, or by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∫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change in moment between any two pts is equal to area under shear diagram between the two 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45D8-CF18-479D-B115-079CA64DC7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men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integrated to obta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curve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(x) will be a curve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6687-613B-4568-A9AD-E7584F807A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9600" y="1066680"/>
            <a:ext cx="8453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ar and moment diagrams for beam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02360" cy="33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CEDE-D2B0-4538-8FC7-192B58105A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6960" y="1066320"/>
            <a:ext cx="5709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ree-body dia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behavior of distributed load, slope of shear diagram varies from zero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us, its parabolic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ethod of sections to find point of zero she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3060720" cy="2021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-416520" y="525780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↑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6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943600" y="3200400"/>
            <a:ext cx="320040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F1AD-41A7-4BC8-ACEA-3B210BF858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7320" y="1066320"/>
            <a:ext cx="510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men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hear diagram, slope of moment diagram begin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decreases positively till it reaches zero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6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n it increases negatively and reach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5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Moment diagram is a cubic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46720" y="1143000"/>
            <a:ext cx="3645000" cy="2523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4200" y="586728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6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10552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19920" y="3862440"/>
            <a:ext cx="2879640" cy="253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10680" y="5181480"/>
            <a:ext cx="35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  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12D3-16CD-43FB-90E4-3AE12F779A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 BENDING DEFORMATION OF A STRAIGHT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758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bending moment is applied to a straight prismatic beam, the longitudinal lines be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vertical transverse lin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in stra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yet underg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4343400" cy="3481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358128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07D3-9B9D-4F98-A87C-C95FC126BD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Method for Constructing 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ing Deformation of a Straight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exure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ymmetrical B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Composite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Reinforced Concrete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Curved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Concen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Inelastic B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Residu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44C4-8199-49B2-8148-224389CDAB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 BENDING DEFORMATION OF A STRAIGHT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758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tral 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here longitudinal fibers of the material will not undergo a change in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5172120" cy="39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3910-86D2-4578-B15A-DFFE4A10CC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 BENDING DEFORMATION OF A STRAIGHT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453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we make the following 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itudinal ax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ithin neutral surface) does not experience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ge in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oss s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bea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in pl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erpendicular to longitudinal axis during the 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oss-s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its own plane will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rticular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, in plane of x-section and about which the x-section rotates, is called 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eu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352B-A9E6-4A83-9F56-44C07EF082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 BENDING DEFORMATION OF A STRAIGHT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77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specific x-section, the longitudinal normal strain will vary linearly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neu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traction will occur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fibers located above the neural axi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ongation will occur (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bers located bel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xi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1320" y="3503520"/>
            <a:ext cx="3352680" cy="29876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439000" y="5181480"/>
            <a:ext cx="3195720" cy="838440"/>
            <a:chOff x="2439000" y="5181480"/>
            <a:chExt cx="3195720" cy="838440"/>
          </a:xfrm>
        </p:grpSpPr>
        <p:sp>
          <p:nvSpPr>
            <p:cNvPr id="167" name=""/>
            <p:cNvSpPr/>
            <p:nvPr/>
          </p:nvSpPr>
          <p:spPr>
            <a:xfrm>
              <a:off x="2666880" y="5181480"/>
              <a:ext cx="2666880" cy="838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9000" y="5334120"/>
              <a:ext cx="319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200" y="539892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C8B5-BC48-4AA0-A4E3-C832A8512B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066680"/>
            <a:ext cx="85500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material behaves in a linear-elastic manner so that Hooke’s law a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 variation of norm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be the consequence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 variation in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Hooke’s law to Eqn 6-8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38720" y="1905120"/>
            <a:ext cx="280044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2818440" y="4267080"/>
            <a:ext cx="3317400" cy="838440"/>
            <a:chOff x="2818440" y="4267080"/>
            <a:chExt cx="3317400" cy="838440"/>
          </a:xfrm>
        </p:grpSpPr>
        <p:sp>
          <p:nvSpPr>
            <p:cNvPr id="174" name=""/>
            <p:cNvSpPr/>
            <p:nvPr/>
          </p:nvSpPr>
          <p:spPr>
            <a:xfrm>
              <a:off x="3048120" y="4267080"/>
              <a:ext cx="2666880" cy="838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8440" y="4419720"/>
              <a:ext cx="3317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07080" y="441972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C8EE-3C0F-4A96-BC94-57C1FF215D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0666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thematical expression, equilibrium equations of moment and forces,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478320" cy="3193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720" y="412920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57240" y="2819520"/>
            <a:ext cx="2753640" cy="838080"/>
            <a:chOff x="2757240" y="2819520"/>
            <a:chExt cx="2753640" cy="838080"/>
          </a:xfrm>
        </p:grpSpPr>
        <p:sp>
          <p:nvSpPr>
            <p:cNvPr id="182" name=""/>
            <p:cNvSpPr/>
            <p:nvPr/>
          </p:nvSpPr>
          <p:spPr>
            <a:xfrm>
              <a:off x="3048120" y="2819520"/>
              <a:ext cx="2209680" cy="838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57240" y="2978280"/>
              <a:ext cx="2753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y d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54800" y="297180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693520" y="3886200"/>
            <a:ext cx="3925440" cy="1095120"/>
            <a:chOff x="2693520" y="3886200"/>
            <a:chExt cx="3925440" cy="1095120"/>
          </a:xfrm>
        </p:grpSpPr>
        <p:sp>
          <p:nvSpPr>
            <p:cNvPr id="186" name=""/>
            <p:cNvSpPr/>
            <p:nvPr/>
          </p:nvSpPr>
          <p:spPr>
            <a:xfrm>
              <a:off x="3048120" y="3886200"/>
              <a:ext cx="312408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693520" y="3886200"/>
              <a:ext cx="3925440" cy="1095120"/>
              <a:chOff x="2693520" y="3886200"/>
              <a:chExt cx="3925440" cy="1095120"/>
            </a:xfrm>
          </p:grpSpPr>
          <p:sp>
            <p:nvSpPr>
              <p:cNvPr id="188" name=""/>
              <p:cNvSpPr/>
              <p:nvPr/>
            </p:nvSpPr>
            <p:spPr>
              <a:xfrm>
                <a:off x="3414960" y="3886200"/>
                <a:ext cx="18694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max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93520" y="4100400"/>
                <a:ext cx="3925440" cy="68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 =          </a:t>
                </a: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∫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y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d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95640" y="447012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304920" y="51055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l represent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ment of inert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-sectional area, computed about the neutral axis. We symbolize its value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EBCC-70AF-4896-B68D-3494C17D05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0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Eqn 6-11 can be solved and writte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6760" y="184320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88560" y="1568520"/>
            <a:ext cx="2786040" cy="1098360"/>
            <a:chOff x="3688560" y="1568520"/>
            <a:chExt cx="2786040" cy="1098360"/>
          </a:xfrm>
        </p:grpSpPr>
        <p:sp>
          <p:nvSpPr>
            <p:cNvPr id="196" name=""/>
            <p:cNvSpPr/>
            <p:nvPr/>
          </p:nvSpPr>
          <p:spPr>
            <a:xfrm>
              <a:off x="4114800" y="1600200"/>
              <a:ext cx="213336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688560" y="1568520"/>
              <a:ext cx="2786040" cy="1036080"/>
              <a:chOff x="3688560" y="1568520"/>
              <a:chExt cx="2786040" cy="1036080"/>
            </a:xfrm>
          </p:grpSpPr>
          <p:sp>
            <p:nvSpPr>
              <p:cNvPr id="198" name=""/>
              <p:cNvSpPr/>
              <p:nvPr/>
            </p:nvSpPr>
            <p:spPr>
              <a:xfrm>
                <a:off x="4774320" y="1568520"/>
                <a:ext cx="17002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88560" y="1805040"/>
                <a:ext cx="2133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x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86240" y="209088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228600" y="2665440"/>
            <a:ext cx="868680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8480" indent="-79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ximum normal stress in member, at a pt on x-sectional area farthest away from neutr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8480" indent="-79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ultant internal moment, computed about neutral axis of x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8480" indent="-79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oment of inertia of x-sectional area computed about neutr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8480" indent="-79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erpendicular distance from neutral axis to a pt farthest away from neutral axis, 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8368-B92B-40AC-9863-8B87EAAC75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066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ess at intermediate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termin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6760" y="222408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698280" y="1949400"/>
            <a:ext cx="2776320" cy="1098360"/>
            <a:chOff x="3698280" y="1949400"/>
            <a:chExt cx="2776320" cy="1098360"/>
          </a:xfrm>
        </p:grpSpPr>
        <p:sp>
          <p:nvSpPr>
            <p:cNvPr id="206" name=""/>
            <p:cNvSpPr/>
            <p:nvPr/>
          </p:nvSpPr>
          <p:spPr>
            <a:xfrm>
              <a:off x="4114800" y="1981080"/>
              <a:ext cx="213336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698280" y="1949400"/>
              <a:ext cx="2776320" cy="1036080"/>
              <a:chOff x="3698280" y="1949400"/>
              <a:chExt cx="2776320" cy="1036080"/>
            </a:xfrm>
          </p:grpSpPr>
          <p:sp>
            <p:nvSpPr>
              <p:cNvPr id="208" name=""/>
              <p:cNvSpPr/>
              <p:nvPr/>
            </p:nvSpPr>
            <p:spPr>
              <a:xfrm>
                <a:off x="4774320" y="1949400"/>
                <a:ext cx="17002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98280" y="2185920"/>
                <a:ext cx="199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86240" y="247176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304920" y="3219480"/>
            <a:ext cx="86868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-ve as it acts in the -ve direction  (compr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6-12 and 6-13 are often referred to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exure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54C7-66E9-4985-9F7A-FFA4585D3F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004760"/>
            <a:ext cx="8534160" cy="471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section of straight bea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ins pl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beam deforms due to be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tral ax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ubjected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ero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eformation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ngitudin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zero at neutral axis to maximum at outer fibers of 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material is homogeneous and Hooke’s law appli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var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the x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87C8-201C-44B7-8434-688E36D43A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066680"/>
            <a:ext cx="8534160" cy="4111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near-elastic material, neutral axis passes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ntr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-sectional area. This is based on the fact that resultant normal force acting on x-section must be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ure formula is based on requirement that resultant moment on the x-section is equal to moment produced by linear normal stress distribution about neutr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0CBF-AE50-45C5-9FEC-18ED0C99F1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066680"/>
            <a:ext cx="853416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member at pt where bending or normal stress is to be determined and obtain internal mo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oidal or neutral axis for x-section must be known si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mputed about this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bsolute maximum bending stress is to be determined, then draw moment diagram in order to determine the maximum moment in th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8F9D-F7E7-474D-BC20-2290F7C234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2680" y="1066320"/>
            <a:ext cx="8377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that are slender and support loadings applied perpendicular to their longitudinal axi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4732200"/>
            <a:ext cx="4952880" cy="172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5334120" cy="163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510552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22A5-FB2A-4735-BE01-2172A3AC99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1066680"/>
            <a:ext cx="853416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tio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oment of inert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x-sectional area about the neutr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used are discussed in Textbook Appendix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the course book’s inside front cover for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everal common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87CA-AEB1-431E-A207-9378A354F0B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066680"/>
            <a:ext cx="853416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asured perpendicular to neutral axis to pt where normal stress is to be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equatio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if maximum bending stress is needed, us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/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units are consistent when substituting values into the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53E5-EC05-4C72-8CC5-8CC9DC79BC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shown has x-sectional area in the shape of a channel. Determine the maximum bending stress that occurs in the beam at 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665680" cy="314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798C-60BD-4C76-A6AF-FED7EC5F5C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support reactions need not be determined. Instead, use method of sections, the segment to the lef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ote that resultant internal axial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sses through centroid of x-se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ant internal moment must be computed about the beam’s neutral axis a s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4476600" cy="21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614D-E60D-4B1C-AF0E-62A0266C62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location of neutral axis, x-sectional area divided into 3 composite parts as shown. Then using Eqn. A-2 of Appendix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05120" y="4267080"/>
            <a:ext cx="4476600" cy="2113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849920" y="2666880"/>
            <a:ext cx="4217760" cy="18115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-230040" y="3083040"/>
            <a:ext cx="5597280" cy="1036080"/>
            <a:chOff x="-230040" y="3083040"/>
            <a:chExt cx="5597280" cy="1036080"/>
          </a:xfrm>
        </p:grpSpPr>
        <p:sp>
          <p:nvSpPr>
            <p:cNvPr id="233" name=""/>
            <p:cNvSpPr/>
            <p:nvPr/>
          </p:nvSpPr>
          <p:spPr>
            <a:xfrm>
              <a:off x="-230040" y="3349800"/>
              <a:ext cx="559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= ... = 59.09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5440" y="3083040"/>
              <a:ext cx="20084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0880" y="35877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800" y="35067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76440" y="32544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80BD-6612-4917-B89F-0381EE78B5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moment equation of equilibrium about neutral axi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4476600" cy="2113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04720" y="263844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0" y="2666880"/>
            <a:ext cx="92534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   24 kN(2 m) + 1.0 kN(0.05909 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859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01B8-00FB-49B2-8B76-754FE7417B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tion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 of inertia about neutral axis is determined using parallel-axis theorem applied to each of the three composite parts of the x-sectional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5800" y="2825640"/>
            <a:ext cx="75801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07960" indent="-507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1/12(0.250 m)(0.020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+ (0.250 m)(0.020 m)(0.05909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10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2[1/12(0.015 m)(0.200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+ (0.015 m)(0.200 m)(0.100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5909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2.26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191120" y="4838760"/>
            <a:ext cx="4522680" cy="19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B716-D67C-4C9C-9C1C-A50645A0F3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bending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ccurs at points farthest away from neutral axis. At bottom of bea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200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5909 m = 0.1409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3732120"/>
            <a:ext cx="4495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op of beam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.79 MPa. In addition, normal for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kN and shear for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.4 kN will also contribute additional stress on x-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896000" y="4011480"/>
            <a:ext cx="4095720" cy="193212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318240" y="2595600"/>
            <a:ext cx="8938080" cy="1066320"/>
            <a:chOff x="318240" y="2595600"/>
            <a:chExt cx="8938080" cy="1066320"/>
          </a:xfrm>
        </p:grpSpPr>
        <p:grpSp>
          <p:nvGrpSpPr>
            <p:cNvPr id="252" name=""/>
            <p:cNvGrpSpPr/>
            <p:nvPr/>
          </p:nvGrpSpPr>
          <p:grpSpPr>
            <a:xfrm>
              <a:off x="318240" y="2625840"/>
              <a:ext cx="8938080" cy="1036080"/>
              <a:chOff x="318240" y="2625840"/>
              <a:chExt cx="8938080" cy="1036080"/>
            </a:xfrm>
          </p:grpSpPr>
          <p:sp>
            <p:nvSpPr>
              <p:cNvPr id="253" name=""/>
              <p:cNvSpPr/>
              <p:nvPr/>
            </p:nvSpPr>
            <p:spPr>
              <a:xfrm>
                <a:off x="1699560" y="2625840"/>
                <a:ext cx="17002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18240" y="2862360"/>
                <a:ext cx="89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x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16.2 MP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11480" y="314820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2729520" y="2595600"/>
              <a:ext cx="4548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.859 k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(0.1409 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2.26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25680" y="31320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197A-D9E5-4FA4-B347-62848DE38D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AL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7580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dition for flexure formula is the symmetric x-sectional area of beam about an axis perpendicular to neu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flexure formula can also be applied either to a beam having x-sectional area of any shape OR to a beam having a resultant moment that acts in any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3057480" cy="2190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29448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78D6-F935-4C95-B868-E1C6FB34FEF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AL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758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pplied along princip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beam with unsymmetrical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coordinate system as per usual and that resultant mo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s alo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distribution acting over entire x-sectional area to be a zero force resulta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internal moment ab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to be z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internal moment ab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to be  equal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3B4A-98D8-4DB7-8052-9B18BC563E2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design a beam, it is necessary to determine the maximum shear and moment in the b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functions of arbitrary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unctions can be represented by graph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s need to know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hear and moment along the beam to know where to reinforc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1B9F-594C-4C3D-996D-34B878C156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276720" y="5334120"/>
            <a:ext cx="22860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4191120"/>
            <a:ext cx="22860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2971800"/>
            <a:ext cx="22860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AL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75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pplied along princip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the 3 conditions mathematically by considering force acting on differential ele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ted at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orc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440" y="3048120"/>
            <a:ext cx="519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840" y="4281480"/>
            <a:ext cx="544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= ∫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1480" y="5424480"/>
            <a:ext cx="558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= ∫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18240" y="3124080"/>
            <a:ext cx="3273480" cy="2840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593440" y="358128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93440" y="481500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69400" y="603396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172F-2DF9-4196-9901-CFB32000A8A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pplied along princip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n 6.14 is satisfied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passes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ntr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-section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terial has linear-elastic behavior, then we can substitu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/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Eqn 6-16 and after integration, we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139920" y="3505320"/>
            <a:ext cx="2915280" cy="914400"/>
            <a:chOff x="3139920" y="3505320"/>
            <a:chExt cx="2915280" cy="914400"/>
          </a:xfrm>
        </p:grpSpPr>
        <p:sp>
          <p:nvSpPr>
            <p:cNvPr id="279" name=""/>
            <p:cNvSpPr/>
            <p:nvPr/>
          </p:nvSpPr>
          <p:spPr>
            <a:xfrm>
              <a:off x="3505320" y="3505320"/>
              <a:ext cx="21333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39920" y="3657600"/>
              <a:ext cx="291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638680" y="4038480"/>
            <a:ext cx="3353040" cy="2271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3124080" cy="24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F9BB-993A-4238-A221-7DA0B1E0AE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pplied along princip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139920" y="1600200"/>
            <a:ext cx="2915280" cy="914400"/>
            <a:chOff x="3139920" y="1600200"/>
            <a:chExt cx="2915280" cy="914400"/>
          </a:xfrm>
        </p:grpSpPr>
        <p:sp>
          <p:nvSpPr>
            <p:cNvPr id="286" name=""/>
            <p:cNvSpPr/>
            <p:nvPr/>
          </p:nvSpPr>
          <p:spPr>
            <a:xfrm>
              <a:off x="3505320" y="1600200"/>
              <a:ext cx="21333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9920" y="1752480"/>
              <a:ext cx="291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31840" y="2514600"/>
            <a:ext cx="8607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tegral is the product of inertia for the area. It will be zero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 are chosen as principal axes of inertia for th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Eqns 6-14 to 6-16 will always be satisfied regardless of the direction of applied mo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4D32-5486-4B61-87B1-53F9FF655FA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rbitrarily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1840" y="1447920"/>
            <a:ext cx="86072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member is loaded such that resultant internal moment does not act about one of the principal axes of x-section, resolve the moment into components directed along the principal 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lexure formula to determine normal stress caused by each moment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inciple of superposition to determine resultant normal stress at the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39E0-AF42-46A0-84D1-81C83E4E7E3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rbitrarily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1840" y="1447920"/>
            <a:ext cx="86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general normal stress at any pt on x-se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295720" y="2057400"/>
            <a:ext cx="3943440" cy="1295280"/>
            <a:chOff x="2295720" y="2057400"/>
            <a:chExt cx="3943440" cy="1295280"/>
          </a:xfrm>
        </p:grpSpPr>
        <p:sp>
          <p:nvSpPr>
            <p:cNvPr id="296" name=""/>
            <p:cNvSpPr/>
            <p:nvPr/>
          </p:nvSpPr>
          <p:spPr>
            <a:xfrm>
              <a:off x="2971800" y="2057400"/>
              <a:ext cx="312408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295720" y="2168640"/>
              <a:ext cx="3943440" cy="1154160"/>
              <a:chOff x="2295720" y="2168640"/>
              <a:chExt cx="3943440" cy="1154160"/>
            </a:xfrm>
          </p:grpSpPr>
          <p:sp>
            <p:nvSpPr>
              <p:cNvPr id="298" name=""/>
              <p:cNvSpPr/>
              <p:nvPr/>
            </p:nvSpPr>
            <p:spPr>
              <a:xfrm>
                <a:off x="3260160" y="2168640"/>
                <a:ext cx="178092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95720" y="2405160"/>
                <a:ext cx="3425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11680" y="269064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65800" y="2168640"/>
                <a:ext cx="177336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86360" y="268128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441360" y="3411360"/>
            <a:ext cx="83217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stress at the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, 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s of pt measured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 having origin at centroid of x-sectional area and forming a right-handed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88920" y="243828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E9D9-DF21-4605-AA9A-C4FEE435BC3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rbitrarily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1840" y="1447920"/>
            <a:ext cx="86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general normal stress at any pt on x-se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95720" y="1981080"/>
            <a:ext cx="3943440" cy="1295280"/>
            <a:chOff x="2295720" y="1981080"/>
            <a:chExt cx="3943440" cy="1295280"/>
          </a:xfrm>
        </p:grpSpPr>
        <p:sp>
          <p:nvSpPr>
            <p:cNvPr id="309" name=""/>
            <p:cNvSpPr/>
            <p:nvPr/>
          </p:nvSpPr>
          <p:spPr>
            <a:xfrm>
              <a:off x="2971800" y="1981080"/>
              <a:ext cx="312408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295720" y="2092320"/>
              <a:ext cx="3943440" cy="1154160"/>
              <a:chOff x="2295720" y="2092320"/>
              <a:chExt cx="3943440" cy="1154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260160" y="2092320"/>
                <a:ext cx="178092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95720" y="2328840"/>
                <a:ext cx="3425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11680" y="261432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65800" y="2092320"/>
                <a:ext cx="177336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86360" y="260496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441360" y="3276720"/>
            <a:ext cx="816912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resultant internal moment components along princip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. Positive if directed alo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. Can also be st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positive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towa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rincipal moments of inertia computed about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88920" y="243828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9B25-C0FD-4452-B66D-000D6BB9A3A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rbitrarily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733920" cy="3452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3419640" cy="2762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5724360" y="3733920"/>
            <a:ext cx="3419640" cy="2828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rot="2358000">
            <a:off x="2039040" y="3809520"/>
            <a:ext cx="16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4320" y="4648320"/>
            <a:ext cx="16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800A-321D-4A6E-A4AB-9CAD8358DC0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Orientation of neu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1840" y="1447920"/>
            <a:ext cx="860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utral axis can be determined by applying Eqn 6-17 with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nce no normal stress acts on neutral axis. Finally,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670480" y="2895480"/>
            <a:ext cx="3618720" cy="1295640"/>
            <a:chOff x="2670480" y="2895480"/>
            <a:chExt cx="3618720" cy="1295640"/>
          </a:xfrm>
        </p:grpSpPr>
        <p:sp>
          <p:nvSpPr>
            <p:cNvPr id="329" name=""/>
            <p:cNvSpPr/>
            <p:nvPr/>
          </p:nvSpPr>
          <p:spPr>
            <a:xfrm>
              <a:off x="2971800" y="2895480"/>
              <a:ext cx="3124080" cy="129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95560" y="3006720"/>
              <a:ext cx="14580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70480" y="325764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a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a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21160" y="352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4920" y="4191120"/>
            <a:ext cx="816912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nsymmetrical bending, angl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ing direction of mo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equal to angl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gle defining inclination of neutral ax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8920" y="327672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AA63-2B4A-4FB6-9316-16CF8860320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1840" y="1003320"/>
            <a:ext cx="8607240" cy="547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ure formula applied only when bending occurs about axes that represent the principal axes of inertia for x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xes have their origin at centroid and are orientated along an axis of symmetry and perpendicular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ment applied about arbitrary axis, then resolve moment into components along each of the principal axes, and stress at a pt is determined by superposition of stress caused by each moment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2395-BF9C-4D2D-B2AC-335864FBB80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-section shown is subjected to bending mo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Using methods from Appendix A, the principal ax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oriented as shown such that they represent the maximum and minimum principal moments of inerti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96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.54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normal stress at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rientation of neutral 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733920" y="3581280"/>
            <a:ext cx="4724280" cy="30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33C0-116F-4E83-BD6E-14D0BAB1848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and bending-moment functions must be determined for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bea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two discontinuities of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3041640"/>
            <a:ext cx="8001000" cy="309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FD5D-7792-432F-8242-16E8345685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20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momen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se Eqn 6-19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needs to be principal axis for the maximum moment of inertia, as most of the area if located furthest away from this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572000" y="3751200"/>
            <a:ext cx="4343400" cy="27957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17600" y="2743200"/>
            <a:ext cx="67471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sin 57.1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79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cos 57.1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.86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217A-2A8C-4519-AE27-BDCA3FB63A1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20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nding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determined first. Not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, z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2 m, 0.35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Using colored and shaded triangles from construction shown belo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181480" y="4025880"/>
            <a:ext cx="3498840" cy="2755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99120" y="2930400"/>
            <a:ext cx="78044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5 sin 32.9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 cos 32.9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8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 cos 32.9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 sin 32.9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1852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C2E2-D291-41C2-82FC-E6B46ADBE22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20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nding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Eqn 6-17, we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267080" y="3305160"/>
            <a:ext cx="4413240" cy="347652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498960" y="2209680"/>
            <a:ext cx="6836400" cy="1154160"/>
            <a:chOff x="498960" y="2209680"/>
            <a:chExt cx="6836400" cy="1154160"/>
          </a:xfrm>
        </p:grpSpPr>
        <p:sp>
          <p:nvSpPr>
            <p:cNvPr id="352" name=""/>
            <p:cNvSpPr/>
            <p:nvPr/>
          </p:nvSpPr>
          <p:spPr>
            <a:xfrm>
              <a:off x="1463040" y="2209680"/>
              <a:ext cx="17809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8960" y="2446200"/>
              <a:ext cx="68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+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... = 3.76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14560" y="273168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68680" y="2209680"/>
              <a:ext cx="177336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240" y="27223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E7E9-2160-4037-A0B6-B0C0325269E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20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ientation of neu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 =57.1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hown, Thu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886200" y="2774880"/>
            <a:ext cx="4952880" cy="39020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838160" y="2320920"/>
            <a:ext cx="1458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3080" y="2133720"/>
            <a:ext cx="37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63760" y="2405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48400" y="3448080"/>
            <a:ext cx="2575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85.3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1333080" y="2889360"/>
            <a:ext cx="18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5320" y="4876920"/>
            <a:ext cx="31665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200400" y="4038120"/>
            <a:ext cx="990720" cy="114300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5780-F3AC-4ABA-846C-CDF12B289CC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eam sign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choice of sign convention is arbitrary, in this course, we adopt the one often used by engine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3236760" cy="375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2697-899B-4293-B661-C74FF7BA5C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403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s are long straight members that carry loads perpendicular to their longitudinal axis. They are classified according to how they are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ign a beam, we need to know the variation of the shear and moment along its axis in order to find the points where they are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a sign convention for positive shear and moment will allow us to draw the 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DFC8-ECC4-4153-B6F5-D97B1D16C6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ll reactive forces and couple moments acting on b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all forces into components acting perpendicular and parallel to beam’s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separate coordinates x having an origin at beam’s left end, and extending to regions of beam between concentrated forces and/or couple moments, or where there is no discontinuity of distributed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9C4C-DA59-4159-BA3D-EC0FE99BB6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UNgCH</cp:lastModifiedBy>
  <dcterms:modified xsi:type="dcterms:W3CDTF">2005-05-24T08:51:14Z</dcterms:modified>
  <cp:revision>588</cp:revision>
  <dc:subject/>
  <dc:title>Chapter 1</dc:title>
</cp:coreProperties>
</file>