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6D88-E18B-4E62-AACC-1B1036A7B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62728-2F2A-4469-A331-73149AAA1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CA8D-D85D-4AE4-A6E9-8C07A5FAE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148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96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148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36CB1-6FBB-4079-AB93-03C9B501D3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3E982-6D0B-478E-BAB2-A74C43FF0E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1CEE-690A-40DE-9825-820B19817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4684E-6C6D-46B5-BFEC-158DD4971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6894-C881-4A93-8AFD-584069CC5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880" y="495360"/>
            <a:ext cx="87627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7B535-48F3-4068-B712-31E3B752A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C6BB-D645-44CD-B1C7-AAFEF9494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12E0-3AC0-4CAC-AB70-7A41D6C85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4FAA-1EAC-422D-A8FE-EC661C765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9144000" cy="547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0"/>
            <a:ext cx="914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3BDB-0962-4349-809D-CBF97E04A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80" y="6629400"/>
            <a:ext cx="25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 Pearson Education South Asia Pte Lt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B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586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stress in members caused by b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how to establish shear and moment diagrams for a beam or sh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581280"/>
            <a:ext cx="86868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largest shear and moment in a member, and specify where they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members that are straight, symmetric x-section and homogeneous linear-elas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24480" y="1066680"/>
            <a:ext cx="2603520" cy="260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8CD8C-16F7-4164-9AF1-A75597D5A2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 SHEAR AND MOMENT DIA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860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and momen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beam perpendicular to its axis at each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free-body diagram of one se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shown acting in positive sense, according to sign co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forces perpendicular to beam’s axis to get sh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moments about the sectioned end of segment to get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00AB-DF63-4CB3-8607-7DFDC638A9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 SHEAR AND MOMENT DIA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860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and moment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shear diagram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moment diagram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umerical values are positive, values are plotted above axis, otherwise, negative values are plotted below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onvenient to show the shear and moment diagrams directly below the free-body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E60D0-8233-472C-AC77-310A6FAF0A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3280" y="1066320"/>
            <a:ext cx="8453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he shear and moment diagrams for beam shown b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907320" cy="343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3149-4FAF-45C9-9687-5F448CCA36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6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600" y="1066320"/>
            <a:ext cx="8300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pport reaction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n in free-body dia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and momen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re is a discontinuity of distributed load and a concentrated load at beam’s center, two region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consid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-232920" y="3519360"/>
            <a:ext cx="3160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840" y="4205160"/>
            <a:ext cx="608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↑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5.75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1440" y="5029200"/>
            <a:ext cx="7053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   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5.7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80) 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5029200"/>
            <a:ext cx="228600" cy="685800"/>
          </a:xfrm>
          <a:custGeom>
            <a:avLst/>
            <a:gdLst>
              <a:gd name="textAreaLeft" fmla="*/ 30600 w 228600"/>
              <a:gd name="textAreaRight" fmla="*/ 198000 w 2286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400800" y="3124080"/>
            <a:ext cx="2382840" cy="17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37B3E-4D66-4DD3-86AF-188A34C985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6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9240" y="1066680"/>
            <a:ext cx="5938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and momen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209160" y="1690560"/>
            <a:ext cx="3702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292320" y="2529000"/>
            <a:ext cx="741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↑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15.75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400" y="3519360"/>
            <a:ext cx="889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   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7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15.75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92.5) 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505320"/>
            <a:ext cx="228600" cy="685800"/>
          </a:xfrm>
          <a:custGeom>
            <a:avLst/>
            <a:gdLst>
              <a:gd name="textAreaLeft" fmla="*/ 30600 w 228600"/>
              <a:gd name="textAreaRight" fmla="*/ 198000 w 2286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324480" y="106668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-149760" y="4510080"/>
            <a:ext cx="93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results by apply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 = dV/d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 = dM/d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44841-EF3A-4F65-B2B0-AB1E087C17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6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830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and moment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235480" y="1143000"/>
            <a:ext cx="3592440" cy="556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DA47D-4149-48CC-9A65-2C16F86FC8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6.2 GRAPHICAL METHOD FOR CONSTRUCTING SHEAR AND MOMENT DIAGRAM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8605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r method to construct shear and moment diagram, one that is based on two differential equations that exist among distributed load, shear and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5337000" cy="36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582E-26E4-4CA6-8122-B7353FA029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105520" y="1676520"/>
            <a:ext cx="3809880" cy="3962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76520"/>
            <a:ext cx="4419720" cy="3962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6.2 GRAPHICAL METHOD FOR CONSTRUCTING SHEAR AND MOMENT DIAGRAM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5920" y="1066680"/>
            <a:ext cx="8300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gions of distributed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21120" y="1719360"/>
            <a:ext cx="16423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78400" y="1965240"/>
            <a:ext cx="22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225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93400" y="1676520"/>
            <a:ext cx="1721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51040" y="1928880"/>
            <a:ext cx="175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26436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9000" y="3036960"/>
            <a:ext cx="1828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pe of shear diagram at each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318276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pe of moment diagram at each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304812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9120" indent="-51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load intensity at each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81680" y="318276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shear at each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4C3F1-F6A6-4148-B991-DF02418572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1676520"/>
            <a:ext cx="4191120" cy="2819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1676520"/>
            <a:ext cx="4191120" cy="2819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6.2 GRAPHICAL METHOD FOR CONSTRUCTING SHEAR AND MOMENT DIAGRAM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5920" y="1066680"/>
            <a:ext cx="8300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gions of distributed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080" y="1752480"/>
            <a:ext cx="341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∫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85440" y="1843200"/>
            <a:ext cx="33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∫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3623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 s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24829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5120" y="2362320"/>
            <a:ext cx="2438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 under distributed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00800" y="2514600"/>
            <a:ext cx="1905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area under shear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0918B-6DA6-496F-B981-E02A0297F0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6.2 GRAPHICAL METHOD FOR CONSTRUCTING SHEAR AND MOMENT DIAGRAM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5920" y="1066680"/>
            <a:ext cx="8300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gions of concentrated force and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10480" cy="30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BF74-0173-4094-BEEA-464286EE56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6960" y="1142640"/>
            <a:ext cx="586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pecial cases of unsymmetrical bending and members made of composite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curved members, stress concentrations, inelastic bending, and residual st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19920" y="1066680"/>
            <a:ext cx="2908080" cy="290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87ED9-3314-44AC-8432-10F253BE9C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6.2 GRAPHICAL METHOD FOR CONSTRUCTING SHEAR AND MOMENT DIAGRAM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5920" y="1066680"/>
            <a:ext cx="8300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gions of concentrated force and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8600" y="1600200"/>
            <a:ext cx="8610480" cy="4297320"/>
            <a:chOff x="228600" y="1600200"/>
            <a:chExt cx="8610480" cy="429732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228600" y="1905120"/>
              <a:ext cx="8610480" cy="39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228600" y="1600200"/>
              <a:ext cx="8610480" cy="38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9761E-9A22-45EE-8F4C-19F24B680A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6.2 GRAPHICAL METHOD FOR CONSTRUCTING SHEAR AND MOMENT DIAGRAM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5560" y="1066320"/>
            <a:ext cx="8453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pport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support reactions and resolve forces acting on the beam into components that are perpendicular and parallel to beam’s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known values of shear at two ends of the b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96C5-C2B6-48A2-AC95-7300372FAB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6.2 GRAPHICAL METHOD FOR CONSTRUCTING SHEAR AND MOMENT DIAGRAM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5560" y="1066320"/>
            <a:ext cx="8453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V/dx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lope of the shear diagram at any point is equal to the (-ve) intensity of the distributed loading at that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nd numerical value of shear at a point, use method of sections and equation of equilibrium or by us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∫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.e., change in the shear between any two points is equal to (-ve) area under the load diagram between the two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DF3FD-3D35-4A71-87A6-4FE1C694B3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6.2 GRAPHICAL METHOD FOR CONSTRUCTING SHEAR AND MOMENT DIAGRAM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5560" y="1066320"/>
            <a:ext cx="8453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(x) must be integrated to obta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, then if w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urve of degree 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be a curve of deg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ment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 and plot known values of the moment at the ends of the b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M/dx = 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lope of the moment diagram at any point is equal to the shear at the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F8E00-1B94-4669-9D5D-CE0E4C3610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6.2 GRAPHICAL METHOD FOR CONSTRUCTING SHEAR AND MOMENT DIAGRAM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5560" y="1066320"/>
            <a:ext cx="8453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ment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point where shear is zero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M/dx =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refore this will be a point of maximum or minimum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umerical value of moment is to be determined at the point, use method of sections and equation of equilibrium, or by us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∫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.e., change in moment between any two pts is equal to area under shear diagram between the two 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3624C-AA5B-4EE0-AF17-7A3956DE81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6.2 GRAPHICAL METHOD FOR CONSTRUCTING SHEAR AND MOMENT DIAGRAM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5560" y="1066320"/>
            <a:ext cx="8453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ment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integrated to obta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a curve of deg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M(x) will be a curve of degre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17163-3B7C-451A-B580-E2B4F9F5893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9600" y="1066680"/>
            <a:ext cx="8453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he shear and moment diagrams for beam shown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102360" cy="335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262B-D186-4ABE-BDFD-E2FD49495EA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11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6960" y="1066320"/>
            <a:ext cx="5709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pport react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free-body dia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behavior of distributed load, slope of shear diagram varies from zero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us, its parabolic sha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ethod of sections to find point of zero she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3060720" cy="2021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-416520" y="5257800"/>
            <a:ext cx="58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↑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6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943600" y="3200400"/>
            <a:ext cx="3200400" cy="30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87CA-0358-4524-B9A3-0955544174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11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7320" y="1066320"/>
            <a:ext cx="510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ment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shear diagram, slope of moment diagram begin 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decreases positively till it reaches zero 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6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en it increases negatively and reach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.5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Moment diagram is a cubic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46720" y="1143000"/>
            <a:ext cx="3645000" cy="2523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4200" y="5867280"/>
            <a:ext cx="32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6 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5105520"/>
            <a:ext cx="228600" cy="685800"/>
          </a:xfrm>
          <a:custGeom>
            <a:avLst/>
            <a:gdLst>
              <a:gd name="textAreaLeft" fmla="*/ 30600 w 228600"/>
              <a:gd name="textAreaRight" fmla="*/ 198000 w 2286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019920" y="3862440"/>
            <a:ext cx="2879640" cy="2538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10680" y="5181480"/>
            <a:ext cx="35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   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9150-82E6-4EB5-BB38-6F7406CAB70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 BENDING DEFORMATION OF A STRAIGHT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7320" y="1066680"/>
            <a:ext cx="87580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bending moment is applied to a straight prismatic beam, the longitudinal lines be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rv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vertical transverse lin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main stra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yet undergo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495680" y="2971800"/>
            <a:ext cx="4343400" cy="3481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3581280" cy="340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F4E03-07F0-4C97-99A1-9A72502B7AB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and Moment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al Method for Constructing Shear and Moment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ding Deformation of a Straight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lexure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ymmetrical B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*Composite B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*Reinforced Concrete B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*Curved B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Concent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*Inelastic B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*Residual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1C9E0-3FC7-4079-A80B-9E3CABA852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 BENDING DEFORMATION OF A STRAIGHT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7320" y="1066680"/>
            <a:ext cx="8758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utral surf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where longitudinal fibers of the material will not undergo a change in 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86000" y="2362320"/>
            <a:ext cx="5172120" cy="39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690B-3536-4333-9D61-DBE4F5C3B96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 BENDING DEFORMATION OF A STRAIGHT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9600" y="1066320"/>
            <a:ext cx="8453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we make the following assum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itudinal ax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within neutral surface) does not experience 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nge in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oss s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bea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main pla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erpendicular to longitudinal axis during the de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oss-s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in its own plane will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articular,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is, in plane of x-section and about which the x-section rotates, is called 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neutr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77E55-2E1C-4E6B-9469-46865F7B03C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 BENDING DEFORMATION OF A STRAIGHT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9600" y="1066320"/>
            <a:ext cx="8377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y specific x-section, the longitudinal normal strain will vary linearly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the neutr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ntraction will occur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n fibers located above the neural axi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longation will occur (+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ibers located below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xis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791320" y="3503520"/>
            <a:ext cx="3352680" cy="298764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2439000" y="5181480"/>
            <a:ext cx="3195720" cy="838440"/>
            <a:chOff x="2439000" y="5181480"/>
            <a:chExt cx="3195720" cy="838440"/>
          </a:xfrm>
        </p:grpSpPr>
        <p:sp>
          <p:nvSpPr>
            <p:cNvPr id="167" name=""/>
            <p:cNvSpPr/>
            <p:nvPr/>
          </p:nvSpPr>
          <p:spPr>
            <a:xfrm>
              <a:off x="2666880" y="5181480"/>
              <a:ext cx="2666880" cy="838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39000" y="5334120"/>
              <a:ext cx="3195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max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7200" y="539892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quation 6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C054-906C-4221-A86C-811704C3B46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4 THE FLEXURE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1066680"/>
            <a:ext cx="855000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that material behaves in a linear-elastic manner so that Hooke’s law a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near variation of normal st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be the consequence o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near variation in norm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Hooke’s law to Eqn 6-8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138720" y="1905120"/>
            <a:ext cx="2800440" cy="472428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2818440" y="4267080"/>
            <a:ext cx="3317400" cy="838440"/>
            <a:chOff x="2818440" y="4267080"/>
            <a:chExt cx="3317400" cy="838440"/>
          </a:xfrm>
        </p:grpSpPr>
        <p:sp>
          <p:nvSpPr>
            <p:cNvPr id="174" name=""/>
            <p:cNvSpPr/>
            <p:nvPr/>
          </p:nvSpPr>
          <p:spPr>
            <a:xfrm>
              <a:off x="3048120" y="4267080"/>
              <a:ext cx="2666880" cy="838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18440" y="4419720"/>
              <a:ext cx="3317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max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07080" y="441972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quation 6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D09E-71EF-41F5-8222-5E817A58BE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4 THE FLEXURE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106668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thematical expression, equilibrium equations of moment and forces, we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3478320" cy="3193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9720" y="4129200"/>
            <a:ext cx="34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quation 6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757240" y="2819520"/>
            <a:ext cx="2753640" cy="838080"/>
            <a:chOff x="2757240" y="2819520"/>
            <a:chExt cx="2753640" cy="838080"/>
          </a:xfrm>
        </p:grpSpPr>
        <p:sp>
          <p:nvSpPr>
            <p:cNvPr id="182" name=""/>
            <p:cNvSpPr/>
            <p:nvPr/>
          </p:nvSpPr>
          <p:spPr>
            <a:xfrm>
              <a:off x="3048120" y="2819520"/>
              <a:ext cx="2209680" cy="838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57240" y="2978280"/>
              <a:ext cx="2753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∫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y dA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54800" y="2971800"/>
            <a:ext cx="34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quation 6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693520" y="3886200"/>
            <a:ext cx="3925440" cy="1095120"/>
            <a:chOff x="2693520" y="3886200"/>
            <a:chExt cx="3925440" cy="1095120"/>
          </a:xfrm>
        </p:grpSpPr>
        <p:sp>
          <p:nvSpPr>
            <p:cNvPr id="186" name=""/>
            <p:cNvSpPr/>
            <p:nvPr/>
          </p:nvSpPr>
          <p:spPr>
            <a:xfrm>
              <a:off x="3048120" y="3886200"/>
              <a:ext cx="3124080" cy="1066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2693520" y="3886200"/>
              <a:ext cx="3925440" cy="1095120"/>
              <a:chOff x="2693520" y="3886200"/>
              <a:chExt cx="3925440" cy="1095120"/>
            </a:xfrm>
          </p:grpSpPr>
          <p:sp>
            <p:nvSpPr>
              <p:cNvPr id="188" name=""/>
              <p:cNvSpPr/>
              <p:nvPr/>
            </p:nvSpPr>
            <p:spPr>
              <a:xfrm>
                <a:off x="3414960" y="3886200"/>
                <a:ext cx="186948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max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693520" y="4100400"/>
                <a:ext cx="3925440" cy="68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 =          </a:t>
                </a:r>
                <a:r>
                  <a:rPr b="0" i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∫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y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d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995640" y="4470120"/>
                <a:ext cx="7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"/>
          <p:cNvSpPr/>
          <p:nvPr/>
        </p:nvSpPr>
        <p:spPr>
          <a:xfrm>
            <a:off x="304920" y="51055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gral represent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ment of inert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x-sectional area, computed about the neutral axis. We symbolize its value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FFA01-3E12-4012-8647-DAD6F4017DB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4 THE FLEXURE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1066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, Eqn 6-11 can be solved and written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6760" y="1843200"/>
            <a:ext cx="34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quation 6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688560" y="1568520"/>
            <a:ext cx="2786040" cy="1098360"/>
            <a:chOff x="3688560" y="1568520"/>
            <a:chExt cx="2786040" cy="1098360"/>
          </a:xfrm>
        </p:grpSpPr>
        <p:sp>
          <p:nvSpPr>
            <p:cNvPr id="196" name=""/>
            <p:cNvSpPr/>
            <p:nvPr/>
          </p:nvSpPr>
          <p:spPr>
            <a:xfrm>
              <a:off x="4114800" y="1600200"/>
              <a:ext cx="2133360" cy="1066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3688560" y="1568520"/>
              <a:ext cx="2786040" cy="1036080"/>
              <a:chOff x="3688560" y="1568520"/>
              <a:chExt cx="2786040" cy="1036080"/>
            </a:xfrm>
          </p:grpSpPr>
          <p:sp>
            <p:nvSpPr>
              <p:cNvPr id="198" name=""/>
              <p:cNvSpPr/>
              <p:nvPr/>
            </p:nvSpPr>
            <p:spPr>
              <a:xfrm>
                <a:off x="4774320" y="1568520"/>
                <a:ext cx="170028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88560" y="1805040"/>
                <a:ext cx="2133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ax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86240" y="2090880"/>
                <a:ext cx="7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"/>
          <p:cNvSpPr/>
          <p:nvPr/>
        </p:nvSpPr>
        <p:spPr>
          <a:xfrm>
            <a:off x="228600" y="2665440"/>
            <a:ext cx="8686800" cy="38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98480" indent="-79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aximum normal stress in member, at a pt on x-sectional area farthest away from neutral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98480" indent="-79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resultant internal moment, computed about neutral axis of x-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98480" indent="-79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oment of inertia of x-sectional area computed about neutral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98480" indent="-798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erpendicular distance from neutral axis to a pt farthest away from neutral axis, wher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3C349-5B7A-4EB4-85DD-3B805D19277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4 THE FLEXURE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0666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tress at intermediate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determin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56760" y="2224080"/>
            <a:ext cx="34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quation 6-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698280" y="1949400"/>
            <a:ext cx="2776320" cy="1098360"/>
            <a:chOff x="3698280" y="1949400"/>
            <a:chExt cx="2776320" cy="1098360"/>
          </a:xfrm>
        </p:grpSpPr>
        <p:sp>
          <p:nvSpPr>
            <p:cNvPr id="206" name=""/>
            <p:cNvSpPr/>
            <p:nvPr/>
          </p:nvSpPr>
          <p:spPr>
            <a:xfrm>
              <a:off x="4114800" y="1981080"/>
              <a:ext cx="2133360" cy="1066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3698280" y="1949400"/>
              <a:ext cx="2776320" cy="1036080"/>
              <a:chOff x="3698280" y="1949400"/>
              <a:chExt cx="2776320" cy="1036080"/>
            </a:xfrm>
          </p:grpSpPr>
          <p:sp>
            <p:nvSpPr>
              <p:cNvPr id="208" name=""/>
              <p:cNvSpPr/>
              <p:nvPr/>
            </p:nvSpPr>
            <p:spPr>
              <a:xfrm>
                <a:off x="4774320" y="1949400"/>
                <a:ext cx="170028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698280" y="2185920"/>
                <a:ext cx="1996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86240" y="2471760"/>
                <a:ext cx="7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"/>
          <p:cNvSpPr/>
          <p:nvPr/>
        </p:nvSpPr>
        <p:spPr>
          <a:xfrm>
            <a:off x="304920" y="3219480"/>
            <a:ext cx="86868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-ve as it acts in the -ve direction  (compres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s 6-12 and 6-13 are often referred to a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exure formu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43DCB-AE52-4B30-A23B-F62FE0C1E2C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4 THE FLEXURE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1004760"/>
            <a:ext cx="8534160" cy="4715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-section of straight bea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mains pla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beam deforms due to bend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utral ax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ubjected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ero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deformation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ngitudinal st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ri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nea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zero at neutral axis to maximum at outer fibers of b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d material is homogeneous and Hooke’s law applie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vari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nea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ver the x-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8500-AFE3-4D54-8190-852EFA8DF15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4 THE FLEXURE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1066680"/>
            <a:ext cx="8534160" cy="4111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inear-elastic material, neutral axis passes throug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entro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x-sectional area. This is based on the fact that resultant normal force acting on x-section must be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ure formula is based on requirement that resultant moment on the x-section is equal to moment produced by linear normal stress distribution about neutral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86F6-36FB-421A-BD85-3C362795AC5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4 THE FLEXURE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1066680"/>
            <a:ext cx="853416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mo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member at pt where bending or normal stress is to be determined and obtain internal mom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oidal or neutral axis for x-section must be known sin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omputed about this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bsolute maximum bending stress is to be determined, then draw moment diagram in order to determine the maximum moment in th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90A8B-BD99-44AA-B8A2-45A9DCED6B7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2680" y="1066320"/>
            <a:ext cx="8377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that are slender and support loadings applied perpendicular to their longitudinal axi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75960" y="4906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 SHEAR AND MOMENT DIA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29000" y="4732200"/>
            <a:ext cx="4952880" cy="1729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5334120" cy="163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657600" y="2209680"/>
            <a:ext cx="5105520" cy="141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99021-D1F5-4966-A7D2-A1DEEC6CA6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4 THE FLEXURE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1066680"/>
            <a:ext cx="853416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tion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moment of inerti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f x-sectional area about the neutral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used are discussed in Textbook Appendix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 to the course book’s inside front cover for the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everal common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FFDAE-511D-4043-86CD-C69F9DB03B0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4 THE FLEXURE FORMU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1066680"/>
            <a:ext cx="853416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rm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easured perpendicular to neutral axis to pt where normal stress is to be deter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equatio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/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if maximum bending stress is needed, us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/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units are consistent when substituting values into the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B05AF-B3D4-4678-829A-7027F03024C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m shown has x-sectional area in the shape of a channel. Determine the maximum bending stress that occurs in the beam at se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-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5665680" cy="314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3D36-7EA3-483F-BC55-E04402A343A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16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m support reactions need not be determined. Instead, use method of sections, the segment to the lef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-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Note that resultant internal axial for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sses through centroid of x-sec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ant internal moment must be computed about the beam’s neutral axis a se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-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514600" y="4343400"/>
            <a:ext cx="4476600" cy="211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B5A6-F179-4CC9-9E07-75824F796BF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16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nd location of neutral axis, x-sectional area divided into 3 composite parts as shown. Then using Eqn. A-2 of Appendix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905120" y="4267080"/>
            <a:ext cx="4476600" cy="2113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849920" y="2666880"/>
            <a:ext cx="4217760" cy="181152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-230040" y="3083040"/>
            <a:ext cx="5597280" cy="1036080"/>
            <a:chOff x="-230040" y="3083040"/>
            <a:chExt cx="5597280" cy="1036080"/>
          </a:xfrm>
        </p:grpSpPr>
        <p:sp>
          <p:nvSpPr>
            <p:cNvPr id="233" name=""/>
            <p:cNvSpPr/>
            <p:nvPr/>
          </p:nvSpPr>
          <p:spPr>
            <a:xfrm>
              <a:off x="-230040" y="3349800"/>
              <a:ext cx="559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= ... = 59.09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5440" y="3083040"/>
              <a:ext cx="200844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 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90880" y="35877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5800" y="350676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76440" y="325440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5723C-4664-4559-AA4D-269DF1C91F6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16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moment equation of equilibrium about neutral axi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114800" y="4495680"/>
            <a:ext cx="4476600" cy="21132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504720" y="2638440"/>
            <a:ext cx="228600" cy="685800"/>
          </a:xfrm>
          <a:custGeom>
            <a:avLst/>
            <a:gdLst>
              <a:gd name="textAreaLeft" fmla="*/ 30600 w 228600"/>
              <a:gd name="textAreaRight" fmla="*/ 198000 w 2286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800" y="2666880"/>
            <a:ext cx="92534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   24 kN(2 m) + 1.0 kN(0.05909 m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.859 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18BC-FB64-4310-859E-FE9CC347CE2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16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tion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ent of inertia about neutral axis is determined using parallel-axis theorem applied to each of the three composite parts of the x-sectional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5800" y="2825640"/>
            <a:ext cx="758016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07960" indent="-507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[1/12(0.250 m)(0.020 m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+ (0.250 m)(0.020 m)(0.05909 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010 m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2[1/12(0.015 m)(0.200 m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+ (0.015 m)(0.200 m)(0.100 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05909 m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2.26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191120" y="4838760"/>
            <a:ext cx="4522680" cy="194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00CE-AFD6-40C3-A683-76FCB934F17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16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ximum bending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ccurs at points farthest away from neutral axis. At bottom of beam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200 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05909 m = 0.1409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u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3732120"/>
            <a:ext cx="4495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op of beam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6.79 MPa. In addition, normal forc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 kN and shear for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.4 kN will also contribute additional stress on x-s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896000" y="4011480"/>
            <a:ext cx="4095720" cy="193212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318240" y="2595600"/>
            <a:ext cx="8938080" cy="1066320"/>
            <a:chOff x="318240" y="2595600"/>
            <a:chExt cx="8938080" cy="1066320"/>
          </a:xfrm>
        </p:grpSpPr>
        <p:grpSp>
          <p:nvGrpSpPr>
            <p:cNvPr id="252" name=""/>
            <p:cNvGrpSpPr/>
            <p:nvPr/>
          </p:nvGrpSpPr>
          <p:grpSpPr>
            <a:xfrm>
              <a:off x="318240" y="2625840"/>
              <a:ext cx="8938080" cy="1036080"/>
              <a:chOff x="318240" y="2625840"/>
              <a:chExt cx="8938080" cy="1036080"/>
            </a:xfrm>
          </p:grpSpPr>
          <p:sp>
            <p:nvSpPr>
              <p:cNvPr id="253" name=""/>
              <p:cNvSpPr/>
              <p:nvPr/>
            </p:nvSpPr>
            <p:spPr>
              <a:xfrm>
                <a:off x="1699560" y="2625840"/>
                <a:ext cx="170028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18240" y="2862360"/>
                <a:ext cx="8938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ax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=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 16.2 MP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211480" y="3148200"/>
                <a:ext cx="7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2729520" y="2595600"/>
              <a:ext cx="45486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.859 k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(0.1409 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2.26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-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25680" y="31320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3DDD-E83D-4F97-837A-C2B9D44E5E8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5 UNSYMMETRICAL BE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7320" y="1066680"/>
            <a:ext cx="87580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ndition for flexure formula is the symmetric x-sectional area of beam about an axis perpendicular to neutr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e flexure formula can also be applied either to a beam having x-sectional area of any shape OR to a beam having a resultant moment that acts in any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981080" y="4343400"/>
            <a:ext cx="3057480" cy="2190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2944800" cy="230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00F85-D2BD-4997-93E0-C3CFCA6EE67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5 UNSYMMETRICAL BE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8758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oment applied along princip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beam with unsymmetrical sh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coordinate system as per usual and that resultant mom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s alo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distribution acting over entire x-sectional area to be a zero force resultan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nt internal moment ab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is to be ze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nt internal moment ab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is to be  equal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840C-D3A8-4256-A598-4204051524D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 SHEAR AND MOMENT DIA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860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design a beam, it is necessary to determine the maximum shear and moment in the b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functions of arbitrary posi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ong 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functions can be represented by graph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ear and moment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s need to know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r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hear and moment along the beam to know where to reinforc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E948C-C45D-486E-ABB9-7FAA0BE59D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276720" y="5334120"/>
            <a:ext cx="22860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4191120"/>
            <a:ext cx="22860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2971800"/>
            <a:ext cx="22860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5 UNSYMMETRICAL BE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87584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oment applied along princip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 the 3 conditions mathematically by considering force acting on differential ele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cated at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Force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F =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r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8440" y="3048120"/>
            <a:ext cx="5196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∫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2840" y="4281480"/>
            <a:ext cx="5445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= ∫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1480" y="5424480"/>
            <a:ext cx="558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= ∫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18240" y="3124080"/>
            <a:ext cx="3273480" cy="28400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593440" y="3581280"/>
            <a:ext cx="34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quation 6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93440" y="4815000"/>
            <a:ext cx="34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quation 6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669400" y="6033960"/>
            <a:ext cx="34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quation 6-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4125B-772E-47E2-B8B2-172422E6D14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5 UNSYMMETRIC BE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8758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oment applied along princip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n 6.14 is satisfied 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is passes throug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entro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x-sectional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aterial has linear-elastic behavior, then we can substitu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/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Eqn 6-16 and after integration, we 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139920" y="3505320"/>
            <a:ext cx="2915280" cy="914400"/>
            <a:chOff x="3139920" y="3505320"/>
            <a:chExt cx="2915280" cy="914400"/>
          </a:xfrm>
        </p:grpSpPr>
        <p:sp>
          <p:nvSpPr>
            <p:cNvPr id="279" name=""/>
            <p:cNvSpPr/>
            <p:nvPr/>
          </p:nvSpPr>
          <p:spPr>
            <a:xfrm>
              <a:off x="3505320" y="3505320"/>
              <a:ext cx="2133360" cy="9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39920" y="3657600"/>
              <a:ext cx="291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∫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638680" y="4038480"/>
            <a:ext cx="3353040" cy="22719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04920" y="3962520"/>
            <a:ext cx="3124080" cy="245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1E08-6625-4DB4-B407-AF7125C909D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5 UNSYMMETRIC BE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8758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oment applied along princip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139920" y="1600200"/>
            <a:ext cx="2915280" cy="914400"/>
            <a:chOff x="3139920" y="1600200"/>
            <a:chExt cx="2915280" cy="914400"/>
          </a:xfrm>
        </p:grpSpPr>
        <p:sp>
          <p:nvSpPr>
            <p:cNvPr id="286" name=""/>
            <p:cNvSpPr/>
            <p:nvPr/>
          </p:nvSpPr>
          <p:spPr>
            <a:xfrm>
              <a:off x="3505320" y="1600200"/>
              <a:ext cx="2133360" cy="9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39920" y="1752480"/>
              <a:ext cx="291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∫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31840" y="2514600"/>
            <a:ext cx="86072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tegral is the product of inertia for the area. It will be zero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 are chosen as principal axes of inertia for the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Eqns 6-14 to 6-16 will always be satisfied regardless of the direction of applied mom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3B66-7C59-47A1-AC41-D8B89DB3DED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5 UNSYMMETRIC BE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8758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oment arbitrarily app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31840" y="1447920"/>
            <a:ext cx="860724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member is loaded such that resultant internal moment does not act about one of the principal axes of x-section, resolve the moment into components directed along the principal 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flexure formula to determine normal stress caused by each moment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inciple of superposition to determine resultant normal stress at the 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4B09-4A5C-438E-94FB-027E16029EA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5 UNSYMMETRIC BE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8758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oment arbitrarily app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1840" y="1447920"/>
            <a:ext cx="860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nt general normal stress at any pt on x-sec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295720" y="2057400"/>
            <a:ext cx="3943440" cy="1295280"/>
            <a:chOff x="2295720" y="2057400"/>
            <a:chExt cx="3943440" cy="1295280"/>
          </a:xfrm>
        </p:grpSpPr>
        <p:sp>
          <p:nvSpPr>
            <p:cNvPr id="296" name=""/>
            <p:cNvSpPr/>
            <p:nvPr/>
          </p:nvSpPr>
          <p:spPr>
            <a:xfrm>
              <a:off x="2971800" y="2057400"/>
              <a:ext cx="312408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2295720" y="2168640"/>
              <a:ext cx="3943440" cy="1154160"/>
              <a:chOff x="2295720" y="2168640"/>
              <a:chExt cx="3943440" cy="1154160"/>
            </a:xfrm>
          </p:grpSpPr>
          <p:sp>
            <p:nvSpPr>
              <p:cNvPr id="298" name=""/>
              <p:cNvSpPr/>
              <p:nvPr/>
            </p:nvSpPr>
            <p:spPr>
              <a:xfrm>
                <a:off x="3260160" y="2168640"/>
                <a:ext cx="1780920" cy="11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295720" y="2405160"/>
                <a:ext cx="3425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  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11680" y="2690640"/>
                <a:ext cx="7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465800" y="2168640"/>
                <a:ext cx="1773360" cy="11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986360" y="2681280"/>
                <a:ext cx="7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441360" y="3411360"/>
            <a:ext cx="832176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rmal stress at the 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, 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ordinates of pt measured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, y, 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 having origin at centroid of x-sectional area and forming a right-handed coordinat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488920" y="2438280"/>
            <a:ext cx="34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quation 6-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E061-B5F5-4A48-852A-D4BD0604647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5 UNSYMMETRIC BE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8758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oment arbitrarily app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1840" y="1447920"/>
            <a:ext cx="860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nt general normal stress at any pt on x-sec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295720" y="1981080"/>
            <a:ext cx="3943440" cy="1295280"/>
            <a:chOff x="2295720" y="1981080"/>
            <a:chExt cx="3943440" cy="1295280"/>
          </a:xfrm>
        </p:grpSpPr>
        <p:sp>
          <p:nvSpPr>
            <p:cNvPr id="309" name=""/>
            <p:cNvSpPr/>
            <p:nvPr/>
          </p:nvSpPr>
          <p:spPr>
            <a:xfrm>
              <a:off x="2971800" y="1981080"/>
              <a:ext cx="312408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2295720" y="2092320"/>
              <a:ext cx="3943440" cy="1154160"/>
              <a:chOff x="2295720" y="2092320"/>
              <a:chExt cx="3943440" cy="1154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260160" y="2092320"/>
                <a:ext cx="1780920" cy="11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295720" y="2328840"/>
                <a:ext cx="3425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	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   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811680" y="2614320"/>
                <a:ext cx="7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65800" y="2092320"/>
                <a:ext cx="1773360" cy="11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986360" y="2604960"/>
                <a:ext cx="728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441360" y="3276720"/>
            <a:ext cx="8169120" cy="33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resultant internal moment components along princip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. Positive if directed alo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. Can also be stat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easured positive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is towar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principal moments of inertia computed about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, resp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488920" y="2438280"/>
            <a:ext cx="34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quation 6-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D472-E21E-46F7-8869-F1481DC5928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5 UNSYMMETRIC BE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8758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oment arbitrarily appl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3733920" cy="34527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2971800" y="3809880"/>
            <a:ext cx="3419640" cy="27622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5724360" y="3733920"/>
            <a:ext cx="3419640" cy="28288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 rot="2358000">
            <a:off x="2039040" y="3809520"/>
            <a:ext cx="16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33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54320" y="4648320"/>
            <a:ext cx="16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3300"/>
                </a:solidFill>
                <a:latin typeface="Arial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FB29-05FC-4CA9-B464-06B119DCF90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5 UNSYMMETRIC BE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8758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Orientation of neutr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1840" y="1447920"/>
            <a:ext cx="860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l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neutral axis can be determined by applying Eqn 6-17 with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ince no normal stress acts on neutral axis. Finally, we 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670480" y="2895480"/>
            <a:ext cx="3618720" cy="1295640"/>
            <a:chOff x="2670480" y="2895480"/>
            <a:chExt cx="3618720" cy="1295640"/>
          </a:xfrm>
        </p:grpSpPr>
        <p:sp>
          <p:nvSpPr>
            <p:cNvPr id="329" name=""/>
            <p:cNvSpPr/>
            <p:nvPr/>
          </p:nvSpPr>
          <p:spPr>
            <a:xfrm>
              <a:off x="2971800" y="2895480"/>
              <a:ext cx="3124080" cy="1295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95560" y="3006720"/>
              <a:ext cx="145800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70480" y="325764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a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an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21160" y="3529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304920" y="4191120"/>
            <a:ext cx="816912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unsymmetrical bending, angl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fining direction of mom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equal to angl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gle defining inclination of neutral ax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88920" y="3276720"/>
            <a:ext cx="34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Equation 6-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B7D92-8F93-4DAA-A48B-FA7BEFE2392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5 UNSYMMETRIC BEN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1840" y="1003320"/>
            <a:ext cx="8607240" cy="547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ure formula applied only when bending occurs about axes that represent the principal axes of inertia for x-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xes have their origin at centroid and are orientated along an axis of symmetry and perpendicular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oment applied about arbitrary axis, then resolve moment into components along each of the principal axes, and stress at a pt is determined by superposition of stress caused by each moment compon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37954-820F-4188-814C-E262C698545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2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-section shown is subjected to bending momen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0 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Using methods from Appendix A, the principal ax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oriented as shown such that they represent the maximum and minimum principal moments of inerti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960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7.54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pecti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normal stress at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orientation of neutral ax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733920" y="3581280"/>
            <a:ext cx="4724280" cy="304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6D6D-48D0-4110-B8AC-E4A759A084D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 SHEAR AND MOMENT DIA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8605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and bending-moment functions must be determined for ea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g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bea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y two discontinuities of 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3041640"/>
            <a:ext cx="8001000" cy="309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D0B5B-4436-496E-A801-C845FEB505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20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moment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se Eqn 6-19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is needs to be principal axis for the maximum moment of inertia, as most of the area if located furthest away from this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572000" y="3751200"/>
            <a:ext cx="4343400" cy="27957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17600" y="2743200"/>
            <a:ext cx="674712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0 k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sin 57.1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6.79 k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0 k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cos 57.1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0.86 k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A0A9-D887-4021-825C-8B378373333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20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ending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ordinat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determined first. Not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’, z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ordinat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2 m, 0.35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Using colored and shaded triangles from construction shown below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181480" y="4025880"/>
            <a:ext cx="3498840" cy="2755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699120" y="2930400"/>
            <a:ext cx="78044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35 sin 32.9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 cos 32.9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358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35 cos 32.9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2 sin 32.9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1852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46E1-6DA3-4AFF-AAD9-23E6D82F240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20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ending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Eqn 6-17, we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267080" y="3305160"/>
            <a:ext cx="4413240" cy="3476520"/>
          </a:xfrm>
          <a:prstGeom prst="rect">
            <a:avLst/>
          </a:prstGeom>
          <a:ln w="0">
            <a:noFill/>
          </a:ln>
        </p:spPr>
      </p:pic>
      <p:grpSp>
        <p:nvGrpSpPr>
          <p:cNvPr id="351" name=""/>
          <p:cNvGrpSpPr/>
          <p:nvPr/>
        </p:nvGrpSpPr>
        <p:grpSpPr>
          <a:xfrm>
            <a:off x="498960" y="2209680"/>
            <a:ext cx="6836400" cy="1154160"/>
            <a:chOff x="498960" y="2209680"/>
            <a:chExt cx="6836400" cy="1154160"/>
          </a:xfrm>
        </p:grpSpPr>
        <p:sp>
          <p:nvSpPr>
            <p:cNvPr id="352" name=""/>
            <p:cNvSpPr/>
            <p:nvPr/>
          </p:nvSpPr>
          <p:spPr>
            <a:xfrm>
              <a:off x="1463040" y="2209680"/>
              <a:ext cx="178092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8960" y="2446200"/>
              <a:ext cx="6836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+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... = 3.76 MP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14560" y="2731680"/>
              <a:ext cx="72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668680" y="2209680"/>
              <a:ext cx="177336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89240" y="2722320"/>
              <a:ext cx="72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C2734-FDF5-4E47-AEF1-8A6E1A611A8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6.20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ientation of neutral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le  =57.1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hown, Thu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886200" y="2774880"/>
            <a:ext cx="4952880" cy="39020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838160" y="2320920"/>
            <a:ext cx="1458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3080" y="2133720"/>
            <a:ext cx="371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363760" y="2405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48400" y="3448080"/>
            <a:ext cx="2575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85.3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rot="5400000">
            <a:off x="1333080" y="2889360"/>
            <a:ext cx="184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5320" y="4876920"/>
            <a:ext cx="31665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al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3200400" y="4038120"/>
            <a:ext cx="990720" cy="114300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81F8C-1067-4EE1-9018-C60D63C66D3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 SHEAR AND MOMENT DIA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8605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Beam sign conv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choice of sign convention is arbitrary, in this course, we adopt the one often used by engine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8120" y="2666880"/>
            <a:ext cx="3236760" cy="375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852A-4E4A-4F31-8A88-747F74BB40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 SHEAR AND MOMENT DIA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8605800" cy="4038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ms are long straight members that carry loads perpendicular to their longitudinal axis. They are classified according to how they are sup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sign a beam, we need to know the variation of the shear and moment along its axis in order to find the points where they are max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ing a sign convention for positive shear and moment will allow us to draw the shear and moment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92DF-C7A2-4A91-BC12-B71AFE3FBC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 SHEAR AND MOMENT DIA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2920" y="1066320"/>
            <a:ext cx="8605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pport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all reactive forces and couple moments acting on b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e all forces into components acting perpendicular and parallel to beam’s 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and moment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separate coordinates x having an origin at beam’s left end, and extending to regions of beam between concentrated forces and/or couple moments, or where there is no discontinuity of distributed 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E5F17-7E2A-495E-A999-D6A95DFEBC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08:57:51Z</dcterms:created>
  <dc:creator>MCA</dc:creator>
  <dc:description/>
  <dc:language>en-US</dc:language>
  <cp:lastModifiedBy>UNgCH</cp:lastModifiedBy>
  <dcterms:modified xsi:type="dcterms:W3CDTF">2005-05-24T08:51:14Z</dcterms:modified>
  <cp:revision>588</cp:revision>
  <dc:subject/>
  <dc:title>Chapter 1</dc:title>
</cp:coreProperties>
</file>