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5.wmf" ContentType="image/x-wmf"/>
  <Override PartName="/ppt/media/image14.png" ContentType="image/png"/>
  <Override PartName="/ppt/media/image9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923766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92376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02120" cy="35100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5233680" y="-360"/>
            <a:ext cx="4002120" cy="35100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1224-E10D-4558-993A-D81A97D8839A}" type="datetime">
              <a:rPr b="0" i="1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1231920" y="3330720"/>
            <a:ext cx="6772320" cy="31543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6659640"/>
            <a:ext cx="4002120" cy="3506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5233680" y="6659640"/>
            <a:ext cx="4002120" cy="3506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31920" y="3330720"/>
            <a:ext cx="677232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6"/>
          <p:cNvSpPr/>
          <p:nvPr/>
        </p:nvSpPr>
        <p:spPr>
          <a:xfrm>
            <a:off x="5234040" y="6659640"/>
            <a:ext cx="4002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Date Placeholder 5"/>
          <p:cNvSpPr/>
          <p:nvPr/>
        </p:nvSpPr>
        <p:spPr>
          <a:xfrm>
            <a:off x="5234040" y="0"/>
            <a:ext cx="4002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1FEB-6873-47F1-A9E4-D1AC872AE0DA}" type="datetime">
              <a:rPr b="0" i="1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ooter Placeholder 1"/>
          <p:cNvSpPr/>
          <p:nvPr/>
        </p:nvSpPr>
        <p:spPr>
          <a:xfrm>
            <a:off x="0" y="6659640"/>
            <a:ext cx="4002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231920" y="3330720"/>
            <a:ext cx="677232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Date Placeholder 3"/>
          <p:cNvSpPr/>
          <p:nvPr/>
        </p:nvSpPr>
        <p:spPr>
          <a:xfrm>
            <a:off x="5234040" y="0"/>
            <a:ext cx="4002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5307-E01D-4994-BCA1-0EE65E0EB6F4}" type="datetime">
              <a:rPr b="0" i="1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5234040" y="6659640"/>
            <a:ext cx="4002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ooter Placeholder 6"/>
          <p:cNvSpPr/>
          <p:nvPr/>
        </p:nvSpPr>
        <p:spPr>
          <a:xfrm>
            <a:off x="0" y="6659640"/>
            <a:ext cx="4002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231920" y="3330720"/>
            <a:ext cx="677232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Header Placeholder 3"/>
          <p:cNvSpPr/>
          <p:nvPr/>
        </p:nvSpPr>
        <p:spPr>
          <a:xfrm>
            <a:off x="0" y="0"/>
            <a:ext cx="4002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Date Placeholder 4"/>
          <p:cNvSpPr/>
          <p:nvPr/>
        </p:nvSpPr>
        <p:spPr>
          <a:xfrm>
            <a:off x="5234040" y="0"/>
            <a:ext cx="4002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DB07-B970-4466-8353-431AE221EA6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6"/>
          <p:cNvSpPr/>
          <p:nvPr/>
        </p:nvSpPr>
        <p:spPr>
          <a:xfrm>
            <a:off x="5234040" y="6659640"/>
            <a:ext cx="4002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ooter Placeholder 1"/>
          <p:cNvSpPr/>
          <p:nvPr/>
        </p:nvSpPr>
        <p:spPr>
          <a:xfrm>
            <a:off x="0" y="6659640"/>
            <a:ext cx="4002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-152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99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Lecture 6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8080" y="2157480"/>
            <a:ext cx="74678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Mood Disorders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47" name="Picture 7" descr="PE06911_"/>
          <p:cNvPicPr/>
          <p:nvPr/>
        </p:nvPicPr>
        <p:blipFill>
          <a:blip r:embed="rId1"/>
          <a:stretch/>
        </p:blipFill>
        <p:spPr>
          <a:xfrm>
            <a:off x="5651640" y="3429000"/>
            <a:ext cx="1830240" cy="1846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PE06900_"/>
          <p:cNvPicPr/>
          <p:nvPr/>
        </p:nvPicPr>
        <p:blipFill>
          <a:blip r:embed="rId2"/>
          <a:stretch/>
        </p:blipFill>
        <p:spPr>
          <a:xfrm>
            <a:off x="1535040" y="3581280"/>
            <a:ext cx="1709640" cy="16941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"/>
          <p:cNvSpPr/>
          <p:nvPr/>
        </p:nvSpPr>
        <p:spPr>
          <a:xfrm>
            <a:off x="1851840" y="1047600"/>
            <a:ext cx="5940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Mental Health Nursing-NUR 4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1077120" y="543096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ressive dis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5659200" y="5433840"/>
            <a:ext cx="23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polar dis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79292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Dysthymic Disorder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ad or </a:t>
            </a: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down in the dumps</a:t>
            </a: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No evidence of psychotic symptom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ssential feature is a chronically depressed mood for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ost of the day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ore days than not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For at least 2 year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7095960" y="4495680"/>
            <a:ext cx="151452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Premenstrual Dysphoric Disorder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49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ssential Feature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epressed mood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Anxiety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ood swing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ecreased interest in activitie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ymptoms occur during the week prior to menses and subside shortly after onset of menstruation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Etiological Implications-Depressive Disorder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Biological theorie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Genetics: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Hereditary factor may be involved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Biochemical influences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Deficiency of norepinephrine, serotonin, and dopamine has been implicated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ossible diminished release of thyroid- stimulating hormone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726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tiological Implications-Depressive Disorders </a:t>
            </a: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(cont.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hysiological influence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Medication side effects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Neurological disorders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Electrolyte disturbances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Hormonal disorders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Nutritional deficiencies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Secondary depression related to: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Cardiovascular disease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Infections (e.g., hepatitis, pneumonia)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Metabolic disorders (e.g., diabetes mellitus)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Developmental Implication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dolescence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ymptoms include: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Anger, aggressivenes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ocial withdrawal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ubstance abus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Restlessness; apathy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83" name="Picture 4" descr="j0088940"/>
          <p:cNvPicPr/>
          <p:nvPr/>
        </p:nvPicPr>
        <p:blipFill>
          <a:blip r:embed="rId1"/>
          <a:stretch/>
        </p:blipFill>
        <p:spPr>
          <a:xfrm>
            <a:off x="6019920" y="2438280"/>
            <a:ext cx="228600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Developmental Implications </a:t>
            </a:r>
            <a:r>
              <a:rPr b="0" i="1" lang="en-US" sz="4000" spc="-1" strike="noStrike">
                <a:solidFill>
                  <a:srgbClr val="ffff00"/>
                </a:solidFill>
                <a:latin typeface="Tahoma"/>
              </a:rPr>
              <a:t>(cont.)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ostpartum Depression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ay last for a few weeks to several month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Usually associated with hormonal changes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Treatments: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antidepressants and psychosocial therapie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ymptoms include: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Fatigu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Irritability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Loss of appetit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leep disturbance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Loss of libido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oncern about inability to care for infant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86" name="Picture 4" descr="j0202035"/>
          <p:cNvPicPr/>
          <p:nvPr/>
        </p:nvPicPr>
        <p:blipFill>
          <a:blip r:embed="rId1"/>
          <a:stretch/>
        </p:blipFill>
        <p:spPr>
          <a:xfrm>
            <a:off x="6172200" y="3200400"/>
            <a:ext cx="168264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Nursing Process/Assessment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0" y="533520"/>
          <a:ext cx="9144000" cy="6367320"/>
        </p:xfrm>
        <a:graphic>
          <a:graphicData uri="http://schemas.openxmlformats.org/drawingml/2006/table">
            <a:tbl>
              <a:tblPr/>
              <a:tblGrid>
                <a:gridCol w="1523880"/>
                <a:gridCol w="1447920"/>
                <a:gridCol w="1905120"/>
                <a:gridCol w="2209680"/>
                <a:gridCol w="205740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ansient de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ild de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derate depress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vere de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823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mpto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necessarily dysfunc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th normal griev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sociated with dysthymic diso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constant sense of hopelessness and despa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fe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“blues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ger, anxiety, sad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lpless, powerl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elings of total despair, worthlessness, apat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havio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rtain amount of cry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arful, regre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ow physical movement, limited verb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ychomotor retardation, curled-up position, no interaction with oth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1311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gn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me difficulty getting mind off one’s disappoin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f-blame and blaming of oth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arded thinking processes, difficulty with concent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valent delusional thinking, with delusions of persec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  <a:tr h="1702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ysiolog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eling ti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rexia or overeating, sleep disturbances, somatic sympto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rexia or overeating, sleep disturbances, somatic symptoms, feeling best early in morning and worse as the day progres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rexia, insomnia, feels worse early in morning and somewhat better as the day progres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9372600" cy="80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Nursing Diagnosi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68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Risk for suicide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Dysfunctional grieving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Low self-esteem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Powerlessness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Social isolation/Impaired social interaction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Disturbed thought processes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Imbalanced nutrition less than body requirements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Disturbed sleep pattern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Self-care deficit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91" name="Picture 21" descr="j0292026"/>
          <p:cNvPicPr/>
          <p:nvPr/>
        </p:nvPicPr>
        <p:blipFill>
          <a:blip r:embed="rId1"/>
          <a:stretch/>
        </p:blipFill>
        <p:spPr>
          <a:xfrm>
            <a:off x="6324480" y="4343400"/>
            <a:ext cx="1825920" cy="16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764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Planning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The clien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s able to identify aspects of self-control over life situation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s able to maintain reality orientation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s able to concentrate, reason, and solve problem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94" name="Picture 4" descr="depressed"/>
          <p:cNvPicPr/>
          <p:nvPr/>
        </p:nvPicPr>
        <p:blipFill>
          <a:blip r:embed="rId1"/>
          <a:stretch/>
        </p:blipFill>
        <p:spPr>
          <a:xfrm>
            <a:off x="7086600" y="4724280"/>
            <a:ext cx="15238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932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Implementation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5064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aintaining client safety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romoting increase in self-esteem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ncouraging client self-control and control over life situation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040" y="152280"/>
            <a:ext cx="48006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Mood Disorder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3" name="Picture 8" descr="PE06900_"/>
          <p:cNvPicPr/>
          <p:nvPr/>
        </p:nvPicPr>
        <p:blipFill>
          <a:blip r:embed="rId1"/>
          <a:stretch/>
        </p:blipFill>
        <p:spPr>
          <a:xfrm>
            <a:off x="3691080" y="3168720"/>
            <a:ext cx="1711080" cy="16063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1787040" y="1447920"/>
            <a:ext cx="534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Part 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pressive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72600" cy="80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lient/Family Education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Management of the illnes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dication management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tress management technique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Ways to increase self-esteem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Electroconvulsive therapy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upport service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uicide hotlin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upport group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Legal/financial assistanc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99" name="Picture 4" descr="together_depressed"/>
          <p:cNvPicPr/>
          <p:nvPr/>
        </p:nvPicPr>
        <p:blipFill>
          <a:blip r:embed="rId1"/>
          <a:stretch/>
        </p:blipFill>
        <p:spPr>
          <a:xfrm>
            <a:off x="6172200" y="4191120"/>
            <a:ext cx="2182680" cy="18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9372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Evalua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Evaluation of the effectiveness of nursing interventions is measured by fulfillment of the outcome criteria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2" name="Object 0" descr=""/>
          <p:cNvPicPr/>
          <p:nvPr/>
        </p:nvPicPr>
        <p:blipFill>
          <a:blip r:embed="rId1"/>
          <a:stretch/>
        </p:blipFill>
        <p:spPr>
          <a:xfrm>
            <a:off x="6735600" y="3962520"/>
            <a:ext cx="19512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040" y="152280"/>
            <a:ext cx="48006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Mood Disorder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4" name="Rectangle 1"/>
          <p:cNvSpPr/>
          <p:nvPr/>
        </p:nvSpPr>
        <p:spPr>
          <a:xfrm>
            <a:off x="2266560" y="1447920"/>
            <a:ext cx="4382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Part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ipolar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7" descr="PE06911_"/>
          <p:cNvPicPr/>
          <p:nvPr/>
        </p:nvPicPr>
        <p:blipFill>
          <a:blip r:embed="rId1"/>
          <a:stretch/>
        </p:blipFill>
        <p:spPr>
          <a:xfrm>
            <a:off x="3630600" y="3457440"/>
            <a:ext cx="2008080" cy="20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Outline-Part II- Bipolar disorder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120" y="1143000"/>
            <a:ext cx="817884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tiological Implication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ype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Nursing Proces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Introduction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06080" y="13712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Bipolar disorder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lso known as manic depression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haracterized by mood swings from profound depression to extreme euphoria (mania), with intervening periods of normalcy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Delusions or hallucinations may or may not be part of clinical picture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792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Bipolar Disorder (Mania)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02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Etiological implication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iological theories: Strong hereditary implication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iochemical influences: Possible excess of norepinephrine, serotonin, and/or dopamine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12" name="Picture 5" descr="manic"/>
          <p:cNvPicPr/>
          <p:nvPr/>
        </p:nvPicPr>
        <p:blipFill>
          <a:blip r:embed="rId1"/>
          <a:stretch/>
        </p:blipFill>
        <p:spPr>
          <a:xfrm>
            <a:off x="5792760" y="4191120"/>
            <a:ext cx="2685960" cy="20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-76320"/>
            <a:ext cx="7793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Bipolar Disorder (Mania) </a:t>
            </a:r>
            <a:r>
              <a:rPr b="0" i="1" lang="en-US" sz="4000" spc="-1" strike="noStrike">
                <a:solidFill>
                  <a:srgbClr val="ffff00"/>
                </a:solidFill>
                <a:latin typeface="Tahoma"/>
              </a:rPr>
              <a:t>(cont.)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hysiological influence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lterations in electrolyte transfer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rain lesion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edication side effect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teroid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Amphetamine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Antidepressant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15" name="Picture 4" descr="manic"/>
          <p:cNvPicPr/>
          <p:nvPr/>
        </p:nvPicPr>
        <p:blipFill>
          <a:blip r:embed="rId1"/>
          <a:stretch/>
        </p:blipFill>
        <p:spPr>
          <a:xfrm>
            <a:off x="5943600" y="3317760"/>
            <a:ext cx="2685960" cy="25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79292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ypes of Bipolar disorder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7617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ipolar I disorder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ipolar II disorder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yclothymia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18" name="Picture 6" descr="manic"/>
          <p:cNvPicPr/>
          <p:nvPr/>
        </p:nvPicPr>
        <p:blipFill>
          <a:blip r:embed="rId1"/>
          <a:stretch/>
        </p:blipFill>
        <p:spPr>
          <a:xfrm>
            <a:off x="5029200" y="2590920"/>
            <a:ext cx="2895480" cy="27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Bipolar I Disorder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ndividual is experiencing, or has experienced, a full syndrome of manic or mixed symptom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ay also have experienced episodes of depression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1" name="Picture 4" descr="manic"/>
          <p:cNvPicPr/>
          <p:nvPr/>
        </p:nvPicPr>
        <p:blipFill>
          <a:blip r:embed="rId1"/>
          <a:stretch/>
        </p:blipFill>
        <p:spPr>
          <a:xfrm>
            <a:off x="4876920" y="3352680"/>
            <a:ext cx="2685960" cy="25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Bipolar II Disorder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Recurrent bouts of major depression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pisodic occurrences of hypomania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Has not experienced an episode that meets the full criteria for mania or mixed symptomatology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4" name="Picture 4" descr="PE06911_"/>
          <p:cNvPicPr/>
          <p:nvPr/>
        </p:nvPicPr>
        <p:blipFill>
          <a:blip r:embed="rId1"/>
          <a:stretch/>
        </p:blipFill>
        <p:spPr>
          <a:xfrm>
            <a:off x="6477120" y="4495680"/>
            <a:ext cx="1830240" cy="1846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PE06900_"/>
          <p:cNvPicPr/>
          <p:nvPr/>
        </p:nvPicPr>
        <p:blipFill>
          <a:blip r:embed="rId2"/>
          <a:stretch/>
        </p:blipFill>
        <p:spPr>
          <a:xfrm>
            <a:off x="4292640" y="4533840"/>
            <a:ext cx="198108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Outline-Part I-Depressive disorder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440" y="1066680"/>
            <a:ext cx="817884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Epidemiology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Type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Etiological Implication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evelopmental Implication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Nursing Proces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0" y="609480"/>
          <a:ext cx="9144000" cy="6248520"/>
        </p:xfrm>
        <a:graphic>
          <a:graphicData uri="http://schemas.openxmlformats.org/drawingml/2006/table">
            <a:tbl>
              <a:tblPr/>
              <a:tblGrid>
                <a:gridCol w="1219320"/>
                <a:gridCol w="2286000"/>
                <a:gridCol w="2666880"/>
                <a:gridCol w="2971800"/>
              </a:tblGrid>
              <a:tr h="143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ymptoms may be categorized by degree of seve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ge I—Hypom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ge II—Acute m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ge III—Delirious m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187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mpto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mptoms not sufficiently severe to cause marked impairment in social or occupational functioning or to require hospit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nsification of hypomanic symptoms; requires hospit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grave form of the disorder, characterized by severe clouding of consciousness and representing an intensification of the symptoms associated with acute m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erf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pho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bile, from ecstasy to despa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  <a:tr h="11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gn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f-exul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gmented, disjointed thinking; flight of ideas; hallucinations and delu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usion, disorientation, hallucinations, delu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ty and behav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2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d motor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essive psychomotor behavior; inexhaustible energy; goes without sleep; bizarre 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enzied psychomotor activity; agitated, purposeless movements; exhaustion and death can occur without interven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</a:tbl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Nursing Process/Assessment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792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Nursing Diagnosi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isk for Injury related to: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xtreme hyperactivity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Disturbed thought processes related to: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iochemical alterations in the brain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Disturbed sleep pattern related to: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xcessive hyperactivity and agitation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30" name="Picture 18" descr="j0292026"/>
          <p:cNvPicPr/>
          <p:nvPr/>
        </p:nvPicPr>
        <p:blipFill>
          <a:blip r:embed="rId1"/>
          <a:stretch/>
        </p:blipFill>
        <p:spPr>
          <a:xfrm>
            <a:off x="7013520" y="4800600"/>
            <a:ext cx="18255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7792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Nursing Diagnosis </a:t>
            </a:r>
            <a:r>
              <a:rPr b="0" i="1" lang="en-US" sz="4000" spc="-1" strike="noStrike">
                <a:solidFill>
                  <a:srgbClr val="ffff00"/>
                </a:solidFill>
                <a:latin typeface="Tahoma"/>
              </a:rPr>
              <a:t>(cont.)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168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Imbalanced Nutrition less than body requirements related to: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Refusal or inability to sit still long enough to eat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Disturbed sensory perception related to: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iochemical alterations in the brain and to possible sleep deprivation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mpaired Social Interaction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33" name="Picture 19" descr="j0292026"/>
          <p:cNvPicPr/>
          <p:nvPr/>
        </p:nvPicPr>
        <p:blipFill>
          <a:blip r:embed="rId1"/>
          <a:stretch/>
        </p:blipFill>
        <p:spPr>
          <a:xfrm>
            <a:off x="7032600" y="4462560"/>
            <a:ext cx="1654200" cy="16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9372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Planning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The clien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xhibits no evidence of physical injury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Has not harmed self or other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ats a well-balanced diet to prevent weight loss and maintain nutritional statu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nteracts appropriately with other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36" name="Picture 4" descr="manic"/>
          <p:cNvPicPr/>
          <p:nvPr/>
        </p:nvPicPr>
        <p:blipFill>
          <a:blip r:embed="rId1"/>
          <a:stretch/>
        </p:blipFill>
        <p:spPr>
          <a:xfrm>
            <a:off x="6477120" y="2133720"/>
            <a:ext cx="23857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932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Implementation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43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aintaining safety of client and other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Restoring client nutritional statu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ncouraging appropriate client interaction with other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ssisting client to define and test reality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eeting client</a:t>
            </a: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’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 self-care need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39" name="Picture 4" descr="nurse_checklist"/>
          <p:cNvPicPr/>
          <p:nvPr/>
        </p:nvPicPr>
        <p:blipFill>
          <a:blip r:embed="rId1"/>
          <a:stretch/>
        </p:blipFill>
        <p:spPr>
          <a:xfrm>
            <a:off x="7145280" y="1219320"/>
            <a:ext cx="1617840" cy="21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792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lient/Family Education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Management of illnes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edication management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upport service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risis hotline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upport group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ndividual psychotherapy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Legal/financial assistance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9372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Evaluation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Evaluation of the effectiveness of the nursing interventions is measured by fulfillment of the outcome criteria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44" name="Object 5" descr=""/>
          <p:cNvPicPr/>
          <p:nvPr/>
        </p:nvPicPr>
        <p:blipFill>
          <a:blip r:embed="rId1"/>
          <a:stretch/>
        </p:blipFill>
        <p:spPr>
          <a:xfrm>
            <a:off x="6375240" y="3657600"/>
            <a:ext cx="231156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524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ahoma"/>
              </a:rPr>
              <a:t>Treatment Modalities for Mood Disorders</a:t>
            </a:r>
            <a:endParaRPr b="0" lang="en-US" sz="3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sychological treatmen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ndividual psychotherapy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Group therapy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Family therapy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ognitive therapy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Organic Treatment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47" name="Picture 6" descr="group"/>
          <p:cNvPicPr/>
          <p:nvPr/>
        </p:nvPicPr>
        <p:blipFill>
          <a:blip r:embed="rId1"/>
          <a:stretch/>
        </p:blipFill>
        <p:spPr>
          <a:xfrm>
            <a:off x="5257800" y="3352680"/>
            <a:ext cx="3352680" cy="24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reatment Modalities for Mood Disorders </a:t>
            </a: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(cont.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853920"/>
            <a:ext cx="817884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Psychopharmacology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or Depression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3" marL="15040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* Maprotiline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* Mirtazapin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3" marL="15040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* Amoxapine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* Serzon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3" marL="15040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* Trazodone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* Effexor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3" marL="1504080" indent="-21456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Bupropion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or mania: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Lithium carbonate 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Anticonvulsant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Verapamil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Olanzapin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50" name="Picture 4" descr="PE06980_"/>
          <p:cNvPicPr/>
          <p:nvPr/>
        </p:nvPicPr>
        <p:blipFill>
          <a:blip r:embed="rId1"/>
          <a:stretch/>
        </p:blipFill>
        <p:spPr>
          <a:xfrm>
            <a:off x="6934320" y="1722600"/>
            <a:ext cx="1857240" cy="2054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PE06922_"/>
          <p:cNvPicPr/>
          <p:nvPr/>
        </p:nvPicPr>
        <p:blipFill>
          <a:blip r:embed="rId2"/>
          <a:stretch/>
        </p:blipFill>
        <p:spPr>
          <a:xfrm>
            <a:off x="5670720" y="4408560"/>
            <a:ext cx="2286000" cy="178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6012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reatment Modalities for Mood Disorders </a:t>
            </a: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(cont.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Electroconvulsive Therapy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For depression and mania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chanism of action: increase levels of biogenic amines (norepinephrine, serotonin, and dopamine)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ide effects: temporary memory loss and confusion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Risks: mortality; permanent memory loss; brain damag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dications: pretreatment medication; muscle relaxant; short-acting anesthetic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Introduction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1371240"/>
            <a:ext cx="7848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epression or depressive disorders (unipolar depression) are mental illnesses characterized by a profound and persistent feeling of sadness or despair and/or a loss of interest in things that once were pleasurable. Disturbance in sleep,appetite, and mental processes are a common accompaniment.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72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Nursing Process: Suicide Assessment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Epidemiological factor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arital status: Suicide rate for single people twice that of married people 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ingle, divorced, and widowed people have rates four to five times greater than those who are married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Gender: Women attempt suicide more often; more men succeed 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Age: Suicide highest in persons older than 50 years; adolescents also at high risk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47520"/>
            <a:ext cx="9144000" cy="885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ursing Process: Suicide Assessment </a:t>
            </a: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(cont.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Epidemiological factors (cont.)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Socioeconomic status: People in the highest and lowest social classes have higher suicide rates than those in the middle classes.  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Professionals: Professional healthcare personnel and business executives are at the highest risk.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Religion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Nursing Process: Suicide Assessment </a:t>
            </a:r>
            <a:r>
              <a:rPr b="0" i="1" lang="en-US" sz="3600" spc="-1" strike="noStrike">
                <a:solidFill>
                  <a:srgbClr val="ffff00"/>
                </a:solidFill>
                <a:latin typeface="Tahoma"/>
              </a:rPr>
              <a:t>(cont.)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resenting symptoms/Medical-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sychiatric diagnosi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ood disorders (major depression and bipolar disorders) are the most common disorders that precede suicide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Other disorders include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Anxiety disorder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chizophrenia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92199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Nursing Process: Suicide Assessment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(cont.)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uicidal ideas or act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ssess: plan, previous attempt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Verbal clues: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Direct statements: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 want to die.</a:t>
            </a: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ndirect statements: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 don</a:t>
            </a: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’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 have anything to live for anymore.</a:t>
            </a: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62" name="Picture 4" descr="nurse_checklist"/>
          <p:cNvPicPr/>
          <p:nvPr/>
        </p:nvPicPr>
        <p:blipFill>
          <a:blip r:embed="rId1"/>
          <a:stretch/>
        </p:blipFill>
        <p:spPr>
          <a:xfrm>
            <a:off x="6705720" y="4495680"/>
            <a:ext cx="195084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4575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ahoma"/>
              </a:rPr>
              <a:t>Intervention with the Outpatient Suicidal Client</a:t>
            </a:r>
            <a:endParaRPr b="0" lang="en-US" sz="3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Do not leave the person alone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chedule daily appointments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stablish trusting relationship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ntidepressant medication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ake any hint of suicide seriously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Report threats of suicide immediately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7792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Introduction </a:t>
            </a:r>
            <a:r>
              <a:rPr b="0" i="1" lang="en-US" sz="4000" spc="-1" strike="noStrike">
                <a:solidFill>
                  <a:srgbClr val="ffff00"/>
                </a:solidFill>
                <a:latin typeface="Tahoma"/>
              </a:rPr>
              <a:t>(cont.)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0000"/>
                </a:solidFill>
                <a:latin typeface="Arial"/>
              </a:rPr>
              <a:t>Depression is the oldest and most frequently described psychiatric illness.</a:t>
            </a:r>
            <a:endParaRPr b="0" lang="en-US" sz="29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0000"/>
                </a:solidFill>
                <a:latin typeface="Arial"/>
              </a:rPr>
              <a:t>Transient symptoms are normal, healthy responses to everyday disappointments in life.</a:t>
            </a:r>
            <a:endParaRPr b="0" lang="en-US" sz="29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0000"/>
                </a:solidFill>
                <a:latin typeface="Arial"/>
              </a:rPr>
              <a:t>Pathological depression occurs when adaptation is ineffective.</a:t>
            </a:r>
            <a:endParaRPr b="0" lang="en-US" sz="29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61" name="Picture 5" descr="PE06980_"/>
          <p:cNvPicPr/>
          <p:nvPr/>
        </p:nvPicPr>
        <p:blipFill>
          <a:blip r:embed="rId1"/>
          <a:stretch/>
        </p:blipFill>
        <p:spPr>
          <a:xfrm>
            <a:off x="7010280" y="4191120"/>
            <a:ext cx="175284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79292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Epidemiology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Gender prevalence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Higher in women than in men by about 2 to 1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ge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Depression more common in young women than in older women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Opposite is true for men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Marital status: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Single and divorced people more likely to experience depression than married people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792920" cy="80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Epidemiology </a:t>
            </a:r>
            <a:r>
              <a:rPr b="0" i="1" lang="en-US" sz="4000" spc="-1" strike="noStrike">
                <a:solidFill>
                  <a:srgbClr val="ffff00"/>
                </a:solidFill>
                <a:latin typeface="Tahoma"/>
              </a:rPr>
              <a:t>(cont.)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ocial class: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There is an inverse relationship between social class and report of depressive symptoms; the opposite is true with bipolar disorder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easonality: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Affective disorders are more prevalent in the spring and in the fall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-23760"/>
            <a:ext cx="7792920" cy="885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ypes of Depressive disorder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7617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ajor depressive disorder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Dysthymic disorder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remenstrual dysphoric disorder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6667560" y="4267080"/>
            <a:ext cx="1942920" cy="19558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792920" cy="80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Major Depressive Disorder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Loses interest or pleasure in usual activitie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ocial and occupational functioning impaired for at least 2 week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6969240" y="4267080"/>
            <a:ext cx="15145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3:42:40Z</dcterms:created>
  <dc:creator>Sandra S Mitchell</dc:creator>
  <dc:description/>
  <dc:language>en-US</dc:language>
  <cp:lastModifiedBy>User-PC</cp:lastModifiedBy>
  <cp:lastPrinted>2016-12-04T06:37:31Z</cp:lastPrinted>
  <dcterms:modified xsi:type="dcterms:W3CDTF">2016-12-04T06:48:45Z</dcterms:modified>
  <cp:revision>134</cp:revision>
  <dc:subject/>
  <dc:title>Mood Disorders</dc:title>
</cp:coreProperties>
</file>