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523368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440B-6A1D-4FE8-9F9F-1CD3ED5F936D}" type="datetime">
              <a:rPr b="0" i="1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4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523368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523404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ate Placeholder 5"/>
          <p:cNvSpPr/>
          <p:nvPr/>
        </p:nvSpPr>
        <p:spPr>
          <a:xfrm>
            <a:off x="5234040" y="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C25C-74DD-4678-842C-6210361E3A35}" type="datetime">
              <a:rPr b="0" i="1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5234040" y="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60CE-E4FB-4270-BE7A-4D5B0DF5F246}" type="datetime">
              <a:rPr b="0" i="1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523404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Header Placeholder 3"/>
          <p:cNvSpPr/>
          <p:nvPr/>
        </p:nvSpPr>
        <p:spPr>
          <a:xfrm>
            <a:off x="0" y="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4"/>
          <p:cNvSpPr/>
          <p:nvPr/>
        </p:nvSpPr>
        <p:spPr>
          <a:xfrm>
            <a:off x="5234040" y="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A236-5592-47EA-89D2-17E2C6C542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523404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1"/>
          <p:cNvSpPr/>
          <p:nvPr/>
        </p:nvSpPr>
        <p:spPr>
          <a:xfrm>
            <a:off x="0" y="6659640"/>
            <a:ext cx="40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99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Lecture 6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215748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Mood Disorders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47" name="Picture 7" descr="PE06911_"/>
          <p:cNvPicPr/>
          <p:nvPr/>
        </p:nvPicPr>
        <p:blipFill>
          <a:blip r:embed="rId1"/>
          <a:stretch/>
        </p:blipFill>
        <p:spPr>
          <a:xfrm>
            <a:off x="5651640" y="3429000"/>
            <a:ext cx="1830240" cy="1846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E06900_"/>
          <p:cNvPicPr/>
          <p:nvPr/>
        </p:nvPicPr>
        <p:blipFill>
          <a:blip r:embed="rId2"/>
          <a:stretch/>
        </p:blipFill>
        <p:spPr>
          <a:xfrm>
            <a:off x="1535040" y="3581280"/>
            <a:ext cx="1709640" cy="169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1851840" y="1047600"/>
            <a:ext cx="594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Mental Health Nursing-NUR 4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077120" y="54309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ressive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5659200" y="543384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polar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7929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ysthymic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ad or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own in the dumps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o evidence of psychotic symptom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ssential feature is a chronically depressed mood f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st of the day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re days than not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 at least 2 yea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095960" y="4495680"/>
            <a:ext cx="15145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remenstrual Dysphoric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ssential Featur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pressed moo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xiet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od swing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creased interest in activiti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ymptoms occur during the week prior to menses and subside shortly after onset of menstru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tiological Implications-Depressive Disorder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iological theori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netic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Hereditary factor may be involve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iochemical influences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ficiency of norepinephrine, serotonin, and dopamine has been implicate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ssible diminished release of thyroid- stimulating hormon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tiological Implications-Depressive Disorders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hysiological influen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Medication side effect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Neurological disorder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Electrolyte disturbance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Hormonal disorder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Nutritional deficiencie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Secondary depression related to: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Cardiovascular disease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nfections (e.g., hepatitis, pneumonia)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Metabolic disorders (e.g., diabetes mellitus)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evelopmental Implication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dolescenc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ymptoms include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ger, aggressivenes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ocial withdrawa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ubstance abus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stlessness; apath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3" name="Picture 4" descr="j0088940"/>
          <p:cNvPicPr/>
          <p:nvPr/>
        </p:nvPicPr>
        <p:blipFill>
          <a:blip r:embed="rId1"/>
          <a:stretch/>
        </p:blipFill>
        <p:spPr>
          <a:xfrm>
            <a:off x="6019920" y="2438280"/>
            <a:ext cx="22860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evelopmental Implications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ostpartum Depress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y last for a few weeks to several month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Usually associated with hormonal changes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reatment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antidepressants and psychosocial therapi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ymptoms include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atigu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rritabilit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eep disturbanc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ss of libido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oncern about inability to care for infan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6" name="Picture 4" descr="j0202035"/>
          <p:cNvPicPr/>
          <p:nvPr/>
        </p:nvPicPr>
        <p:blipFill>
          <a:blip r:embed="rId1"/>
          <a:stretch/>
        </p:blipFill>
        <p:spPr>
          <a:xfrm>
            <a:off x="6172200" y="3200400"/>
            <a:ext cx="16826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Process/Assessmen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533520"/>
          <a:ext cx="9144000" cy="6367320"/>
        </p:xfrm>
        <a:graphic>
          <a:graphicData uri="http://schemas.openxmlformats.org/drawingml/2006/table">
            <a:tbl>
              <a:tblPr/>
              <a:tblGrid>
                <a:gridCol w="1523880"/>
                <a:gridCol w="1447920"/>
                <a:gridCol w="1905120"/>
                <a:gridCol w="2209680"/>
                <a:gridCol w="20574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ient 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ld 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erate depress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vere 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82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p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necessarily dys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normal griev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ociated with dysthymic dis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constant sense of hopelessness and desp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“blue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er, anxiety, sad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lpless, power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lings of total despair, worthlessness, apat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havi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tain amount of cry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rful,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w physical movement, limited verb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ychomotor retardation, curled-up position, no interaction with 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g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difficulty getting mind off one’s disappoin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blame and blaming of 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arded thinking processes, difficulty with concen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alent delusional thinking, with delusions of persec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1702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olog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ling t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rexia or overeating, sleep disturbances, somatic 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rexia or overeating, sleep disturbances, somatic symptoms, feeling best early in morning and worse as the day progr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rexia, insomnia, feels worse early in morning and somewhat better as the day progr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937260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Diagnosi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68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Risk for suicide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Dysfunctional grieving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Low self-esteem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Powerlessnes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Social isolation/Impaired social interaction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Disturbed thought processe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mbalanced nutrition less than body requirements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Disturbed sleep pattern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Self-care deficit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1" name="Picture 21" descr="j0292026"/>
          <p:cNvPicPr/>
          <p:nvPr/>
        </p:nvPicPr>
        <p:blipFill>
          <a:blip r:embed="rId1"/>
          <a:stretch/>
        </p:blipFill>
        <p:spPr>
          <a:xfrm>
            <a:off x="6324480" y="4343400"/>
            <a:ext cx="182592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764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lanning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en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s able to identify aspects of self-control over life situ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s able to maintain reality orient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s able to concentrate, reason, and solve problem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4" name="Picture 4" descr="depressed"/>
          <p:cNvPicPr/>
          <p:nvPr/>
        </p:nvPicPr>
        <p:blipFill>
          <a:blip r:embed="rId1"/>
          <a:stretch/>
        </p:blipFill>
        <p:spPr>
          <a:xfrm>
            <a:off x="7086600" y="4724280"/>
            <a:ext cx="1523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932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06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intaining client safet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omoting increase in self-estee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couraging client self-control and control over life situ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4800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Mood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3" name="Picture 8" descr="PE06900_"/>
          <p:cNvPicPr/>
          <p:nvPr/>
        </p:nvPicPr>
        <p:blipFill>
          <a:blip r:embed="rId1"/>
          <a:stretch/>
        </p:blipFill>
        <p:spPr>
          <a:xfrm>
            <a:off x="3691080" y="3168720"/>
            <a:ext cx="1711080" cy="1606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787040" y="1447920"/>
            <a:ext cx="534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ar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ressive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ent/Family Educ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anagement of the illnes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dication managemen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tress management techniqu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Ways to increase self-esteem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lectroconvulsive therap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pport servi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uicide hotlin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upport group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egal/financial assistanc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9" name="Picture 4" descr="together_depressed"/>
          <p:cNvPicPr/>
          <p:nvPr/>
        </p:nvPicPr>
        <p:blipFill>
          <a:blip r:embed="rId1"/>
          <a:stretch/>
        </p:blipFill>
        <p:spPr>
          <a:xfrm>
            <a:off x="6172200" y="4191120"/>
            <a:ext cx="2182680" cy="18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9372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valu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Evaluation of the effectiveness of nursing interventions is measured by fulfillment of the outcome criteria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2" name="Object 0" descr=""/>
          <p:cNvPicPr/>
          <p:nvPr/>
        </p:nvPicPr>
        <p:blipFill>
          <a:blip r:embed="rId1"/>
          <a:stretch/>
        </p:blipFill>
        <p:spPr>
          <a:xfrm>
            <a:off x="6735600" y="3962520"/>
            <a:ext cx="1951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48006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Mood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2266560" y="1447920"/>
            <a:ext cx="438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ar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polar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PE06911_"/>
          <p:cNvPicPr/>
          <p:nvPr/>
        </p:nvPicPr>
        <p:blipFill>
          <a:blip r:embed="rId1"/>
          <a:stretch/>
        </p:blipFill>
        <p:spPr>
          <a:xfrm>
            <a:off x="3630600" y="3457440"/>
            <a:ext cx="2008080" cy="20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Outline-Part II- Bipolar disorder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1143000"/>
            <a:ext cx="81788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tiological Implic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ursing Proces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0608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lso known as manic depress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racterized by mood swings from profound depression to extreme euphoria (mania), with intervening periods of normalc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lusions or hallucinations may or may not be part of clinical pictur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9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ipolar Disorder (Mania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02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tiological implication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logical theories: Strong hereditary implic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chemical influences: Possible excess of norepinephrine, serotonin, and/or dopamin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2" name="Picture 5" descr="manic"/>
          <p:cNvPicPr/>
          <p:nvPr/>
        </p:nvPicPr>
        <p:blipFill>
          <a:blip r:embed="rId1"/>
          <a:stretch/>
        </p:blipFill>
        <p:spPr>
          <a:xfrm>
            <a:off x="5792760" y="4191120"/>
            <a:ext cx="268596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-76320"/>
            <a:ext cx="7793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ipolar Disorder (Mania)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hysiological influen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lterations in electrolyte transf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rain les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teroid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mphetamin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tidepressa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5" name="Picture 4" descr="manic"/>
          <p:cNvPicPr/>
          <p:nvPr/>
        </p:nvPicPr>
        <p:blipFill>
          <a:blip r:embed="rId1"/>
          <a:stretch/>
        </p:blipFill>
        <p:spPr>
          <a:xfrm>
            <a:off x="5943600" y="3317760"/>
            <a:ext cx="268596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7929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ypes of Bipolar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polar I disor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polar II disor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yclothym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8" name="Picture 6" descr="manic"/>
          <p:cNvPicPr/>
          <p:nvPr/>
        </p:nvPicPr>
        <p:blipFill>
          <a:blip r:embed="rId1"/>
          <a:stretch/>
        </p:blipFill>
        <p:spPr>
          <a:xfrm>
            <a:off x="5029200" y="2590920"/>
            <a:ext cx="289548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ipolar I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dividual is experiencing, or has experienced, a full syndrome of manic or mixed symptom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y also have experienced episodes of depress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1" name="Picture 4" descr="manic"/>
          <p:cNvPicPr/>
          <p:nvPr/>
        </p:nvPicPr>
        <p:blipFill>
          <a:blip r:embed="rId1"/>
          <a:stretch/>
        </p:blipFill>
        <p:spPr>
          <a:xfrm>
            <a:off x="4876920" y="3352680"/>
            <a:ext cx="268596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ipolar II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current bouts of major depress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pisodic occurrences of hypoman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as not experienced an episode that meets the full criteria for mania or mixed symptomatolog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Picture 4" descr="PE06911_"/>
          <p:cNvPicPr/>
          <p:nvPr/>
        </p:nvPicPr>
        <p:blipFill>
          <a:blip r:embed="rId1"/>
          <a:stretch/>
        </p:blipFill>
        <p:spPr>
          <a:xfrm>
            <a:off x="6477120" y="4495680"/>
            <a:ext cx="1830240" cy="1846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PE06900_"/>
          <p:cNvPicPr/>
          <p:nvPr/>
        </p:nvPicPr>
        <p:blipFill>
          <a:blip r:embed="rId2"/>
          <a:stretch/>
        </p:blipFill>
        <p:spPr>
          <a:xfrm>
            <a:off x="4292640" y="4533840"/>
            <a:ext cx="19810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Outline-Part I-Depressive disorder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066680"/>
            <a:ext cx="81788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pidemiolog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yp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tiological Implication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velopmental Implication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ursing Proces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609480"/>
          <a:ext cx="9144000" cy="6248520"/>
        </p:xfrm>
        <a:graphic>
          <a:graphicData uri="http://schemas.openxmlformats.org/drawingml/2006/table">
            <a:tbl>
              <a:tblPr/>
              <a:tblGrid>
                <a:gridCol w="1219320"/>
                <a:gridCol w="2286000"/>
                <a:gridCol w="2666880"/>
                <a:gridCol w="2971800"/>
              </a:tblGrid>
              <a:tr h="14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mptoms may be categorized by degree of seve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ge I—Hyp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ge II—Acute 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ge III—Delirious 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8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ptoms not sufficiently severe to cause marked impairment in social or occupational functioning or to require hospit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nsification of hypomanic symptoms; requires hospit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grave form of the disorder, characterized by severe clouding of consciousness and representing an intensification of the symptoms associated with acute 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erf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ph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ile, from ecstasy to desp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11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gn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exul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gmented, disjointed thinking; flight of ideas; hallucinations and delu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usion, disorientation, hallucinations, delu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ty and behav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2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motor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essive psychomotor behavior; inexhaustible energy; goes without sleep; bizarre 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nzied psychomotor activity; agitated, purposeless movements; exhaustion and death can occur without interv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Process/Assessmen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79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Diagnosi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isk for Injury related to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treme hyperactivit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Disturbed thought processes related to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chemical alterations in the brai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Disturbed sleep pattern related to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cessive hyperactivity and agit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Picture 18" descr="j0292026"/>
          <p:cNvPicPr/>
          <p:nvPr/>
        </p:nvPicPr>
        <p:blipFill>
          <a:blip r:embed="rId1"/>
          <a:stretch/>
        </p:blipFill>
        <p:spPr>
          <a:xfrm>
            <a:off x="7013520" y="4800600"/>
            <a:ext cx="1825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79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Diagnosis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168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Imbalanced Nutrition less than body requirements related to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fusal or inability to sit still long enough to ea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Disturbed sensory perception related to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chemical alterations in the brain and to possible sleep depriv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mpaired Social Interac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3" name="Picture 19" descr="j0292026"/>
          <p:cNvPicPr/>
          <p:nvPr/>
        </p:nvPicPr>
        <p:blipFill>
          <a:blip r:embed="rId1"/>
          <a:stretch/>
        </p:blipFill>
        <p:spPr>
          <a:xfrm>
            <a:off x="7032600" y="4462560"/>
            <a:ext cx="165420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9372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lanning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en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hibits no evidence of physical injur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as not harmed self or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ats a well-balanced diet to prevent weight loss and maintain nutritional stat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eracts appropriately with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6" name="Picture 4" descr="manic"/>
          <p:cNvPicPr/>
          <p:nvPr/>
        </p:nvPicPr>
        <p:blipFill>
          <a:blip r:embed="rId1"/>
          <a:stretch/>
        </p:blipFill>
        <p:spPr>
          <a:xfrm>
            <a:off x="6477120" y="2133720"/>
            <a:ext cx="23857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932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43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intaining safety of client and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storing client nutritional stat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couraging appropriate client interaction with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ssisting client to define and test realit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eting client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 self-care need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9" name="Picture 4" descr="nurse_checklist"/>
          <p:cNvPicPr/>
          <p:nvPr/>
        </p:nvPicPr>
        <p:blipFill>
          <a:blip r:embed="rId1"/>
          <a:stretch/>
        </p:blipFill>
        <p:spPr>
          <a:xfrm>
            <a:off x="7145280" y="1219320"/>
            <a:ext cx="161784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9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ent/Family Educ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anagement of illnes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dication managemen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pport servi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risis hotlin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upport group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dividual psycho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egal/financial assistanc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372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valuation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Evaluation of the effectiveness of the nursing interventions is measured by fulfillment of the outcome criteria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4" name="Object 5" descr=""/>
          <p:cNvPicPr/>
          <p:nvPr/>
        </p:nvPicPr>
        <p:blipFill>
          <a:blip r:embed="rId1"/>
          <a:stretch/>
        </p:blipFill>
        <p:spPr>
          <a:xfrm>
            <a:off x="6375240" y="3657600"/>
            <a:ext cx="2311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Treatment Modalities for Mood Disorders</a:t>
            </a:r>
            <a:endParaRPr b="0" lang="en-US" sz="3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logical treatmen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dividual psychotherapy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gnitive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rganic Treatmen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7" name="Picture 6" descr="group"/>
          <p:cNvPicPr/>
          <p:nvPr/>
        </p:nvPicPr>
        <p:blipFill>
          <a:blip r:embed="rId1"/>
          <a:stretch/>
        </p:blipFill>
        <p:spPr>
          <a:xfrm>
            <a:off x="5257800" y="3352680"/>
            <a:ext cx="335268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reatment Modalities for Mood Disorders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853920"/>
            <a:ext cx="81788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sychopharmacolog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Depress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504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Maprotiline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Mirtazapin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504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Amoxapine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Serzon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504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Trazodone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* Effexo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Buprop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mania: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ithium carbonate 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ticonvulsa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erapami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lanzapin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0" name="Picture 4" descr="PE06980_"/>
          <p:cNvPicPr/>
          <p:nvPr/>
        </p:nvPicPr>
        <p:blipFill>
          <a:blip r:embed="rId1"/>
          <a:stretch/>
        </p:blipFill>
        <p:spPr>
          <a:xfrm>
            <a:off x="6934320" y="1722600"/>
            <a:ext cx="1857240" cy="2054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E06922_"/>
          <p:cNvPicPr/>
          <p:nvPr/>
        </p:nvPicPr>
        <p:blipFill>
          <a:blip r:embed="rId2"/>
          <a:stretch/>
        </p:blipFill>
        <p:spPr>
          <a:xfrm>
            <a:off x="5670720" y="4408560"/>
            <a:ext cx="2286000" cy="17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6012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reatment Modalities for Mood Disorders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lectroconvulsive Therapy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or depression and man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chanism of action: increase levels of biogenic amines (norepinephrine, serotonin, and dopamine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ide effects: temporary memory loss and confus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isks: mortality; permanent memory loss; brain damag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dications: pretreatment medication; muscle relaxant; short-acting anesthetic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37124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pression or depressive disorders (unipolar depression) are mental illnesses characterized by a profound and persistent feeling of sadness or despair and/or a loss of interest in things that once were pleasurable. Disturbance in sleep,appetite, and mental processes are a common accompaniment.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ursing Process: Suicide Assessmen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pidemiological factor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arital status: Suicide rate for single people twice that of married people 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ingle, divorced, and widowed people have rates four to five times greater than those who are marrie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ender: Women attempt suicide more often; more men succeed 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ge: Suicide highest in persons older than 50 years; adolescents also at high risk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47520"/>
            <a:ext cx="9144000" cy="88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ursing Process: Suicide Assessment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pidemiological factors (cont.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Socioeconomic status: People in the highest and lowest social classes have higher suicide rates than those in the middle classes.  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Professionals: Professional healthcare personnel and business executives are at the highest risk.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Religion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Nursing Process: Suicide Assessment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esenting symptoms/Medical-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iatric diagnosi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ood disorders (major depression and bipolar disorders) are the most common disorders that precede suicide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Other disorders includ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xiety disord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chizophren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2199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Nursing Process: Suicide Assessment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cont.)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icidal ideas or ac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ssess: plan, previous attemp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erbal clues: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irect statement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 want to die.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rect statement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 don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 have anything to live for anymore.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62" name="Picture 4" descr="nurse_checklist"/>
          <p:cNvPicPr/>
          <p:nvPr/>
        </p:nvPicPr>
        <p:blipFill>
          <a:blip r:embed="rId1"/>
          <a:stretch/>
        </p:blipFill>
        <p:spPr>
          <a:xfrm>
            <a:off x="6705720" y="4495680"/>
            <a:ext cx="195084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ahoma"/>
              </a:rPr>
              <a:t>Intervention with the Outpatient Suicidal Client</a:t>
            </a:r>
            <a:endParaRPr b="0" lang="en-US" sz="3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o not leave the person alone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chedule daily appointment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stablish trusting relationship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ntidepressant medication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ake any hint of suicide seriously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port threats of suicide immediately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79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troduction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00"/>
                </a:solidFill>
                <a:latin typeface="Arial"/>
              </a:rPr>
              <a:t>Depression is the oldest and most frequently described psychiatric illness.</a:t>
            </a: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00"/>
                </a:solidFill>
                <a:latin typeface="Arial"/>
              </a:rPr>
              <a:t>Transient symptoms are normal, healthy responses to everyday disappointments in life.</a:t>
            </a: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00"/>
                </a:solidFill>
                <a:latin typeface="Arial"/>
              </a:rPr>
              <a:t>Pathological depression occurs when adaptation is ineffective.</a:t>
            </a: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1" name="Picture 5" descr="PE06980_"/>
          <p:cNvPicPr/>
          <p:nvPr/>
        </p:nvPicPr>
        <p:blipFill>
          <a:blip r:embed="rId1"/>
          <a:stretch/>
        </p:blipFill>
        <p:spPr>
          <a:xfrm>
            <a:off x="7010280" y="4191120"/>
            <a:ext cx="17528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7929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pidemiology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Gender prevalenc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igher in women than in men by about 2 to 1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ge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pression more common in young women than in older wome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Opposite is true for me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arital statu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Single and divorced people more likely to experience depression than married peopl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79292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pidemiology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ocial class: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There is an inverse relationship between social class and report of depressive symptoms; the opposite is true with bipolar disorder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asonality: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Affective disorders are more prevalent in the spring and in the fall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7792920" cy="88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ypes of Depressive disord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jor depressive disor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ysthymic disor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emenstrual dysphoric disor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667560" y="4267080"/>
            <a:ext cx="1942920" cy="1955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79292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jor Depressive Disord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oses interest or pleasure in usual activiti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ocial and occupational functioning impaired for at least 2 week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69240" y="4267080"/>
            <a:ext cx="15145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3:42:40Z</dcterms:created>
  <dc:creator>Sandra S Mitchell</dc:creator>
  <dc:description/>
  <dc:language>en-US</dc:language>
  <cp:lastModifiedBy>User-PC</cp:lastModifiedBy>
  <cp:lastPrinted>2016-12-04T06:37:31Z</cp:lastPrinted>
  <dcterms:modified xsi:type="dcterms:W3CDTF">2016-12-04T06:48:45Z</dcterms:modified>
  <cp:revision>134</cp:revision>
  <dc:subject/>
  <dc:title>Mood Disorders</dc:title>
</cp:coreProperties>
</file>